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6D8E-736C-45BA-AD42-AD24B1970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444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7451-5C8C-4F42-AA18-E47234866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237C-461E-4609-9E4F-9D93961B7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PlaceHolder 1"/>
          <p:cNvSpPr>
            <a:spLocks noGrp="1"/>
          </p:cNvSpPr>
          <p:nvPr>
            <p:ph type="sldImg"/>
          </p:nvPr>
        </p:nvSpPr>
        <p:spPr>
          <a:xfrm>
            <a:off x="1152360" y="692280"/>
            <a:ext cx="455472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15EAE7-3EBA-42E5-9CE7-857EA2C350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54637859-DF31-4BA9-967C-0ED4696349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D86B22B4-DE05-45C3-80F0-D746209B7C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3F7448FD-A5C4-414F-9E15-F30BAE8626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64676749-DC69-4D6A-BD93-A52AE45E53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8702F875-DEA3-4BB2-805A-6B7929AD13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5A982C7C-2B70-4B39-B771-EFED44341D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A83FFF2B-C348-4E71-9E4E-22FA979E01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14479E42-3128-4247-BF71-7E4CF40D2E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D9FE6C94-CBBD-4488-8AF8-04E4D97448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26D244F1-5BAA-4E62-8A94-E66AF4D8A4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336C1196-50C5-4E1E-81E3-C698886506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0F08-184E-4B57-B780-B2797A8745FF}"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7B379CE5-18C2-4368-A173-D349D7CE95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D0BB9112-AA4D-4C06-B8F7-5B0C37543F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778539F-CB43-4897-BE48-674739F3FC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946D5A5D-7149-4A82-8CBE-78446A7FB4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B23DD434-AE51-4AF3-B405-8062435391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8A46FDDA-F532-4C0F-AE62-A07DB13640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2"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97909ABC-A3AF-4009-B3A6-51FF00CAA0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4"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F16D2160-70C6-40CE-A25E-A22C43096A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88B8F9B9-D0EF-49CD-8D77-7351838D8D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2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B2F36698-75FB-4F1E-89CF-135D05EDCE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D38CEBD0-DA48-4621-8B52-3A576A63B9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76DC85DA-7F9E-409A-878A-953C2F8D7A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2" name=""/>
          <p:cNvGrpSpPr/>
          <p:nvPr/>
        </p:nvGrpSpPr>
        <p:grpSpPr>
          <a:xfrm>
            <a:off x="304920" y="1447920"/>
            <a:ext cx="8237520" cy="3580920"/>
            <a:chOff x="304920" y="1447920"/>
            <a:chExt cx="8237520" cy="3580920"/>
          </a:xfrm>
        </p:grpSpPr>
        <p:sp>
          <p:nvSpPr>
            <p:cNvPr id="13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6" name=""/>
            <p:cNvGrpSpPr/>
            <p:nvPr/>
          </p:nvGrpSpPr>
          <p:grpSpPr>
            <a:xfrm>
              <a:off x="304920" y="1447920"/>
              <a:ext cx="8237520" cy="3580560"/>
              <a:chOff x="304920" y="1447920"/>
              <a:chExt cx="8237520" cy="3580560"/>
            </a:xfrm>
          </p:grpSpPr>
          <p:sp>
            <p:nvSpPr>
              <p:cNvPr id="13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5B513356-8BA3-45FB-9000-A6CFE297A1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E9F44720-2A95-42CA-8506-3D3EB918D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C428E8ED-CC02-4AFE-A9A0-C9462EBEB3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FDD9A21F-9E9A-4882-99A7-03411D9948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0"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D76E4A53-A6C1-4252-B629-8FC52D2DAE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A963E85-AE59-4F09-850F-AFF205748D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DC842583-1997-4F1C-8107-952BD55DD4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6"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B42CCEF9-60B0-4AAC-BB3C-599579C6F5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C19381A6-0973-4ECD-9895-CE2D28DB15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A7E93AED-DCFC-4959-9496-D2B3E6470D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0" name=""/>
          <p:cNvGrpSpPr/>
          <p:nvPr/>
        </p:nvGrpSpPr>
        <p:grpSpPr>
          <a:xfrm>
            <a:off x="304920" y="1447920"/>
            <a:ext cx="8237520" cy="3580920"/>
            <a:chOff x="304920" y="1447920"/>
            <a:chExt cx="8237520" cy="3580920"/>
          </a:xfrm>
        </p:grpSpPr>
        <p:sp>
          <p:nvSpPr>
            <p:cNvPr id="161"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2"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3"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4" name=""/>
            <p:cNvGrpSpPr/>
            <p:nvPr/>
          </p:nvGrpSpPr>
          <p:grpSpPr>
            <a:xfrm>
              <a:off x="304920" y="1447920"/>
              <a:ext cx="8237520" cy="3580560"/>
              <a:chOff x="304920" y="1447920"/>
              <a:chExt cx="8237520" cy="3580560"/>
            </a:xfrm>
          </p:grpSpPr>
          <p:sp>
            <p:nvSpPr>
              <p:cNvPr id="165"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9940AA57-8C3B-4765-B03C-155541D351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2" name=""/>
          <p:cNvGrpSpPr/>
          <p:nvPr/>
        </p:nvGrpSpPr>
        <p:grpSpPr>
          <a:xfrm>
            <a:off x="304920" y="1447920"/>
            <a:ext cx="8237520" cy="3580920"/>
            <a:chOff x="304920" y="1447920"/>
            <a:chExt cx="8237520" cy="3580920"/>
          </a:xfrm>
        </p:grpSpPr>
        <p:sp>
          <p:nvSpPr>
            <p:cNvPr id="17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or Master Teachers:</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Facilitation Guid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earning to Facilitate</a:t>
              </a:r>
              <a:endParaRPr b="0" lang="en-US" sz="2000" spc="-1" strike="noStrike">
                <a:solidFill>
                  <a:srgbClr val="ffffff"/>
                </a:solidFill>
                <a:latin typeface="Times New Roman"/>
              </a:endParaRPr>
            </a:p>
          </p:txBody>
        </p:sp>
        <p:sp>
          <p:nvSpPr>
            <p:cNvPr id="17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6" name=""/>
            <p:cNvGrpSpPr/>
            <p:nvPr/>
          </p:nvGrpSpPr>
          <p:grpSpPr>
            <a:xfrm>
              <a:off x="304920" y="1447920"/>
              <a:ext cx="8237520" cy="3580560"/>
              <a:chOff x="304920" y="1447920"/>
              <a:chExt cx="8237520" cy="3580560"/>
            </a:xfrm>
          </p:grpSpPr>
          <p:sp>
            <p:nvSpPr>
              <p:cNvPr id="17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C62F421E-4A89-439B-A11B-8B1F29132F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D46515D4-0DA2-4985-A17A-F0192D8C7D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00C4C600-3058-412E-AFA6-A5454B5DCB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8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Guid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13F8E53-B70D-430E-B0F1-347A83E71B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FFB9E9FD-5623-4BB3-BD1F-BE398F557BA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17600" y="1908000"/>
            <a:ext cx="4953240" cy="2475000"/>
          </a:xfrm>
          <a:prstGeom prst="rect">
            <a:avLst/>
          </a:prstGeom>
          <a:ln w="0">
            <a:noFill/>
          </a:ln>
        </p:spPr>
      </p:pic>
      <p:sp>
        <p:nvSpPr>
          <p:cNvPr id="192"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47224EB9-B949-4C27-9403-EA4E4DE60C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34058789-1629-4A50-9D55-F6E7BB3BB2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5"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EE8080A2-F43F-4949-99EB-F948BD1C509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B59656F5-CD61-4E15-BEE1-78B4AEE107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6FB4F63A-F39D-42B9-858D-C18BC10AF4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4E4DCB1-83FD-474F-8261-E579E8767D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B72B931A-E9A6-4D36-84AE-27E72C7231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9779F2A-7E75-4A32-A6E4-44AA3C8FD6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280B137-2C6E-4590-AD48-EB0EB8B182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06C3E806-25E0-4757-8D8C-B0EFE57E4B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5-08T22:47:05Z</dcterms:modified>
  <cp:revision>543</cp:revision>
  <dc:subject/>
  <dc:title>Module 1</dc:title>
</cp:coreProperties>
</file>