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jpeg" ContentType="image/jpeg"/>
  <Override PartName="/ppt/media/image6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B24-62AC-4DAE-A86C-4A6DAD01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5A8-B3BE-481A-9267-1D445A16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301-8CBD-4477-9444-272C4012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16F-7C3A-42AA-8D89-32540DA0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25E-3C43-412A-A314-A93FDC00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B4E-2E7E-4671-8F30-DE9D423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267-E797-46CC-A670-FCECD1F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3E7-8AED-4D80-8563-0775572C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994-E507-44C0-ABF2-2BC5447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0B8-52F2-4EB7-86B6-D8AD5E5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967-9D5F-445E-95FC-99601B2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4F9-6715-4C8B-AEFD-721C9D4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D79-0DE4-4916-94C1-0F5326FD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empus Sans ITC"/>
              </a:rPr>
              <a:t>The Mystery of the May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What happened to the May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9960" cy="16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empus Sans ITC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 Mayas constructed more and more elaborate temples to honor the go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y built new temples above the old 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y built great palaces decorated with sculptures for the k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y also constructed ornate tombs with inscriptions for the k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39751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empus Sans ITC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priests controlled al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created astronomical observations to calculate the movement of the planets and st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developed mathematical concep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developed a precise calen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1748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empus Sans ITC"/>
              </a:rPr>
              <a:t>Politic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</a:rPr>
              <a:t>Each city constituted an independent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never consolidated the cities into an empi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Many cities formed alliances for politics or comme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44492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Tempus Sans ITC"/>
              </a:rPr>
              <a:t>Comme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sold products throughout all of Mesoame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ities competed with each other to dominate commercial ro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mmerce extended the culture throughout the entir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5608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empus Sans ITC"/>
              </a:rPr>
              <a:t>Ag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re was a great diversity of edible resources in the reg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state organized and directed agricultural work and products.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Mayas developed irrigation canals and elevated fa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had abundant agricultural products, enough to ex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success of the agricultural system brought a demographic explo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empus Sans ITC"/>
              </a:rPr>
              <a:t>Nevertheless, the agricultural system failed due to environmental press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destroyed the trees in great sections of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y used up the l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 drought ravaged the land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Due to the drought, there was not enough food for the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</a:rPr>
              <a:t>The War Changes Things 700-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t created competition to dominate the mercantile ro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It dramatically increased the frequency of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y captured more victims for human sacri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Kings were captured and assass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People began to leave the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istorical records were no longer kept in some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23241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61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s Pilas: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Last in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79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lenque: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Last inscrip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1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pán: Last in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59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ikal: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Last in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879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aracól: Last in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890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rought throughout the region, failure of har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9616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  <a:ea typeface="Times New Roman"/>
              </a:rPr>
              <a:t>Some Theories about the Decline of the Civ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Environmental pressures and natural disasters that caused the failure of the agricultural system</a:t>
            </a:r>
            <a:r>
              <a:rPr b="1" lang="en-US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failure of the agricultural system brought competition to dominate commercial ro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Wars increased.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population decreased due to hunger.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8840" y="22860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assassination of the kings brought the decay of the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nobles fought among themselves to contro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balance of the cosmos was distu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</a:rPr>
              <a:t>The population rose up against the higher class.</a:t>
            </a:r>
            <a:r>
              <a:rPr b="1" lang="en-US" sz="27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51460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079960" cy="323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empus Sans ITC"/>
              </a:rPr>
              <a:t>People abandoned the cities to live in small groups in the ju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empus Sans ITC"/>
              </a:rPr>
              <a:t>The civilization and culture were saved until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empus Sans ITC"/>
                <a:ea typeface="Times New Roman"/>
              </a:rPr>
              <a:t>What happened to the May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 culture of the Mayas of the classic period was very advanc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Mayan society was very 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ey developed art, writing, mathematics, astronomy, agriculture, and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Nevertheles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267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This advanced civilization disappeared before the arrival of the Europ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54864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empus Sans ITC"/>
                <a:ea typeface="Times New Roman"/>
              </a:rPr>
              <a:t>Why were the Mayan cities abandoned before 900 B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286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The Mayas survived the decay of their civilization by keeping their tradi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empus Sans ITC"/>
              </a:rPr>
              <a:t>They practice ceremonial planting and harv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empus Sans ITC"/>
              </a:rPr>
              <a:t>They mix ancient religious rites with Christia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empus Sans ITC"/>
              </a:rPr>
              <a:t>They demonstrate their values in their 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empus Sans ITC"/>
              </a:rPr>
              <a:t>They speak their langu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71500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77120" y="6172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s by Rosa Hem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200-600  Construction of the great stone cities</a:t>
            </a: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300-700</a:t>
            </a: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Development of the culture, a time of great prospe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700-800</a:t>
            </a: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Demographic explosion, population reached 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44492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W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562360" cy="424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38680" y="457200"/>
            <a:ext cx="29847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empus Sans ITC"/>
                <a:ea typeface="Times New Roman"/>
              </a:rPr>
              <a:t>Introduction to the Civilization of the Classic Period (200-9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constructed impressive cities with temples, palaces, and great plaz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developed a society with hierarchical social classes.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developed an effective, precise calend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created a writing system to record historical dates.</a:t>
            </a: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created sculptures, ceramics, and other ornament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developed marketing routes to distant plac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sold food products, ceramics, textiles, and luxury products.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y developed an advanced agricultural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empus Sans ITC"/>
              </a:rPr>
              <a:t>The Mayan society was divided into well-defined, hierarchical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ahau, or king, representative of the gods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n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war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artis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archit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scul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rtists with cer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pea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sla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8400" y="2895480"/>
            <a:ext cx="1925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171880" cy="488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empus Sans ITC"/>
              </a:rPr>
              <a:t>Beliefs and Religious R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617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empus Sans ITC"/>
              </a:rPr>
              <a:t>Religious rites maintained the equilibrium of the cosm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empus Sans ITC"/>
              </a:rPr>
              <a:t>Religion played an important role in the daily lives of the May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empus Sans ITC"/>
              </a:rPr>
              <a:t>The king and the priests were the only ones who could direct the religious rites and ceremon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king spilled his own blood to feed the gods and to determine their wil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Mayas practiced human sacrifice to honor the god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gods distributed good harvests and success among the different citi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he Mayas played a ball game in a large field to maintain the equilibrium of the cosm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hichén Itzá:   Cancha de Pel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empus Sans ITC"/>
              </a:rPr>
              <a:t>Gods: The Mayas worshipped several gods at the same time, such as...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Hunab Ku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Ah Puch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od of 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hak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od of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tzamná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od of Priestly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k 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od of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Yum Kax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od of Cor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x Chel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Goddess of the Moon and Fer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87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empus Sans ITC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Success in war depended on special rites to honor the g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 king determined the proper moment to begin a w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The warriors fought for the honor of the c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fter winning a battle, a city could demand tribute from the conquered peo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2960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2:03:13Z</dcterms:created>
  <dc:creator>Vanessa G. Donnelly</dc:creator>
  <dc:description/>
  <dc:language>en-US</dc:language>
  <cp:lastModifiedBy>cbaker1X</cp:lastModifiedBy>
  <dcterms:modified xsi:type="dcterms:W3CDTF">2007-01-04T15:44:09Z</dcterms:modified>
  <cp:revision>141</cp:revision>
  <dc:subject/>
  <dc:title>EL MISTERIO DE LOS MAYAS</dc:title>
</cp:coreProperties>
</file>