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3.jpeg" ContentType="image/jpeg"/>
  <Override PartName="/ppt/media/image6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258-4DE9-4FF3-8939-9CD715C9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347-36B6-48BA-9333-786F1B71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9D3-8D67-4F46-A889-1B62A1AF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B3D-5E4F-40AE-9057-37F8FCD3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85A-901C-4596-8999-5815709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969-5D95-4B99-9A05-C842A89E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225-AFF3-4449-9AA9-AF9D168A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716-E195-4265-84BC-8A3E3F3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379-D8E6-421F-BFF9-B9B5BC3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1A0-2485-4EC2-BB4E-552E505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BD9-785B-4668-8337-FB7CD76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035-B101-4E7B-A658-E3B8D1A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138-429F-4EDE-9851-3C3A96BF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empus Sans ITC"/>
              </a:rPr>
              <a:t>EL MISTERIO DE LOS MAY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¿Qué pasó con los may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79960" cy="16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0033"/>
                </a:solidFill>
                <a:latin typeface="Tempus Sans ITC"/>
              </a:rPr>
              <a:t>Arquitec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 construyeron templos cada vez m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 grandes para honrar a los dio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 construy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 e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 nuevo templo encima del vie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 construyeron palacios grandes adornados de esculturas para los rey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 construyeron tumbas adornadas de inscripciones para los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24280" y="3886200"/>
            <a:ext cx="397512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9900"/>
                </a:solidFill>
                <a:latin typeface="Tempus Sans ITC"/>
              </a:rPr>
              <a:t>Ci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a casta de sacerdotes controlaba todo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Por observaciones astron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m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cas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 calcularon el movimiento de los planetas y las estre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Desarrollaron conceptos matem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Desarrollaron un calendario muy prec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17484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Tempus Sans ITC"/>
              </a:rPr>
              <a:t>Estructura </a:t>
            </a:r>
            <a:r>
              <a:rPr b="1" lang="es-MX" sz="3600" spc="-1" strike="noStrike">
                <a:solidFill>
                  <a:srgbClr val="ff3300"/>
                </a:solidFill>
                <a:latin typeface="Tempus Sans ITC"/>
                <a:ea typeface="Times New Roman"/>
              </a:rPr>
              <a:t>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Cada ciudad constituyó un estado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Nunca se consolidaron las ciudades en un imp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Varias ciudades se aliaron en la política y en el comercio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444492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8080"/>
                </a:solidFill>
                <a:latin typeface="Tempus Sans ITC"/>
              </a:rPr>
              <a:t>Comer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Se comerciaron productos por toda Mesoamé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ada ciudad rivalizaba con las otras para dominar las rutas mercant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El comercio extendió la cultura por toda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5608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808000"/>
                </a:solidFill>
                <a:latin typeface="Tempus Sans ITC"/>
              </a:rPr>
              <a:t>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Hubo una gran diversidad de recursos comestibles en la regi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El estado organiz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 la agricultura para dirigir el trabajo y los produ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Se desarrollaron canales de irrigación, campos elevados y vueltos de cam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Hubo excedentes de productos agr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colas para expor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El éxito del sistema a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gr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cola trajo una explosión 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808000"/>
                </a:solidFill>
                <a:latin typeface="Tempus Sans ITC"/>
              </a:rPr>
              <a:t>Sin embargo … hubo un fracaso </a:t>
            </a:r>
            <a:br>
              <a:rPr sz="3600"/>
            </a:br>
            <a:r>
              <a:rPr b="1" lang="es-MX" sz="3600" spc="-1" strike="noStrike">
                <a:solidFill>
                  <a:srgbClr val="808000"/>
                </a:solidFill>
                <a:latin typeface="Tempus Sans ITC"/>
              </a:rPr>
              <a:t>del sistema agr</a:t>
            </a:r>
            <a:r>
              <a:rPr b="1" lang="es-MX" sz="3600" spc="-1" strike="noStrike">
                <a:solidFill>
                  <a:srgbClr val="808000"/>
                </a:solidFill>
                <a:latin typeface="Tempus Sans ITC"/>
                <a:ea typeface="Times New Roman"/>
              </a:rPr>
              <a:t>í</a:t>
            </a:r>
            <a:r>
              <a:rPr b="1" lang="es-MX" sz="3600" spc="-1" strike="noStrike">
                <a:solidFill>
                  <a:srgbClr val="808000"/>
                </a:solidFill>
                <a:latin typeface="Tempus Sans ITC"/>
              </a:rPr>
              <a:t>cola por presiones en el medio amb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 talaron grandes partes de la sel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 desgast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 la tier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Una sequ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 se extendi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 por la reg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Por la pobreza de la cosecha no hubo suficiente comida par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44452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Tempus Sans ITC"/>
              </a:rPr>
              <a:t>La guerra se cambi</a:t>
            </a:r>
            <a:r>
              <a:rPr b="1" lang="es-MX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ó</a:t>
            </a:r>
            <a:r>
              <a:rPr b="1" lang="es-MX" sz="3600" spc="-1" strike="noStrike">
                <a:solidFill>
                  <a:srgbClr val="3333cc"/>
                </a:solidFill>
                <a:latin typeface="Tempus Sans ITC"/>
              </a:rPr>
              <a:t> al medio 700-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Hubo competencia para dominar las rutas mercant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ument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 dram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ticamente la frecuencia de la gu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M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 v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c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timas se capturaron para el sacrifici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reyes fueron capturados y ases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a poblaci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n empez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 a salir de las ciu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recuerdos hist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ricos se terminaron en varias ciu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23241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¿Cuándo</a:t>
            </a:r>
            <a:r>
              <a:rPr b="1" lang="es-MX" sz="3600" spc="-1" strike="noStrike">
                <a:solidFill>
                  <a:srgbClr val="3333cc"/>
                </a:solidFill>
                <a:latin typeface="Tempus Sans ITC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761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Dos Pilas: 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Última 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799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Palenque: 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Última 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819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pán: Última 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859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Tikal: 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Última 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879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aracól: Última 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890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Sequ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 por toda la regi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n, 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falta de cos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9616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0000"/>
                </a:solidFill>
                <a:latin typeface="Tempus Sans ITC"/>
                <a:ea typeface="Times New Roman"/>
              </a:rPr>
              <a:t>Unas teorías sobre la decadencia de la civi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empus Sans ITC"/>
              </a:rPr>
              <a:t>Presiones en el medio ambiente y desastres naturales trajeron el fracaso del sistema agr</a:t>
            </a:r>
            <a:r>
              <a:rPr b="1" lang="es-MX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ícola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empus Sans ITC"/>
              </a:rPr>
              <a:t>El fracaso del sistema agr</a:t>
            </a:r>
            <a:r>
              <a:rPr b="1" lang="es-MX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í</a:t>
            </a:r>
            <a:r>
              <a:rPr b="1" lang="es-MX" sz="2400" spc="-1" strike="noStrike">
                <a:solidFill>
                  <a:srgbClr val="800000"/>
                </a:solidFill>
                <a:latin typeface="Tempus Sans ITC"/>
              </a:rPr>
              <a:t>cola trajo competencia para dominar las rutas de comercio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umentaron las guerra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a poblaci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n pas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 hambre …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Tempus Sans ITC"/>
              </a:rPr>
              <a:t>El asesinato de los reyes trajo la decadencia de la sociedad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Tempus Sans ITC"/>
              </a:rPr>
              <a:t>Los nobles se lucharon entre ellos para controlar la sociedad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800000"/>
                </a:solidFill>
                <a:latin typeface="Tempus Sans ITC"/>
              </a:rPr>
              <a:t>Se trastorn</a:t>
            </a:r>
            <a:r>
              <a:rPr b="1" lang="es-MX" sz="22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ó</a:t>
            </a:r>
            <a:r>
              <a:rPr b="1" lang="es-MX" sz="2200" spc="-1" strike="noStrike">
                <a:solidFill>
                  <a:srgbClr val="800000"/>
                </a:solidFill>
                <a:latin typeface="Tempus Sans ITC"/>
              </a:rPr>
              <a:t> el equilibrio del cosmo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empus Sans ITC"/>
              </a:rPr>
              <a:t>La poblaci</a:t>
            </a:r>
            <a:r>
              <a:rPr b="1" lang="es-MX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ón se levantó contra las clases autocráticas …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51460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079960" cy="3238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cc00"/>
                </a:solidFill>
                <a:latin typeface="Tempus Sans ITC"/>
              </a:rPr>
              <a:t>La gente abandon</a:t>
            </a:r>
            <a:r>
              <a:rPr b="1" lang="es-MX" sz="3200" spc="-1" strike="noStrike">
                <a:solidFill>
                  <a:srgbClr val="00cc00"/>
                </a:solidFill>
                <a:latin typeface="Tempus Sans ITC"/>
                <a:ea typeface="Times New Roman"/>
              </a:rPr>
              <a:t>ó</a:t>
            </a:r>
            <a:r>
              <a:rPr b="1" lang="es-MX" sz="3200" spc="-1" strike="noStrike">
                <a:solidFill>
                  <a:srgbClr val="00cc00"/>
                </a:solidFill>
                <a:latin typeface="Tempus Sans ITC"/>
              </a:rPr>
              <a:t> las ciudades para vivir en peque</a:t>
            </a:r>
            <a:r>
              <a:rPr b="1" lang="es-MX" sz="3200" spc="-1" strike="noStrike">
                <a:solidFill>
                  <a:srgbClr val="00cc00"/>
                </a:solidFill>
                <a:latin typeface="Tempus Sans ITC"/>
                <a:ea typeface="Times New Roman"/>
              </a:rPr>
              <a:t>ñ</a:t>
            </a:r>
            <a:r>
              <a:rPr b="1" lang="es-MX" sz="3200" spc="-1" strike="noStrike">
                <a:solidFill>
                  <a:srgbClr val="00cc00"/>
                </a:solidFill>
                <a:latin typeface="Tempus Sans ITC"/>
              </a:rPr>
              <a:t>os grupos en la selv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</a:rPr>
              <a:t>Dej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  <a:ea typeface="Times New Roman"/>
              </a:rPr>
              <a:t>ó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</a:rPr>
              <a:t> la civilizaci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  <a:ea typeface="Times New Roman"/>
              </a:rPr>
              <a:t>ón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</a:rPr>
              <a:t> para salvar su cultur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empus Sans ITC"/>
              </a:rPr>
              <a:t>	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</a:rPr>
              <a:t>hasta hoy en d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  <a:ea typeface="Times New Roman"/>
              </a:rPr>
              <a:t>í</a:t>
            </a:r>
            <a:r>
              <a:rPr b="1" lang="es-MX" sz="3200" spc="-1" strike="noStrike">
                <a:solidFill>
                  <a:srgbClr val="ff3300"/>
                </a:solidFill>
                <a:latin typeface="Tempus Sans ITC"/>
              </a:rPr>
              <a:t>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cc"/>
                </a:solidFill>
                <a:latin typeface="Tempus Sans ITC"/>
                <a:ea typeface="Times New Roman"/>
              </a:rPr>
              <a:t>¿Qué pasó con los may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La cultura de los mayas del período clásico era muy avan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La sociedad de los mayas era muy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Se desarrollaron el arte, la escritura, las matemáticas, la astronomía, la agricultura, y la arquit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Sin embarg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267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empus Sans ITC"/>
                <a:ea typeface="Times New Roman"/>
              </a:rPr>
              <a:t>Esta civilización avanzada se desapareció antes de la llegada de los europeos en Mesoam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54864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Tempus Sans ITC"/>
                <a:ea typeface="Times New Roman"/>
              </a:rPr>
              <a:t>¿Por qué se abandonaron las ciudades mayas antes de 90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286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empus Sans ITC"/>
              </a:rPr>
              <a:t>Los mayas sobrevivieron la decadencia de la civilización por guardar sus tra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78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empus Sans ITC"/>
              </a:rPr>
              <a:t>Practican las ceremonias de plantar y cose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empus Sans ITC"/>
              </a:rPr>
              <a:t>Mezclan antiguos ritos religiosos con el cristi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empus Sans ITC"/>
              </a:rPr>
              <a:t>Muestran sus valores en su artesan</a:t>
            </a:r>
            <a:r>
              <a:rPr b="1" lang="es-MX" sz="2800" spc="-1" strike="noStrike">
                <a:solidFill>
                  <a:srgbClr val="0000ff"/>
                </a:solidFill>
                <a:latin typeface="Tempus Sans ITC"/>
                <a:ea typeface="Times New Roman"/>
              </a:rPr>
              <a:t>í</a:t>
            </a:r>
            <a:r>
              <a:rPr b="1" lang="es-MX" sz="2800" spc="-1" strike="noStrike">
                <a:solidFill>
                  <a:srgbClr val="0000ff"/>
                </a:solidFill>
                <a:latin typeface="Tempus Sans IT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empus Sans ITC"/>
              </a:rPr>
              <a:t>Hablan sus len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71500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77120" y="61722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s by Rosa Hem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¿Cuándo</a:t>
            </a:r>
            <a:r>
              <a:rPr b="1" lang="es-MX" sz="3600" spc="-1" strike="noStrike">
                <a:solidFill>
                  <a:srgbClr val="3333cc"/>
                </a:solidFill>
                <a:latin typeface="Tempus Sans ITC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200-600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nstrucción de las grandes ciudades de pied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300-700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esarrollo de la cultura, época de prosper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700-800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Explosión demográfica, la población alcanzó a los tres millones de habitantes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444920" cy="39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Tempus Sans ITC"/>
                <a:ea typeface="Times New Roman"/>
              </a:rPr>
              <a:t>¿Dónde</a:t>
            </a:r>
            <a:r>
              <a:rPr b="1" lang="es-MX" sz="3600" spc="-1" strike="noStrike">
                <a:solidFill>
                  <a:srgbClr val="3333cc"/>
                </a:solidFill>
                <a:latin typeface="Tempus Sans ITC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562360" cy="424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38680" y="457200"/>
            <a:ext cx="298476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empus Sans ITC"/>
                <a:ea typeface="Times New Roman"/>
              </a:rPr>
              <a:t>Introducción a la civilización del período clásico (200-9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nstruyeron ciudades impresionantes con templos, palacios, y plazas grand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esarrollaron una sociedad de clases sociales jerárquicas</a:t>
            </a:r>
            <a:r>
              <a:rPr b="0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esarrollaron un calendario muy preci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rearon un sistema de escribir para recordar datos </a:t>
            </a: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ahoma"/>
              </a:rPr>
              <a:t>históric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rearon esculturas, cerámica, y ado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esarrollaron rutas mercantiles hasta muy lej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omerciaron comestibles, </a:t>
            </a: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ahoma"/>
              </a:rPr>
              <a:t>cerámica, textiles, y </a:t>
            </a: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productos de lujo</a:t>
            </a:r>
            <a:r>
              <a:rPr b="0" lang="es-MX" sz="2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esarrollaron un sistema de argricultura avanz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Tempus Sans ITC"/>
              </a:rPr>
              <a:t>La sociedad se </a:t>
            </a:r>
            <a:r>
              <a:rPr b="1" lang="es-MX" sz="3200" spc="-1" strike="noStrike">
                <a:solidFill>
                  <a:srgbClr val="660066"/>
                </a:solidFill>
                <a:latin typeface="Tempus Sans ITC"/>
                <a:ea typeface="Times New Roman"/>
              </a:rPr>
              <a:t>dividió</a:t>
            </a:r>
            <a:r>
              <a:rPr b="1" lang="es-MX" sz="3200" spc="-1" strike="noStrike">
                <a:solidFill>
                  <a:srgbClr val="660066"/>
                </a:solidFill>
                <a:latin typeface="Tempus Sans ITC"/>
              </a:rPr>
              <a:t> en clases sociales bien definidas y jer</a:t>
            </a:r>
            <a:r>
              <a:rPr b="1" lang="es-MX" sz="3200" spc="-1" strike="noStrike">
                <a:solidFill>
                  <a:srgbClr val="660066"/>
                </a:solidFill>
                <a:latin typeface="Tempus Sans ITC"/>
                <a:ea typeface="Times New Roman"/>
              </a:rPr>
              <a:t>á</a:t>
            </a:r>
            <a:r>
              <a:rPr b="1" lang="es-MX" sz="3200" spc="-1" strike="noStrike">
                <a:solidFill>
                  <a:srgbClr val="660066"/>
                </a:solidFill>
                <a:latin typeface="Tempus Sans ITC"/>
              </a:rPr>
              <a:t>rquicas</a:t>
            </a: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El ahau o rey, representante “de los dioses”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sacerd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a nobl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guerr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artes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arquit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escul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cer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campesi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sirv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esclavos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8400" y="2895480"/>
            <a:ext cx="1925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171880" cy="4889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9999"/>
                </a:solidFill>
                <a:latin typeface="Tempus Sans ITC"/>
              </a:rPr>
              <a:t>Creencias y ritos religi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617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</a:rPr>
              <a:t>Tenían la responsabilidad de mantener el equilibrio del cos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</a:rPr>
              <a:t>La religión tomó importancia en la vida di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</a:rPr>
              <a:t>El rey y los sacerdotes dirigían exclusivamente los ritos religi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or derramar su propia sangre el rey alimentaba a los dioses y adivinaba su voluntad</a:t>
            </a:r>
            <a:r>
              <a:rPr b="1" lang="es-MX" sz="2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racticaban el sacrificio humano para honrar a los dios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Los dioses proporcionaban la buena cosecha y el éxito en competencias entre ciu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racticaban un juego de pelota en una cancha para mantener el equilibrio del cosmos</a:t>
            </a: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5943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empus Sans ITC"/>
              </a:rPr>
              <a:t>Chichén Itzá:   Cancha de Pel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9999"/>
                </a:solidFill>
                <a:latin typeface="Tempus Sans ITC"/>
              </a:rPr>
              <a:t>Dioses:  </a:t>
            </a:r>
            <a:r>
              <a:rPr b="1" lang="es-MX" sz="3200" spc="-1" strike="noStrike">
                <a:solidFill>
                  <a:srgbClr val="009999"/>
                </a:solidFill>
                <a:latin typeface="Tempus Sans ITC"/>
                <a:ea typeface="Times New Roman"/>
              </a:rPr>
              <a:t>Los mayas adoraban a varios dioses a la vez, tal como …</a:t>
            </a:r>
            <a:r>
              <a:rPr b="1" lang="fr-FR" sz="32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Hunab Ku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ios cre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Ah Puch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ios de la mue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Chak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ios de la llu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tzamná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ios de conocimiento sacerd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Ik 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ios del v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Yum Kax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dios del maíz</a:t>
            </a:r>
            <a:r>
              <a:rPr b="0" lang="es-MX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empus Sans ITC"/>
              </a:rPr>
              <a:t>Ix Chel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empus Sans ITC"/>
              </a:rPr>
              <a:t>diosa de la luna y la fert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8772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cc"/>
                </a:solidFill>
                <a:latin typeface="Tempus Sans ITC"/>
              </a:rPr>
              <a:t>Guer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a guerra depend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 de ritos especiales para honrar a los di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El rey adivinaba el momento propicio para empezar la guer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Los guerreros luchaban por el prestigio de la ciu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l ganar una batalla una ciudad pod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í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a exigir tri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buto de la 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</a:rPr>
              <a:t>ciudad</a:t>
            </a:r>
            <a:r>
              <a:rPr b="1" lang="es-MX" sz="2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conquist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29606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12:03:13Z</dcterms:created>
  <dc:creator>Vanessa G. Donnelly</dc:creator>
  <dc:description/>
  <dc:language>en-US</dc:language>
  <cp:lastModifiedBy>Margaret Ann Grant</cp:lastModifiedBy>
  <dcterms:modified xsi:type="dcterms:W3CDTF">2006-12-08T21:23:59Z</dcterms:modified>
  <cp:revision>137</cp:revision>
  <dc:subject/>
  <dc:title>EL MISTERIO DE LOS MAYAS</dc:title>
</cp:coreProperties>
</file>