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E278D-5660-4408-965A-BB75F8ACC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3D38B-42A8-4867-AA43-8567402CE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1C307-4091-4838-9CD1-E6ED8BE33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AC75B-585C-4BA9-BAA0-7D143E720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34762-7734-457E-9FC2-AC61C4C1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DA17-098A-4F32-98DB-E5FF8F62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0AA5-BD75-4004-9FD5-0934E095A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45CB-777F-464B-A0BB-F04ACC69A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EA68-675C-4E42-BA41-9497D06CC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B427-19A7-4EDF-A8EF-ADE016DE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246B-2492-4D71-981E-AEE37260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B7A7-2567-4217-A6BB-57B9E6299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CC6E-CF98-418F-ABA3-9C8536104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andmarkcases.org/hazelwood/background3.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andmarkcases.org/hazelwood/background3.html" TargetMode="External"/><Relationship Id="rId2" Type="http://schemas.openxmlformats.org/officeDocument/2006/relationships/hyperlink" Target="http://www.splc.org/legalresearch.asp?id=4"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 Newspaper Censo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47920" y="51814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artha Smith</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429000" y="2590920"/>
            <a:ext cx="226836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zelwood School District </a:t>
            </a:r>
            <a:br>
              <a:rPr sz="4400"/>
            </a:br>
            <a:r>
              <a:rPr b="0" lang="en-US" sz="4400" spc="-1" strike="noStrike">
                <a:solidFill>
                  <a:srgbClr val="000000"/>
                </a:solidFill>
                <a:latin typeface="Arial"/>
              </a:rPr>
              <a:t>v. Kuhlmeier</a:t>
            </a:r>
            <a:endParaRPr b="0" lang="en-US" sz="4400" spc="-1" strike="noStrike">
              <a:solidFill>
                <a:srgbClr val="000000"/>
              </a:solidFill>
              <a:latin typeface="Times New Roman"/>
            </a:endParaRPr>
          </a:p>
        </p:txBody>
      </p:sp>
      <p:sp>
        <p:nvSpPr>
          <p:cNvPr id="45" name=""/>
          <p:cNvSpPr/>
          <p:nvPr/>
        </p:nvSpPr>
        <p:spPr>
          <a:xfrm>
            <a:off x="3962520" y="2362320"/>
            <a:ext cx="4343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students sued their school district for deleting two pages from their newspaper. Students felt that their First Amendment rights were violated. They believed they followed all journalistic procedures, and their newspaper was unjustly censored.</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609480" y="3075120"/>
            <a:ext cx="2819520" cy="15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t Decisions</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44197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urt decision sided with the school district and said that schools can limit student speech if it has a good rea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of Appeals overturned the decision and sided with the students.</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418000" y="2286000"/>
            <a:ext cx="27352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reme Court Decis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2286000"/>
            <a:ext cx="44197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of the United States upheld the decision of the school district to censor the student newspap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ents lost their cas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418000" y="2286000"/>
            <a:ext cx="27352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Opin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67652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I do not think that the student newspaper should have been censored.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upport</a:t>
            </a:r>
            <a:r>
              <a:rPr b="1" lang="en-US" sz="2400" spc="-1" strike="noStrike">
                <a:solidFill>
                  <a:srgbClr val="000000"/>
                </a:solidFill>
                <a:latin typeface="Times New Roman"/>
              </a:rPr>
              <a:t>: </a:t>
            </a:r>
            <a:r>
              <a:rPr b="0" lang="en-US" sz="2400" spc="-1" strike="noStrike">
                <a:solidFill>
                  <a:srgbClr val="000000"/>
                </a:solidFill>
                <a:latin typeface="Times New Roman"/>
              </a:rPr>
              <a:t>Students followed all procedures and were not given a chance to fix their stories.</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tudent wrote a story that could potentially cause harm to someone, then I think it should be censored. </a:t>
            </a:r>
            <a:endParaRPr b="0" lang="en-US" sz="2400" spc="-1" strike="noStrike">
              <a:solidFill>
                <a:srgbClr val="000000"/>
              </a:solidFill>
              <a:latin typeface="Times New Roman"/>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upport</a:t>
            </a:r>
            <a:r>
              <a:rPr b="1" lang="en-US" sz="2400" spc="-1" strike="noStrike">
                <a:solidFill>
                  <a:srgbClr val="000000"/>
                </a:solidFill>
                <a:latin typeface="Times New Roman"/>
              </a:rPr>
              <a:t>: “</a:t>
            </a:r>
            <a:r>
              <a:rPr b="0" lang="en-US" sz="2400" spc="-1" strike="noStrike">
                <a:solidFill>
                  <a:srgbClr val="000000"/>
                </a:solidFill>
                <a:latin typeface="Times New Roman"/>
              </a:rPr>
              <a:t>Because the paper was a forum for student discussion, the principal or other officials could censor it only when ‘necessary to avoid material and substantial interference with school work or discipline or the rights of others’” (</a:t>
            </a:r>
            <a:r>
              <a:rPr b="0" lang="en-US" sz="1200" spc="-1" strike="noStrike" u="sng">
                <a:solidFill>
                  <a:srgbClr val="009999"/>
                </a:solidFill>
                <a:uFillTx/>
                <a:latin typeface="Geneva"/>
                <a:hlinkClick r:id="rId1"/>
              </a:rPr>
              <a:t>www.landmarkcases.org/hazelwood/background3.html</a:t>
            </a:r>
            <a:r>
              <a:rPr b="0" lang="en-US" sz="1200" spc="-1" strike="noStrike" u="sng">
                <a:solidFill>
                  <a:srgbClr val="000000"/>
                </a:solidFill>
                <a:uFillTx/>
                <a:latin typeface="Geneva"/>
              </a:rPr>
              <a:t>).</a:t>
            </a:r>
            <a:endParaRPr b="0" lang="en-US" sz="1200" spc="-1" strike="noStrike">
              <a:solidFill>
                <a:srgbClr val="000000"/>
              </a:solidFill>
              <a:latin typeface="Times New Roman"/>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nformation Power?</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828800"/>
            <a:ext cx="441972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hools can censor student newspapers, it gives schools a lot of power. It controls what students can talk about in a public foru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the power of free speech, students can not freely express themselves. That limits students’ power and ability to challenge school decisions. </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2550960"/>
            <a:ext cx="327672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Citation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elwood  v. Kuhlmeier (1988). Street Law and Supreme Court Historical Society Presents Landmark Cases Supreme Court. </a:t>
            </a:r>
            <a:r>
              <a:rPr b="0" lang="en-US" sz="2800" spc="-1" strike="noStrike" u="sng">
                <a:solidFill>
                  <a:srgbClr val="009999"/>
                </a:solidFill>
                <a:uFillTx/>
                <a:latin typeface="Times New Roman"/>
                <a:hlinkClick r:id="rId1"/>
              </a:rPr>
              <a:t>www.landmarkcases.org/hazelwood/background3.html</a:t>
            </a:r>
            <a:r>
              <a:rPr b="0" lang="en-US" sz="2800" spc="-1" strike="noStrike">
                <a:solidFill>
                  <a:srgbClr val="000000"/>
                </a:solidFill>
                <a:latin typeface="Times New Roman"/>
              </a:rPr>
              <a:t>.</a:t>
            </a:r>
            <a:r>
              <a:rPr b="0" lang="en-US" sz="2800" spc="-1" strike="noStrike">
                <a:solidFill>
                  <a:srgbClr val="000000"/>
                </a:solidFill>
                <a:latin typeface="Times New Roman"/>
              </a:rPr>
              <a:t> 28 March 2005.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elwood School District v. Kuhlmeier. Student Press Law Center. </a:t>
            </a:r>
            <a:r>
              <a:rPr b="0" lang="en-US" sz="2800" spc="-1" strike="noStrike" u="sng">
                <a:solidFill>
                  <a:srgbClr val="009999"/>
                </a:solidFill>
                <a:uFillTx/>
                <a:latin typeface="Times New Roman"/>
                <a:hlinkClick r:id="rId2"/>
              </a:rPr>
              <a:t>www.splc.org/legalresearch.asp?id=4</a:t>
            </a:r>
            <a:r>
              <a:rPr b="0" lang="en-US" sz="2800" spc="-1" strike="noStrike" u="sng">
                <a:solidFill>
                  <a:srgbClr val="000000"/>
                </a:solidFill>
                <a:uFillTx/>
                <a:latin typeface="Times New Roman"/>
              </a:rPr>
              <a:t>. 28 March 2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8:56:34Z</dcterms:created>
  <dc:creator>Lauren Scharnak</dc:creator>
  <dc:description/>
  <dc:language>en-US</dc:language>
  <cp:lastModifiedBy>cbaker1X</cp:lastModifiedBy>
  <dcterms:modified xsi:type="dcterms:W3CDTF">2005-04-26T17:14:07Z</dcterms:modified>
  <cp:revision>12</cp:revision>
  <dc:subject/>
  <dc:title>School Newspaper Censorship</dc:title>
</cp:coreProperties>
</file>