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5.jpeg" ContentType="image/jpeg"/>
  <Override PartName="/ppt/media/image1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13.wmf" ContentType="image/x-wmf"/>
  <Override PartName="/ppt/media/image2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60B-7404-43D1-91FE-BF547566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311-FE84-414D-8685-42062D7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EB9-D0DB-4F3A-A2BC-D5590CB9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246-4EA2-4F6C-8892-6D83BFF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292-6FCF-4875-8A9D-865197CC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97A-5253-4916-8EFB-36CA7ED2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3B3B-2677-4F42-9107-D3D76978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CD2-5CB8-43C9-ADC6-55017D8A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67F9-03FE-4990-88B7-0969745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A5B-6970-464C-B299-32032DEB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DED3-E041-4686-ADE7-50BFF75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B64-4FFB-4DF2-B62D-8F877F5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9BE1-CB62-4814-8D9C-C867EBA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A836-F0DB-4262-AF8E-DD3E1DC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341-6612-42B8-B46F-613CA8A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8F00-45E1-4BB5-A555-2AB94E84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5376-DE12-46FA-A697-417B7EBB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EF2-B0B3-43DF-BB9C-B49C3B5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BDC-C876-4728-870A-5CE81CE7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A9B-D35B-4472-8D5F-730A502A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C7A-8DA6-4D6B-BE4E-0499120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D1B-902A-4CB2-9573-E49109F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262-1469-462B-996E-9BF0394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5DB-5AD8-4DEF-8E3B-97CBDF1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8C6-7A41-47D7-AC3E-D7A52869F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D340-C660-4943-AB18-22F8FC600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93080" cy="388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he Art of the Mayans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by Wilson, Cory Kramer, Jay Watkins, Marty Lewis, and Sonia Truji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our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28800"/>
            <a:ext cx="838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an 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exico.udg.mx/historia/precolombinas/ingles/maya/mayaart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an 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dosmanos.com/learning_Mayan.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an Arts and Craf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ravelyucatan.com/mayan_arts_crafts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of the Jagu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civilization.ca/civil/maya/mmj01eng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Colombian 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iscali.co.uk/reference/encyclopaedia/hutchinson/m0039820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5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t is an effort to create, beside the real world, a more human world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dré Mauroi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o promote understanding among nations, a display of fabric art will be created to hang in the Hall of Nations at the upcoming World’s Fair.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337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625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8769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57913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05720" y="304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620120" y="304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68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99072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yans, an ancient civilization, lived in Mexico and Central America from the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1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ies. They specialized in architecture, astronomy, and mathematics and developed a remarkably accurate calendar. The modern Mayans are still a thriving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914400"/>
            <a:ext cx="4419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Jade was very important to ancient Mayans. Its green color symbolized fertility. Jade beads were often put into the mouths of the dead to make sure they survived spirit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89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9144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aguar was an important symbol for Mayan kings. The Jaguar God lived in the Underworld and returned each day with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28180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67080" y="380880"/>
            <a:ext cx="419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imals like foxes, owls, jaguars, fish, birds, hummingbirds, deer, rabbit, and duck were an important part of Mayan life, and their images were often found on pottery and in sculp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5894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8088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 scarf that reflects the beliefs and experiences of this culture will help others to understand the ancient and modern people that are the Mayan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3962" b="1476"/>
          <a:stretch/>
        </p:blipFill>
        <p:spPr>
          <a:xfrm>
            <a:off x="4495680" y="457200"/>
            <a:ext cx="3733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676520"/>
            <a:ext cx="7620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art of a people is a true mirror of their min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Jawaharlal Nehr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6:26:38Z</dcterms:created>
  <dc:creator>Margaret Ann Grant</dc:creator>
  <dc:description/>
  <dc:language>en-US</dc:language>
  <cp:lastModifiedBy>Margaret Ann Grant</cp:lastModifiedBy>
  <dcterms:modified xsi:type="dcterms:W3CDTF">2005-06-07T15:48:03Z</dcterms:modified>
  <cp:revision>7</cp:revision>
  <dc:subject/>
  <dc:title>Slide 1</dc:title>
</cp:coreProperties>
</file>