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12D-B024-43D3-822B-E539AF34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A23-C9D9-4A73-A06D-EB2CE0E4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0C7-5668-4D1E-9C2C-F0DFCB06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E56-2E1E-4B06-B4B2-7A54F0ED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596-DC69-4903-A253-E10774DD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090-071A-4CA6-8CCB-411F62F8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EBB-0A00-44BC-8718-884D6499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BCA-F109-4AA4-A2C3-EFF3AB2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824-C73D-4669-A43D-B9E96D0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4AA3-548D-4B2C-A648-730318B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EDA-73A9-4B1C-999E-2CA07AF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C2-AD53-41C8-B669-DEBB016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FA60-300B-4258-997E-0F95643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73E6-B6CE-40A6-A95E-37BF7BE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7E5-CF15-4294-A43F-86166E8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603F-E3B5-42EA-9285-8F969627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78D-EC6F-412F-B141-213758D1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E0B-4F41-4FD6-8031-3242943B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16D-F898-4F76-9FD8-455B655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AED-D982-4943-B6E6-71F55E9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DAA-602B-414D-8960-4BD378C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B39-4B98-40EB-909A-06B43B3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BA6-8335-4E31-8177-FB80E71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6AA-C8D2-4ABC-A2BB-0786125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5A7E-D181-4E9D-B35E-0A9CB447F0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A9C-053C-465D-8F78-B0EBED9CCF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838080"/>
            <a:ext cx="6934320" cy="43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8000" t="4572" r="8000" b="9143"/>
          <a:stretch/>
        </p:blipFill>
        <p:spPr>
          <a:xfrm>
            <a:off x="4648320" y="990720"/>
            <a:ext cx="3429000" cy="3079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5348000">
            <a:off x="488880" y="424800"/>
            <a:ext cx="4319640" cy="3468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60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car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181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do it and what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tch ta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int br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tton swa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e (silk sal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r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 Res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w dryer (if you are in a rus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rting 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e scarf on t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your design on scarf with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om to hold scarf and apply color res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heck the resist for gaps and reapply if necess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shing 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om to hold scarf or suspend from ceiling on a pant ha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dye with paint brush (take your tim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 scarf on delicate cycle and dry with tumble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 and enj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23:49:57Z</dcterms:created>
  <dc:creator>IITS</dc:creator>
  <dc:description/>
  <dc:language>en-US</dc:language>
  <cp:lastModifiedBy> </cp:lastModifiedBy>
  <dcterms:modified xsi:type="dcterms:W3CDTF">2003-10-30T15:27:45Z</dcterms:modified>
  <cp:revision>11</cp:revision>
  <dc:subject/>
  <dc:title>Scarf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74552522</vt:r8>
  </property>
  <property fmtid="{D5CDD505-2E9C-101B-9397-08002B2CF9AE}" pid="3" name="_AuthorEmail">
    <vt:lpwstr>ndome@csusm.edu</vt:lpwstr>
  </property>
  <property fmtid="{D5CDD505-2E9C-101B-9397-08002B2CF9AE}" pid="4" name="_AuthorEmailDisplayName">
    <vt:lpwstr>Nancy Dome</vt:lpwstr>
  </property>
  <property fmtid="{D5CDD505-2E9C-101B-9397-08002B2CF9AE}" pid="5" name="_EmailSubject">
    <vt:lpwstr>ppt</vt:lpwstr>
  </property>
  <property fmtid="{D5CDD505-2E9C-101B-9397-08002B2CF9AE}" pid="6" name="_ReviewingToolsShownOnce">
    <vt:lpwstr/>
  </property>
</Properties>
</file>