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924-750C-4114-98D5-6FD8A3E1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5B5-6A5E-4992-B93F-5116D51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CFD-665C-482B-A3A1-AF7D2C8B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9C7-A797-4020-8421-6838A18B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F759-1360-4FB5-9E3A-B90B2258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8FFB-3EB5-4305-B225-6476069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8802-636B-4419-A3D7-AA6C187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C76E-F8BC-4F66-8C06-344143D6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1F44-A77D-4340-94AF-236E9F6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C228-C141-44A9-9F8D-055FFD56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495-8494-4E96-9187-D73BF30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2DB-498D-4E17-B851-F3B5A3C2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2303-F703-48FF-B233-90AAD0CC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E224-56CB-4C6C-9062-87D71676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B55-FADF-425A-8E83-CD97F30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AE24-82DA-403F-94EB-CA43B313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BC9-AF4F-4CEE-B4B6-0B46AA06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E39-311F-430F-9E26-CEDB94C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710-63BD-4ED3-B4CF-B987B5B7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8C3-B8DF-4EF6-876E-73D2A221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EA5-918A-4289-A1EC-8CE57A3D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0C5-2E7C-4788-AACE-EC00755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FA6-0646-4D36-8BB7-CC238A23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9D9-773D-48A8-9B02-A231114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7CB-408C-4C0E-B5F5-CAF9202DBB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8023-7ABA-4C45-9338-8745742D14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o’s the Boss of You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, Marisol, Chatrian, and Bud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vents and characters i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o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similar to events and characters we have known or experienced becaus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9040" indent="-231840">
              <a:lnSpc>
                <a:spcPct val="8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Stanley, there are people in our lives that hold a position of authority over us and we must choose whether or not to ob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9040" indent="-231840">
              <a:lnSpc>
                <a:spcPct val="8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Stanley, we must decide who to obey and when it is appropriate and when it is n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9040" indent="-231840">
              <a:lnSpc>
                <a:spcPct val="8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is a series of choices, and we must weigh our options and then determine our course of 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ok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o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mpacted us because we saw how a boy our age responded to probl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tanley had to deal with being treated unfairly, he made the best of the situation by trying to get along with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he saw that something was wrong, he showed a lot of courage and stood up to people in authority to do what was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as clever and used his wits to accomplish something impor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portant of all, he was loyal to his friends and fami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825920" cy="1846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057040" y="15235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ds these days have lots of people telling them what to do. Stanley Yelnats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o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d lots of bo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sked 25 students at Rocky Bottom Middle School what adults bossed them around and why they did what they told them to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’s the Boss of Yo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1657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467480" y="3276720"/>
            <a:ext cx="1454400" cy="1449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4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ley’s parents bossed him around, and because he respected and loved his parents even though they weren’t successful and were kind of odd, he usually did what they sai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mother told him to write letters to her and he did it even though other kids made fun of him fo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told them lies about his experiences so they wouldn’t worry about h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086600" y="4343400"/>
            <a:ext cx="1719360" cy="18208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461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ke Stanley, all but 5 of the kids we surveyed said they loved and respected their parents and wanted to please them, so they usually obeye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kids said they disobeyed their parents sometimes, but most of them felt bad about it afterw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kids said they thought their parents’ rules were wrong sometimes, but they usually obeyed them any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m said they obeyed their parents because they were afraid of being punished, but only 3 of them said that was the only r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ach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089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uards at the camp bossed Stanley around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uards were supposed to teach Stanley to be a better p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were dishonest, unfair, and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ley obeyed them because he was afraid of being pun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tried to do what they told him to, but he ran away and fought against them when he realized how bad they were and they hurt his frie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160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01320" y="533520"/>
            <a:ext cx="7318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it is expected that students follow the rules or directions of their teachers, our survey showed that kids’ reactions depended on the teache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teachers didn’t seem to care how students behaved, so the kids tried to disobey whenever they wanted 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teachers were too strict, so the kids thought of sneaky ways to disobe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teachers were cool and fair, so the kids obeyed most of their ru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kids said that a few teachers gave too much work or graded too hard, so they just didn’t do what the teachers told them to do even though they got bad gra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1295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lice arrested Stanley, and, although he was accused unfairly of a crime he didn’t commit, he was forced to ob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ley had to go to the camp even though he was inn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ent along with it because there was nothing he could do about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2666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359480" y="457200"/>
            <a:ext cx="1784520" cy="1784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but 6 of the kids said that they respected the police and would follow officer instruc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y had t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obey the laws because they don’t want to get in trou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kids said that some of the cops in town seem to pick on kids and accuse them of shoplifting when they didn’t do anyth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kids said they were picked up by the police for something that they really did, but the police were okay about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kid said the cops always picked on him and his family, and he always tried to trick t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976840" cy="2745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’s the Boss of Yo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520" y="2666520"/>
            <a:ext cx="8309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the time, it’s smart to do what adults in charge tell you to do because you could get in trouble, be punished, or get a bad g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, like Stanley, you have to go against bad adults, and even though it might be hard, it’s the right thing to do because other people could be hu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00:34:03Z</dcterms:created>
  <dc:creator>Margaret Ann Grant</dc:creator>
  <dc:description/>
  <dc:language>en-US</dc:language>
  <cp:lastModifiedBy>lmclampx</cp:lastModifiedBy>
  <dcterms:modified xsi:type="dcterms:W3CDTF">2006-07-29T02:51:56Z</dcterms:modified>
  <cp:revision>17</cp:revision>
  <dc:subject/>
  <dc:title>Who’s the Boss of You?</dc:title>
</cp:coreProperties>
</file>