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E98-0B4F-4AA3-BF7C-0C96E618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91C-6403-46A7-A3F1-B7B4FF22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CBA-ACC7-46ED-BFBB-D5077EA8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6B0-6406-407E-BE1F-3873FD1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9F2D-901D-4813-B1E5-DA8DCE90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ED08-3EAB-47C1-9068-6EE0B896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8A8B-EAFD-453F-A2AA-D9AD9E92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46E6-6AA9-49C0-A4BE-3485D6BD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F58B-AED8-4A2C-A182-AA76670B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1548-524B-4937-86DF-8EC1B28E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7943-E9A4-49DF-819E-AFD0FCF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F83-1E9F-40AA-9766-8C75EBE4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3717-21C0-4445-9814-B62ABD32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96E7-2D5C-403A-AC0E-A445727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27B8-AD97-4CCD-9B7A-F9084D60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F091-F856-4EE0-9117-AF7D1D52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00B9-467D-473E-9ADA-824381D4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CB8-EFC1-4BC9-99A9-9ED2CA2D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265-6399-4A05-8857-1711355E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B36-39E8-4692-89DE-746A2535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F71-AB5E-4F21-A79E-5D568849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E1A-449A-4207-8FB6-6DC3DAB2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CD2-10E6-4D47-8127-3B201055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A41-95FC-4B2F-8192-97D39C79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F1AF-D356-46F6-B676-E3E974811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039A-9974-4079-B590-5E332D2C0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lobalis.gvu.unu.edu/" TargetMode="External"/><Relationship Id="rId3" Type="http://schemas.openxmlformats.org/officeDocument/2006/relationships/hyperlink" Target="http://www.cia.gov/cia/publications/factbook" TargetMode="External"/><Relationship Id="rId4" Type="http://schemas.openxmlformats.org/officeDocument/2006/relationships/hyperlink" Target="http://www.worldbank.or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fe Expectancy in Mozambiq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ctions can be take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Ramon, Katie, and Mo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 18,644,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r Portuguese col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ial Re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 history of civil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ming is largest employment opportun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2536920"/>
            <a:ext cx="36576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vious Actions Affecting Life Expectancy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political stability encouraged foreign investment which helps the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health education programs in place helps inform people about disease prev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quito nets provided by aid agencies to help prevent malaria outbrea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om My Epal in Mozambiq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t was so sad when my little cousin died.  He was only 8 months old. He had a fever for a long time, and the family lived too far from the hospital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sues Affecting Life Expectan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ant mortality rate: 139 per 1,000 live bir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V/AIDS rate: 1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employment rate: 2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 drinking water availability: 57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erty rate: 70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cy of total population: 47.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e weather: droughts and floo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Life Expectancy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1676520"/>
          <a:ext cx="4495680" cy="441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44956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2118960"/>
            <a:ext cx="40384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Year     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0: 37.5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1: 36.4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2: 35.4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3: 31.3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4: 37.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on P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Probl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or medical care for pregnant women and infants; high infant mortality r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IV/AIDS:15% of adults HIV+; 1.1 million people living with HIV/AIDS; little access to education and medica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vere weather and natural disasters causes shortages of food and poor drinking 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0% of population lives in poverty; 21% of population is unemploy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Possible Solu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vide nutrition and family planning classes; train health workers to immunize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rug companies could donate drugs so those suffering from HIV/AIDS would have greater access to them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elp farmers change crops, improve local diets; build sanitation facil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velop new industries; train and support entrepreneurs; offer free literacy class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es where we live influence how we liv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aspects of your life are affected by where you live, including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ype of education you rece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can get medical attention eas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kinds of jobs are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long you might l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is: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globalis.gvu.unu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A WorldFact Book: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cia.gov/cia/publications/factboo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Bank Group: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worldbank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Master: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</a:rPr>
              <a:t>www.nationmaster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21:30:54Z</dcterms:created>
  <dc:creator>tasmolex</dc:creator>
  <dc:description/>
  <dc:language>en-US</dc:language>
  <cp:lastModifiedBy>nlkouryX</cp:lastModifiedBy>
  <dcterms:modified xsi:type="dcterms:W3CDTF">2005-05-24T22:57:09Z</dcterms:modified>
  <cp:revision>62</cp:revision>
  <dc:subject/>
  <dc:title>Life Expectancy in Mozambique</dc:title>
</cp:coreProperties>
</file>