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82E2D-556F-4E08-AD13-82A6208F9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03C96-73E6-4517-B312-ABCE96C02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8B2BC-431D-4FE3-86CB-AC909B5F2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3C0A7-6BD7-4D1A-B9CB-0FA59C154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6DCDC-3F67-46D0-8FC5-36D30EBA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57593-D87E-473F-9D2B-D0BE324A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065EF-4E58-42A9-83CD-862F22EF5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7A44C-D189-4481-9EAF-6E290BA9B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97457-8649-45A0-A7E1-C751F9ECD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C7B3A-51F5-4DD6-961A-C47B53681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C94C-DDE7-4715-BBAC-A3897DEA2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BC897-6084-49A5-8063-9F94BEDE3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921D-15F9-4057-BFA4-406E05166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Pond Water and Pollywog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Miss Shapiro’s Class</a:t>
            </a:r>
            <a:endParaRPr b="0" lang="en-US" sz="3200" spc="-1" strike="noStrike">
              <a:solidFill>
                <a:srgbClr val="000000"/>
              </a:solidFill>
              <a:latin typeface="Arial"/>
            </a:endParaRPr>
          </a:p>
        </p:txBody>
      </p:sp>
      <p:pic>
        <p:nvPicPr>
          <p:cNvPr id="43" name="" descr=""/>
          <p:cNvPicPr/>
          <p:nvPr/>
        </p:nvPicPr>
        <p:blipFill>
          <a:blip r:embed="rId1"/>
          <a:stretch/>
        </p:blipFill>
        <p:spPr>
          <a:xfrm>
            <a:off x="3657600" y="3352680"/>
            <a:ext cx="1820880" cy="110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are raising frog eggs so they can turn into frogs.</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have an aquarium in our classroom where the eggs are living. We made sure that the water is healthy for the frogs to survive and that its habitat is like where its home is in the wild.</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are going to watch them every day to see what happens and write in our journal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1905120" y="609480"/>
            <a:ext cx="5181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Arial"/>
              </a:rPr>
              <a:t>Our Frog Project</a:t>
            </a:r>
            <a:endParaRPr b="0" lang="en-US" sz="4000" spc="-1" strike="noStrike">
              <a:solidFill>
                <a:srgbClr val="000000"/>
              </a:solidFill>
              <a:latin typeface="Arial"/>
            </a:endParaRPr>
          </a:p>
        </p:txBody>
      </p:sp>
      <p:pic>
        <p:nvPicPr>
          <p:cNvPr id="47" name="" descr=""/>
          <p:cNvPicPr/>
          <p:nvPr/>
        </p:nvPicPr>
        <p:blipFill>
          <a:blip r:embed="rId1"/>
          <a:stretch/>
        </p:blipFill>
        <p:spPr>
          <a:xfrm>
            <a:off x="533520" y="0"/>
            <a:ext cx="1807920" cy="171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Arial"/>
              </a:rPr>
              <a:t>A Healthy Habita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adpoles  need:</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good water quality.</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right water temperatur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lgae and mos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ome sunshine and some shad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Frogs need:</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good water quality.</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right water temperatur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Insects to eat.</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rocks to climb out of the water.</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ome sunshine and some shad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 descr=""/>
          <p:cNvPicPr/>
          <p:nvPr/>
        </p:nvPicPr>
        <p:blipFill>
          <a:blip r:embed="rId1"/>
          <a:stretch/>
        </p:blipFill>
        <p:spPr>
          <a:xfrm>
            <a:off x="3124080" y="5105520"/>
            <a:ext cx="236232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What We Di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got an aquarium.</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used water from the pond to put in our aquarium.</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put the eggs in the water.</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made sure the aquarium got some sunlight and some shade.</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watched the eggs closely every d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7086600" y="380880"/>
            <a:ext cx="1440000" cy="183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What We Sa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eggs hatched and we saw little tadpoles that looked like baby fish with tails.</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We fed them boiled lettuce.</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We also changed the habitat and added a pile of rocks so they could climb out when they grew their front le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n the tadpoles grew legs and started to become frogs!</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We started to feed them meal worms and some flies.</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n they lost their tails and looked like real frogs. It was time to put them back into the pond.</a:t>
            </a:r>
            <a:endParaRPr b="0" lang="en-US" sz="2400" spc="-1" strike="noStrike">
              <a:solidFill>
                <a:srgbClr val="000000"/>
              </a:solidFill>
              <a:latin typeface="Arial"/>
            </a:endParaRPr>
          </a:p>
        </p:txBody>
      </p:sp>
      <p:pic>
        <p:nvPicPr>
          <p:cNvPr id="58" name="" descr=""/>
          <p:cNvPicPr/>
          <p:nvPr/>
        </p:nvPicPr>
        <p:blipFill>
          <a:blip r:embed="rId1"/>
          <a:stretch/>
        </p:blipFill>
        <p:spPr>
          <a:xfrm>
            <a:off x="609480" y="609480"/>
            <a:ext cx="1808280" cy="609840"/>
          </a:xfrm>
          <a:prstGeom prst="rect">
            <a:avLst/>
          </a:prstGeom>
          <a:ln w="0">
            <a:noFill/>
          </a:ln>
        </p:spPr>
      </p:pic>
      <p:pic>
        <p:nvPicPr>
          <p:cNvPr id="59" name="" descr=""/>
          <p:cNvPicPr/>
          <p:nvPr/>
        </p:nvPicPr>
        <p:blipFill>
          <a:blip r:embed="rId2"/>
          <a:stretch/>
        </p:blipFill>
        <p:spPr>
          <a:xfrm>
            <a:off x="6172200" y="5486400"/>
            <a:ext cx="2666880" cy="116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Natural and Artificial Habitat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Natural Habitat:</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Good water quality</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unshin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had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Lots of spac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Rock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Mos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lga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Insect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Other anima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rtificial Habitat:</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Good water quality</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ome sunshin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ome shad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mall aquarium</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 few rock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ome mos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 few ins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There’s No Place Like Hom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We loved watching the eggs hatch and turn into tadpoles and then frogs. Some of the tadpoles died but many turned into frogs.</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he frogs liked their home in our classroom but when they got big there wasn’t enough space for them.</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hey were happy when we put them back into their pond home where they had a lot of space to swim and jump.</a:t>
            </a:r>
            <a:endParaRPr b="0" lang="en-US" sz="2800" spc="-1" strike="noStrike">
              <a:solidFill>
                <a:srgbClr val="000000"/>
              </a:solidFill>
              <a:latin typeface="Arial"/>
            </a:endParaRPr>
          </a:p>
        </p:txBody>
      </p:sp>
      <p:pic>
        <p:nvPicPr>
          <p:cNvPr id="65" name="" descr=""/>
          <p:cNvPicPr/>
          <p:nvPr/>
        </p:nvPicPr>
        <p:blipFill>
          <a:blip r:embed="rId1"/>
          <a:stretch/>
        </p:blipFill>
        <p:spPr>
          <a:xfrm>
            <a:off x="3962520" y="5257800"/>
            <a:ext cx="2057400" cy="138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20:23:13Z</dcterms:created>
  <dc:creator>Kristin Bye-Barton</dc:creator>
  <dc:description/>
  <dc:language>en-US</dc:language>
  <cp:lastModifiedBy>nlkouryX</cp:lastModifiedBy>
  <dcterms:modified xsi:type="dcterms:W3CDTF">2006-10-23T16:03:59Z</dcterms:modified>
  <cp:revision>12</cp:revision>
  <dc:subject/>
  <dc:title>Pond Water and Pollywogs</dc:title>
</cp:coreProperties>
</file>