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CA4-363A-4C57-AD00-A513221B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C50-E99D-4E11-BD6B-A7C026FC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21D-75DE-4573-838B-EA1D0824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B72-FD77-4D6F-B332-3AF89E8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8F4-89B5-404A-9480-996A4262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6C9D-5647-402B-AD50-2D77785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410-63F4-4A7E-95B5-970A5AD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DD82-1FAC-44A1-B4FD-D4D79AD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3FFF-9C11-48A9-8842-DC75C47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1D5-F05B-4172-960E-9DBE9582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0F2-3E18-44D2-848D-55F76A04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A71-C237-4E61-912F-C351F34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FA1D-994F-417B-9FA7-93C9BAFC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2252-AE9A-4FDB-8934-90A2153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E1EF-6CD9-4996-A967-4E8198A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E178-6677-433C-9F57-2926A3E5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E14A-1118-4921-A990-8D6095B0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F6A-4B88-4940-869E-CB37396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37D-689C-48A0-9941-1B48336F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39D-7E55-4644-9F14-F53D428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DF2-E85C-40EA-93BC-85AA6457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82D-8BE7-4704-BF22-E7106DB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E00-10F2-4847-BDAC-262ACC0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773-E7F5-489F-97F3-3D48474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C56E-EFA3-4CDD-8AB0-CE7E124B927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B6F-526E-4448-9877-30E5475A1B5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t’s Great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to Be a Cheeta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1640" y="1766520"/>
            <a:ext cx="396072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Curt Tiff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22280" y="3784680"/>
            <a:ext cx="3761280" cy="3034800"/>
            <a:chOff x="3122280" y="3784680"/>
            <a:chExt cx="3761280" cy="3034800"/>
          </a:xfrm>
        </p:grpSpPr>
        <p:pic>
          <p:nvPicPr>
            <p:cNvPr id="90" name="" descr="imagef07.jpg (29855 bytes)"/>
            <p:cNvPicPr/>
            <p:nvPr/>
          </p:nvPicPr>
          <p:blipFill>
            <a:blip r:embed="rId2"/>
            <a:stretch/>
          </p:blipFill>
          <p:spPr>
            <a:xfrm>
              <a:off x="3149640" y="3784680"/>
              <a:ext cx="37339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122280" y="6558120"/>
              <a:ext cx="163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</a:rPr>
              <a:t>It’s Great to Be a Cheetah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1640" y="2071800"/>
            <a:ext cx="776916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Even though cheetahs are an endangered species, if you are an African anim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a cheetah is a great animal to be!</a:t>
            </a:r>
            <a:r>
              <a:rPr b="0" lang="en-US" sz="2000" spc="-1" strike="noStrike">
                <a:solidFill>
                  <a:srgbClr val="996600"/>
                </a:solidFill>
                <a:latin typeface="Gill Sans Ul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Cheetahs are sleek and beautiful anim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built for sp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live among frie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perfectly suited for our habit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great hun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consumers in the food w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protected anim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It’s great to be a cheetah. Don’t you agr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 Am a Sleek and Beautiful Animal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fur is yellowish, with dark spots, which allows me to hide in grasses or dappled sh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am almost six feet in length. About one-third of my length is because of my long rudder-like tail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weigh nearly 125 pou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chirp and purr, instead of roa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4876920"/>
            <a:ext cx="3809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was one of the lucky ones. Only half of the cheetahs that are born live to independent adulthoo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average expected lifespan is 12 to 14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28800" y="6062760"/>
            <a:ext cx="3036240" cy="304560"/>
            <a:chOff x="1828800" y="6062760"/>
            <a:chExt cx="3036240" cy="304560"/>
          </a:xfrm>
        </p:grpSpPr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1828800" y="60627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3429000" y="60627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74320" y="6080040"/>
              <a:ext cx="12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r me chi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200" y="6068880"/>
              <a:ext cx="113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r me pu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7360" y="1752480"/>
            <a:ext cx="2879640" cy="3148200"/>
            <a:chOff x="5337360" y="1752480"/>
            <a:chExt cx="2879640" cy="3148200"/>
          </a:xfrm>
        </p:grpSpPr>
        <p:pic>
          <p:nvPicPr>
            <p:cNvPr id="101" name="" descr=""/>
            <p:cNvPicPr/>
            <p:nvPr/>
          </p:nvPicPr>
          <p:blipFill>
            <a:blip r:embed="rId10"/>
            <a:srcRect l="4687" t="23957" r="3122" b="7948"/>
            <a:stretch/>
          </p:blipFill>
          <p:spPr>
            <a:xfrm>
              <a:off x="5397840" y="1752480"/>
              <a:ext cx="281916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37360" y="4470480"/>
              <a:ext cx="1898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© Gerald and Buff Corsi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California Academy of Scie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Built for Spe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4876920"/>
            <a:ext cx="3962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can run at speeds up to 70 mph for distances up to 1,000 yards.</a:t>
            </a: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89280"/>
            <a:ext cx="38862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small head, which helps me to have low wind resistance and run fa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long, muscular legs that help me take long strides, up to 25 f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large heart and large lungs, which allow me to hold lots of oxy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non-retracting claws that help me to have lots of traction and stability when I run at great sp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long tail that helps me to have great balance and agility at high sp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4876920" y="18288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482400"/>
                </a:solidFill>
                <a:latin typeface="Gill Sans Ultra Bold"/>
              </a:rPr>
              <a:t>Top Speed Comparis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76952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752480"/>
                    <a:ext cx="77695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rot="16200000">
            <a:off x="-866880" y="3458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Live Among Frie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810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Gill Sans Ultra Bold"/>
              </a:rPr>
              <a:t>Like most cheetahs, I live in Namibia, Afr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791320"/>
            <a:ext cx="5334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About 2,000 other cheetahs are captive in zoos and reserves in other parts of the worl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343400"/>
            <a:ext cx="5257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Namibia, a small country in Africa, is the cheetah capital of the world. With over 2,000 cheetahs, Namibia is home to about one-sixth of the world’s 12,000 cheetahs.</a:t>
            </a:r>
            <a:r>
              <a:rPr b="0" lang="en-US" sz="1800" spc="-1" strike="noStrike">
                <a:solidFill>
                  <a:srgbClr val="996600"/>
                </a:solidFill>
                <a:latin typeface="Gill Sans Ultra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79640" y="2819520"/>
            <a:ext cx="2439720" cy="2590560"/>
            <a:chOff x="1079640" y="2819520"/>
            <a:chExt cx="2439720" cy="259056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rcRect l="22619" t="13819" r="20240" b="17839"/>
            <a:stretch/>
          </p:blipFill>
          <p:spPr>
            <a:xfrm>
              <a:off x="1082520" y="2819520"/>
              <a:ext cx="24368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079640" y="5163840"/>
              <a:ext cx="175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Microsoft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carta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00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4120" y="1752480"/>
            <a:ext cx="3276360" cy="2579760"/>
            <a:chOff x="5334120" y="1752480"/>
            <a:chExt cx="3276360" cy="2579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rcRect l="32143" t="29904" r="4765" b="15161"/>
            <a:stretch/>
          </p:blipFill>
          <p:spPr>
            <a:xfrm>
              <a:off x="5334120" y="1752480"/>
              <a:ext cx="327636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335920" y="4086000"/>
              <a:ext cx="182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Microsoft® Encarta® 200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952880" y="2895480"/>
            <a:ext cx="990720" cy="53352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Perfectly Suited for My Habit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4267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live in a wooded grassland savannah which is perfect for finding my prey. I eat hoofed animals that feed on gr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495680"/>
            <a:ext cx="42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hunt during the day. My low stature allows me to sneak through the tall grass of the savannah without being seen. The ability to perform a surprise attack on my target is important if I want to have something to e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3526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The grasslands are good grazing grounds for cattle and sheep, which are especially tas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86400" y="2743200"/>
            <a:ext cx="3224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a Great Hunt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2360" y="1904760"/>
            <a:ext cx="28051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sneak within 100 feet of my prey. Then, I race in at close to 70 miles an hour, and pounce on my target, quickly pulling down my pre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826000" cy="15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11840" y="6200640"/>
            <a:ext cx="304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Gerald and Buff Corsi, California Academy of Sc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828800"/>
            <a:ext cx="3810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small jaw doesn’t allow me to kill in one deadly bite, so I press on the throat of my victim until it suffoc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7880" y="4114800"/>
            <a:ext cx="1804320" cy="2587320"/>
            <a:chOff x="1217880" y="4114800"/>
            <a:chExt cx="1804320" cy="2587320"/>
          </a:xfrm>
        </p:grpSpPr>
        <p:pic>
          <p:nvPicPr>
            <p:cNvPr id="133" name="" descr="imagef08.jpg (27637 bytes)"/>
            <p:cNvPicPr/>
            <p:nvPr/>
          </p:nvPicPr>
          <p:blipFill>
            <a:blip r:embed="rId3"/>
            <a:stretch/>
          </p:blipFill>
          <p:spPr>
            <a:xfrm>
              <a:off x="1547280" y="4114800"/>
              <a:ext cx="147492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217880" y="6440760"/>
              <a:ext cx="1686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029200" y="31240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am not dependent on water holes like my prey; I get most of the water I need from the animals I e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7242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main sources of food are antelope, gazelle, hares and impa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4120" y="4952880"/>
            <a:ext cx="3200400" cy="1219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57320" y="2089440"/>
            <a:ext cx="2315520" cy="2526480"/>
            <a:chOff x="3757320" y="2089440"/>
            <a:chExt cx="2315520" cy="2526480"/>
          </a:xfrm>
        </p:grpSpPr>
        <p:grpSp>
          <p:nvGrpSpPr>
            <p:cNvPr id="139" name=""/>
            <p:cNvGrpSpPr/>
            <p:nvPr/>
          </p:nvGrpSpPr>
          <p:grpSpPr>
            <a:xfrm>
              <a:off x="3757320" y="2089440"/>
              <a:ext cx="2315520" cy="2526480"/>
              <a:chOff x="3757320" y="2089440"/>
              <a:chExt cx="2315520" cy="2526480"/>
            </a:xfrm>
          </p:grpSpPr>
          <p:sp>
            <p:nvSpPr>
              <p:cNvPr id="140" name="_s34837"/>
              <p:cNvSpPr/>
              <p:nvPr/>
            </p:nvSpPr>
            <p:spPr>
              <a:xfrm>
                <a:off x="3757680" y="2089440"/>
                <a:ext cx="2315160" cy="2526480"/>
              </a:xfrm>
              <a:custGeom>
                <a:avLst/>
                <a:gdLst>
                  <a:gd name="textAreaLeft" fmla="*/ 0 w 2315160"/>
                  <a:gd name="textAreaRight" fmla="*/ 2315160 w 2315160"/>
                  <a:gd name="textAreaTop" fmla="*/ 0 h 2526480"/>
                  <a:gd name="textAreaBottom" fmla="*/ 2526840 h 252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_s34838"/>
              <p:cNvSpPr/>
              <p:nvPr/>
            </p:nvSpPr>
            <p:spPr>
              <a:xfrm rot="5400000">
                <a:off x="3651480" y="2194920"/>
                <a:ext cx="2526480" cy="2315160"/>
              </a:xfrm>
              <a:custGeom>
                <a:avLst/>
                <a:gdLst>
                  <a:gd name="textAreaLeft" fmla="*/ 0 w 2526480"/>
                  <a:gd name="textAreaRight" fmla="*/ 2526840 w 2526480"/>
                  <a:gd name="textAreaTop" fmla="*/ 0 h 2315160"/>
                  <a:gd name="textAreaBottom" fmla="*/ 2315160 h 23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_s34843"/>
              <p:cNvSpPr/>
              <p:nvPr/>
            </p:nvSpPr>
            <p:spPr>
              <a:xfrm rot="10800000">
                <a:off x="3757320" y="2089440"/>
                <a:ext cx="2315160" cy="2526480"/>
              </a:xfrm>
              <a:custGeom>
                <a:avLst/>
                <a:gdLst>
                  <a:gd name="textAreaLeft" fmla="*/ 0 w 2315160"/>
                  <a:gd name="textAreaRight" fmla="*/ 2315160 w 2315160"/>
                  <a:gd name="textAreaTop" fmla="*/ 0 h 2526480"/>
                  <a:gd name="textAreaBottom" fmla="*/ 2526840 h 252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_s34845"/>
              <p:cNvSpPr/>
              <p:nvPr/>
            </p:nvSpPr>
            <p:spPr>
              <a:xfrm rot="16200000">
                <a:off x="3651840" y="2194920"/>
                <a:ext cx="2526480" cy="2315160"/>
              </a:xfrm>
              <a:custGeom>
                <a:avLst/>
                <a:gdLst>
                  <a:gd name="textAreaLeft" fmla="*/ 0 w 2526480"/>
                  <a:gd name="textAreaRight" fmla="*/ 2526840 w 2526480"/>
                  <a:gd name="textAreaTop" fmla="*/ 0 h 2315160"/>
                  <a:gd name="textAreaBottom" fmla="*/ 2315160 h 23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_s34835"/>
              <p:cNvSpPr/>
              <p:nvPr/>
            </p:nvSpPr>
            <p:spPr>
              <a:xfrm>
                <a:off x="5335200" y="224712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Gr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produc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_s34836"/>
              <p:cNvSpPr/>
              <p:nvPr/>
            </p:nvSpPr>
            <p:spPr>
              <a:xfrm>
                <a:off x="5336280" y="380988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Antel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primary 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_s34842"/>
              <p:cNvSpPr/>
              <p:nvPr/>
            </p:nvSpPr>
            <p:spPr>
              <a:xfrm>
                <a:off x="3904200" y="381204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Cheeta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secondary 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_s34844"/>
              <p:cNvSpPr/>
              <p:nvPr/>
            </p:nvSpPr>
            <p:spPr>
              <a:xfrm>
                <a:off x="3902400" y="224820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Hye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decompos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601160" y="2818800"/>
              <a:ext cx="900720" cy="884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>
            <a:off x="2514240" y="6132600"/>
            <a:ext cx="609480" cy="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33240" y="5969160"/>
            <a:ext cx="17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Gives energy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960" y="30492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 Am a Consumer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n the 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752480"/>
            <a:ext cx="25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sun gives life and energy  to all the plan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and animal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49640" y="3164040"/>
            <a:ext cx="195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grass gives 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o the antelop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9160" y="4406760"/>
            <a:ext cx="1724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antelope giv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nergy to me wh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eat i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18288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eventually give energ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o the hyena which feeds on me once I have died or am sic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8400" y="3316320"/>
            <a:ext cx="195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When the hye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dies or is killed it giv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nergy to the soil s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grass grow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819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5257440"/>
            <a:ext cx="457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181480"/>
            <a:ext cx="281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All animals give back to the soil when they die or through their wast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3240" y="5638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What Is the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Price of Life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Cheetahs are an endangered spec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ithout protection from humans, my population will soon be extinc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e are living things and need humans to protect us since humans are the ones taking away our homes and killing us for mone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You can’t put a price on a living thing’s life. Every life is important and animals like me have just as much a right to live a long healthy life as humans d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Once we are gone, you can never bring us back! Cheetahs are beautiful, graceful creatures that need protection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ithout us, an important piece in the circle of life would be missing. Other animals, like antelope, would suffer if we were not part of their food web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Life has no price!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0:55:50Z</dcterms:created>
  <dc:creator>Lab 18#</dc:creator>
  <dc:description/>
  <dc:language>en-US</dc:language>
  <cp:lastModifiedBy>Kristin Bye-Barton</cp:lastModifiedBy>
  <dcterms:modified xsi:type="dcterms:W3CDTF">2005-05-25T17:52:06Z</dcterms:modified>
  <cp:revision>166</cp:revision>
  <dc:subject/>
  <dc:title>African Animals</dc:title>
</cp:coreProperties>
</file>