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D85-6D67-40C5-AE7E-4998286E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BE1-DA1D-4880-85C4-0DA589E9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10B-A6A5-4D20-9BFB-1BE3955A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042-22A5-4D53-A154-35759708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2235-56E2-4E44-BCE8-B02DFA67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FC3A-2BD7-4F2D-92D7-8B87F1E7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BBBB-032E-49B5-9BD8-2754C762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BFB6-98C9-4683-9D8F-05234CEA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8B6A-3BE9-4EB7-84EC-CB952E05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7DF3-7CEC-46E0-9A1B-F451CE67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8123-9422-47A6-A40E-A8B62F86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D00-A87C-46A8-BAF6-4381A857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D15A-2E9F-4EB6-B35C-4E165364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C03A-5D73-47DB-9C66-9F2A9827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969D-729C-42B1-8E21-46E4026A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867E-024F-4D10-86ED-171A09BD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4E3A-9DE0-447B-BB83-A15892EC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18F-F53F-4A9D-9E96-D4F2B59E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175-F462-45F5-A6B7-E7FC9AF6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5BB-C315-476D-9151-520FBFF0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7AE-A0E3-4F74-A9EB-DAAB6186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BDD-78AD-4BB2-8BF8-7E0551A7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3F5-19B9-4915-9861-1E65B24E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A01-FD40-41E4-B078-C0B9D7C5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115C-C208-472E-8868-A1884DFE2C3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E7C6-3C30-4490-ABFB-2E111E92AAE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Do the Arts Reflect History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rts are rich in historical facts, feelings, and attitudes. One simply needs to take a closer loo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Can Music Teach Us About Histor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sic was often the way stories were passed down from generation to generation. Music can tell us stories, or it can convey feelings during certain events in histor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e’ll be Comin’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ound the Mounta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Logan fami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ackground of the So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She’ll Be Comin’ Round the Mountai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as originally an African-American spiritual called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When the Chariot Com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became a popular Appalachian song during the 1800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was also sung by railroad workers as they laid tracks across America in the late 19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ong’s lyrics convey a period in history by suggesting how the pioneers liv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n We First Heard the So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learned this song from my Pappy, who worked on the railroad. He said it made the work go by faster and seem a little easier. –P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know this song because Pappy would sing it all the time, then I started using it as a lullaby. –M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 said she sang this song to me when I was just a baby. From then on, she’d sing it to me every night before I went to bed. –An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heard some farmers singing it one time, but they had changed all the words. –B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the Song Means to 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ong is about old friends who haven’t seen each other in a long time getting together. It makes us miss Pappy, who liked to sing it mos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like to make up silly words to add to it. Yesterday, we added prairie do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makes us feel at home, even though we’re not. Especially the part about the wool pajamas. We hated wearing those itchy things, but it got cold in the win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’s a fun song to sing and makes the time go by fas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8480" y="60948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ng Along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First Ver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056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comin’ round the mountai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n she comes, toot toot.        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comin’ round the mountai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n she comes, toot toot.        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comin’ round the mountain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comin’ round the mountain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comin’ round the mountai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n she comes, toot toot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056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drivin’ six white hors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n she comes. Whoa back!    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drivin’ six white hors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n she comes. Whoa back!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drivin’ six white horses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drivin’ six white horses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e’ll be drivin’ six white hors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n she comes. Whoa back!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ot toot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1523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Follow the whole song along on your song sh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742680"/>
            <a:ext cx="888516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ng Along with Mo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523880"/>
            <a:ext cx="3581280" cy="643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ere are some additions we wrote to this song.  Please sing along with us!</a:t>
            </a:r>
            <a:br>
              <a:rPr sz="24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e will strike it rich in gold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hen she comes, ching, ching. We will strike it rich in gold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hen she comes, ching, ching. We will strike it rich in gold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e will strike it rich in gold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e will strike it rich in go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hen she comes.  Ching ching. Hi babe… Whoa back!… toot too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1495440"/>
            <a:ext cx="3657600" cy="543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airie dogs will come out of their burrows when she come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ho’s ther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airie dogs will come out of their burrows when she come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ho’s there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airie dogs will come out of their burrows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airie dogs will come out of their burrows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airie dogs will come out of their burrows when she comes, Who’s there?… ching ching… Hi babe… Whoa back!… toot too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9T18:39:35Z</dcterms:created>
  <dc:creator>Melissa Lim</dc:creator>
  <dc:description/>
  <dc:language>en-US</dc:language>
  <cp:lastModifiedBy>mjmillhX</cp:lastModifiedBy>
  <dcterms:modified xsi:type="dcterms:W3CDTF">2006-07-12T14:15:45Z</dcterms:modified>
  <cp:revision>35</cp:revision>
  <dc:subject/>
  <dc:title>She’ll be Comin’ Round the Mountain</dc:title>
</cp:coreProperties>
</file>