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37C-D4E2-405A-BF22-EB91193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642-520B-4472-AAC4-1DB6F6D7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D82-6994-467F-888F-793C0377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E66-9419-48E1-AAD5-034586E4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2009-6F68-4B04-9F3B-6BC3189E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D51-2D21-4A1C-BCA5-424FCD97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0DBB-3408-4B4B-AD6F-BE94AB0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46F-5F2D-4610-92EE-22F17E9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D74-91CD-4945-8B38-672B95B8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4133-051A-438B-8C06-AC6D7EBB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5D0F-B6D0-4BFA-BC61-1331287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5B2-20EE-48BA-A367-C30AB8C2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F67A-F16D-4B75-9A1D-E870B34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DDC2-D99A-40A8-BCAF-F437C0B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B41D-287F-446D-9A8D-7CD3A160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38C6-914C-4C5D-A397-6225872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0B8-2334-4C29-8F8F-337984DE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423-5069-42C9-9D75-CBD69E25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F18-6EAF-4F39-A198-BCB0D99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21F-AC56-420C-A432-8E31CD6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2B8-BE3B-4479-8DCB-DBC38D4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CDC-C4FE-4A89-9F16-B8A7153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65C-C575-4A6D-8656-F0D7593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507-A826-46E4-A3B4-BCA338B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826-9612-4A1C-8F0E-8E79FAE8EA9A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A7A-47CB-4B3C-AB50-B0150B238A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ffic Safety Meas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eded at 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Fifth Grader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Room 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there was an accident near our school, our class wanted to make the neighborhood safer for every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decided to find out what kind of traffic problems there might be and think of ways to fix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Descri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communicate clearly and be understood we followed these step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ooked at current safety practi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atched traffic and pedestrians, and collected da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learned more about safet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handed out surveys about how kids travel between home and schoo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developed a plan to make our neighborhood saf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16180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 many cars, bikes, people, and buses all share the same space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can’t see as well, and it’s noisy and distrac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600" y="11430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ges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24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wondered if congestion was a safety problem at our school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04920"/>
            <a:ext cx="2895480" cy="19047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476760" y="761760"/>
            <a:ext cx="1600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.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, Susan, and Melis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thought cars might be a big part of congestion, so we decided to look at the traffic passing by school during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morning on school day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ter pract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Saturday mo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600" y="53352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ges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ffic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97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9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097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weekday/Saturday information seemed to show what was really going on with congestion.  Saturday traffic is light; traffic on school days is heav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conclude that a lot of the traffic congestion during weekdays i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used by cars bringing kid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chool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964120" y="4419720"/>
            <a:ext cx="3179880" cy="2135160"/>
            <a:chOff x="5964120" y="4419720"/>
            <a:chExt cx="3179880" cy="2135160"/>
          </a:xfrm>
        </p:grpSpPr>
        <p:sp>
          <p:nvSpPr>
            <p:cNvPr id="146" name=""/>
            <p:cNvSpPr/>
            <p:nvPr/>
          </p:nvSpPr>
          <p:spPr>
            <a:xfrm>
              <a:off x="6043680" y="4834080"/>
              <a:ext cx="2790720" cy="1593720"/>
            </a:xfrm>
            <a:custGeom>
              <a:avLst/>
              <a:gdLst/>
              <a:ahLst/>
              <a:rect l="l" t="t" r="r" b="b"/>
              <a:pathLst>
                <a:path w="3514" h="2007">
                  <a:moveTo>
                    <a:pt x="542" y="1872"/>
                  </a:moveTo>
                  <a:lnTo>
                    <a:pt x="190" y="1909"/>
                  </a:lnTo>
                  <a:lnTo>
                    <a:pt x="0" y="1655"/>
                  </a:lnTo>
                  <a:lnTo>
                    <a:pt x="55" y="1155"/>
                  </a:lnTo>
                  <a:lnTo>
                    <a:pt x="653" y="737"/>
                  </a:lnTo>
                  <a:lnTo>
                    <a:pt x="1153" y="126"/>
                  </a:lnTo>
                  <a:lnTo>
                    <a:pt x="1945" y="0"/>
                  </a:lnTo>
                  <a:lnTo>
                    <a:pt x="2515" y="65"/>
                  </a:lnTo>
                  <a:lnTo>
                    <a:pt x="2969" y="200"/>
                  </a:lnTo>
                  <a:lnTo>
                    <a:pt x="3343" y="635"/>
                  </a:lnTo>
                  <a:lnTo>
                    <a:pt x="3505" y="1019"/>
                  </a:lnTo>
                  <a:lnTo>
                    <a:pt x="3514" y="1465"/>
                  </a:lnTo>
                  <a:lnTo>
                    <a:pt x="3205" y="1674"/>
                  </a:lnTo>
                  <a:lnTo>
                    <a:pt x="2978" y="1827"/>
                  </a:lnTo>
                  <a:lnTo>
                    <a:pt x="2634" y="1665"/>
                  </a:lnTo>
                  <a:lnTo>
                    <a:pt x="1070" y="1891"/>
                  </a:lnTo>
                  <a:lnTo>
                    <a:pt x="763" y="2007"/>
                  </a:lnTo>
                  <a:lnTo>
                    <a:pt x="542" y="1872"/>
                  </a:lnTo>
                  <a:lnTo>
                    <a:pt x="542" y="18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15280" y="5029200"/>
              <a:ext cx="397080" cy="430200"/>
            </a:xfrm>
            <a:custGeom>
              <a:avLst/>
              <a:gdLst/>
              <a:ahLst/>
              <a:rect l="l" t="t" r="r" b="b"/>
              <a:pathLst>
                <a:path w="499" h="543">
                  <a:moveTo>
                    <a:pt x="116" y="0"/>
                  </a:moveTo>
                  <a:lnTo>
                    <a:pt x="0" y="135"/>
                  </a:lnTo>
                  <a:lnTo>
                    <a:pt x="28" y="389"/>
                  </a:lnTo>
                  <a:lnTo>
                    <a:pt x="126" y="543"/>
                  </a:lnTo>
                  <a:lnTo>
                    <a:pt x="499" y="510"/>
                  </a:lnTo>
                  <a:lnTo>
                    <a:pt x="291" y="1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3800" y="5014800"/>
              <a:ext cx="439920" cy="419040"/>
            </a:xfrm>
            <a:custGeom>
              <a:avLst/>
              <a:gdLst/>
              <a:ahLst/>
              <a:rect l="l" t="t" r="r" b="b"/>
              <a:pathLst>
                <a:path w="555" h="529">
                  <a:moveTo>
                    <a:pt x="254" y="0"/>
                  </a:moveTo>
                  <a:lnTo>
                    <a:pt x="65" y="80"/>
                  </a:lnTo>
                  <a:lnTo>
                    <a:pt x="0" y="319"/>
                  </a:lnTo>
                  <a:lnTo>
                    <a:pt x="65" y="482"/>
                  </a:lnTo>
                  <a:lnTo>
                    <a:pt x="245" y="529"/>
                  </a:lnTo>
                  <a:lnTo>
                    <a:pt x="491" y="445"/>
                  </a:lnTo>
                  <a:lnTo>
                    <a:pt x="555" y="245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1480" y="4962600"/>
              <a:ext cx="631800" cy="555480"/>
            </a:xfrm>
            <a:custGeom>
              <a:avLst/>
              <a:gdLst/>
              <a:ahLst/>
              <a:rect l="l" t="t" r="r" b="b"/>
              <a:pathLst>
                <a:path w="798" h="700">
                  <a:moveTo>
                    <a:pt x="0" y="518"/>
                  </a:moveTo>
                  <a:lnTo>
                    <a:pt x="390" y="700"/>
                  </a:lnTo>
                  <a:lnTo>
                    <a:pt x="789" y="555"/>
                  </a:lnTo>
                  <a:lnTo>
                    <a:pt x="798" y="190"/>
                  </a:lnTo>
                  <a:lnTo>
                    <a:pt x="400" y="0"/>
                  </a:lnTo>
                  <a:lnTo>
                    <a:pt x="0" y="518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4120" y="4792680"/>
              <a:ext cx="2989440" cy="1584360"/>
            </a:xfrm>
            <a:custGeom>
              <a:avLst/>
              <a:gdLst/>
              <a:ahLst/>
              <a:rect l="l" t="t" r="r" b="b"/>
              <a:pathLst>
                <a:path w="3766" h="1996">
                  <a:moveTo>
                    <a:pt x="380" y="1996"/>
                  </a:moveTo>
                  <a:lnTo>
                    <a:pt x="221" y="1980"/>
                  </a:lnTo>
                  <a:lnTo>
                    <a:pt x="58" y="1873"/>
                  </a:lnTo>
                  <a:lnTo>
                    <a:pt x="0" y="1666"/>
                  </a:lnTo>
                  <a:lnTo>
                    <a:pt x="5" y="1345"/>
                  </a:lnTo>
                  <a:lnTo>
                    <a:pt x="135" y="1084"/>
                  </a:lnTo>
                  <a:lnTo>
                    <a:pt x="312" y="891"/>
                  </a:lnTo>
                  <a:lnTo>
                    <a:pt x="634" y="721"/>
                  </a:lnTo>
                  <a:lnTo>
                    <a:pt x="917" y="559"/>
                  </a:lnTo>
                  <a:lnTo>
                    <a:pt x="1055" y="282"/>
                  </a:lnTo>
                  <a:lnTo>
                    <a:pt x="1196" y="138"/>
                  </a:lnTo>
                  <a:lnTo>
                    <a:pt x="1993" y="0"/>
                  </a:lnTo>
                  <a:lnTo>
                    <a:pt x="2554" y="21"/>
                  </a:lnTo>
                  <a:lnTo>
                    <a:pt x="2984" y="175"/>
                  </a:lnTo>
                  <a:lnTo>
                    <a:pt x="3312" y="452"/>
                  </a:lnTo>
                  <a:lnTo>
                    <a:pt x="3529" y="696"/>
                  </a:lnTo>
                  <a:lnTo>
                    <a:pt x="3713" y="1038"/>
                  </a:lnTo>
                  <a:lnTo>
                    <a:pt x="3766" y="1336"/>
                  </a:lnTo>
                  <a:lnTo>
                    <a:pt x="3652" y="1545"/>
                  </a:lnTo>
                  <a:lnTo>
                    <a:pt x="3536" y="1452"/>
                  </a:lnTo>
                  <a:lnTo>
                    <a:pt x="3515" y="1068"/>
                  </a:lnTo>
                  <a:lnTo>
                    <a:pt x="3358" y="696"/>
                  </a:lnTo>
                  <a:lnTo>
                    <a:pt x="3152" y="445"/>
                  </a:lnTo>
                  <a:lnTo>
                    <a:pt x="2922" y="252"/>
                  </a:lnTo>
                  <a:lnTo>
                    <a:pt x="2616" y="168"/>
                  </a:lnTo>
                  <a:lnTo>
                    <a:pt x="2214" y="168"/>
                  </a:lnTo>
                  <a:lnTo>
                    <a:pt x="1769" y="175"/>
                  </a:lnTo>
                  <a:lnTo>
                    <a:pt x="1425" y="231"/>
                  </a:lnTo>
                  <a:lnTo>
                    <a:pt x="1187" y="328"/>
                  </a:lnTo>
                  <a:lnTo>
                    <a:pt x="978" y="752"/>
                  </a:lnTo>
                  <a:lnTo>
                    <a:pt x="901" y="859"/>
                  </a:lnTo>
                  <a:lnTo>
                    <a:pt x="527" y="998"/>
                  </a:lnTo>
                  <a:lnTo>
                    <a:pt x="359" y="1152"/>
                  </a:lnTo>
                  <a:lnTo>
                    <a:pt x="212" y="1391"/>
                  </a:lnTo>
                  <a:lnTo>
                    <a:pt x="159" y="1682"/>
                  </a:lnTo>
                  <a:lnTo>
                    <a:pt x="226" y="1852"/>
                  </a:lnTo>
                  <a:lnTo>
                    <a:pt x="380" y="1898"/>
                  </a:lnTo>
                  <a:lnTo>
                    <a:pt x="380" y="1996"/>
                  </a:lnTo>
                  <a:lnTo>
                    <a:pt x="380" y="1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38760" y="4906800"/>
              <a:ext cx="736920" cy="652680"/>
            </a:xfrm>
            <a:custGeom>
              <a:avLst/>
              <a:gdLst/>
              <a:ahLst/>
              <a:rect l="l" t="t" r="r" b="b"/>
              <a:pathLst>
                <a:path w="928" h="821">
                  <a:moveTo>
                    <a:pt x="0" y="690"/>
                  </a:moveTo>
                  <a:lnTo>
                    <a:pt x="223" y="786"/>
                  </a:lnTo>
                  <a:lnTo>
                    <a:pt x="453" y="821"/>
                  </a:lnTo>
                  <a:lnTo>
                    <a:pt x="659" y="776"/>
                  </a:lnTo>
                  <a:lnTo>
                    <a:pt x="812" y="674"/>
                  </a:lnTo>
                  <a:lnTo>
                    <a:pt x="928" y="469"/>
                  </a:lnTo>
                  <a:lnTo>
                    <a:pt x="882" y="291"/>
                  </a:lnTo>
                  <a:lnTo>
                    <a:pt x="775" y="162"/>
                  </a:lnTo>
                  <a:lnTo>
                    <a:pt x="535" y="0"/>
                  </a:lnTo>
                  <a:lnTo>
                    <a:pt x="275" y="76"/>
                  </a:lnTo>
                  <a:lnTo>
                    <a:pt x="530" y="239"/>
                  </a:lnTo>
                  <a:lnTo>
                    <a:pt x="637" y="393"/>
                  </a:lnTo>
                  <a:lnTo>
                    <a:pt x="637" y="546"/>
                  </a:lnTo>
                  <a:lnTo>
                    <a:pt x="505" y="668"/>
                  </a:lnTo>
                  <a:lnTo>
                    <a:pt x="275" y="674"/>
                  </a:lnTo>
                  <a:lnTo>
                    <a:pt x="35" y="607"/>
                  </a:lnTo>
                  <a:lnTo>
                    <a:pt x="0" y="690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24760" y="6140520"/>
              <a:ext cx="798480" cy="212760"/>
            </a:xfrm>
            <a:custGeom>
              <a:avLst/>
              <a:gdLst/>
              <a:ahLst/>
              <a:rect l="l" t="t" r="r" b="b"/>
              <a:pathLst>
                <a:path w="1006" h="267">
                  <a:moveTo>
                    <a:pt x="0" y="91"/>
                  </a:moveTo>
                  <a:lnTo>
                    <a:pt x="72" y="267"/>
                  </a:lnTo>
                  <a:lnTo>
                    <a:pt x="1006" y="122"/>
                  </a:lnTo>
                  <a:lnTo>
                    <a:pt x="930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15360" y="4992840"/>
              <a:ext cx="561960" cy="482400"/>
            </a:xfrm>
            <a:custGeom>
              <a:avLst/>
              <a:gdLst/>
              <a:ahLst/>
              <a:rect l="l" t="t" r="r" b="b"/>
              <a:pathLst>
                <a:path w="708" h="607">
                  <a:moveTo>
                    <a:pt x="138" y="91"/>
                  </a:moveTo>
                  <a:lnTo>
                    <a:pt x="40" y="209"/>
                  </a:lnTo>
                  <a:lnTo>
                    <a:pt x="0" y="346"/>
                  </a:lnTo>
                  <a:lnTo>
                    <a:pt x="31" y="469"/>
                  </a:lnTo>
                  <a:lnTo>
                    <a:pt x="86" y="553"/>
                  </a:lnTo>
                  <a:lnTo>
                    <a:pt x="209" y="607"/>
                  </a:lnTo>
                  <a:lnTo>
                    <a:pt x="500" y="577"/>
                  </a:lnTo>
                  <a:lnTo>
                    <a:pt x="678" y="476"/>
                  </a:lnTo>
                  <a:lnTo>
                    <a:pt x="708" y="337"/>
                  </a:lnTo>
                  <a:lnTo>
                    <a:pt x="631" y="162"/>
                  </a:lnTo>
                  <a:lnTo>
                    <a:pt x="439" y="61"/>
                  </a:lnTo>
                  <a:lnTo>
                    <a:pt x="261" y="0"/>
                  </a:lnTo>
                  <a:lnTo>
                    <a:pt x="261" y="107"/>
                  </a:lnTo>
                  <a:lnTo>
                    <a:pt x="439" y="209"/>
                  </a:lnTo>
                  <a:lnTo>
                    <a:pt x="540" y="316"/>
                  </a:lnTo>
                  <a:lnTo>
                    <a:pt x="479" y="460"/>
                  </a:lnTo>
                  <a:lnTo>
                    <a:pt x="295" y="491"/>
                  </a:lnTo>
                  <a:lnTo>
                    <a:pt x="179" y="460"/>
                  </a:lnTo>
                  <a:lnTo>
                    <a:pt x="107" y="368"/>
                  </a:lnTo>
                  <a:lnTo>
                    <a:pt x="102" y="270"/>
                  </a:lnTo>
                  <a:lnTo>
                    <a:pt x="138" y="91"/>
                  </a:lnTo>
                  <a:lnTo>
                    <a:pt x="13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7120" y="5011560"/>
              <a:ext cx="488880" cy="506520"/>
            </a:xfrm>
            <a:custGeom>
              <a:avLst/>
              <a:gdLst/>
              <a:ahLst/>
              <a:rect l="l" t="t" r="r" b="b"/>
              <a:pathLst>
                <a:path w="615" h="639">
                  <a:moveTo>
                    <a:pt x="77" y="0"/>
                  </a:moveTo>
                  <a:lnTo>
                    <a:pt x="0" y="169"/>
                  </a:lnTo>
                  <a:lnTo>
                    <a:pt x="8" y="313"/>
                  </a:lnTo>
                  <a:lnTo>
                    <a:pt x="61" y="476"/>
                  </a:lnTo>
                  <a:lnTo>
                    <a:pt x="147" y="569"/>
                  </a:lnTo>
                  <a:lnTo>
                    <a:pt x="268" y="639"/>
                  </a:lnTo>
                  <a:lnTo>
                    <a:pt x="615" y="623"/>
                  </a:lnTo>
                  <a:lnTo>
                    <a:pt x="554" y="452"/>
                  </a:lnTo>
                  <a:lnTo>
                    <a:pt x="321" y="483"/>
                  </a:lnTo>
                  <a:lnTo>
                    <a:pt x="168" y="436"/>
                  </a:lnTo>
                  <a:lnTo>
                    <a:pt x="116" y="299"/>
                  </a:lnTo>
                  <a:lnTo>
                    <a:pt x="131" y="138"/>
                  </a:lnTo>
                  <a:lnTo>
                    <a:pt x="214" y="92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94320" y="5962680"/>
              <a:ext cx="639720" cy="446040"/>
            </a:xfrm>
            <a:custGeom>
              <a:avLst/>
              <a:gdLst/>
              <a:ahLst/>
              <a:rect l="l" t="t" r="r" b="b"/>
              <a:pathLst>
                <a:path w="805" h="563">
                  <a:moveTo>
                    <a:pt x="60" y="563"/>
                  </a:moveTo>
                  <a:lnTo>
                    <a:pt x="321" y="455"/>
                  </a:lnTo>
                  <a:lnTo>
                    <a:pt x="297" y="363"/>
                  </a:lnTo>
                  <a:lnTo>
                    <a:pt x="404" y="302"/>
                  </a:lnTo>
                  <a:lnTo>
                    <a:pt x="512" y="323"/>
                  </a:lnTo>
                  <a:lnTo>
                    <a:pt x="521" y="455"/>
                  </a:lnTo>
                  <a:lnTo>
                    <a:pt x="805" y="446"/>
                  </a:lnTo>
                  <a:lnTo>
                    <a:pt x="760" y="240"/>
                  </a:lnTo>
                  <a:lnTo>
                    <a:pt x="659" y="118"/>
                  </a:lnTo>
                  <a:lnTo>
                    <a:pt x="505" y="0"/>
                  </a:lnTo>
                  <a:lnTo>
                    <a:pt x="342" y="0"/>
                  </a:lnTo>
                  <a:lnTo>
                    <a:pt x="107" y="93"/>
                  </a:lnTo>
                  <a:lnTo>
                    <a:pt x="0" y="271"/>
                  </a:lnTo>
                  <a:lnTo>
                    <a:pt x="0" y="440"/>
                  </a:lnTo>
                  <a:lnTo>
                    <a:pt x="60" y="563"/>
                  </a:lnTo>
                  <a:lnTo>
                    <a:pt x="60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24560" y="6273720"/>
              <a:ext cx="585720" cy="281160"/>
            </a:xfrm>
            <a:custGeom>
              <a:avLst/>
              <a:gdLst/>
              <a:ahLst/>
              <a:rect l="l" t="t" r="r" b="b"/>
              <a:pathLst>
                <a:path w="738" h="354">
                  <a:moveTo>
                    <a:pt x="0" y="163"/>
                  </a:moveTo>
                  <a:lnTo>
                    <a:pt x="100" y="302"/>
                  </a:lnTo>
                  <a:lnTo>
                    <a:pt x="291" y="354"/>
                  </a:lnTo>
                  <a:lnTo>
                    <a:pt x="438" y="354"/>
                  </a:lnTo>
                  <a:lnTo>
                    <a:pt x="545" y="316"/>
                  </a:lnTo>
                  <a:lnTo>
                    <a:pt x="668" y="209"/>
                  </a:lnTo>
                  <a:lnTo>
                    <a:pt x="738" y="23"/>
                  </a:lnTo>
                  <a:lnTo>
                    <a:pt x="508" y="0"/>
                  </a:lnTo>
                  <a:lnTo>
                    <a:pt x="428" y="99"/>
                  </a:lnTo>
                  <a:lnTo>
                    <a:pt x="367" y="114"/>
                  </a:lnTo>
                  <a:lnTo>
                    <a:pt x="223" y="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1760" y="5803920"/>
              <a:ext cx="617760" cy="360360"/>
            </a:xfrm>
            <a:custGeom>
              <a:avLst/>
              <a:gdLst/>
              <a:ahLst/>
              <a:rect l="l" t="t" r="r" b="b"/>
              <a:pathLst>
                <a:path w="776" h="454">
                  <a:moveTo>
                    <a:pt x="30" y="428"/>
                  </a:moveTo>
                  <a:lnTo>
                    <a:pt x="297" y="407"/>
                  </a:lnTo>
                  <a:lnTo>
                    <a:pt x="328" y="307"/>
                  </a:lnTo>
                  <a:lnTo>
                    <a:pt x="430" y="275"/>
                  </a:lnTo>
                  <a:lnTo>
                    <a:pt x="512" y="337"/>
                  </a:lnTo>
                  <a:lnTo>
                    <a:pt x="528" y="423"/>
                  </a:lnTo>
                  <a:lnTo>
                    <a:pt x="761" y="454"/>
                  </a:lnTo>
                  <a:lnTo>
                    <a:pt x="776" y="291"/>
                  </a:lnTo>
                  <a:lnTo>
                    <a:pt x="712" y="168"/>
                  </a:lnTo>
                  <a:lnTo>
                    <a:pt x="604" y="45"/>
                  </a:lnTo>
                  <a:lnTo>
                    <a:pt x="435" y="0"/>
                  </a:lnTo>
                  <a:lnTo>
                    <a:pt x="230" y="8"/>
                  </a:lnTo>
                  <a:lnTo>
                    <a:pt x="107" y="91"/>
                  </a:lnTo>
                  <a:lnTo>
                    <a:pt x="0" y="214"/>
                  </a:lnTo>
                  <a:lnTo>
                    <a:pt x="30" y="428"/>
                  </a:lnTo>
                  <a:lnTo>
                    <a:pt x="30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70840" y="6080040"/>
              <a:ext cx="598680" cy="297000"/>
            </a:xfrm>
            <a:custGeom>
              <a:avLst/>
              <a:gdLst/>
              <a:ahLst/>
              <a:rect l="l" t="t" r="r" b="b"/>
              <a:pathLst>
                <a:path w="754" h="375">
                  <a:moveTo>
                    <a:pt x="0" y="45"/>
                  </a:moveTo>
                  <a:lnTo>
                    <a:pt x="77" y="215"/>
                  </a:lnTo>
                  <a:lnTo>
                    <a:pt x="162" y="313"/>
                  </a:lnTo>
                  <a:lnTo>
                    <a:pt x="338" y="375"/>
                  </a:lnTo>
                  <a:lnTo>
                    <a:pt x="576" y="359"/>
                  </a:lnTo>
                  <a:lnTo>
                    <a:pt x="683" y="221"/>
                  </a:lnTo>
                  <a:lnTo>
                    <a:pt x="754" y="31"/>
                  </a:lnTo>
                  <a:lnTo>
                    <a:pt x="515" y="37"/>
                  </a:lnTo>
                  <a:lnTo>
                    <a:pt x="469" y="145"/>
                  </a:lnTo>
                  <a:lnTo>
                    <a:pt x="361" y="159"/>
                  </a:lnTo>
                  <a:lnTo>
                    <a:pt x="306" y="98"/>
                  </a:lnTo>
                  <a:lnTo>
                    <a:pt x="26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70760" y="5530680"/>
              <a:ext cx="492120" cy="621000"/>
            </a:xfrm>
            <a:custGeom>
              <a:avLst/>
              <a:gdLst/>
              <a:ahLst/>
              <a:rect l="l" t="t" r="r" b="b"/>
              <a:pathLst>
                <a:path w="619" h="782">
                  <a:moveTo>
                    <a:pt x="0" y="0"/>
                  </a:moveTo>
                  <a:lnTo>
                    <a:pt x="98" y="782"/>
                  </a:lnTo>
                  <a:lnTo>
                    <a:pt x="184" y="727"/>
                  </a:lnTo>
                  <a:lnTo>
                    <a:pt x="139" y="184"/>
                  </a:lnTo>
                  <a:lnTo>
                    <a:pt x="619" y="76"/>
                  </a:lnTo>
                  <a:lnTo>
                    <a:pt x="92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53320" y="5543640"/>
              <a:ext cx="227160" cy="88920"/>
            </a:xfrm>
            <a:custGeom>
              <a:avLst/>
              <a:gdLst/>
              <a:ahLst/>
              <a:rect l="l" t="t" r="r" b="b"/>
              <a:pathLst>
                <a:path w="285" h="114">
                  <a:moveTo>
                    <a:pt x="246" y="0"/>
                  </a:moveTo>
                  <a:lnTo>
                    <a:pt x="0" y="93"/>
                  </a:lnTo>
                  <a:lnTo>
                    <a:pt x="285" y="114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1360" y="4419720"/>
              <a:ext cx="1046160" cy="390240"/>
            </a:xfrm>
            <a:custGeom>
              <a:avLst/>
              <a:gdLst/>
              <a:ahLst/>
              <a:rect l="l" t="t" r="r" b="b"/>
              <a:pathLst>
                <a:path w="1319" h="491">
                  <a:moveTo>
                    <a:pt x="0" y="491"/>
                  </a:moveTo>
                  <a:lnTo>
                    <a:pt x="1319" y="0"/>
                  </a:lnTo>
                  <a:lnTo>
                    <a:pt x="377" y="491"/>
                  </a:lnTo>
                  <a:lnTo>
                    <a:pt x="0" y="491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8480" y="4675320"/>
              <a:ext cx="779400" cy="250560"/>
            </a:xfrm>
            <a:custGeom>
              <a:avLst/>
              <a:gdLst/>
              <a:ahLst/>
              <a:rect l="l" t="t" r="r" b="b"/>
              <a:pathLst>
                <a:path w="982" h="316">
                  <a:moveTo>
                    <a:pt x="0" y="230"/>
                  </a:moveTo>
                  <a:lnTo>
                    <a:pt x="982" y="0"/>
                  </a:lnTo>
                  <a:lnTo>
                    <a:pt x="237" y="316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29560" y="4938840"/>
              <a:ext cx="514440" cy="182520"/>
            </a:xfrm>
            <a:custGeom>
              <a:avLst/>
              <a:gdLst/>
              <a:ahLst/>
              <a:rect l="l" t="t" r="r" b="b"/>
              <a:pathLst>
                <a:path w="648" h="230">
                  <a:moveTo>
                    <a:pt x="0" y="114"/>
                  </a:moveTo>
                  <a:lnTo>
                    <a:pt x="648" y="0"/>
                  </a:lnTo>
                  <a:lnTo>
                    <a:pt x="49" y="23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4360" y="6440400"/>
              <a:ext cx="1176480" cy="109800"/>
            </a:xfrm>
            <a:custGeom>
              <a:avLst/>
              <a:gdLst/>
              <a:ahLst/>
              <a:rect l="l" t="t" r="r" b="b"/>
              <a:pathLst>
                <a:path w="1482" h="139">
                  <a:moveTo>
                    <a:pt x="0" y="139"/>
                  </a:moveTo>
                  <a:lnTo>
                    <a:pt x="177" y="31"/>
                  </a:lnTo>
                  <a:lnTo>
                    <a:pt x="1482" y="0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Sugges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14240" y="1523520"/>
            <a:ext cx="6629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99cc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think kids coming to school by car could walk or take the bus more often. We could give prizes to walkers every wee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743200" cy="2395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4572000"/>
            <a:ext cx="85341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could ask parents not to come all at the same tim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99ccff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 could set up carpools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19:32:10Z</dcterms:created>
  <dc:creator>Melissa Lim</dc:creator>
  <dc:description/>
  <dc:language>en-US</dc:language>
  <cp:lastModifiedBy>cbaker1X</cp:lastModifiedBy>
  <dcterms:modified xsi:type="dcterms:W3CDTF">2005-05-03T15:01:36Z</dcterms:modified>
  <cp:revision>21</cp:revision>
  <dc:subject/>
  <dc:title>Traffic Safety Measures Needed at our School</dc:title>
</cp:coreProperties>
</file>