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intel_4c_100_blue.jpg"/>
          <p:cNvPicPr/>
          <p:nvPr/>
        </p:nvPicPr>
        <p:blipFill>
          <a:blip r:embed="rId2"/>
          <a:stretch/>
        </p:blipFill>
        <p:spPr>
          <a:xfrm>
            <a:off x="7543800" y="5486400"/>
            <a:ext cx="124308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6"/>
          <p:cNvSpPr/>
          <p:nvPr/>
        </p:nvSpPr>
        <p:spPr>
          <a:xfrm>
            <a:off x="2057400" y="4191120"/>
            <a:ext cx="4903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127080">
            <a:solidFill>
              <a:srgbClr val="007c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0"/>
          <p:cNvSpPr/>
          <p:nvPr/>
        </p:nvSpPr>
        <p:spPr>
          <a:xfrm>
            <a:off x="1600200" y="2228760"/>
            <a:ext cx="60580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0000"/>
                </a:solidFill>
                <a:latin typeface="Trebuchet MS"/>
              </a:rPr>
              <a:t>Certificate of Completion</a:t>
            </a:r>
            <a:endParaRPr b="0" lang="en-US" sz="60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0" name="Line 16"/>
          <p:cNvSpPr/>
          <p:nvPr/>
        </p:nvSpPr>
        <p:spPr>
          <a:xfrm>
            <a:off x="838080" y="525780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1" name="Line 33"/>
          <p:cNvSpPr/>
          <p:nvPr/>
        </p:nvSpPr>
        <p:spPr>
          <a:xfrm>
            <a:off x="3505320" y="5257800"/>
            <a:ext cx="278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2" name="Text Box 36"/>
          <p:cNvSpPr/>
          <p:nvPr/>
        </p:nvSpPr>
        <p:spPr>
          <a:xfrm>
            <a:off x="914400" y="3581280"/>
            <a:ext cx="716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s recognized for completing the Intel® Easy Steps Basic Course.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warded by [Name of Organization].                        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380880" y="6353280"/>
            <a:ext cx="8763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l and the Intel logo are trademarks or registered trademarks of Intel Corporation or its subsidiaries in the United States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286000" y="3505320"/>
            <a:ext cx="4707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pic>
        <p:nvPicPr>
          <p:cNvPr id="45" name="Picture 12" descr="IntelEasySteps.tif"/>
          <p:cNvPicPr/>
          <p:nvPr/>
        </p:nvPicPr>
        <p:blipFill>
          <a:blip r:embed="rId1"/>
          <a:stretch/>
        </p:blipFill>
        <p:spPr>
          <a:xfrm>
            <a:off x="533520" y="4572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5715000" y="533520"/>
            <a:ext cx="2286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5943600" y="762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arty logo 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5029200" y="5818320"/>
            <a:ext cx="25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urse materials provided free of charge by Intel Corporation </a:t>
            </a:r>
            <a:endParaRPr b="0" lang="en-US" sz="11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342900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762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rainer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1" name="Text Box 34"/>
          <p:cNvSpPr/>
          <p:nvPr/>
        </p:nvSpPr>
        <p:spPr>
          <a:xfrm>
            <a:off x="2438280" y="29638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ristina"/>
              </a:rPr>
              <a:t>Participant’s Name</a:t>
            </a:r>
            <a:endParaRPr b="0" lang="en-US" sz="44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6477120" y="518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3" name="Line 33"/>
          <p:cNvSpPr/>
          <p:nvPr/>
        </p:nvSpPr>
        <p:spPr>
          <a:xfrm>
            <a:off x="6553080" y="52578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762120" y="487692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ristina"/>
              </a:rPr>
              <a:t>Trainer Name 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5" name="Text Box 34"/>
          <p:cNvSpPr/>
          <p:nvPr/>
        </p:nvSpPr>
        <p:spPr>
          <a:xfrm>
            <a:off x="3505320" y="487692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ristina"/>
              </a:rPr>
              <a:t>City, Country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6400800" y="4933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ristina"/>
              </a:rPr>
              <a:t>Day, Month, Year</a:t>
            </a:r>
            <a:endParaRPr b="0" lang="en-US" sz="20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0:09:46Z</dcterms:created>
  <dc:creator>wmpateX</dc:creator>
  <dc:description/>
  <dc:language>en-US</dc:language>
  <cp:lastModifiedBy>Broffman, Peter</cp:lastModifiedBy>
  <dcterms:modified xsi:type="dcterms:W3CDTF">2010-08-04T22:21:26Z</dcterms:modified>
  <cp:revision>38</cp:revision>
  <dc:subject/>
  <dc:title>Slide 1</dc:title>
</cp:coreProperties>
</file>