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859-0F69-4BE6-8CC8-38A5F1D6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5662-3D63-455D-98EF-478DE065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0C7-7EE9-4BF9-AB21-5198F8E8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17C-047D-422D-9400-61D03A75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DC6-302B-4628-8B02-97608728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89E-A366-4839-AF18-3F6EB488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E0A2-CB4E-4DAD-BB09-02CBC542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D14-2C9D-4A73-AD07-44E88000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D9B-FAA7-44CE-84FF-0AC555CA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A1B-AFDD-4D15-9B92-A04BC2B1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067-DB6B-49C5-9695-6DA0D1A2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EE91-C40A-4C73-8CCF-5B0746D6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0A6B9-76F3-41FC-9F73-658CD534539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F3E5E-68C2-4598-8C98-E6094ECE52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25393-E1EE-471B-AE60-703C791482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16416-F6AF-476E-AD54-5F51743441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12198-136B-4616-98DC-F746237CDD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563DBA-B81E-4979-8D35-BCE37394A0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5A4AE-5C60-4C17-9D5C-A71D8B2E40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E1262-4299-456D-87AB-05E399009D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BE031-0390-4DDD-B616-210665A2E5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9402E-21DB-4844-B13E-9616BA0988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18877-3D02-456D-910F-AFCC26CDD4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DA443-0ADB-49E0-9491-04B965DB44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248520"/>
            <a:ext cx="9140760" cy="60948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3" name="Picture 5" descr="Intel_white"/>
          <p:cNvPicPr/>
          <p:nvPr/>
        </p:nvPicPr>
        <p:blipFill>
          <a:blip r:embed="rId2"/>
          <a:stretch/>
        </p:blipFill>
        <p:spPr>
          <a:xfrm>
            <a:off x="7924680" y="6316560"/>
            <a:ext cx="811440" cy="541440"/>
          </a:xfrm>
          <a:prstGeom prst="rect">
            <a:avLst/>
          </a:prstGeom>
          <a:ln w="0">
            <a:noFill/>
          </a:ln>
        </p:spPr>
      </p:pic>
      <p:sp>
        <p:nvSpPr>
          <p:cNvPr id="4" name="Text Box 6"/>
          <p:cNvSpPr/>
          <p:nvPr/>
        </p:nvSpPr>
        <p:spPr>
          <a:xfrm>
            <a:off x="0" y="6400800"/>
            <a:ext cx="38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o Sans Intel"/>
              </a:rPr>
              <a:t>Corporate Affairs Grou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3886560" y="6267600"/>
            <a:ext cx="137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Verdana"/>
              </a:rPr>
              <a:t>INTEL CONFIDENTIAL</a:t>
            </a:r>
            <a:endParaRPr b="0" lang="en-US" sz="1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Text Box 9"/>
          <p:cNvSpPr/>
          <p:nvPr/>
        </p:nvSpPr>
        <p:spPr>
          <a:xfrm>
            <a:off x="8083440" y="77760"/>
            <a:ext cx="416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7770960" y="572760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44CD-9FAA-4FBC-B082-E1DB6A853DE5}" type="slidenum">
              <a:rPr b="0" lang="en-US" sz="2000" spc="-1" strike="noStrike">
                <a:solidFill>
                  <a:srgbClr val="0860a8"/>
                </a:solidFill>
                <a:latin typeface="Verdana"/>
              </a:rPr>
              <a:t>&lt;number&gt;</a:t>
            </a:fld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D409-739F-4495-AEAB-2F903C75486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6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4144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0F58-1CBD-4BBD-B5C1-1D2A0EE17B0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6" descr="Intel_white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intel_rgb_1700"/>
          <p:cNvPicPr/>
          <p:nvPr/>
        </p:nvPicPr>
        <p:blipFill>
          <a:blip r:embed="rId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Intel_white"/>
          <p:cNvPicPr/>
          <p:nvPr/>
        </p:nvPicPr>
        <p:blipFill>
          <a:blip r:embed="rId2"/>
          <a:stretch/>
        </p:blipFill>
        <p:spPr>
          <a:xfrm>
            <a:off x="7396200" y="538200"/>
            <a:ext cx="1290600" cy="8618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54144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85000"/>
              </a:lnSpc>
              <a:spcBef>
                <a:spcPts val="1800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oss.amr.ith.intel.com/sites/CAG/default.aspx" TargetMode="External"/><Relationship Id="rId2" Type="http://schemas.openxmlformats.org/officeDocument/2006/relationships/hyperlink" Target="http://moss.amr.ith.intel.com/sites/CAG/Program_Mngmt/default.aspx" TargetMode="External"/><Relationship Id="rId3" Type="http://schemas.openxmlformats.org/officeDocument/2006/relationships/hyperlink" Target="http://cagdashboard.intel.com/Education/Indicators/EnterCurrentYearData.aspx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6760" y="2644560"/>
            <a:ext cx="6194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TRAINING</a:t>
            </a:r>
            <a:br>
              <a:rPr sz="2800"/>
            </a:b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Education License Agreement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798720" y="4519440"/>
            <a:ext cx="37656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Peter Broffma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Corp K1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August, 2009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7350120" cy="3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Example: Intel® Teach Templat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133640" y="952560"/>
            <a:ext cx="66052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Education License Agreement Approva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396720" y="736560"/>
            <a:ext cx="86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milar to site currently used for approval of Intel Foundation gra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Geo program manager posts basic info and copy of agreement (see slide 1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ige approves and signs, posts copy of signed agre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590400" y="1650960"/>
            <a:ext cx="7386840" cy="4549680"/>
          </a:xfrm>
          <a:prstGeom prst="rect">
            <a:avLst/>
          </a:prstGeom>
          <a:ln w="0">
            <a:noFill/>
          </a:ln>
        </p:spPr>
      </p:pic>
      <p:sp>
        <p:nvSpPr>
          <p:cNvPr id="237" name="Left Arrow 8"/>
          <p:cNvSpPr/>
          <p:nvPr/>
        </p:nvSpPr>
        <p:spPr>
          <a:xfrm rot="20818800">
            <a:off x="2136240" y="4200120"/>
            <a:ext cx="1543320" cy="514440"/>
          </a:xfrm>
          <a:prstGeom prst="leftArrow">
            <a:avLst>
              <a:gd name="adj1" fmla="val 50000"/>
              <a:gd name="adj2" fmla="val 4993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sert New Item </a:t>
            </a:r>
            <a:endParaRPr b="0" lang="en-US" sz="1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ields to be completed in Approval form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41360" y="893880"/>
            <a:ext cx="823752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g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cation (country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ducation Program and Cour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l own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gency or organization agreement is with (License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Contact nam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Contact emai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greement effective da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greement expiration dat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local language version required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as agreement been modified?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spcBef>
                <a:spcPts val="601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f yes, has it been reviewed/approved by regional CAG legal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54400" indent="-314280">
              <a:spcBef>
                <a:spcPts val="601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If yes, has it been reviewed/approved by Shell or Peter?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electronic signature OK, or is “original” signature required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ents (open tex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ttach agre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racking of Agreement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68400" y="2319480"/>
            <a:ext cx="8983440" cy="30096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436680" y="7095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from Approval site can b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ported to a spreadshe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rted by any field (region, country, course, organization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greement expiration date, etc) for easy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5760" y="2641320"/>
            <a:ext cx="8237520" cy="7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Walk-Thru of Process</a:t>
            </a:r>
            <a:endParaRPr b="0" lang="en-US" sz="2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2401920"/>
            <a:ext cx="823752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Q &amp; A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nd</a:t>
            </a:r>
            <a:br>
              <a:rPr sz="2600"/>
            </a:b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eedback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roject Objectiv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velop standardized License Agreements to protect Intel’s copyrighted education mate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reate a process that provides (in one plac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asy access to approved License Agreement templa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asy and familiar instructions for gaining approval and signatur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entralized location to document and track agreem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is a License Agreement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5400" y="1112760"/>
            <a:ext cx="8497800" cy="30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233280" indent="-2332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License Agreement is a document tha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3280" indent="-2332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be used whene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l grants permission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 third parties (MOEs, NGOs) to reproduce, distribute, and/or post Intel’s copyrighted educational mate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3280" indent="-2332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s forth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terms and conditions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at control the circumstances of the  MOE/NGO’s right to reproduce, distribute or post the materials to protect our copyrigh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3280" indent="-2332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emedy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the terms and conditions are not follow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3280" indent="-233280"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3280" indent="-2332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3280" indent="-2332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3280" indent="-2332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33280" indent="-2332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450720" y="4503600"/>
            <a:ext cx="8502840" cy="642600"/>
          </a:xfrm>
          <a:prstGeom prst="rect">
            <a:avLst/>
          </a:prstGeom>
          <a:solidFill>
            <a:srgbClr val="567eb9"/>
          </a:solidFill>
          <a:ln w="324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l grants its Education License Agreements at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no fee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govt’s and NGOs using the materials for non-commercial educational purposes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Education License Agreement information accessible in a variety of ways:  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5760" y="1371240"/>
            <a:ext cx="8688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AG MOSS site:  Quick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moss.amr.ith.intel.com/sites/CAG/default.aspx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AG MOSS site:  Program Management Offic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c2e86"/>
                </a:solidFill>
                <a:uFillTx/>
                <a:latin typeface="Verdana"/>
                <a:hlinkClick r:id="rId2"/>
              </a:rPr>
              <a:t>http://moss.amr.ith.intel.com/sites/CAG/Program_Mngmt/default.aspx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60a8"/>
                </a:solidFill>
                <a:latin typeface="Verdana"/>
              </a:rPr>
              <a:t>CAG Education Dashboar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c2e86"/>
                </a:solidFill>
                <a:uFillTx/>
                <a:latin typeface="Verdana"/>
                <a:hlinkClick r:id="rId3"/>
              </a:rPr>
              <a:t>http://cagdashboard.intel.com/Education/Indicators/EnterCurrentYearData.aspx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76280" y="730080"/>
            <a:ext cx="8217000" cy="5410440"/>
          </a:xfrm>
          <a:prstGeom prst="rect">
            <a:avLst/>
          </a:prstGeom>
          <a:ln w="0">
            <a:noFill/>
          </a:ln>
        </p:spPr>
      </p:pic>
      <p:sp>
        <p:nvSpPr>
          <p:cNvPr id="214" name="Left Arrow 4"/>
          <p:cNvSpPr/>
          <p:nvPr/>
        </p:nvSpPr>
        <p:spPr>
          <a:xfrm rot="20730000">
            <a:off x="3740040" y="3315960"/>
            <a:ext cx="1446480" cy="36828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3240">
            <a:solidFill>
              <a:srgbClr val="0651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409680" y="68400"/>
            <a:ext cx="698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AG MOSS site:  Quick Links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49780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AG MOSS site:  Program Management Offic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812880" y="711360"/>
            <a:ext cx="7512120" cy="5279760"/>
          </a:xfrm>
          <a:prstGeom prst="rect">
            <a:avLst/>
          </a:prstGeom>
          <a:ln w="0">
            <a:noFill/>
          </a:ln>
        </p:spPr>
      </p:pic>
      <p:sp>
        <p:nvSpPr>
          <p:cNvPr id="218" name="Left Arrow 4"/>
          <p:cNvSpPr/>
          <p:nvPr/>
        </p:nvSpPr>
        <p:spPr>
          <a:xfrm rot="20730000">
            <a:off x="3740040" y="4381200"/>
            <a:ext cx="1446480" cy="36828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3240">
            <a:solidFill>
              <a:srgbClr val="0651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AG Education Dashboar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666720" y="923760"/>
            <a:ext cx="7810560" cy="50104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666720" y="923760"/>
            <a:ext cx="7810560" cy="5010480"/>
          </a:xfrm>
          <a:prstGeom prst="rect">
            <a:avLst/>
          </a:prstGeom>
          <a:ln w="0">
            <a:noFill/>
          </a:ln>
        </p:spPr>
      </p:pic>
      <p:sp>
        <p:nvSpPr>
          <p:cNvPr id="222" name="Left Arrow 5"/>
          <p:cNvSpPr/>
          <p:nvPr/>
        </p:nvSpPr>
        <p:spPr>
          <a:xfrm rot="20730000">
            <a:off x="2021040" y="4939920"/>
            <a:ext cx="1446120" cy="368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3240">
            <a:solidFill>
              <a:srgbClr val="0651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2"/>
          <p:cNvSpPr/>
          <p:nvPr/>
        </p:nvSpPr>
        <p:spPr>
          <a:xfrm>
            <a:off x="573120" y="190440"/>
            <a:ext cx="786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mponents of the process in one place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500040" y="1446120"/>
            <a:ext cx="8437680" cy="4530960"/>
          </a:xfrm>
          <a:prstGeom prst="rect">
            <a:avLst/>
          </a:prstGeom>
          <a:ln w="0">
            <a:noFill/>
          </a:ln>
        </p:spPr>
      </p:pic>
      <p:sp>
        <p:nvSpPr>
          <p:cNvPr id="225" name="Oval 5"/>
          <p:cNvSpPr/>
          <p:nvPr/>
        </p:nvSpPr>
        <p:spPr>
          <a:xfrm>
            <a:off x="4557600" y="4435560"/>
            <a:ext cx="287280" cy="299880"/>
          </a:xfrm>
          <a:prstGeom prst="ellipse">
            <a:avLst/>
          </a:prstGeom>
          <a:solidFill>
            <a:srgbClr val="ff00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3836880" y="3890880"/>
            <a:ext cx="287280" cy="300240"/>
          </a:xfrm>
          <a:prstGeom prst="ellipse">
            <a:avLst/>
          </a:prstGeom>
          <a:solidFill>
            <a:srgbClr val="ff00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1574640" y="3348000"/>
            <a:ext cx="285840" cy="300240"/>
          </a:xfrm>
          <a:prstGeom prst="ellipse">
            <a:avLst/>
          </a:prstGeom>
          <a:solidFill>
            <a:srgbClr val="ff00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Instructions to License Agreem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5760" y="112500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60a8"/>
                </a:solidFill>
                <a:latin typeface="Verdana"/>
              </a:rPr>
              <a:t>Section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ro: When to Use a License Agre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the appropriate agreement (links to templates for Intel Teach and Intel Learn)  </a:t>
            </a:r>
            <a:r>
              <a:rPr b="1" lang="en-US" sz="1400" spc="-1" strike="noStrike">
                <a:solidFill>
                  <a:srgbClr val="ff5b5b"/>
                </a:solidFill>
                <a:latin typeface="Verdana"/>
              </a:rPr>
              <a:t>Sample provided on slide 10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lete the agre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f no changes (fill in the blank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f changes needed (review/approvals required from regional CAG Legal and Shell or Peter)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btain signature of Licen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04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l signature (link to Education License Agreement Approval) </a:t>
            </a:r>
            <a:r>
              <a:rPr b="1" lang="en-US" sz="1400" spc="-1" strike="noStrike">
                <a:solidFill>
                  <a:srgbClr val="ff5b5b"/>
                </a:solidFill>
                <a:latin typeface="Verdana"/>
              </a:rPr>
              <a:t>Sample provided on slide 11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0860a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tribution of cop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7935840" y="27468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5840" y="27468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6:56:56Z</dcterms:created>
  <dc:creator>Jennifer Mancino</dc:creator>
  <dc:description/>
  <dc:language>en-US</dc:language>
  <cp:lastModifiedBy>Alison Elmer</cp:lastModifiedBy>
  <dcterms:modified xsi:type="dcterms:W3CDTF">2010-05-27T19:03:11Z</dcterms:modified>
  <cp:revision>65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A Organization">
    <vt:lpwstr>, </vt:lpwstr>
  </property>
</Properties>
</file>