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10F3-7A6D-4311-BEAC-FD7D3EB1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B9E7-911C-4F8E-AB66-C08BCC81E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1BDE-256B-4728-8387-F669D6CC1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9B3C-62D0-4DA0-BD37-7AEADA026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2E73-4B6D-4E64-96F8-CF8D0B2C9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D2E6-AF74-4656-8B6C-B43153FA0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7F12-0903-405F-BD49-F350E6916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58B0-516E-4A19-B132-DDBAEAC00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66FB-4327-4927-93BC-E1DFE5A01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075D-FD20-4FFD-9E67-57D7D5B9D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E3FB-B17B-4603-BACD-E84CC0F8B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6169-54DD-4A87-AEF5-915174BC8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10B4-2FDB-4B1B-A589-1955BC32971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6120" y="2090880"/>
            <a:ext cx="8629920" cy="2657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60a8"/>
                </a:solidFill>
                <a:latin typeface="Verdana"/>
              </a:rPr>
              <a:t>Leadership For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07160" y="19080"/>
            <a:ext cx="2398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8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66920" y="2363760"/>
            <a:ext cx="2810160" cy="213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755A-0375-4CCB-A526-855370709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Intel® Teach Program</dc:creator>
  <dc:description/>
  <dc:language>en-US</dc:language>
  <cp:lastModifiedBy>Alison Elmer</cp:lastModifiedBy>
  <dcterms:modified xsi:type="dcterms:W3CDTF">2009-06-18T19:04:21Z</dcterms:modified>
  <cp:revision>124</cp:revision>
  <dc:subject/>
  <dc:title>Forum Presentation</dc:title>
</cp:coreProperties>
</file>