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CA653-5D93-4BBB-B1CC-5EB9517E1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4646F16A-0B4C-47F2-8477-CC04A63E78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0A51DF85-9DDE-4BE3-A38E-B4323B4B3B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7B096F0D-9423-43D6-8A53-0960C550CE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92075B0E-002B-43BD-B824-AFA8EDF00E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5F3D28-1878-4009-B2B1-96A4C040F9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957AC4D-7E1E-41E5-ADDF-D673E58A7C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14E84C3-DB13-4440-BF0F-98E30A6CCAF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4A2B9CFD-63F0-4AF0-9AFD-D5AAFF98F5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E69BAF7B-E28C-4CA6-9F5F-149B07C041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BA93C9D-17B8-4CA1-BE7F-4F9892314D5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59DAA9FC-3CAF-49F4-BC25-6D51642F8D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3E68645A-EA60-406E-B357-DFF39D5A8C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80FDE24F-108E-45AC-BE45-54F45637F1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205BF5DB-9286-48AB-8408-F0967AB5F80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25130E75-6ED9-46CA-885E-218C68878E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AD34D159-8629-41CA-8CE8-E930AFC1F6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128DEB51-DD6A-4028-873C-BC3FC04945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FA4F7C85-23F1-42DE-8F44-D644004A5D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70583DA6-733A-4443-A537-CFC653678B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13294853-212C-4DA7-A719-098BD634F5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3E3F90DF-2AD9-49B7-B4FB-CEE7FAC2A0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0D442D99-A508-427E-A01C-D36731D3AD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CF7A1C32-CAE2-46BE-B9BC-0652032882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02F1-36B8-4BA2-964C-CAF82A7FD9AF}"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4EEB-88E0-4AF1-B84B-BCDCA2677D3E}"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57200" y="54864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201"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43080" indent="-3430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Q:</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Q:</a:t>
            </a:r>
            <a:endParaRPr b="0" lang="en-US" sz="16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743040" indent="-28584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Q:</a:t>
            </a:r>
            <a:endParaRPr b="0" lang="en-US" sz="2000" spc="-1" strike="noStrike">
              <a:solidFill>
                <a:srgbClr val="ffffff"/>
              </a:solidFill>
              <a:latin typeface="Verdana"/>
            </a:endParaRPr>
          </a:p>
          <a:p>
            <a:pPr lvl="2" marL="1143000" indent="-2286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143000" indent="-2286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C09886B6-F57E-476F-A539-1BC317E05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an Essential Question and a Content Question?</a:t>
            </a:r>
            <a:endParaRPr b="1" lang="en-US" sz="3200" spc="-1" strike="noStrike">
              <a:solidFill>
                <a:srgbClr val="ffffff"/>
              </a:solidFill>
              <a:latin typeface="Verdana"/>
            </a:endParaRPr>
          </a:p>
        </p:txBody>
      </p:sp>
      <p:graphicFrame>
        <p:nvGraphicFramePr>
          <p:cNvPr id="203"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044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69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7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B46372E7-B1C3-4C3C-9063-43D94FAD1C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How Do Content, Unit, and Essential Questions Support Learning?</a:t>
            </a:r>
            <a:endParaRPr b="0" lang="en-US" sz="3200" spc="-1" strike="noStrike">
              <a:solidFill>
                <a:srgbClr val="ffffff"/>
              </a:solidFill>
              <a:latin typeface="Times New Roman"/>
            </a:endParaRPr>
          </a:p>
        </p:txBody>
      </p:sp>
      <p:graphicFrame>
        <p:nvGraphicFramePr>
          <p:cNvPr id="205"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How do I collect information and display it in a graph?</a:t>
                      </a:r>
                      <a:endParaRPr b="0" lang="en-US" sz="1200" spc="-1" strike="noStrike">
                        <a:solidFill>
                          <a:srgbClr val="ffffff"/>
                        </a:solidFill>
                        <a:latin typeface="Times New Roman"/>
                      </a:endParaRPr>
                    </a:p>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What urban animals are there and what do they need to surviv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7932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E2F61111-6399-4622-A935-131FE2FBF5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265480" y="2084400"/>
            <a:ext cx="4500360" cy="2247840"/>
          </a:xfrm>
          <a:prstGeom prst="rect">
            <a:avLst/>
          </a:prstGeom>
          <a:ln w="0">
            <a:noFill/>
          </a:ln>
        </p:spPr>
      </p:pic>
      <p:sp>
        <p:nvSpPr>
          <p:cNvPr id="207"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11E2A2AD-22D2-4774-BE55-E806922266B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BA751D4-7E39-4652-BABE-AFBD2AB3D9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urriculum-Framing Questions include Essential, Unit, and Content Questions</a:t>
            </a:r>
            <a:br>
              <a:rPr sz="3200"/>
            </a:br>
            <a:endParaRPr b="1" lang="en-US" sz="3200" spc="-1" strike="noStrike">
              <a:solidFill>
                <a:srgbClr val="ffffff"/>
              </a:solidFill>
              <a:latin typeface="Verdana"/>
            </a:endParaRPr>
          </a:p>
        </p:txBody>
      </p:sp>
      <p:sp>
        <p:nvSpPr>
          <p:cNvPr id="174" name="PlaceHolder 2"/>
          <p:cNvSpPr>
            <a:spLocks noGrp="1"/>
          </p:cNvSpPr>
          <p:nvPr>
            <p:ph/>
          </p:nvPr>
        </p:nvSpPr>
        <p:spPr>
          <a:xfrm>
            <a:off x="380880" y="2286000"/>
            <a:ext cx="8237520" cy="3733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5" name=""/>
          <p:cNvSpPr/>
          <p:nvPr/>
        </p:nvSpPr>
        <p:spPr>
          <a:xfrm>
            <a:off x="380880" y="17524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D5FA811-7587-44CA-9635-E78E0290DD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Q: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34A863D-2059-4EA5-BFF0-27ADB7FD49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8BCC069-C1D7-4FB1-8A9C-4737C9A519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81"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F8159BBD-FA3A-4FCD-9DBB-01091CD6F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32640" indent="-3326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32640" indent="-33264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720720" indent="-27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Q: </a:t>
            </a:r>
            <a:endParaRPr b="0" lang="en-US" sz="1800" spc="-1" strike="noStrike">
              <a:solidFill>
                <a:srgbClr val="ffffff"/>
              </a:solidFill>
              <a:latin typeface="Verdana"/>
            </a:endParaRPr>
          </a:p>
          <a:p>
            <a:pPr lvl="2" marL="1108440" indent="-2214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20720" indent="-2772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Q:</a:t>
            </a:r>
            <a:endParaRPr b="0" lang="en-US" sz="1800" spc="-1" strike="noStrike">
              <a:solidFill>
                <a:srgbClr val="ffffff"/>
              </a:solidFill>
              <a:latin typeface="Verdana"/>
            </a:endParaRPr>
          </a:p>
          <a:p>
            <a:pPr lvl="2" marL="1108440" indent="-2214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108440" indent="-22140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to be?</a:t>
            </a:r>
            <a:r>
              <a:rPr b="1" i="1" lang="en-US" sz="2400" spc="-1" strike="noStrike">
                <a:solidFill>
                  <a:srgbClr val="ffff99"/>
                </a:solidFill>
                <a:latin typeface="Verdana"/>
              </a:rPr>
              <a:t> </a:t>
            </a:r>
            <a:endParaRPr b="0" lang="en-US" sz="2400" spc="-1" strike="noStrike">
              <a:solidFill>
                <a:srgbClr val="ffffff"/>
              </a:solidFill>
              <a:latin typeface="Verdan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B2D0CF68-4F8B-4BCA-A729-16E74F597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5"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82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F2F84FA3-CC76-4C8F-BDF7-1458F2BD6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grpSp>
        <p:nvGrpSpPr>
          <p:cNvPr id="187" name=""/>
          <p:cNvGrpSpPr/>
          <p:nvPr/>
        </p:nvGrpSpPr>
        <p:grpSpPr>
          <a:xfrm>
            <a:off x="990720" y="2133720"/>
            <a:ext cx="7086600" cy="3614760"/>
            <a:chOff x="990720" y="2133720"/>
            <a:chExt cx="7086600" cy="3614760"/>
          </a:xfrm>
        </p:grpSpPr>
        <p:sp>
          <p:nvSpPr>
            <p:cNvPr id="188"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Q: How does conflict produce change?</a:t>
              </a:r>
              <a:endParaRPr b="1" lang="en-US" sz="2800" spc="1" strike="noStrike">
                <a:ln w="0">
                  <a:noFill/>
                </a:ln>
                <a:solidFill>
                  <a:srgbClr val="000000"/>
                </a:solidFill>
                <a:latin typeface="Arial"/>
                <a:ea typeface="Arial"/>
              </a:endParaRPr>
            </a:p>
          </p:txBody>
        </p:sp>
        <p:sp>
          <p:nvSpPr>
            <p:cNvPr id="197"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8"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9" name=""/>
            <p:cNvSpPr/>
            <p:nvPr/>
          </p:nvSpPr>
          <p:spPr>
            <a:xfrm>
              <a:off x="1343160" y="2889360"/>
              <a:ext cx="4020840" cy="22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8ACBCDCB-DE7C-4C47-9210-8C640224F4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cbaker1x</cp:lastModifiedBy>
  <dcterms:modified xsi:type="dcterms:W3CDTF">2008-04-09T15:47:46Z</dcterms:modified>
  <cp:revision>210</cp:revision>
  <dc:subject/>
  <dc:title>Why Essential Questions?</dc:title>
</cp:coreProperties>
</file>