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672-414A-4E66-AEDC-7C3A84C2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B44-6ECB-4F09-B186-B8A1D31B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512-2D68-4A12-B873-2AC69661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1BA-CD71-426B-B68C-412E7C89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B1BA-698F-46B3-A983-88349642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9F84-79FE-4E03-B0FF-1983E8D7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9A85-96F2-4B51-99A6-53CEC56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1A6-1C2C-4D17-8641-17A286CA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4AB6-3AB9-4901-90F3-ED7434D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BB15-F797-4993-8AFA-49A61372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1A47-C3AB-4054-A410-CD40EEB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D47-97BD-4C99-917B-29FE4FF7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68A4-2E13-43E1-949D-79AB826A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63C5-A0D4-4371-ADD6-7811538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F2A1-35C8-4804-9DF6-D4CD3075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DF22-4361-48FD-99E9-DF89A58E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CC9C-DF15-4771-9CE8-79774D60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B50-2D5E-42A4-9890-EDEA2CE3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929-1E27-4B2C-836F-53EC2EE5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652-273C-4875-9CA3-FAE3627D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966-5E9C-4377-B9CF-5E50DF7C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18E-72EF-4CC7-984F-51B87AF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888-F2EC-459A-B5D1-98D40C5C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FF4-9AA8-4ACA-B3C7-32A4CD97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A3CF-84EA-44A3-9F7A-9A78F9AD8432}" type="slidenum"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6572-011F-4524-8930-4CAAA59EEE00}" type="slidenum"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23244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23244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685800"/>
            <a:ext cx="6324480" cy="5105520"/>
          </a:xfrm>
          <a:prstGeom prst="triangle">
            <a:avLst>
              <a:gd name="adj" fmla="val 50000"/>
            </a:avLst>
          </a:prstGeom>
          <a:solidFill>
            <a:srgbClr val="97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Bloom’s Taxonomy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cus on Higher-Ord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Background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56, Benjamin Bloom, a professor at the University of Chicago, shared his famous "Taxonomy of Educational Objectives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 identified six levels of cognitive complexity that have been used over the past four decades to make sure that instruction stimulates and develops students' higher-order thinking ski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486080" y="1574640"/>
            <a:ext cx="6209640" cy="5054400"/>
            <a:chOff x="1486080" y="1574640"/>
            <a:chExt cx="6209640" cy="5054400"/>
          </a:xfrm>
        </p:grpSpPr>
        <p:grpSp>
          <p:nvGrpSpPr>
            <p:cNvPr id="142" name=""/>
            <p:cNvGrpSpPr/>
            <p:nvPr/>
          </p:nvGrpSpPr>
          <p:grpSpPr>
            <a:xfrm>
              <a:off x="1486080" y="1574640"/>
              <a:ext cx="6209640" cy="4787640"/>
              <a:chOff x="1486080" y="1574640"/>
              <a:chExt cx="6209640" cy="4787640"/>
            </a:xfrm>
          </p:grpSpPr>
          <p:sp>
            <p:nvSpPr>
              <p:cNvPr id="143" name=""/>
              <p:cNvSpPr/>
              <p:nvPr/>
            </p:nvSpPr>
            <p:spPr>
              <a:xfrm>
                <a:off x="1486080" y="1574640"/>
                <a:ext cx="6209640" cy="478764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28680" y="2593440"/>
                <a:ext cx="13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76880" y="3306960"/>
                <a:ext cx="223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71080" y="4096080"/>
                <a:ext cx="325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4000" y="5649120"/>
                <a:ext cx="529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10560" y="4935600"/>
                <a:ext cx="437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373480" y="2336760"/>
              <a:ext cx="4434840" cy="4292280"/>
              <a:chOff x="2373480" y="2336760"/>
              <a:chExt cx="4434840" cy="4292280"/>
            </a:xfrm>
          </p:grpSpPr>
          <p:sp>
            <p:nvSpPr>
              <p:cNvPr id="150" name=""/>
              <p:cNvSpPr/>
              <p:nvPr/>
            </p:nvSpPr>
            <p:spPr>
              <a:xfrm>
                <a:off x="3570120" y="2336760"/>
                <a:ext cx="20703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23244"/>
                    </a:solidFill>
                    <a:latin typeface="Arial Black"/>
                  </a:rPr>
                  <a:t>Evaluation</a:t>
                </a:r>
                <a:endParaRPr b="0" lang="en-US" sz="1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2373480" y="3014640"/>
                <a:ext cx="4434840" cy="3614400"/>
                <a:chOff x="2373480" y="3014640"/>
                <a:chExt cx="4434840" cy="3614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260160" y="3014640"/>
                  <a:ext cx="266112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Synthe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64600" y="3796560"/>
                  <a:ext cx="325260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Analy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669040" y="4637880"/>
                  <a:ext cx="384336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Applicatio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73480" y="53409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Comprehensio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373480" y="60375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Knowledge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" name=""/>
          <p:cNvSpPr/>
          <p:nvPr/>
        </p:nvSpPr>
        <p:spPr>
          <a:xfrm>
            <a:off x="390600" y="700200"/>
            <a:ext cx="88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Higher-Order Thinking Skills</a:t>
            </a:r>
            <a:endParaRPr b="0" lang="en-US" sz="4800" spc="-1" strike="noStrike">
              <a:solidFill>
                <a:srgbClr val="323244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Knowledge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19280" y="16142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all or recognition of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33520" y="2514600"/>
            <a:ext cx="8839080" cy="3146400"/>
            <a:chOff x="533520" y="2514600"/>
            <a:chExt cx="8839080" cy="3146400"/>
          </a:xfrm>
        </p:grpSpPr>
        <p:sp>
          <p:nvSpPr>
            <p:cNvPr id="161" name=""/>
            <p:cNvSpPr/>
            <p:nvPr/>
          </p:nvSpPr>
          <p:spPr>
            <a:xfrm>
              <a:off x="4724280" y="2514600"/>
              <a:ext cx="46483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is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dentif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how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fin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cogn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call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atch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2529000"/>
              <a:ext cx="457200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lassify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crib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oc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ve examples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tinguish opinion from fac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Comprehension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understand, translate, paraphrase, interpret or extrapolate material. (Predict outcome and effec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80960" y="2838600"/>
            <a:ext cx="7391520" cy="3378600"/>
            <a:chOff x="480960" y="2838600"/>
            <a:chExt cx="7391520" cy="3378600"/>
          </a:xfrm>
        </p:grpSpPr>
        <p:sp>
          <p:nvSpPr>
            <p:cNvPr id="166" name=""/>
            <p:cNvSpPr/>
            <p:nvPr/>
          </p:nvSpPr>
          <p:spPr>
            <a:xfrm>
              <a:off x="3986280" y="2838600"/>
              <a:ext cx="388620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araphras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fferenti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monstr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visual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state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wri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ve example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0960" y="2852640"/>
              <a:ext cx="4114800" cy="33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mmar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lain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pre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crib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ar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ver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tinguish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im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50"/>
                </a:spcBef>
                <a:buClr>
                  <a:srgbClr val="000000"/>
                </a:buClr>
                <a:buSzPct val="80000"/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Application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pacity to use information and transfer knowledge from one setting to another. (Use learned material in a new situ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19040" y="2781360"/>
            <a:ext cx="7315200" cy="2660400"/>
            <a:chOff x="419040" y="2781360"/>
            <a:chExt cx="7315200" cy="2660400"/>
          </a:xfrm>
        </p:grpSpPr>
        <p:sp>
          <p:nvSpPr>
            <p:cNvPr id="171" name=""/>
            <p:cNvSpPr/>
            <p:nvPr/>
          </p:nvSpPr>
          <p:spPr>
            <a:xfrm>
              <a:off x="4000320" y="2781360"/>
              <a:ext cx="373392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ppl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lassif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dif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ut into practic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monstr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per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40" y="2819520"/>
              <a:ext cx="350496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lv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llustr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alcul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pre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anipul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redic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how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Analysis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ing detail and having the ability to discover and differentiate the component parts of a situation or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5920" y="2971800"/>
            <a:ext cx="7696080" cy="2963880"/>
            <a:chOff x="385920" y="2971800"/>
            <a:chExt cx="7696080" cy="2963880"/>
          </a:xfrm>
        </p:grpSpPr>
        <p:sp>
          <p:nvSpPr>
            <p:cNvPr id="176" name=""/>
            <p:cNvSpPr/>
            <p:nvPr/>
          </p:nvSpPr>
          <p:spPr>
            <a:xfrm>
              <a:off x="3662640" y="2971800"/>
              <a:ext cx="441936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tras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ar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tinguish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ategoriz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l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920" y="2971800"/>
              <a:ext cx="3200400" cy="24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naly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rgan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duc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agram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crimin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Synthesis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combine parts to create the big pi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2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0120" y="2590920"/>
            <a:ext cx="7391520" cy="3503160"/>
            <a:chOff x="600120" y="2590920"/>
            <a:chExt cx="7391520" cy="3503160"/>
          </a:xfrm>
        </p:grpSpPr>
        <p:sp>
          <p:nvSpPr>
            <p:cNvPr id="181" name=""/>
            <p:cNvSpPr/>
            <p:nvPr/>
          </p:nvSpPr>
          <p:spPr>
            <a:xfrm>
              <a:off x="4486320" y="2590920"/>
              <a:ext cx="3505320" cy="35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cuss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ar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struct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arrang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rganiz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120" y="2590920"/>
              <a:ext cx="41911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ypothes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ppor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wri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b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ly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velop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Evaluatio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judge the value or use of information using appropriate criteria. (Support judgment with rea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33520" y="2971800"/>
            <a:ext cx="7543800" cy="3151080"/>
            <a:chOff x="533520" y="2971800"/>
            <a:chExt cx="7543800" cy="3151080"/>
          </a:xfrm>
        </p:grpSpPr>
        <p:sp>
          <p:nvSpPr>
            <p:cNvPr id="186" name=""/>
            <p:cNvSpPr/>
            <p:nvPr/>
          </p:nvSpPr>
          <p:spPr>
            <a:xfrm>
              <a:off x="3962520" y="2990880"/>
              <a:ext cx="411480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ritic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stify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b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pport your reason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clud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sses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520" y="2971800"/>
              <a:ext cx="5257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valu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hoos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im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dg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fend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pprais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20:37:00Z</dcterms:created>
  <dc:creator>Debbie Candau</dc:creator>
  <dc:description/>
  <dc:language>en-US</dc:language>
  <cp:lastModifiedBy>Judi Yost</cp:lastModifiedBy>
  <dcterms:modified xsi:type="dcterms:W3CDTF">2005-01-24T19:10:37Z</dcterms:modified>
  <cp:revision>101</cp:revision>
  <dc:subject/>
  <dc:title>Bloom’s Taxonomy</dc:title>
</cp:coreProperties>
</file>