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6173-1FC5-4D28-AA26-B7E7D478B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DD42-2AAD-450E-8177-307222EE2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C9494-88D6-4712-901A-275A5BDBF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C447-40CA-44A3-AC12-F4849DCBF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DFC69-2455-4D75-9815-7DFDBCE3BD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FE78-DD44-48AF-B331-1A2053CE10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E994A-A174-445E-A625-AB713A48A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072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6040" y="137124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072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6040" y="3639960"/>
            <a:ext cx="26521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5A9C2-762C-46C3-88E2-FA01351E3D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0A14-5A3C-43FF-B0D7-A28479F4F3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28A6D-B9FD-47CC-895A-6B60B7BB1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272880"/>
            <a:ext cx="8237520" cy="41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CCE6-7E8C-4269-9B48-ED134F62D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2D6BE-9902-41B1-BBD7-6C5F0EC22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760" y="363996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A2715-95B7-4435-9C9F-9AE50120E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760" y="1371240"/>
            <a:ext cx="40197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639960"/>
            <a:ext cx="82375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F6D41-112D-4F11-B882-2C5B78E10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D2F-12D6-47CD-821E-032D17501E69}" type="slidenum">
              <a:rPr b="1" lang="en-US" sz="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39960" y="637236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478560" y="284040"/>
            <a:ext cx="2179800" cy="1089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6539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ffffff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cmcguid.htm" TargetMode="External"/><Relationship Id="rId2" Type="http://schemas.openxmlformats.org/officeDocument/2006/relationships/hyperlink" Target="http://www.utsystem.edu/OGC/IntellectualProperty/copypol2.htm" TargetMode="External"/><Relationship Id="rId3" Type="http://schemas.openxmlformats.org/officeDocument/2006/relationships/hyperlink" Target="http://www.benedict.com/" TargetMode="External"/><Relationship Id="rId4" Type="http://schemas.openxmlformats.org/officeDocument/2006/relationships/hyperlink" Target="http://www.utsystem.edu/OGC/IntellectualProperty/faculty.htm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templetons.com/brad/copymyths.html" TargetMode="External"/><Relationship Id="rId2" Type="http://schemas.openxmlformats.org/officeDocument/2006/relationships/hyperlink" Target="http://www.duhaime.org/diction.htm" TargetMode="External"/><Relationship Id="rId3" Type="http://schemas.openxmlformats.org/officeDocument/2006/relationships/hyperlink" Target="http://www.copyright.cornell.edu/training/Hirtle_Public_Domain.htm" TargetMode="External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tsystem.edu/ogc/intellectualproperty/copypol2.htm#course" TargetMode="External"/><Relationship Id="rId2" Type="http://schemas.openxmlformats.org/officeDocument/2006/relationships/hyperlink" Target="http://www.utsystem.edu/OGC/IntellectualProperty/imagguid.htm" TargetMode="External"/><Relationship Id="rId3" Type="http://schemas.openxmlformats.org/officeDocument/2006/relationships/hyperlink" Target="http://www.utsystem.edu/OGC/IntellectualProperty/offsite.htm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fast.org.uk/" TargetMode="External"/><Relationship Id="rId2" Type="http://schemas.openxmlformats.org/officeDocument/2006/relationships/hyperlink" Target="http://www.utsystem.edu/OGC/IntellectualProperty/mono2.htm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44193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9144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opyright Chaos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ubTitle"/>
          </p:nvPr>
        </p:nvSpPr>
        <p:spPr>
          <a:xfrm>
            <a:off x="2666880" y="3429000"/>
            <a:ext cx="60199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 Educator's Guide to Copyright Law and “Fair Us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esentation created for th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ntel</a:t>
            </a:r>
            <a:r>
              <a:rPr b="0" lang="en-US" sz="12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Teach Program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Essentials Course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ttribution and Acknowledgemen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 your sources and display the copyright notic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© and copyright ownership informatio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editing the sour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ive a full bibliographic description with the information that is available (including author, title, publisher, and place and date of publication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play copyright notice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der pictures, add the copyright ownership informatio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© (the copyright notice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ear of first public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ame of the copyright hold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136520" indent="-409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ample: © 2001 Company/Person’s Na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5E26-6910-412C-8CAE-EF4F4EF075F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uture Uses Beyond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If there is a possibility that a project could result in broader dissemination (for instance, publication on the Internet): obtain permissions when you create it, rather than waiting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ample permission letters are available on the Curriculum Resource C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10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Resourc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lder,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Copyright Resourc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copyright ow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mission letters to parents to publish student wor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725400" indent="-152280">
              <a:spcBef>
                <a:spcPts val="10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 example letter to use in this cours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68030-60D1-4CB5-891F-C17BBE0143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Remember... these are guidelines, not laws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the further you venture from these guidelines, the more likely you are to be outside of “fair use.”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B8E8-E666-4D31-BC42-8F6260ADCC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What about software?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of software does not fall under fair use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less you have specific permission from the copyright own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 is illegal to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urchase a single user license and load it onto multiple computers or a server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wnload copyrighted software from the Internet or bulletin boar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ad the software your school purchased onto your computer at hom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B6440-9A6A-4BC0-A94D-5B4588D9A01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dditional resources to help you and your students understand and follow copyright law and fair use guidelines are located in the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Resources, Copyright Resourc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folder on the Curriculum Resource CD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Educational Multimedia”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repared by the Educational Multimedia Fair Use Guidelines Development Committee, July 17, 1996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cmcguid.htm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Of Copyrighted Materials” by Georgia Harper,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copypol2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Basics” by the U.S. Copyright Office www.copyright.gov/circs/circ1.htm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Copyright Website” by Benedict O’Mahoney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benedic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Aft>
                <a:spcPts val="601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Law in the Electronic Environment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4"/>
              </a:rPr>
              <a:t>www.utsystem.edu/OGC/IntellectualProperty/faculty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03245-1D94-401B-A65F-B07A55A054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10 Big Myths about Copyright Explained” by Brad Templeton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templetons.com/brad/copymyths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uhaime's Legal Dictionary” by Lloyd Duhaime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duhaime.org/diction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opyright Term and the Public Domain in the United States” by Peter B. Hirtle, Cornell Institute for Digital Collec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copyright.cornell.edu/training/Hirtle_Public_Domain.htm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Digitizing And Using Others' Works In Multimedia Materials For Educational Purpose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 by Georgia Harper, University of Texas www.utsystem.edu/ogc/intellectualproperty/copypol2.htm#m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DC35A-DBB2-43E4-9FC0-C2DF3D499B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Resourc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Rules Of Thumb For Coursepack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”</a:t>
            </a:r>
            <a:r>
              <a:rPr b="0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utsystem.edu/ogc/intellectualproperty/copypol2.htm#cours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 Proposal For Educational Fair Use Guidelines For Digital Images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imagguid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st of Links to Other Copyright Sites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3"/>
              </a:rPr>
              <a:t>www.utsystem.edu/OGC/IntellectualProperty/offsite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ir Use Guidelines for Multimedia” by Intel</a:t>
            </a:r>
            <a:r>
              <a:rPr b="0" lang="en-US" sz="1600" spc="-1" strike="noStrike" baseline="30000">
                <a:solidFill>
                  <a:srgbClr val="ffffff"/>
                </a:solidFill>
                <a:latin typeface="Verdana"/>
              </a:rPr>
              <a:t>®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Education www.intel.com/education/newtotech/fair_use_multimedia.htm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C169-39E4-48BB-9998-AD43CCCB7D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nformation on Software 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act Sheet on School Software Use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pubs/SchoolSoftwareUse.pdf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Digital Anarchy: Part One of an Analysis of Software Piracy”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  <a:ea typeface="Times New Roman"/>
              </a:rPr>
              <a:t>by David Lapr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www.avault.com/articles/getarticle.asp?name=warez1&amp;page=1 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Federation Against Software Theft (FAST)” (United Kingdom organization)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1"/>
              </a:rPr>
              <a:t>www.fast.org.u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ti-Piracy FAQ” by Software &amp; Information Industry Association (SIIA)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www.siia.net/piracy/faq.asp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799"/>
              </a:spcBef>
              <a:spcAft>
                <a:spcPts val="1800"/>
              </a:spcAft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Permissible Copying of Software” by Georgia Harper, University of Texas </a:t>
            </a:r>
            <a:r>
              <a:rPr b="0" lang="en-US" sz="1600" spc="-1" strike="noStrike" u="sng">
                <a:solidFill>
                  <a:srgbClr val="f5e647"/>
                </a:solidFill>
                <a:uFillTx/>
                <a:latin typeface="Verdana"/>
                <a:hlinkClick r:id="rId2"/>
              </a:rPr>
              <a:t>www.utsystem.edu/OGC/IntellectualProperty/mono2.htm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DF1F-BB59-4CF7-8F5A-A6F63C66B4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Use of this Presentation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is presentation is copyrighted by Intel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t may be used, with copyright notices intact, for not-for-profit, educational purpos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C981-5A4D-4A7C-A336-EDC9D195B1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17600" y="1908000"/>
            <a:ext cx="4953240" cy="2475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6539040"/>
            <a:ext cx="6451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8 Intel Corporation. All rights reserved. Intel, the Intel logo, Intel Education Initiative, and Intel Teach Program are trademarks of Intel Corporation in the U.S. and other countries.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CB23-4BC1-4292-AED2-9431441A2B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opyright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What is copyright?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exclusive right to produce or reproduce (copy), to perform in public, or to publish an original literary or artistic work.”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64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Duhaime's Law Dictionary 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Almost everything created privately and originally after March 1, 1989 is copyrighted and protected whether it has a notice or not.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7EBAB-6047-4B2B-9C68-80A87BE235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Items Not Copyrighted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amples of what are not protected by copyright law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that have not been written or recorde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deas, procedures, methods, discoveries, etc. as distinguished from a description, explanation, or illustr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orks consisting entirely of common information or compilations (for example: standard calendars, tape measures and rulers, telephone book, etc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tems in the public domain (all works created before 1923 and most between 1923-1963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t U.S. government materials (some items created by contractors for the government might be copyrighted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ct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6239-0E78-4D2C-B04A-CFDD8B1AF2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Cla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ir use is a part of the United States Copyright law. It allows people to use and make copies of copyrighted works if they are using them for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riticis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mmen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News report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aching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cholarshi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searc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Sec. 107 of the Fair Use Provision of the Copyright Act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D8C5-EBE3-4BBA-836B-9D01C8BA72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our Factors Help Determine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371600"/>
            <a:ext cx="8237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purpose and character of the use, including whether such use is of a commercial nature or is for nonprofit educational purpose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You must be using it for educational use, not just using it in a school environmen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nature of the copyrighted work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air use applies more narrowly to highly creative works—in comparison to those that are mostly fact-based in natu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amount and substantiality of the portion used in relation to the copyrighted work as a whol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nsideration of quantity &amp; quality...using only what is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necessary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and not the  “heart” of the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344520" indent="-343080">
              <a:spcBef>
                <a:spcPts val="799"/>
              </a:spcBef>
              <a:buClr>
                <a:srgbClr val="f5e647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5e647"/>
                </a:solidFill>
                <a:latin typeface="Verdana"/>
              </a:rPr>
              <a:t>The effect of the use upon the potential market for or value of the copyrighted wor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The copying should not harm the market for the original work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Copying materials from “consumables,” such as workbooks, weigh heavily against fair use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DB6EC-79E6-4DD0-B6F0-D4B2795CC7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Fair Use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The </a:t>
            </a:r>
            <a:r>
              <a:rPr b="0" i="1" lang="en-US" sz="2600" spc="-1" strike="noStrike">
                <a:solidFill>
                  <a:srgbClr val="ffffff"/>
                </a:solidFill>
                <a:latin typeface="Verdana"/>
              </a:rPr>
              <a:t>Fair Use Guidelines for Educational Multimedia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 was created to provide guidance on what actually falls within fair use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3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However, it i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Not a legal document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n interpretation of the law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spcBef>
                <a:spcPts val="55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Only applies to educators who produce multimedia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B3C2-B0E2-4E3B-B397-0FD6FC3041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for Student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and educators have separate guidelin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tudent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their own educational multimedia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a specific course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erform and display their own projects in the course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which they were created; an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m in their own portfolio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s examples of their academic work for later personal uses such as job and school interview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98EE1-76DC-438C-AD0F-1E9459ACB4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ducator Guidelines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ucators may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corporate portions of lawfully acquired copyrighted works when producing educational multimedia projects to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upport their teaching n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tain their projects indefinitely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for the following purposes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perform or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splay in presentations to their peer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, for example, at workshops and conferenc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retain in their personal portfolio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for personal uses such as promotion or job interview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e their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jects for teaching, for a period of up to two yea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after the first instructional use with a clas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571680" indent="-3240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structional use beyond that time period requires permission for each copyrighted portion incorporated in the production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42BB-50BF-4670-BEB5-E75CBD5D28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Guidelines In Order to Stay Within Fair Use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5760" y="1371600"/>
          <a:ext cx="8237520" cy="4343040"/>
        </p:xfrm>
        <a:graphic>
          <a:graphicData uri="http://schemas.openxmlformats.org/drawingml/2006/table">
            <a:tbl>
              <a:tblPr/>
              <a:tblGrid>
                <a:gridCol w="2947320"/>
                <a:gridCol w="5290200"/>
              </a:tblGrid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tion Med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 minut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1000 wor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et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50 words; no more than 3 poems by same author; no more than five poems from any single an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usic, Lyrics, Vide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r 30 seco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hotos &amp; Illustration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5 images from one author; Not more than 10% or 15 images from a single published collected wor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umerical Data Set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0% of 2500 fields or cell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457200" y="9144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the copyrighted work, use the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mallest amount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of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D571-6F72-4101-9A14-DC8E8FF762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1T04:12:48Z</dcterms:created>
  <dc:creator>Judi Edman</dc:creator>
  <dc:description/>
  <dc:language>en-US</dc:language>
  <cp:lastModifiedBy>jeyostx</cp:lastModifiedBy>
  <dcterms:modified xsi:type="dcterms:W3CDTF">2008-10-07T07:48:08Z</dcterms:modified>
  <cp:revision>290</cp:revision>
  <dc:subject/>
  <dc:title>Copyright Chaos</dc:title>
</cp:coreProperties>
</file>