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2317-D846-42E5-BBEB-F11698C2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C88-4A2B-456D-803B-B9D7EB5F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E28-8C3A-47EE-B131-9A9067D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F44-781E-4483-AD75-5BC778A8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C6B-D8D6-4C3B-B6C3-231B9BA2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496-2197-4924-857C-EA8B578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CDA-EEFA-4BCC-B9D5-9BBE515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FA0-BAA4-4FD1-95C4-5B5A630D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674-5D58-4E79-8783-3A43F5E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8B8-C054-444F-9F9B-672A199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5FC-72DA-44F7-BED2-262F441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BA8-A85A-4F71-93F2-D0776707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4F3-FAEF-4CAF-A798-3529D927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4AF-5F4F-4CE3-AE34-986968A8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ions for Your Electronic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Inte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ducatio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elp Gu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you need assistanc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ng any technology skills identified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introductory slide, insert the title of your unit, your name, subject, and grad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next sli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yperlink to your documents from the slide  (Multimedia Skill 7.9)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will be moving your portfolio to another computer after linking, embed the files. (Multimedia Skill 7.11 and 7.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mbedding files may greatly increase the file size of thi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 this slide when you are done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ultimedia Skill 3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 this presentation at the top level of your Unit Portfolio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Plan Portfolio Present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909720" cy="106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2640" y="228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 Plan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114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 Sample Summativ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5486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 Support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ilitation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80880" y="5334120"/>
            <a:ext cx="137160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838080" y="838080"/>
          <a:ext cx="7543800" cy="1803600"/>
        </p:xfrm>
        <a:graphic>
          <a:graphicData uri="http://schemas.openxmlformats.org/drawingml/2006/table">
            <a:tbl>
              <a:tblPr/>
              <a:tblGrid>
                <a:gridCol w="2514600"/>
                <a:gridCol w="502920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ntial Questio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Question(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t Questi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885960" cy="132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65120" y="40338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jeyostx</cp:lastModifiedBy>
  <dcterms:modified xsi:type="dcterms:W3CDTF">2008-10-07T19:47:03Z</dcterms:modified>
  <cp:revision>14</cp:revision>
  <dc:subject/>
  <dc:title>Unit Plan Portfolio</dc:title>
</cp:coreProperties>
</file>