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C43-137D-44E0-87AB-E51B2A70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5CD-9023-4A0C-B321-8B9B269A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7EF-BB94-4315-BE3E-F9341CB2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ED5-3822-4A78-8415-B9F9798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45E3-9B96-45EA-B65E-88428246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5B91-0B67-4F61-B5C7-C685EF4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3E15-BE3A-4AE1-9A7D-CCA06AC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99D3-17C2-49FA-9BE3-68E8A89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71F-49FA-455E-8E71-C405D85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865-AF24-4E8F-AFA0-D2902301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F04-1359-45AE-A4FF-559ACA4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BE4-EA58-4CFC-B224-E1039ED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E830-6D61-496F-9F69-A043330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626-FFE0-4AFD-B79A-EA7FCAC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7445-F15A-438B-B09C-FE9B69E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510-95EF-490A-99DD-FDF04DE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75BD-2997-4A8F-938D-5FF6A86F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A0A-0D43-402F-A50D-660BE629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C86-1EE6-48A1-8A17-09C071B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AC1-0706-49E8-8C47-07E309D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725-6D2A-40CC-A2DC-648A60B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AA4-CC68-4AAD-BE9F-DDC7100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989-4316-4572-87ED-BA248D9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99C-649D-427F-BA87-145ABCF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FEA4-F9F0-4CA5-9958-DFC50D609D8A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0BD-4DDD-45E7-9281-9A77C2EE3B47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685800"/>
            <a:ext cx="6324480" cy="5105520"/>
          </a:xfrm>
          <a:prstGeom prst="triangle">
            <a:avLst>
              <a:gd name="adj" fmla="val 50000"/>
            </a:avLst>
          </a:prstGeom>
          <a:solidFill>
            <a:srgbClr val="97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loom’s Taxonomy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cus on Higher-Ord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ackground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6, Benjamin Bloom, a professor at the University of Chicago, shared his famous "Taxonomy of Educational Objectives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 identified six levels of cognitive complexity that have been used over the past four decades to make sure that instruction stimulates and develops students' higher-order thinking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486080" y="1574640"/>
            <a:ext cx="6209640" cy="5054400"/>
            <a:chOff x="1486080" y="1574640"/>
            <a:chExt cx="6209640" cy="5054400"/>
          </a:xfrm>
        </p:grpSpPr>
        <p:grpSp>
          <p:nvGrpSpPr>
            <p:cNvPr id="142" name=""/>
            <p:cNvGrpSpPr/>
            <p:nvPr/>
          </p:nvGrpSpPr>
          <p:grpSpPr>
            <a:xfrm>
              <a:off x="1486080" y="1574640"/>
              <a:ext cx="6209640" cy="4787640"/>
              <a:chOff x="1486080" y="1574640"/>
              <a:chExt cx="6209640" cy="4787640"/>
            </a:xfrm>
          </p:grpSpPr>
          <p:sp>
            <p:nvSpPr>
              <p:cNvPr id="143" name=""/>
              <p:cNvSpPr/>
              <p:nvPr/>
            </p:nvSpPr>
            <p:spPr>
              <a:xfrm>
                <a:off x="1486080" y="1574640"/>
                <a:ext cx="6209640" cy="478764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28680" y="2593440"/>
                <a:ext cx="13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6880" y="3306960"/>
                <a:ext cx="22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71080" y="4096080"/>
                <a:ext cx="325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4000" y="5649120"/>
                <a:ext cx="529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10560" y="4935600"/>
                <a:ext cx="437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373480" y="2336760"/>
              <a:ext cx="4434840" cy="4292280"/>
              <a:chOff x="2373480" y="2336760"/>
              <a:chExt cx="4434840" cy="4292280"/>
            </a:xfrm>
          </p:grpSpPr>
          <p:sp>
            <p:nvSpPr>
              <p:cNvPr id="150" name=""/>
              <p:cNvSpPr/>
              <p:nvPr/>
            </p:nvSpPr>
            <p:spPr>
              <a:xfrm>
                <a:off x="3570120" y="2336760"/>
                <a:ext cx="20703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3244"/>
                    </a:solidFill>
                    <a:latin typeface="Arial Black"/>
                  </a:rPr>
                  <a:t>Evaluation</a:t>
                </a:r>
                <a:endParaRPr b="0" lang="en-US" sz="1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373480" y="3014640"/>
                <a:ext cx="4434840" cy="3614400"/>
                <a:chOff x="2373480" y="3014640"/>
                <a:chExt cx="4434840" cy="3614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260160" y="3014640"/>
                  <a:ext cx="26611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Synthe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64600" y="3796560"/>
                  <a:ext cx="325260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naly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669040" y="4637880"/>
                  <a:ext cx="384336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pplicat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73480" y="53409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Comprehens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373480" y="60375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Knowledge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390600" y="700200"/>
            <a:ext cx="88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Higher-Order Thinking Skills</a:t>
            </a:r>
            <a:endParaRPr b="0" lang="en-US" sz="4800" spc="-1" strike="noStrike">
              <a:solidFill>
                <a:srgbClr val="323244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Knowledge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19280" y="16142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 or recognition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33520" y="2514600"/>
            <a:ext cx="8839080" cy="3146400"/>
            <a:chOff x="533520" y="2514600"/>
            <a:chExt cx="8839080" cy="3146400"/>
          </a:xfrm>
        </p:grpSpPr>
        <p:sp>
          <p:nvSpPr>
            <p:cNvPr id="161" name=""/>
            <p:cNvSpPr/>
            <p:nvPr/>
          </p:nvSpPr>
          <p:spPr>
            <a:xfrm>
              <a:off x="4724280" y="2514600"/>
              <a:ext cx="46483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i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dent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og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all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tc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2529000"/>
              <a:ext cx="45720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c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 opinion from fa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Comprehens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understand, translate, paraphrase, interpret or extrapolate material. (Predict outcome and effec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0960" y="2838600"/>
            <a:ext cx="7391520" cy="3378600"/>
            <a:chOff x="480960" y="2838600"/>
            <a:chExt cx="7391520" cy="3378600"/>
          </a:xfrm>
        </p:grpSpPr>
        <p:sp>
          <p:nvSpPr>
            <p:cNvPr id="166" name=""/>
            <p:cNvSpPr/>
            <p:nvPr/>
          </p:nvSpPr>
          <p:spPr>
            <a:xfrm>
              <a:off x="3986280" y="2838600"/>
              <a:ext cx="38862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raphra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fferenti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sual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tate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wri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960" y="2852640"/>
              <a:ext cx="4114800" cy="33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mmar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ve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50"/>
                </a:spcBef>
                <a:buClr>
                  <a:srgbClr val="000000"/>
                </a:buClr>
                <a:buSzPct val="80000"/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pplicat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pacity to use information and transfer knowledge from one setting to another. (Use learned material in a new situ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9040" y="2781360"/>
            <a:ext cx="7315200" cy="2660400"/>
            <a:chOff x="419040" y="2781360"/>
            <a:chExt cx="7315200" cy="2660400"/>
          </a:xfrm>
        </p:grpSpPr>
        <p:sp>
          <p:nvSpPr>
            <p:cNvPr id="171" name=""/>
            <p:cNvSpPr/>
            <p:nvPr/>
          </p:nvSpPr>
          <p:spPr>
            <a:xfrm>
              <a:off x="4000320" y="2781360"/>
              <a:ext cx="3733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d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ut into practic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pe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40" y="2819520"/>
              <a:ext cx="350496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lv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llu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lcul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nipu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naly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detail and having the ability to discover and differentiate the component parts of a situation or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5920" y="2971800"/>
            <a:ext cx="7696080" cy="2963880"/>
            <a:chOff x="385920" y="2971800"/>
            <a:chExt cx="7696080" cy="2963880"/>
          </a:xfrm>
        </p:grpSpPr>
        <p:sp>
          <p:nvSpPr>
            <p:cNvPr id="176" name=""/>
            <p:cNvSpPr/>
            <p:nvPr/>
          </p:nvSpPr>
          <p:spPr>
            <a:xfrm>
              <a:off x="3662640" y="2971800"/>
              <a:ext cx="441936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tra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tegor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920" y="2971800"/>
              <a:ext cx="320040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naly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duc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agram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rimin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Synthe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combine parts to create the big pi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2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0120" y="2590920"/>
            <a:ext cx="7391520" cy="3503160"/>
            <a:chOff x="600120" y="2590920"/>
            <a:chExt cx="7391520" cy="3503160"/>
          </a:xfrm>
        </p:grpSpPr>
        <p:sp>
          <p:nvSpPr>
            <p:cNvPr id="181" name=""/>
            <p:cNvSpPr/>
            <p:nvPr/>
          </p:nvSpPr>
          <p:spPr>
            <a:xfrm>
              <a:off x="4486320" y="2590920"/>
              <a:ext cx="3505320" cy="35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us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uct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arrang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120" y="2590920"/>
              <a:ext cx="41911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ypothes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wri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l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Evaluatio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judge the value or use of information using appropriate criteria. (Support judgment with rea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2971800"/>
            <a:ext cx="7543800" cy="3151080"/>
            <a:chOff x="533520" y="2971800"/>
            <a:chExt cx="7543800" cy="3151080"/>
          </a:xfrm>
        </p:grpSpPr>
        <p:sp>
          <p:nvSpPr>
            <p:cNvPr id="186" name=""/>
            <p:cNvSpPr/>
            <p:nvPr/>
          </p:nvSpPr>
          <p:spPr>
            <a:xfrm>
              <a:off x="3962520" y="2990880"/>
              <a:ext cx="41148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itic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stify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b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your reason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clud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ses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2971800"/>
              <a:ext cx="5257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valu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dg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end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rai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37:00Z</dcterms:created>
  <dc:creator>Debbie Candau</dc:creator>
  <dc:description/>
  <dc:language>en-US</dc:language>
  <cp:lastModifiedBy>Judi Yost</cp:lastModifiedBy>
  <dcterms:modified xsi:type="dcterms:W3CDTF">2005-01-24T19:10:37Z</dcterms:modified>
  <cp:revision>101</cp:revision>
  <dc:subject/>
  <dc:title>Bloom’s Taxonomy</dc:title>
</cp:coreProperties>
</file>