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gif" ContentType="image/gi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8DAE-97B6-4C05-9881-D82E3C0A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C338-9C21-4C15-98CD-C9AACB59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333E-5548-49D9-B04F-E1FF74B3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AE1A-B6D6-49A5-8960-FAD6FFCE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BABB-3CF2-493A-89F7-8AD7F6AD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4D3D-8E7E-46CC-B8D5-5E155127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F213-3D36-4317-BBF4-782DB4B8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FA4B-1E81-4CAC-9941-DBC50152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5CED-2547-4179-B968-FA88EB1A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7231-A91F-4630-A3FD-86B2045E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DFB5-D810-405D-A8BC-80B8918F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C4E0-15AA-44BE-BBA1-AB71F6FE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17BC-0E6A-4243-89F9-61629658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2DDA-7356-4A1F-A800-217D4033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C36B-23DA-4B4B-BC42-840B6EAB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9687-924D-4AA0-93AD-2FE589E9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F5AC-52BB-4312-85B2-512AE84C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9DC73-E721-45A2-AE6E-E6F5F833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7A7F-D793-4AC0-AEFF-CCEFDE3D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76A5-2278-4936-995E-1DA6264C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7073-8A56-4939-A807-F6953479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B9A9-10B5-4A28-9889-63F262FB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785C-22DA-4D81-9B4C-42095936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E4E7-10DD-44E7-92A7-06DE6FA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6E35-00DB-40F5-8D7B-8B75011725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9F09-65E4-4D55-9B15-1954ABB2079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Romeo and Julie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23880" y="4343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nny Ar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1852560" cy="2523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73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31906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Unit Summa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rea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omeo and Juli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relate it to contemporary life. They research a problem from the play that is still an issue today and collaborate to find a solution. They create a publication or presentation about their solution and share it with an audi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Curriculum-Framing Question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sential Ques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ere such a thing as f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it Ques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is Romeo and Juliet a classi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ent Ques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the Globe Theat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are the characters i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omeo and Julie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Vision for Uni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creating this unit, I want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out new methods to make classic literature relevant to my students’ l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nk of ways to involve my students more in the comm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this unit, I want my students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ways to connect classic literature to their daily l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echnology to communicate with different audi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roject Approach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my students work on this project, th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ebf25a"/>
              </a:buClr>
              <a:buSzPct val="8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the play to the real 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ebf25a"/>
              </a:buClr>
              <a:buSzPct val="8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aborate with peers and community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ebf25a"/>
              </a:buClr>
              <a:buSzPct val="8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product that shows what they’ve lear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ebf25a"/>
              </a:buClr>
              <a:buSzPct val="8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their learning with a real au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21</a:t>
            </a:r>
            <a:r>
              <a:rPr b="1" lang="en-US" sz="42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 Century Learn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will develop higher-order and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skills in this unit as the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33676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Essential and Unit Questions to guide their analysis of the play to find themes that cross places and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e their ideas to a community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on their reading, writing, research, and thinking strategies, and modify and adapt them a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project assessments to self-assess their work and give feedback to their p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Gauging Student Needs Assessment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828800"/>
            <a:ext cx="693396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CFQs to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’ ideas about what a “classic”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kground knowledge of characters and plot of 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sess 2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Century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see common elements in classic and contemporary lit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772400" y="1447920"/>
          <a:ext cx="914400" cy="79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144792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04920" y="1486080"/>
          <a:ext cx="914400" cy="799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8608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Gauging Student Needs Assessment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362320"/>
            <a:ext cx="71629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cus on parts of the play that students have prior misconceptions ab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lan activities in which they will answer their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97836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876920"/>
            <a:ext cx="70102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pare their questions to those in previous un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t goals for how they will adjust their reading style for this kind of litera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Requests for Feedback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ways to help students understand the play without paraphrasing and summarizing it for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help assessing students’ higher-order think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jeyostx</cp:lastModifiedBy>
  <dcterms:modified xsi:type="dcterms:W3CDTF">2008-10-07T20:35:07Z</dcterms:modified>
  <cp:revision>28</cp:revision>
  <dc:subject/>
  <dc:title>What can Romeo and Juliet Teach Us About Ourselves?</dc:title>
</cp:coreProperties>
</file>