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F663E-FB1E-42E9-9C9A-7851FFD16E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5CBBE11D-5AD9-482F-9581-A20BB8AF8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25C9FEB9-B456-4FD4-819F-F2E6B87AB3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5B58DFAB-4B77-4E5E-ADAA-6D414F02C4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02DF855-599D-48F4-98FB-538E39AD37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B180DF-D05C-4655-B4A8-918DC68D04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634B916-E3E6-4B69-9D19-5A01A1B69B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2B49C62-05BA-4431-A078-3DCC9C4584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730A90CB-7015-4686-B21D-253A0792C4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78BBD6B8-B2C8-4AA9-B72A-2733F7616F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3A66FBC-AF5B-40F8-A174-C8E6E6C559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93ED3A33-FC13-49B8-9BA5-C5277D2C6C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D291039D-B7F6-4730-92B7-1A7592FC38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A31F6E6-D408-4DB6-84C4-008C44BEE7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73B6BFFD-54D3-4082-8199-E9EF8EAF7B0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1F1D8039-ACDB-4A7E-9582-9A746DC79B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2C520671-BABA-4A72-B26D-055DB70DE3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3DA99F7A-E276-4B9C-8C00-AA76E797EA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A1F4597C-40DD-48A3-8CBD-42584B34C7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1228A4E8-D5A2-48B0-A4DE-A01D229BD9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E188F5FE-F859-451C-8123-4795F8F14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53D93C3-7377-4C1D-B744-94B4BA602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18BD703B-9E5B-4E2C-96B2-FCEA029C98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7D5F8532-6A9A-4DBB-A430-32B5E758F1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EAFA-562A-41AD-8EEB-23370ADB9CF9}"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62E6-3B90-4F66-AF2A-73464A822F7A}"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7200" y="54864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201"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43080" indent="-3430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Q:</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Q:</a:t>
            </a:r>
            <a:endParaRPr b="0" lang="en-US" sz="16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743040" indent="-28584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Q:</a:t>
            </a:r>
            <a:endParaRPr b="0" lang="en-US" sz="2000" spc="-1" strike="noStrike">
              <a:solidFill>
                <a:srgbClr val="ffffff"/>
              </a:solidFill>
              <a:latin typeface="Verdana"/>
            </a:endParaRPr>
          </a:p>
          <a:p>
            <a:pPr lvl="2" marL="1143000" indent="-2286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143000" indent="-2286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B20A18B6-01E8-47F8-BA24-21E2B3AEFC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an Essential Question and a Content Question?</a:t>
            </a:r>
            <a:endParaRPr b="1" lang="en-US" sz="3200" spc="-1" strike="noStrike">
              <a:solidFill>
                <a:srgbClr val="ffffff"/>
              </a:solidFill>
              <a:latin typeface="Verdana"/>
            </a:endParaRPr>
          </a:p>
        </p:txBody>
      </p:sp>
      <p:graphicFrame>
        <p:nvGraphicFramePr>
          <p:cNvPr id="203"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044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69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7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FF855BBF-116B-4F56-9B5E-3780B75AB4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How Do Content, Unit, and Essential Questions Support Learning?</a:t>
            </a:r>
            <a:endParaRPr b="0" lang="en-US" sz="3200" spc="-1" strike="noStrike">
              <a:solidFill>
                <a:srgbClr val="ffffff"/>
              </a:solidFill>
              <a:latin typeface="Times New Roman"/>
            </a:endParaRPr>
          </a:p>
        </p:txBody>
      </p:sp>
      <p:graphicFrame>
        <p:nvGraphicFramePr>
          <p:cNvPr id="205"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How do I collect information and display it in a graph?</a:t>
                      </a:r>
                      <a:endParaRPr b="0" lang="en-US" sz="1200" spc="-1" strike="noStrike">
                        <a:solidFill>
                          <a:srgbClr val="ffffff"/>
                        </a:solidFill>
                        <a:latin typeface="Times New Roman"/>
                      </a:endParaRPr>
                    </a:p>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What urban animals are there and what do they need to surviv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7932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50F1EA3D-6804-45DC-B353-913625ADB1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265480" y="2084400"/>
            <a:ext cx="4500360" cy="2247840"/>
          </a:xfrm>
          <a:prstGeom prst="rect">
            <a:avLst/>
          </a:prstGeom>
          <a:ln w="0">
            <a:noFill/>
          </a:ln>
        </p:spPr>
      </p:pic>
      <p:sp>
        <p:nvSpPr>
          <p:cNvPr id="207"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F6906888-8F32-4586-B563-4E4B3B62224F}"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4D7DAFF-7BE1-4B62-A801-CCFB45CCCE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urriculum-Framing Questions include Essential, Unit, and Content Questions</a:t>
            </a:r>
            <a:br>
              <a:rPr sz="3200"/>
            </a:br>
            <a:endParaRPr b="1" lang="en-US" sz="3200" spc="-1" strike="noStrike">
              <a:solidFill>
                <a:srgbClr val="ffffff"/>
              </a:solidFill>
              <a:latin typeface="Verdana"/>
            </a:endParaRPr>
          </a:p>
        </p:txBody>
      </p:sp>
      <p:sp>
        <p:nvSpPr>
          <p:cNvPr id="174" name="PlaceHolder 2"/>
          <p:cNvSpPr>
            <a:spLocks noGrp="1"/>
          </p:cNvSpPr>
          <p:nvPr>
            <p:ph/>
          </p:nvPr>
        </p:nvSpPr>
        <p:spPr>
          <a:xfrm>
            <a:off x="380880" y="2286000"/>
            <a:ext cx="8237520" cy="3733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5" name=""/>
          <p:cNvSpPr/>
          <p:nvPr/>
        </p:nvSpPr>
        <p:spPr>
          <a:xfrm>
            <a:off x="380880" y="1752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6673B2A-F01A-4CB3-AD20-83EC4F8C23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Q: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0E30D8F-30DD-41FA-A1F6-CBB1E66078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3B38360-ED51-4D0F-8664-C6B0F108F0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81"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13568E2E-F395-4701-B910-B6C322BE21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32640" indent="-3326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32640" indent="-33264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720720" indent="-27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Q: </a:t>
            </a:r>
            <a:endParaRPr b="0" lang="en-US" sz="1800" spc="-1" strike="noStrike">
              <a:solidFill>
                <a:srgbClr val="ffffff"/>
              </a:solidFill>
              <a:latin typeface="Verdana"/>
            </a:endParaRPr>
          </a:p>
          <a:p>
            <a:pPr lvl="2" marL="1108440" indent="-221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20720" indent="-2772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Q:</a:t>
            </a:r>
            <a:endParaRPr b="0" lang="en-US" sz="1800" spc="-1" strike="noStrike">
              <a:solidFill>
                <a:srgbClr val="ffffff"/>
              </a:solidFill>
              <a:latin typeface="Verdana"/>
            </a:endParaRPr>
          </a:p>
          <a:p>
            <a:pPr lvl="2" marL="1108440" indent="-2214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108440" indent="-22140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to be?</a:t>
            </a:r>
            <a:r>
              <a:rPr b="1" i="1" lang="en-US" sz="2400" spc="-1" strike="noStrike">
                <a:solidFill>
                  <a:srgbClr val="ffff99"/>
                </a:solidFill>
                <a:latin typeface="Verdana"/>
              </a:rPr>
              <a:t> </a:t>
            </a:r>
            <a:endParaRPr b="0" lang="en-US" sz="2400" spc="-1" strike="noStrike">
              <a:solidFill>
                <a:srgbClr val="ffffff"/>
              </a:solidFill>
              <a:latin typeface="Verdan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F9FE566-0192-4A2E-902B-6A2066FFA5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5"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D41051FE-34C0-4610-B770-05083EF3DE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grpSp>
        <p:nvGrpSpPr>
          <p:cNvPr id="187" name=""/>
          <p:cNvGrpSpPr/>
          <p:nvPr/>
        </p:nvGrpSpPr>
        <p:grpSpPr>
          <a:xfrm>
            <a:off x="990720" y="2133720"/>
            <a:ext cx="7086600" cy="3614760"/>
            <a:chOff x="990720" y="2133720"/>
            <a:chExt cx="7086600" cy="3614760"/>
          </a:xfrm>
        </p:grpSpPr>
        <p:sp>
          <p:nvSpPr>
            <p:cNvPr id="188"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Q: How does conflict produce change?</a:t>
              </a:r>
              <a:endParaRPr b="1" lang="en-US" sz="2800" spc="1" strike="noStrike">
                <a:ln w="0">
                  <a:noFill/>
                </a:ln>
                <a:solidFill>
                  <a:srgbClr val="000000"/>
                </a:solidFill>
                <a:latin typeface="Arial"/>
                <a:ea typeface="Arial"/>
              </a:endParaRPr>
            </a:p>
          </p:txBody>
        </p:sp>
        <p:sp>
          <p:nvSpPr>
            <p:cNvPr id="197"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8"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9" name=""/>
            <p:cNvSpPr/>
            <p:nvPr/>
          </p:nvSpPr>
          <p:spPr>
            <a:xfrm>
              <a:off x="1343160" y="2889360"/>
              <a:ext cx="4020840" cy="22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86BB995F-E69A-4CC8-9917-43677F16E6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cbaker1x</cp:lastModifiedBy>
  <dcterms:modified xsi:type="dcterms:W3CDTF">2008-04-09T15:47:46Z</dcterms:modified>
  <cp:revision>210</cp:revision>
  <dc:subject/>
  <dc:title>Why Essential Questions?</dc:title>
</cp:coreProperties>
</file>