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gif" ContentType="image/gi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2EB1A-ACE1-40E4-9072-828ABD45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EEB91-8396-4431-9BAE-B9064D82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F7924-EAB0-4CC6-8A0F-6B2D0ADC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8841B-5584-4800-85F0-C9052372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BBB6-F806-4CB2-8D90-07C6190E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D121-D689-431E-8814-079A5B65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DD5D-A107-4A6A-8797-8299C5E2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AE21-022F-4E4A-8ECB-B8F93BCF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C724-9096-482A-8F99-4A903AAB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D591-A262-47FA-8497-EBF6165C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8C8F-2849-4FA0-A73C-3A394356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A6D08-A7CB-4E61-8AFF-2DBFEAC0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DCB1-72A0-4854-A828-62C4EFBE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D072-B6A9-48BC-A00E-22090C79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A8E5-B3DE-48CE-99BA-BB961452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7D5C-4509-4652-9272-AA82E7B5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B471-868A-458D-AF1A-C9A8760A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5FA9-F6FD-4650-B5A6-3152CD37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9A19E-904D-4D59-A74E-C2A4189D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3928-00AC-4E65-A058-E8E78B62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09DC1-A6CD-42B5-AE3B-C4D2A9BA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C1FA0-4385-412D-89F4-6E938515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C5426-5290-402D-9ECE-984F9097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B5937-E4C0-4885-896C-A067DAAF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1E0C-3BAA-4C49-A832-D83BAD19C6F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76BA-7EE0-47AB-9CE3-20654FEA31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Romeo and Julie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23880" y="43430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Portfolio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nny Arc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81280" y="1600200"/>
            <a:ext cx="1852560" cy="2523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73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8120" y="1066680"/>
            <a:ext cx="319068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Unit Summar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read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omeo and Julie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relate it to contemporary life. They research a problem from the play that is still an issue today and collaborate to find a solution. They create a publication or presentation about their solution and share it with an audi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CFQ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sential Ques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there such a thing as f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it Ques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is Romeo and Juliet a classi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ent Questi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s the Globe Theate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are the characters in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omeo and Julie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Vision for Uni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 creating this unit, I want 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out new methods to make classic literature relevant to my students’ l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nk of ways to involve my students more in the commun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ring this unit, I want my students 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ways to connect classic literature to their daily l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echnology to communicate with different audi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Project Approach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my students work on this project, th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ebf25a"/>
              </a:buClr>
              <a:buSzPct val="8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nect the play to the real wor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ebf25a"/>
              </a:buClr>
              <a:buSzPct val="8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laborate with peers and community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ebf25a"/>
              </a:buClr>
              <a:buSzPct val="8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 product that shows what they’ve lear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ebf25a"/>
              </a:buClr>
              <a:buSzPct val="8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their learning with a real aud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21</a:t>
            </a:r>
            <a:r>
              <a:rPr b="1" lang="en-US" sz="4200" spc="-1" strike="noStrike" baseline="30000">
                <a:solidFill>
                  <a:srgbClr val="ffffcc"/>
                </a:solidFill>
                <a:latin typeface="Tahoma"/>
              </a:rPr>
              <a:t>st</a:t>
            </a: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 Century Learning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will develop higher-order and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 skills in this unit as the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33676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buClr>
                <a:srgbClr val="ebf25a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Essential and Unit Questions to guide their analysis of the play to find themes that cross places and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ebf25a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cate their ideas to a community au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ebf25a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lect on their reading, writing, research, and thinking strategies, and modify and adapt them as nece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ebf25a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project assessments to self-assess their work and give feedback to their pe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Gauging Student Needs Assessment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828800"/>
            <a:ext cx="693396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e CFQs to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’ ideas about what a “classic”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ckground knowledge of characters and plot of 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ssess 2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Century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ility to see common elements in classic and contemporary lit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772400" y="1447920"/>
          <a:ext cx="914400" cy="79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1447920"/>
                    <a:ext cx="9144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04920" y="1486080"/>
          <a:ext cx="914400" cy="799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486080"/>
                    <a:ext cx="9144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1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Gauging Student Needs Assessment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44792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can use the information from these assessments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362320"/>
            <a:ext cx="71629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cus on parts of the play that students have prior misconceptions abo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lan activities in which they will answer their ques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97836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can use the information from these assessments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4876920"/>
            <a:ext cx="70102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mpare their questions to those in previous uni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t goals for how they will adjust their reading style for this kind of litera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Requests for Feedback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ways to help students understand the play without paraphrasing and summarizing it for th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 help assessing students’ higher-order thinking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00:32:57Z</dcterms:created>
  <dc:creator>Judi Yost</dc:creator>
  <dc:description/>
  <dc:language>en-US</dc:language>
  <cp:lastModifiedBy>cbaker1x</cp:lastModifiedBy>
  <dcterms:modified xsi:type="dcterms:W3CDTF">2008-04-21T19:36:32Z</dcterms:modified>
  <cp:revision>27</cp:revision>
  <dc:subject/>
  <dc:title>What can Romeo and Juliet Teach Us About Ourselves?</dc:title>
</cp:coreProperties>
</file>