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14F0C-A5FF-4F9F-8D76-0AFB90FF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FC23-C56A-4EB6-A425-13A0B4145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294B0-8779-4A6E-A0BD-5A584C648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7DEDB-1CBB-4D6F-B903-C40923C9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DB16C-EC9F-48C1-8B39-90A85DE26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3E53D-631A-408B-AE2E-B6A76B55C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8DF62-0A80-46BA-AAC1-3DBA1BE8D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0C811-0973-4117-B168-EF4DE3F87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AD805-0099-4E5C-B99C-50D89BDA4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00879-E00C-4B4B-A014-5807EF961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54A9-3E6D-4820-B0D8-77ECE6F45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7E876-0756-4928-89E6-5A4535933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BE4BE-E184-4E96-A7C2-F99607F3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AC820-7D5C-454F-9B1A-6F696F58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0B181-B16B-4766-BE48-E1303819F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6BA01-E8D4-47E4-BFB9-DE9E05FAF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494B8-2071-4406-BF5A-A26C2B7D1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574A5-C3DA-4C2D-934E-7F686096B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444A5-6AE6-4594-A4FB-8C11CACC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60EF-CEE0-4609-BB7D-07CCC3661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5F2FE-4D1C-428F-8637-F49DE8401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8151-AFEB-4898-A174-EC82E2A6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17DB6-140B-483C-8736-9E4E38E1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ABD5-2B0E-48BD-B24D-CEA95606F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421B-6FFC-4F73-953D-B8416824C8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C65A-15FD-44ED-8C44-0DE5611F6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Danger to Urban Wildlife</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can we do?</a:t>
            </a:r>
            <a:endParaRPr b="0" lang="en-US" sz="4000" spc="-1" strike="noStrike">
              <a:solidFill>
                <a:srgbClr val="ffffff"/>
              </a:solidFill>
              <a:latin typeface="Times New Roman"/>
            </a:endParaRPr>
          </a:p>
        </p:txBody>
      </p:sp>
      <p:sp>
        <p:nvSpPr>
          <p:cNvPr id="122" name="TextBox 6"/>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What are some problems for wild animals that live in urban areas?</a:t>
            </a:r>
            <a:endParaRPr b="1" lang="en-US" sz="4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habit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y for cats and dog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y into window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t by cars or buss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e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h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ts di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ught</a:t>
            </a:r>
            <a:endParaRPr b="0" lang="en-US" sz="2800" spc="-1" strike="noStrike">
              <a:solidFill>
                <a:srgbClr val="ffffff"/>
              </a:solidFill>
              <a:latin typeface="Times New Roman"/>
            </a:endParaRPr>
          </a:p>
        </p:txBody>
      </p:sp>
      <p:sp>
        <p:nvSpPr>
          <p:cNvPr id="125"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How can we reduce the impact of modern society on urban wildlife?</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 green spa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t trees and bush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 dogs and cats indo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use pestici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e people about not hurting anima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 cautious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ow trash away in containers</a:t>
            </a:r>
            <a:endParaRPr b="0" lang="en-US" sz="3200" spc="-1" strike="noStrike">
              <a:solidFill>
                <a:srgbClr val="ffffff"/>
              </a:solidFill>
              <a:latin typeface="Times New Roman"/>
            </a:endParaRPr>
          </a:p>
        </p:txBody>
      </p:sp>
      <p:sp>
        <p:nvSpPr>
          <p:cNvPr id="128"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Times New Roman"/>
              </a:rPr>
              <a:t>How can we go about finding the leading causes of injury to wildlife?</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responses)</a:t>
            </a:r>
            <a:endParaRPr b="0" lang="en-US" sz="1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our own data by: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ing wildlife expert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viewing community member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ing to clinics and hospitals and asking for data they have collected</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research others have don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ze all our data to look for cau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TextBox 5"/>
          <p:cNvSpPr/>
          <p:nvPr/>
        </p:nvSpPr>
        <p:spPr>
          <a:xfrm>
            <a:off x="609480" y="617220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1" lang="en-US" sz="700" spc="-1" strike="noStrike">
                <a:solidFill>
                  <a:srgbClr val="ffffff"/>
                </a:solidFill>
                <a:latin typeface="Arial Narrow"/>
              </a:rPr>
              <a:t>*Other names and brands may be claimed as the property of others.</a:t>
            </a:r>
            <a:endParaRPr b="1" lang="en-US" sz="7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00:25:09Z</dcterms:created>
  <dc:creator>cbaker1X</dc:creator>
  <dc:description/>
  <dc:language>en-US</dc:language>
  <cp:lastModifiedBy>ljfishex</cp:lastModifiedBy>
  <dcterms:modified xsi:type="dcterms:W3CDTF">2010-05-22T18:24:18Z</dcterms:modified>
  <cp:revision>6</cp:revision>
  <dc:subject/>
  <dc:title>Danger to Urban Wildlife</dc:title>
</cp:coreProperties>
</file>