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925-311E-48D2-AA7A-ACE36DF53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E073-F0E0-4DB5-AC77-0385B57A45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0553-F4D6-4DCE-BBCC-D05BB1582B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408C-362C-41CC-8467-C45E6A7FAC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1680" y="4343400"/>
            <a:ext cx="6556320" cy="412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EAEE-C610-4564-88BF-8ED1AA49DD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9D7C-1FB9-4587-97BD-FA1A23658E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823-D61F-47CA-ACEC-037526E525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130F-B695-4C70-9CC1-3B451B435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B32A-2ACD-4E5E-BAA2-CBA0DAC96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45FC-20BD-4EDC-87AA-2D33A0B89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29EB-EA28-4556-AC9D-72F672B25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DA22-1574-4AF5-BF38-1D3E668DB7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3456-7474-42F3-9EC4-D14DDA0F74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6340-66FE-4B46-89A9-FF3BA4A15C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EFB4-A007-4BC5-A888-F05911938F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164E-28BB-4A3D-8F31-F3795F0641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9296-8140-4F1C-AAC0-B95A93C206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0208-6302-495D-A212-BEF3DF556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53E1-C399-499B-A1AB-6B8832305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2A54-1E8F-4E28-8C99-6582C04BC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09F0-C9AF-409C-A6FB-9703BF4F25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8F36-D283-4975-BA04-92FE078F9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14A3-E4C5-45BD-8B9B-AAC9A5F936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14B8-FE2E-45C2-978A-7209410322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9DC5-FDB0-4A4E-AD94-71313FB160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357A-113B-4384-95B4-C3BC38E157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00B2-6397-4916-8D1E-DAD445A4F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87C1-F2D5-48F1-9EF6-2E9C3A8E4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69C2-E8A2-4D41-B7DA-E34F33798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DDC7-3573-4BC6-9221-985E5F5D9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E5FA-E069-413C-8C74-5F382FB06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5A8A-D370-45DB-A841-164ABF93C17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intel_wht_100.eps"/>
          <p:cNvPicPr/>
          <p:nvPr/>
        </p:nvPicPr>
        <p:blipFill>
          <a:blip r:embed="rId2"/>
          <a:stretch/>
        </p:blipFill>
        <p:spPr>
          <a:xfrm>
            <a:off x="7748640" y="6026040"/>
            <a:ext cx="10954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8EB-D453-4B35-B6DF-A402B96E03C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8" descr="intel_wht_100.eps"/>
          <p:cNvPicPr/>
          <p:nvPr/>
        </p:nvPicPr>
        <p:blipFill>
          <a:blip r:embed="rId2"/>
          <a:stretch/>
        </p:blipFill>
        <p:spPr>
          <a:xfrm>
            <a:off x="7738920" y="6026040"/>
            <a:ext cx="10954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PT_pic copy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7" descr="intelEDU_wht_lrg [Converted]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PT_pic copy"/>
          <p:cNvPicPr/>
          <p:nvPr/>
        </p:nvPicPr>
        <p:blipFill>
          <a:blip r:embed="rId2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0" descr="intel_wht_100.eps"/>
          <p:cNvPicPr/>
          <p:nvPr/>
        </p:nvPicPr>
        <p:blipFill>
          <a:blip r:embed="rId3"/>
          <a:stretch/>
        </p:blipFill>
        <p:spPr>
          <a:xfrm>
            <a:off x="6881760" y="0"/>
            <a:ext cx="2106720" cy="1600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4B7-91A6-4E5E-93C2-A2FE67FBD51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C20-7F54-4021-B55C-CF801B403F8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gn Up Proces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Details on class dates/schedu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How teachers should contact you to sign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3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3" descr="intel_wht_1200.eps"/>
          <p:cNvPicPr/>
          <p:nvPr/>
        </p:nvPicPr>
        <p:blipFill>
          <a:blip r:embed="rId1"/>
          <a:stretch/>
        </p:blipFill>
        <p:spPr>
          <a:xfrm>
            <a:off x="49320" y="0"/>
            <a:ext cx="904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15A5-3893-468E-AF30-62B3F4E8C9B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BB16-C462-4D8B-8D84-1AACA540975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 in a 1:1 computing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8B0-9359-49B1-A7F0-71186EBF754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E45D-B0E1-4BB1-A2E1-117F52904DA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A259-4732-4198-B913-34A1A91E035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Verdana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5FB-2516-4461-82D0-558CC0065CA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05F-F376-4092-ADF3-E219804C43D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6A10-E484-4077-A7AC-72194A0072A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Fennern, TysaX C</cp:lastModifiedBy>
  <dcterms:modified xsi:type="dcterms:W3CDTF">2010-10-08T18:38:06Z</dcterms:modified>
  <cp:revision>59</cp:revision>
  <dc:subject/>
  <dc:title>Presentation Title Goes Here</dc:title>
</cp:coreProperties>
</file>