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535-D620-4225-AD43-4AC1907A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C99F-4474-4573-8552-982DD857B9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register from either the Intel Teaching Tools URL or the Teachers Engage URL--same Login ID and password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8D0-AA54-4980-8716-D294D8AD43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31E-4412-4704-9084-18294FB865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5D09-9412-418E-8B20-7F4C5B1CBE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C13C-CC13-4D93-9614-A476F31A9D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99D-1826-4726-AB1C-E1AE90F801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C1B6-9988-4085-95D6-6F8C440568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5DF6-3AD9-47AE-933A-AD74E5A4F3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29A8-ABF2-4519-94FA-F3F13BAFD4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DAD6-FEC4-494F-AFD4-163C977C5E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1206-F76B-48B1-8617-B829E3DA97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1745-FC6E-485A-B606-6744ED4F1A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68A-67B9-434A-89D4-EB3C2A9187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09A-FE8A-490A-94D9-E420F8117A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242-19E6-462A-BAC6-B1EB0BFCED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5274-2BE3-4B90-95CE-873C0AE77D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454-82A8-4152-8319-816B843046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9DF-879C-4A4C-9926-8557C4A4A6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5C65-EEF4-4C78-A685-A80849CC3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6144-A898-4D16-82CC-5ADA3A5AE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A891-2855-4CF3-B5BC-75A060B85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06CC-2C2F-44F9-AA24-80A1B3B94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02BA-F088-4867-AAB2-D99C3FDD0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0C04-9240-4CC4-9969-4B3C4BBA4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A97D-78BE-4AD5-BA66-FDC0E8D59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F85B-FCC3-4946-8754-43DBCB0B1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1814-D334-479C-983C-62F45D6B3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3DB1-C4AC-43F8-A53F-062D7A4D9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7C1F-8DA2-47D1-9ACF-EEE3A22C0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57BB-12F6-492B-87B9-12AC27513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1D06-1C24-4D2D-980D-E13500A0323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intel_wht_100.eps"/>
          <p:cNvPicPr/>
          <p:nvPr/>
        </p:nvPicPr>
        <p:blipFill>
          <a:blip r:embed="rId2"/>
          <a:stretch/>
        </p:blipFill>
        <p:spPr>
          <a:xfrm>
            <a:off x="7785000" y="6026040"/>
            <a:ext cx="10954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PPT_pic copy"/>
          <p:cNvPicPr/>
          <p:nvPr/>
        </p:nvPicPr>
        <p:blipFill>
          <a:blip r:embed="rId2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10" descr="intel_wht_100.eps"/>
          <p:cNvPicPr/>
          <p:nvPr/>
        </p:nvPicPr>
        <p:blipFill>
          <a:blip r:embed="rId3"/>
          <a:stretch/>
        </p:blipFill>
        <p:spPr>
          <a:xfrm>
            <a:off x="6881760" y="0"/>
            <a:ext cx="210672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gage.intel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313-1313-4D97-A4A5-52603655A3E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URL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Course UR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ogin Inform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Passwo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DDA-8379-4707-9386-E58528855C0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1634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tel Teachers Engage Community 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engage.intel.com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080" y="1165320"/>
            <a:ext cx="8664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ers Engage is an online educator’s community that supports the core concepts of the Intel Teach program cours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in discussions, share resources or attend Webinars  that will allow you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ay engaged in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entury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rn about Web 2.0 tools and to effectively use them in the classro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work with educators world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e account, five great educational resources! Your Intel Education account provides acces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ers Engage Commun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essing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0DC9-E6E5-4861-A2F2-5FF7A8F73FF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ule 1: Teaching with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8489-8296-437C-A3D2-DE6FB7067F5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7994520" cy="2666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tIns="91440" bIns="9144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ssential Ques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1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28600"/>
          <a:ext cx="7994520" cy="2589120"/>
        </p:xfrm>
        <a:graphic>
          <a:graphicData uri="http://schemas.openxmlformats.org/drawingml/2006/table">
            <a:tbl>
              <a:tblPr/>
              <a:tblGrid>
                <a:gridCol w="2889000"/>
                <a:gridCol w="51055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1: Teaching with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ject-based learning and unit desig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ew portfolio compon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 Unit Portfolio wiki p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 a publication on projec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ntify 21st century skills for your un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velop initial unit ide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flect on learning in your blog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03A-1AE8-49E1-8C2E-EA20291837B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1499760"/>
            <a:ext cx="823752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F20-F19B-4CC5-8C53-0AB6280528F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7680" y="830160"/>
          <a:ext cx="7994520" cy="2714760"/>
        </p:xfrm>
        <a:graphic>
          <a:graphicData uri="http://schemas.openxmlformats.org/drawingml/2006/table">
            <a:tbl>
              <a:tblPr/>
              <a:tblGrid>
                <a:gridCol w="2889000"/>
                <a:gridCol w="51055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2: Planning My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urriculum-Framing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d ongo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-centered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ew portfolio compon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 Unit Portfolio wiki pa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 a publication on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ntify 21st century skills for your un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velop initial unit ide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36600" indent="-33660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flect on learning in your 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6960" y="182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20560" y="3556080"/>
            <a:ext cx="7988400" cy="2014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3A29-15B6-4D9C-9A4B-F26927EF80A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02852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 Creating Samples of Learn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project outcomes (presentation, publication, wiki, blo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D2BA-3E55-4B7A-9190-E3E7BD6A5A4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millions of educators in more than 5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EEA-C56E-4EE8-BB1B-52E754AED68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06440"/>
            <a:ext cx="82375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17C-0612-40D8-98B7-582F34391E6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7720" y="1724040"/>
          <a:ext cx="8386920" cy="2386080"/>
        </p:xfrm>
        <a:graphic>
          <a:graphicData uri="http://schemas.openxmlformats.org/drawingml/2006/table">
            <a:tbl>
              <a:tblPr/>
              <a:tblGrid>
                <a:gridCol w="2889360"/>
                <a:gridCol w="549756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9520" y="1147680"/>
          <a:ext cx="8381880" cy="56052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2" name="Text Box 43"/>
          <p:cNvSpPr/>
          <p:nvPr/>
        </p:nvSpPr>
        <p:spPr>
          <a:xfrm>
            <a:off x="500040" y="411012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1888-3966-41C0-985E-58B9A845C04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102852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 Creating Samples of Learn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project outcomes (presentation, publication, wiki, blo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14D-E920-43BF-BB5F-20B4B23585A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FFBA-0FD9-413F-928C-5D42930E3D3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8480" y="184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3800" y="1092240"/>
          <a:ext cx="8272440" cy="266688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49"/>
          <p:cNvSpPr/>
          <p:nvPr/>
        </p:nvSpPr>
        <p:spPr>
          <a:xfrm>
            <a:off x="536400" y="3782880"/>
            <a:ext cx="8274240" cy="2040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62B-1437-493A-87FD-1A7E08B6F33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20E7-5A67-41CB-9F89-34ED6FE2CA0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10304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9B8-F2F5-40BF-99FA-1F529BA9869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9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979560"/>
          <a:ext cx="8534160" cy="317016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tain feedback to improve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20"/>
          <p:cNvSpPr/>
          <p:nvPr/>
        </p:nvSpPr>
        <p:spPr>
          <a:xfrm>
            <a:off x="298440" y="4159080"/>
            <a:ext cx="85536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9F55-697D-499B-A74C-3B0171A9284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8550-4102-4FA9-8940-0B41569BDB6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304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ule 6: Planning for Student Succ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69A-78CA-4444-9CF6-9CF870CF8A7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7040" y="423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1440" y="138096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FD4-6827-4D95-8862-A46ACC3693F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7040" y="423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41440" y="113184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assess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B1C-0803-4F8F-9AFF-CBB84F07696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1040" y="1214280"/>
          <a:ext cx="8202600" cy="517680"/>
        </p:xfrm>
        <a:graphic>
          <a:graphicData uri="http://schemas.openxmlformats.org/drawingml/2006/table">
            <a:tbl>
              <a:tblPr/>
              <a:tblGrid>
                <a:gridCol w="8202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6: Planning for Student Suc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93640" y="1760400"/>
          <a:ext cx="8175600" cy="2530440"/>
        </p:xfrm>
        <a:graphic>
          <a:graphicData uri="http://schemas.openxmlformats.org/drawingml/2006/table">
            <a:tbl>
              <a:tblPr/>
              <a:tblGrid>
                <a:gridCol w="2435400"/>
                <a:gridCol w="574020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support and self-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strategies to differentiate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an assessment to encourage student self-di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tudent support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 to incorporate accommodations for all 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facilitation of a student-centered 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45"/>
          <p:cNvSpPr/>
          <p:nvPr/>
        </p:nvSpPr>
        <p:spPr>
          <a:xfrm>
            <a:off x="584280" y="4302000"/>
            <a:ext cx="82008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help my students become self-directed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support the diverse needs of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399-F624-469D-9D01-600CF3B2C41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1360" y="120960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39F8-A096-473C-994E-DF5A19A7DB4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BB0D-F869-464D-8DF6-FFBC0ACF94F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assess student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help my students become self-directed learner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support the diverse needs of learner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7FFB-3727-4B38-8A05-3F54E527E93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4200" y="1839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76120" y="1015920"/>
          <a:ext cx="8534520" cy="3292560"/>
        </p:xfrm>
        <a:graphic>
          <a:graphicData uri="http://schemas.openxmlformats.org/drawingml/2006/table">
            <a:tbl>
              <a:tblPr/>
              <a:tblGrid>
                <a:gridCol w="2514600"/>
                <a:gridCol w="6019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7: Facilitating with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 as facilit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questioning strategies to promote higher-order thi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facilitation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cuss implementation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management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Unit Portfolio and revise based on your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 and share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23"/>
          <p:cNvSpPr/>
          <p:nvPr/>
        </p:nvSpPr>
        <p:spPr>
          <a:xfrm>
            <a:off x="299880" y="4316400"/>
            <a:ext cx="85140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facilitate a student-centered classroom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echnology to support my instructional pract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36E0-D6AE-49D1-A60C-63549566E18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24A5-B66E-450E-99DD-2C38D68B68F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6200" y="1328400"/>
            <a:ext cx="82378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9B9-070B-488C-893C-C78828137F6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136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projects help my students meet standards and develop 21st century skill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projects to enhance student learning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CD30-C64C-44D7-ADAC-92AF26B9738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1360" y="106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o I assess student learning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help my students become self-directed learner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support the diverse needs of learners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facilitate a student-centered classroom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631800" indent="-2318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echnology to support my instructional practic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7E71-B713-4C70-9268-F6E0A8317D2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20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3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10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3" descr="intel_wht_1200.eps"/>
          <p:cNvPicPr/>
          <p:nvPr/>
        </p:nvPicPr>
        <p:blipFill>
          <a:blip r:embed="rId1"/>
          <a:stretch/>
        </p:blipFill>
        <p:spPr>
          <a:xfrm>
            <a:off x="49320" y="0"/>
            <a:ext cx="904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689-9839-4B55-89D3-67229E58F29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320-0649-4E78-BB8A-503AC398D1B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D63B-0817-465F-BBDE-4A8663E88D9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4C2-46E8-481A-BDD5-77FAF290690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E166-1BEE-4DD5-A3AC-56DD195CAB7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Fennern, TysaX C</cp:lastModifiedBy>
  <dcterms:modified xsi:type="dcterms:W3CDTF">2010-10-08T18:37:13Z</dcterms:modified>
  <cp:revision>86</cp:revision>
  <dc:subject/>
  <dc:title>Presentation Title Goes Here</dc:title>
</cp:coreProperties>
</file>