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19E5-F1A5-49E4-BE03-920A40B27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904B-3B85-4C8C-8130-6CC9F837B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03E5-C743-476D-8A80-F0666D865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PlaceHolder 1"/>
          <p:cNvSpPr>
            <a:spLocks noGrp="1"/>
          </p:cNvSpPr>
          <p:nvPr>
            <p:ph type="sldImg"/>
          </p:nvPr>
        </p:nvSpPr>
        <p:spPr>
          <a:xfrm>
            <a:off x="1152360" y="692280"/>
            <a:ext cx="455472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4DC77-A5AB-4F33-A6E8-363B1182BF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517928F2-DCF8-41EC-A67C-EEFDFAA1E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497D5440-9CDF-4072-9D3E-9C886FE7E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3E341B59-CEE7-429A-B6C9-185B53B29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322B7A0C-D529-4F4E-9BE6-7038FC4488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56F78B9-FA29-421F-9694-C16B67D786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E9E171A3-D20F-4A2A-8700-1B6DB83F78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71768957-77A0-490A-8A45-9FB57E6C3F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C88ED2F4-CB25-4A70-8E9F-9DFD85B91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F1C2D3F-AC91-401D-AF36-62CB80079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563A5509-893C-4B05-93BD-E3388ED46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8389E739-F4E5-4E9D-812D-AD909D2C4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8DA3-E5AD-4FD8-B4B9-D9BDF28E9349}"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0050DE20-0E7B-46AD-996F-9CDEA7818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84F98DF6-09FA-4DE9-8363-499E37570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5EF7E07-1738-4487-9FC4-A569600889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FE3D81BB-4BCD-42C0-BD89-8B3024B6F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F7532E4E-0D9A-4B84-AF03-090AAD751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0D0201C-8417-46D1-89A7-BA1272864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My Cours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 to the Essentials Online with Facilitation cours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55AC52D-2451-48BF-8E2C-67C24F961B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4"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7287AC5-3356-4855-9C85-5DD2B872A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6"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EBB4984-821F-45AB-8D14-6270CC80D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A470B24E-5F11-4EF4-B11A-9C5BCF39D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0A88EC4-BAA3-47F5-937D-FE4972792B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24109FAD-0A02-41EE-8AAA-4DE9B821A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2"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3EAD8A38-126E-469E-9DA1-05DA5E1F27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4" name=""/>
          <p:cNvGrpSpPr/>
          <p:nvPr/>
        </p:nvGrpSpPr>
        <p:grpSpPr>
          <a:xfrm>
            <a:off x="304920" y="1447920"/>
            <a:ext cx="8237520" cy="3580920"/>
            <a:chOff x="304920" y="1447920"/>
            <a:chExt cx="8237520" cy="3580920"/>
          </a:xfrm>
        </p:grpSpPr>
        <p:sp>
          <p:nvSpPr>
            <p:cNvPr id="13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8" name=""/>
            <p:cNvGrpSpPr/>
            <p:nvPr/>
          </p:nvGrpSpPr>
          <p:grpSpPr>
            <a:xfrm>
              <a:off x="304920" y="1447920"/>
              <a:ext cx="8237520" cy="3580560"/>
              <a:chOff x="304920" y="1447920"/>
              <a:chExt cx="8237520" cy="3580560"/>
            </a:xfrm>
          </p:grpSpPr>
          <p:sp>
            <p:nvSpPr>
              <p:cNvPr id="13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E699E40F-B39C-4A50-A976-32C025AA8F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66A31BA6-8657-4B85-B8E8-F3A64A6D91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3B75359-773F-4F08-BC55-9D73D6BE81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50"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2B02F26A-75ED-430D-83CE-0BAB609404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6EA913A-636D-46CB-B3AC-5C604359C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4"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0D29577-2CF7-4667-BF4C-4BB42A7B7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014442F-5B3A-4383-A35E-CC37265B60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88DE7A0-0984-4C40-B539-B81B6A0032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10405A12-BC6F-4865-97C5-174920227B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6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734FEF8-3175-42FF-9F69-20821D9631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2" name=""/>
          <p:cNvGrpSpPr/>
          <p:nvPr/>
        </p:nvGrpSpPr>
        <p:grpSpPr>
          <a:xfrm>
            <a:off x="304920" y="1447920"/>
            <a:ext cx="8237520" cy="3580920"/>
            <a:chOff x="304920" y="1447920"/>
            <a:chExt cx="8237520" cy="3580920"/>
          </a:xfrm>
        </p:grpSpPr>
        <p:sp>
          <p:nvSpPr>
            <p:cNvPr id="16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6" name=""/>
            <p:cNvGrpSpPr/>
            <p:nvPr/>
          </p:nvGrpSpPr>
          <p:grpSpPr>
            <a:xfrm>
              <a:off x="304920" y="1447920"/>
              <a:ext cx="8237520" cy="3580560"/>
              <a:chOff x="304920" y="1447920"/>
              <a:chExt cx="8237520" cy="3580560"/>
            </a:xfrm>
          </p:grpSpPr>
          <p:sp>
            <p:nvSpPr>
              <p:cNvPr id="16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4DA6362B-D722-4082-BD2F-5F3C7CE5C8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4" name=""/>
          <p:cNvGrpSpPr/>
          <p:nvPr/>
        </p:nvGrpSpPr>
        <p:grpSpPr>
          <a:xfrm>
            <a:off x="304920" y="1447920"/>
            <a:ext cx="8237520" cy="3580920"/>
            <a:chOff x="304920" y="1447920"/>
            <a:chExt cx="8237520" cy="3580920"/>
          </a:xfrm>
        </p:grpSpPr>
        <p:sp>
          <p:nvSpPr>
            <p:cNvPr id="17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8" name=""/>
            <p:cNvGrpSpPr/>
            <p:nvPr/>
          </p:nvGrpSpPr>
          <p:grpSpPr>
            <a:xfrm>
              <a:off x="304920" y="1447920"/>
              <a:ext cx="8237520" cy="3580560"/>
              <a:chOff x="304920" y="1447920"/>
              <a:chExt cx="8237520" cy="3580560"/>
            </a:xfrm>
          </p:grpSpPr>
          <p:sp>
            <p:nvSpPr>
              <p:cNvPr id="17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E1BC2F6B-7E3D-4363-88EB-1B78AC491A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F845A16C-70D5-4690-968C-FE74A6C8A1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940A0913-FCC1-4E86-8633-E41ADC208C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gn in to Essentials Online with Facilitation cour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view Facilitation Guide</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 with Features in the Manage Training Task Lists</a:t>
            </a:r>
            <a:endParaRPr b="0" lang="en-US" sz="2400" spc="-1" strike="noStrike">
              <a:solidFill>
                <a:srgbClr val="ffffff"/>
              </a:solidFill>
              <a:latin typeface="Verdana"/>
            </a:endParaRPr>
          </a:p>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E03CE9A8-786F-4A42-AA68-FF2705F94E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60F5385-AF4A-48A2-BC92-D7EB0F66B45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17600" y="1908000"/>
            <a:ext cx="4953240" cy="2475000"/>
          </a:xfrm>
          <a:prstGeom prst="rect">
            <a:avLst/>
          </a:prstGeom>
          <a:ln w="0">
            <a:noFill/>
          </a:ln>
        </p:spPr>
      </p:pic>
      <p:sp>
        <p:nvSpPr>
          <p:cNvPr id="194"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3DE86EC8-2105-4806-B6DF-1D05C5CA1B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377E003D-6BDF-41F2-85A9-C8BEF0457A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7"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3106F996-B873-4EC4-995C-F9DBFD97432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B5B56AC8-7334-499B-BD8B-288066E0EF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9"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6814C880-1777-4242-88E6-76E9822CF6F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2A0EB4C-6E66-4E0D-81E7-507160628C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2EB81045-0E7C-4A09-9F1D-3C50559E33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332C16E-C935-42F5-A53F-BE353076F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61ED0DE-6ED5-4C74-BB24-C3DB1F056A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88E76E2-51F4-44AD-B93E-14A2DFC49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7-10T23:39:14Z</dcterms:modified>
  <cp:revision>545</cp:revision>
  <dc:subject/>
  <dc:title>Module 1</dc:title>
</cp:coreProperties>
</file>