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media/image4.wmf" ContentType="image/x-wmf"/>
  <Override PartName="/ppt/media/image5.gif" ContentType="image/gif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7D3D76-DC12-4031-ACC9-F2FD1769F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35C99C-D800-42DB-B01F-88A297F05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DEDAD3-F0EF-4FB9-8058-8E2ADCBB8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A11DE5-CBB5-4C5D-8AB0-D8D57CE3E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CA354-1CD3-4F80-9224-340E1E926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83123-FD80-4B46-B248-554159B7D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B8B49-F963-4599-BB5E-69185E3E6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D8B2E-A045-4186-851C-4D6900110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9A4EB-9706-43E7-ACFD-31ECCDE5E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7CC76-B2E2-4BF5-A23E-73C13D7C3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4001B-06BA-4A8F-B518-841C7CE09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DF5D30-0915-4A6D-B1C6-2A381BA24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87EBF-DC1F-486A-B949-15E63BB39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6AA62-7A23-4E21-B835-EE13609E5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0858B-1FF7-46D3-AD38-11A45B682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A4190-901E-4027-B081-C7D2849DF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EE44E-D87B-4A5A-8BC8-63B7BEC58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A2B8BF-DFE2-4DF7-9F76-E6034B5C8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3B608C-D759-411B-82F8-D21249AD7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FFD327-FFEB-47B1-985F-066BD9F51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84BAEE-1018-41BA-8EEE-C4860A749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E04264-9D5C-4885-83A9-79DE386D7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0A584B-C84F-4F90-B21A-034BCCBD8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88E951-FFD8-43F8-A1CB-9DEB31D1A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prstGeom prst="pi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92537-7B0B-4432-9092-6EBEC82EAE8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Freeform 22"/>
            <p:cNvSpPr/>
            <p:nvPr/>
          </p:nvSpPr>
          <p:spPr>
            <a:xfrm>
              <a:off x="1440" y="6151680"/>
              <a:ext cx="9144000" cy="706320"/>
            </a:xfrm>
            <a:prstGeom prst="pi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Freeform 23"/>
            <p:cNvSpPr/>
            <p:nvPr/>
          </p:nvSpPr>
          <p:spPr>
            <a:xfrm>
              <a:off x="0" y="6138720"/>
              <a:ext cx="9159840" cy="27648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CA2CF-4556-44FB-B867-168D128189B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cc"/>
                </a:solidFill>
                <a:latin typeface="Tahoma"/>
              </a:rPr>
              <a:t>Romeo y Julieta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990360" y="4343040"/>
            <a:ext cx="693396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Presentación del portafolio de unida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Por: Pedro Rodríguez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8" name="Picture 4" descr="j0104164"/>
          <p:cNvPicPr/>
          <p:nvPr/>
        </p:nvPicPr>
        <p:blipFill>
          <a:blip r:embed="rId1"/>
          <a:stretch/>
        </p:blipFill>
        <p:spPr>
          <a:xfrm>
            <a:off x="3581280" y="1600200"/>
            <a:ext cx="1852560" cy="2523960"/>
          </a:xfrm>
          <a:prstGeom prst="rect">
            <a:avLst/>
          </a:prstGeom>
          <a:ln w="0">
            <a:noFill/>
          </a:ln>
        </p:spPr>
      </p:pic>
      <p:pic>
        <p:nvPicPr>
          <p:cNvPr id="129" name="SN00571_.mid" descr=""/>
          <p:cNvPicPr/>
          <p:nvPr/>
        </p:nvPicPr>
        <p:blipFill>
          <a:blip r:embed="rId2"/>
          <a:stretch/>
        </p:blipFill>
        <p:spPr>
          <a:xfrm>
            <a:off x="228600" y="5867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8735" fill="hold"/>
                                        <p:tgtEl>
                                          <p:spTgt spid="1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4" descr="j0288891"/>
          <p:cNvPicPr/>
          <p:nvPr/>
        </p:nvPicPr>
        <p:blipFill>
          <a:blip r:embed="rId1"/>
          <a:stretch/>
        </p:blipFill>
        <p:spPr>
          <a:xfrm>
            <a:off x="3048120" y="1066680"/>
            <a:ext cx="3190680" cy="31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200" spc="-1" strike="noStrike">
                <a:solidFill>
                  <a:srgbClr val="ffffcc"/>
                </a:solidFill>
                <a:latin typeface="Tahoma"/>
              </a:rPr>
              <a:t>Resumen de la unidad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ffffff"/>
                </a:solidFill>
                <a:latin typeface="Tahoma"/>
              </a:rPr>
              <a:t>Los estudiantes leen </a:t>
            </a:r>
            <a:r>
              <a:rPr b="0" i="1" lang="es-CR" sz="2400" spc="-1" strike="noStrike">
                <a:solidFill>
                  <a:srgbClr val="ffffff"/>
                </a:solidFill>
                <a:latin typeface="Tahoma"/>
              </a:rPr>
              <a:t>Romeo y Julieta </a:t>
            </a:r>
            <a:r>
              <a:rPr b="0" lang="es-CR" sz="2400" spc="-1" strike="noStrike">
                <a:solidFill>
                  <a:srgbClr val="ffffff"/>
                </a:solidFill>
                <a:latin typeface="Tahoma"/>
              </a:rPr>
              <a:t>y se refieren a la vida contemporánea. Investigan un problema de la obra que sigue siendo un problema hoy en día y colaboran para encontrar una solución. Crean una publicación o presentación sobre su solución y la comparten con un públic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Tahoma"/>
              </a:rPr>
              <a:t>Preguntas orientadoras del plan de unidad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Pregunta esencial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¿Existe eso que llaman destino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Preguntas de unidad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¿Por qué es Romeo y Julieta un clásico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Preguntas de contenido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¿Qué es un teatro global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¿Quienes son los personajes en </a:t>
            </a:r>
            <a:r>
              <a:rPr b="0" i="1" lang="es-ES" sz="2400" spc="-1" strike="noStrike">
                <a:solidFill>
                  <a:srgbClr val="ffffff"/>
                </a:solidFill>
                <a:latin typeface="Tahoma"/>
              </a:rPr>
              <a:t>Romeo y Julieta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200" spc="-1" strike="noStrike">
                <a:solidFill>
                  <a:srgbClr val="ffffcc"/>
                </a:solidFill>
                <a:latin typeface="Tahoma"/>
              </a:rPr>
              <a:t>Visión de la unidad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ffffff"/>
                </a:solidFill>
                <a:latin typeface="Tahoma"/>
              </a:rPr>
              <a:t>Mediante la creación de esta unidad, dese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ebf25a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ffffff"/>
                </a:solidFill>
                <a:latin typeface="Tahoma"/>
              </a:rPr>
              <a:t>Probar nuevos métodos para hacer que la literatura clásica sea de interés para la vida de mis estudiant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ebf25a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ffffff"/>
                </a:solidFill>
                <a:latin typeface="Tahoma"/>
              </a:rPr>
              <a:t>Pensar en formas de involucrar a mis alumnos más en la comunida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ffffff"/>
                </a:solidFill>
                <a:latin typeface="Tahoma"/>
              </a:rPr>
              <a:t>Durante esta unidad, deseo que mis estudiante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ebf25a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ffffff"/>
                </a:solidFill>
                <a:latin typeface="Tahoma"/>
              </a:rPr>
              <a:t>Aprendan las maneras de relacionar lo clásico de la literatura a su vida cotidian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ebf25a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ffffff"/>
                </a:solidFill>
                <a:latin typeface="Tahoma"/>
              </a:rPr>
              <a:t>Utilicen la tecnología para comunicarse con diferentes audienci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200" spc="-1" strike="noStrike">
                <a:solidFill>
                  <a:srgbClr val="ffffcc"/>
                </a:solidFill>
                <a:latin typeface="Tahoma"/>
              </a:rPr>
              <a:t>Enfoque del proyecto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ffffff"/>
                </a:solidFill>
                <a:latin typeface="Tahoma"/>
              </a:rPr>
              <a:t>Como mis estudiantes trabajan en este proyecto, ello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ebf25a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ffffff"/>
                </a:solidFill>
                <a:latin typeface="Tahoma"/>
              </a:rPr>
              <a:t>Relacionan la obra con el mundo re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ebf25a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ffffff"/>
                </a:solidFill>
                <a:latin typeface="Tahoma"/>
              </a:rPr>
              <a:t>Colaboran con sus compañeros y miembros de la comunida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ebf25a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ffffff"/>
                </a:solidFill>
                <a:latin typeface="Tahoma"/>
              </a:rPr>
              <a:t>Crean un producto que muestra lo que han aprendid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ebf25a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ffffff"/>
                </a:solidFill>
                <a:latin typeface="Tahoma"/>
              </a:rPr>
              <a:t>Comparten su aprendizaje con una audiencia re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200" spc="-1" strike="noStrike">
                <a:solidFill>
                  <a:srgbClr val="ffffcc"/>
                </a:solidFill>
                <a:latin typeface="Tahoma"/>
              </a:rPr>
              <a:t>Aprendizaje para el siglo XXI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Los estudiantes desarrollarán el pensamiento superior y las destrezas del siglo XXI en esta unidad, ya qu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457200" y="2666880"/>
            <a:ext cx="84582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buClr>
                <a:srgbClr val="ebf25a"/>
              </a:buClr>
              <a:buFont typeface="Tahom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ffffff"/>
                </a:solidFill>
                <a:latin typeface="Tahoma"/>
              </a:rPr>
              <a:t>Utilizan la pregunta esencial y las de unidad para orientar su análisis en la obra, y a la vez encontrar temas que relacionen fechas y lugar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4520" indent="-344520">
              <a:buClr>
                <a:srgbClr val="ebf25a"/>
              </a:buClr>
              <a:buFont typeface="Tahom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ffffff"/>
                </a:solidFill>
                <a:latin typeface="Tahoma"/>
              </a:rPr>
              <a:t>Comunican sus ideas a una audiencia de la comunida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4520" indent="-344520">
              <a:buClr>
                <a:srgbClr val="ebf25a"/>
              </a:buClr>
              <a:buFont typeface="Tahom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ffffff"/>
                </a:solidFill>
                <a:latin typeface="Tahoma"/>
              </a:rPr>
              <a:t>Reflexionan sobre su lectura, redacción, investigación y las estrategias de pensamiento, las modifican y adaptan según sea necesari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4520" indent="-344520">
              <a:buClr>
                <a:srgbClr val="ebf25a"/>
              </a:buClr>
              <a:buFont typeface="Tahom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ffffff"/>
                </a:solidFill>
                <a:latin typeface="Tahoma"/>
              </a:rPr>
              <a:t>Utilizan evaluaciones de proyectos para autoevaluar su trabajo y dar realimentación a sus compañer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cc"/>
                </a:solidFill>
                <a:latin typeface="Tahoma"/>
              </a:rPr>
              <a:t>Evaluar las necesidades de los estudiantes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2" name="Text Box 5"/>
          <p:cNvSpPr/>
          <p:nvPr/>
        </p:nvSpPr>
        <p:spPr>
          <a:xfrm>
            <a:off x="1219320" y="1828800"/>
            <a:ext cx="693396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400" spc="-1" strike="noStrike">
                <a:solidFill>
                  <a:srgbClr val="ffffff"/>
                </a:solidFill>
                <a:latin typeface="Tahoma"/>
              </a:rPr>
              <a:t>Utilice las preguntas orientadoras de unidad para aprend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4520" indent="-34452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ffffff"/>
                </a:solidFill>
                <a:latin typeface="Tahoma"/>
              </a:rPr>
              <a:t>Las ideas que tienen los estudiantes acerca de lo que es un "clásico“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4520" indent="-34452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ffffff"/>
                </a:solidFill>
                <a:latin typeface="Tahoma"/>
              </a:rPr>
              <a:t>El conocimiento previo de los personajes y trama de la obr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4520" indent="-34452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400" spc="-1" strike="noStrike">
                <a:solidFill>
                  <a:srgbClr val="ffffff"/>
                </a:solidFill>
                <a:latin typeface="Tahoma"/>
              </a:rPr>
              <a:t>Evaluar las destrezas del siglo XX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4520" indent="-34452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ffffff"/>
                </a:solidFill>
                <a:latin typeface="Tahoma"/>
              </a:rPr>
              <a:t>Capacidad para ver elementos comunes en los clásicos y la literatura contemporáne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3" name="Object 7"/>
          <p:cNvGraphicFramePr/>
          <p:nvPr/>
        </p:nvGraphicFramePr>
        <p:xfrm>
          <a:off x="152280" y="1295280"/>
          <a:ext cx="914400" cy="771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4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295280"/>
                    <a:ext cx="914400" cy="77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5" name="Object 8"/>
          <p:cNvGraphicFramePr/>
          <p:nvPr/>
        </p:nvGraphicFramePr>
        <p:xfrm>
          <a:off x="7543800" y="1143000"/>
          <a:ext cx="914400" cy="7714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46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43800" y="1143000"/>
                    <a:ext cx="914400" cy="77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318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cc"/>
                </a:solidFill>
                <a:latin typeface="Tahoma"/>
              </a:rPr>
              <a:t>Evaluar las necesidades de los estudiantes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8" name="Text Box 8"/>
          <p:cNvSpPr/>
          <p:nvPr/>
        </p:nvSpPr>
        <p:spPr>
          <a:xfrm>
            <a:off x="685800" y="1447920"/>
            <a:ext cx="77724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Puedo usar esta información derivada de éstas evaluaciones para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Text Box 12"/>
          <p:cNvSpPr/>
          <p:nvPr/>
        </p:nvSpPr>
        <p:spPr>
          <a:xfrm>
            <a:off x="1143000" y="2362320"/>
            <a:ext cx="7543800" cy="16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spcBef>
                <a:spcPts val="137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Concentrarme en las partes de la obra en las que los estudiantes tienen ideas erróneas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4520" indent="-344520">
              <a:spcBef>
                <a:spcPts val="137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Planificar actividades en las cuales ellos puedan contestar sus preguntas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Text Box 13"/>
          <p:cNvSpPr/>
          <p:nvPr/>
        </p:nvSpPr>
        <p:spPr>
          <a:xfrm>
            <a:off x="685800" y="397836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Los estudiantes pueden usar esta información de estas evaluaciones para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Text Box 14"/>
          <p:cNvSpPr/>
          <p:nvPr/>
        </p:nvSpPr>
        <p:spPr>
          <a:xfrm>
            <a:off x="1219320" y="4876920"/>
            <a:ext cx="7543800" cy="16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spcBef>
                <a:spcPts val="137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Comparar sus preguntas con respecto a las unidades anteriores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4520" indent="-344520">
              <a:spcBef>
                <a:spcPts val="137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Establecer objetivos de cómo ajustará su estilo delectura para este tipo de literatura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200" spc="-1" strike="noStrike">
                <a:solidFill>
                  <a:srgbClr val="ffffcc"/>
                </a:solidFill>
                <a:latin typeface="Tahoma"/>
              </a:rPr>
              <a:t>Respuestas de la realimentación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ffffff"/>
                </a:solidFill>
                <a:latin typeface="Tahoma"/>
              </a:rPr>
              <a:t>Los estudiantes necesitan ayuda para comprender la obra sin parafrasear y resumi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ffffff"/>
                </a:solidFill>
                <a:latin typeface="Tahoma"/>
              </a:rPr>
              <a:t>Necesita ayuda para la evaluación de las destrezas de pensamiento de orden superior de los estudiant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5T00:32:57Z</dcterms:created>
  <dc:creator>Judi Yost</dc:creator>
  <dc:description/>
  <dc:language>en-US</dc:language>
  <cp:lastModifiedBy>Jacqueline Arroyo</cp:lastModifiedBy>
  <dcterms:modified xsi:type="dcterms:W3CDTF">2008-08-07T15:48:59Z</dcterms:modified>
  <cp:revision>44</cp:revision>
  <dc:subject/>
  <dc:title>What can Romeo and Juliet Teach Us About Ourselves?</dc:title>
</cp:coreProperties>
</file>