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6355-038B-4DAD-BE6F-5A8BEC4D9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66E4-5E45-473C-A9B3-197142214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F64A-527C-4005-9223-DE6CA8E7D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540F-5B9D-45F4-8D79-9DFFD22EB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4C0B-9328-4DDA-81C2-D889F3B782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974B-34B5-4105-98B5-ABF186C475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0FB7-844B-43FC-B9B1-5023A26EB1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3CD0-3D85-407A-B81E-F977E0B391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3B7D8-13BA-4F2A-972F-0BEF962AA3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278D-44F3-40DA-B4F3-74E075C6E2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484A-84FA-446A-8405-D2CA93D329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0964-1918-4090-807A-E89DF14DF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D040-C484-4E83-AF32-4D4536C9D8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CADE-B8B0-4BE0-90A9-EE477F3158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CC19-E3A9-4833-8A38-BFA583403A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A5E1-09D7-40E3-A2FC-2A2D9E1CD8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4F59E-87B4-436B-9882-1D0729BE6B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8634-F228-4AC1-AE93-1D096F012E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1A4F-9F6F-4E7F-A627-006A10FE1A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B0AC-2B5B-480A-B806-23CAF5426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E75D-49E3-4FFF-B448-41D981D51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B2AF-6DD8-47C1-B847-3C275E2BB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D0B9-B607-47E1-B9B1-8476D5DBA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CA60-D863-4C66-9084-796A80243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C82B-B881-4865-BCF2-5E59D1F6098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1727280" y="5856120"/>
            <a:ext cx="39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903240" y="64911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1FC3-EE76-46B6-8A21-E26BE23B7074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6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966960" y="6350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Derechos de autor © 2008, Corporación Intel. Todos los derechos reservados. Intel, el logo de la Iniciativa Intel Educación y el Programa Intel Educar son marcas registradas de la Corporación Intel en los Estados Unidos y otros países.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*Otros nombres y marcas pueden ser reclamadas como propiedad de tercero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intelEDU_4c_lrg [Converted]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60360" y="6472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PPT_pic copy"/>
          <p:cNvPicPr/>
          <p:nvPr/>
        </p:nvPicPr>
        <p:blipFill>
          <a:blip r:embed="rId2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966960" y="6350040"/>
            <a:ext cx="64515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Verdana"/>
              </a:rPr>
              <a:t>Derechos de autor © 2008, Corporación Intel. Todos los derechos reservados. Intel, el logo de la Iniciativa Intel Educación y el Programa Intel Educar son marcas registradas de la Corporación Intel en los Estados Unidos y otros países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Verdana"/>
              </a:rPr>
              <a:t>*Otros nombres y marcas pueden ser reclamadas como propiedad de terceros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teka.org/ComoAprendeLaGente.php3" TargetMode="External"/><Relationship Id="rId2" Type="http://schemas.openxmlformats.org/officeDocument/2006/relationships/hyperlink" Target="http://www.wested.org/online_pubs/learning_return.pdf" TargetMode="External"/><Relationship Id="rId3" Type="http://schemas.openxmlformats.org/officeDocument/2006/relationships/hyperlink" Target="http://www.eduteka.org/TemaApoyo.php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057400" y="5448240"/>
            <a:ext cx="64008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860a8"/>
                </a:solidFill>
                <a:latin typeface="Verdana"/>
              </a:rPr>
              <a:t>Creating Effective Question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Verdana"/>
              </a:rPr>
              <a:t>Preguntas orientadoras del currículo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8813-DA87-4B2F-9AA1-39128F7AB59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24120" y="15192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Creation of Good Questions and a Good Unit Is an Ongoing Proces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82" descr=""/>
          <p:cNvPicPr/>
          <p:nvPr/>
        </p:nvPicPr>
        <p:blipFill>
          <a:blip r:embed="rId1"/>
          <a:stretch/>
        </p:blipFill>
        <p:spPr>
          <a:xfrm>
            <a:off x="0" y="0"/>
            <a:ext cx="7834320" cy="5991120"/>
          </a:xfrm>
          <a:prstGeom prst="rect">
            <a:avLst/>
          </a:prstGeom>
          <a:ln w="0">
            <a:noFill/>
          </a:ln>
        </p:spPr>
      </p:pic>
      <p:sp>
        <p:nvSpPr>
          <p:cNvPr id="199" name="5 Rectángulo"/>
          <p:cNvSpPr/>
          <p:nvPr/>
        </p:nvSpPr>
        <p:spPr>
          <a:xfrm>
            <a:off x="7086600" y="0"/>
            <a:ext cx="190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a creación de buenas preguntas y una buena unidad en un proceso continu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A0C8-AA7A-4371-BB60-FDFC67584A9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¿Por qué debemos usar las preguntas  orientadoras del currículo  en nuestra unidad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El uso de la tecnología en los proyectos deberí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Mejorar el aprendizaje de los alumn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yudar a los estudiantes a ser autónom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Promover la creativida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Los proyectos deben proporcionar a los estudiantes con tareas  y </a:t>
            </a:r>
            <a:r>
              <a:rPr b="1" lang="es-CR" sz="2000" spc="-1" strike="noStrike">
                <a:solidFill>
                  <a:srgbClr val="ffffff"/>
                </a:solidFill>
                <a:latin typeface="Verdana"/>
              </a:rPr>
              <a:t>preguntas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  desafiantes, más que la experiencia de proyectos tradiciona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Los buenos proyectos deben  incitar a los estudiantes a participar en la </a:t>
            </a:r>
            <a:r>
              <a:rPr b="1" lang="es-CR" sz="2000" spc="-1" strike="noStrike">
                <a:solidFill>
                  <a:srgbClr val="ffffff"/>
                </a:solidFill>
                <a:latin typeface="Verdana"/>
              </a:rPr>
              <a:t>reflexión, evaluación, análisis 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y/o </a:t>
            </a:r>
            <a:r>
              <a:rPr b="1" lang="es-CR" sz="2000" spc="-1" strike="noStrike">
                <a:solidFill>
                  <a:srgbClr val="ffffff"/>
                </a:solidFill>
                <a:latin typeface="Verdana"/>
              </a:rPr>
              <a:t>síntesis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 de la materia, no solo en la </a:t>
            </a:r>
            <a:r>
              <a:rPr b="1" lang="es-CR" sz="2000" spc="-1" strike="noStrike">
                <a:solidFill>
                  <a:srgbClr val="ffffff"/>
                </a:solidFill>
                <a:latin typeface="Verdana"/>
              </a:rPr>
              <a:t>identificación, definición o reiteración de los  hechos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0" y="5257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La aplicación de tecnología para proyectos tradicionales no conduce necesariamente a un mayor aprendizaje de los estudiant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CB68-3927-44CA-A286-A4541C2A6F8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l conocimiento experto es organizado… Su conocimiento no es simplemente una lista de hechos y fórmulas que son relevantes para el dominio, en cambio, su conocimiento está organizado alrededor de conceptos medulares o ‘grandes ideas’ que guían su pensamiento acerca del dominio.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ransford, J. D.; Brown, A. L. (2000). </a:t>
            </a:r>
            <a:r>
              <a:rPr b="0" i="1" lang="en-US" sz="1200" spc="-1" strike="noStrike">
                <a:solidFill>
                  <a:srgbClr val="ffffff"/>
                </a:solidFill>
                <a:latin typeface="Verdana"/>
              </a:rPr>
              <a:t>How People Learn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. Washington, D. C. National Research Council, p. 24. Disponible en línea en: </a:t>
            </a:r>
            <a:r>
              <a:rPr b="0" lang="en-US" sz="12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http://www.eduteka.org/ComoAprendeLaGente.php3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Verdana"/>
              </a:rPr>
              <a:t>"La tecnología es más poderosa cuando se utiliza como una herramienta para la resolución de problemas, desarrollo conceptual, y el pensamiento crítico. Gracias a la tecnología, los estudiantes pueden pasar más tiempo… la creación de estrategias destinadas a resolver problemas complejos y el desarrollo de un profundo conocimiento de la materia."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ingstaff, C. &amp; Kelley, L. (2002).“The Learning Return on our Educational Technology Investment.” CA: San Francisco. WestEd. Disponible en línea en: </a:t>
            </a:r>
            <a:r>
              <a:rPr b="0" lang="en-US" sz="1200" spc="-1" strike="noStrike" u="sng">
                <a:solidFill>
                  <a:srgbClr val="ccecff"/>
                </a:solidFill>
                <a:uFillTx/>
                <a:latin typeface="Verdana"/>
                <a:hlinkClick r:id="rId2"/>
              </a:rPr>
              <a:t>http://www.wested.org/online_pubs/learning_return.pdf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(solo en idioma inglés). Puede ver un resumen en idioma español en: </a:t>
            </a:r>
            <a:r>
              <a:rPr b="0" lang="en-US" sz="1200" spc="-1" strike="noStrike" u="sng">
                <a:solidFill>
                  <a:srgbClr val="ccecff"/>
                </a:solidFill>
                <a:uFillTx/>
                <a:latin typeface="Verdana"/>
                <a:hlinkClick r:id="rId3"/>
              </a:rPr>
              <a:t>http://www.eduteka.org/TemaApoyo.php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¿Por qué debemos usar las preguntas  orientadoras del currículo en nuestra unidad?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(cont.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9743-4393-43E4-8708-247B1108E35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Enfrentándos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al “Sí, pero…”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Tengo que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</a:rPr>
              <a:t>enseñar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para el examen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ara ser competentes, los estudiantes deb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 Disponer de sólidas bases en conocimiento enciclopédic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 Comprender los hechos y las ideas dentro de un marco conceptu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rganizar el conocimiento de modo que se facilite su recuperación y aplicació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as preguntas orientadoras permiten profundizar en la comprensión de los materi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vez de enfocarse en actividades “sin sentido” y en una “cobertura superficial”, concéntrese en metas relacionadas con grandes ideas y ejecuciones complej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Tomado de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Understanding by Design Worksho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4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EC98-A7A2-4DCC-A8D9-F84262AE120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Que NO es una pregunta esencial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No puede ser respondida con una respuesta </a:t>
            </a:r>
            <a:r>
              <a:rPr b="0" i="1" lang="es-CR" sz="2000" spc="-1" strike="noStrike">
                <a:solidFill>
                  <a:srgbClr val="ffffff"/>
                </a:solidFill>
                <a:latin typeface="Verdana"/>
              </a:rPr>
              <a:t>Sí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i="1" lang="es-CR" sz="2000" spc="-1" strike="noStrike">
                <a:solidFill>
                  <a:srgbClr val="ffffff"/>
                </a:solidFill>
                <a:latin typeface="Verdana"/>
              </a:rPr>
              <a:t>No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No puede ser respondida por medio de una copia o parafraseando otras fuen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No puede ser respondida con hechos que contengan simples relaciones o sea familia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3048120"/>
          <a:ext cx="8236080" cy="2419200"/>
        </p:xfrm>
        <a:graphic>
          <a:graphicData uri="http://schemas.openxmlformats.org/drawingml/2006/table">
            <a:tbl>
              <a:tblPr/>
              <a:tblGrid>
                <a:gridCol w="4114800"/>
                <a:gridCol w="4121280"/>
              </a:tblGrid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en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esen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Por qué nos gustan los animale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Qué necesitan hacer los animales para vivir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Por qué somos diferentes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es la vida en otros paíse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lo por el hecho de que podemos, ¿debemos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Cuáles son las implicaciones de la ingeniería genética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C494-0B3C-484D-877A-2FAE28CFC5E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¿Cuál es la diferencia entre la pregunta esencial y las de unidad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No es la pregunta la que define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</a:rPr>
              <a:t>per se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cuando es esencial o de unidad, sino como usted la utili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81080" indent="-18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as preguntas: “¿Qué se necesita para cambiar el mundo?” o “¿Cómo los conflictos producen cambio?” Pueden ser utilizadas individualmente, tanto como una pregunta esencial, así como de unidad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8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 Será una pregunta esencial si es utilizada como una pregunta guía durante todo el año en una clase de Estudios Sociales que cubre unidades, tales como: La conquista, la Revolución Industrial, la Segunda Guerra Mund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8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 Será una pregunta esencial si es utilizada en aulas interdisciplinarias o en aulas donde se discuten simultáneamente distintas facetas de la misma pregunta, tal como en Artes del lenguaje y Estudios Socia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8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 Será una pregunta de unidad si es utilizada solamente dentro de una unidad específica, como en Evolu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3B03-83E6-4BF6-A4F7-AC4863816A7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¿Cómo distintas preguntas de unidad respaldan una única pregunta esencial en una clase?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4 Imagen" descr="p2_B.jpg"/>
          <p:cNvPicPr/>
          <p:nvPr/>
        </p:nvPicPr>
        <p:blipFill>
          <a:blip r:embed="rId1"/>
          <a:stretch/>
        </p:blipFill>
        <p:spPr>
          <a:xfrm>
            <a:off x="990720" y="1828800"/>
            <a:ext cx="70959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A7F6-22D8-40F7-A79E-A639D935C17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Pistas para redactar preguntas esenciales y de unid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Genere usted mismo las preguntas y luego trabaje con otros docentes o sus propios estudiantes para refinarl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1905120"/>
            <a:ext cx="9144000" cy="42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La pregunta esencial y las de unidad tienden a ser más del tipo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cóm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 y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por qué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, que aquellas que empiezan con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qué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quién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 o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cuán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- Manténgase apartado de las preguntas que invitan a proferir definiciones o a la comprensión de procesos “simples”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Pregúntese a sí mismo si la pregunta tiene, básicamente, solo una o un grupo limitado de respuestas correctas. Si es así, no es una pregunta esencial o de un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- ¿Cuál es el ciclo de vida de las rana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- ¿Quién fue Mozar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Las preguntas requieren que los estudiantes reflexionen evalúen analicen, sinteticen  el sujeto de la materia. </a:t>
            </a:r>
            <a:br>
              <a:rPr sz="2000"/>
            </a:b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R" sz="1800" spc="-1" strike="noStrike">
                <a:solidFill>
                  <a:srgbClr val="ffffff"/>
                </a:solidFill>
                <a:latin typeface="Verdana"/>
              </a:rPr>
              <a:t>- ¿Los estudiantes necesitan para tener tiempo para responder a las preguntas así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012C-5E61-4639-81CE-6F6B2CDE154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Pistas para redactar preguntas esenciales y de unid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No solo sencillos, sino importantes consejos prácticos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iense acerca del por qué es importante impartir ese tema. Piense en torno a las  cautivantes preguntas que los estudiosos se han planteado a lo largo del tiempo. ¿Cómo han adquirido los seres humanos el conocimiento que ahora les queremos impartir a nuestros estudiante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- ¿Por qué el universo es del modo que 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¿Cómo se ajusta este tema al “mundo real”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¿Cuáles relaciones puede establecer con la vida de los estudiant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- ¿Qué hace que 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mi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uerpo funcione?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- ¿Qué puedo hacer para mantener mi cuerpo fuerte y saludabl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Si lo prefiere, escriba la pregunta en lenguaje adulto y luego adáptela al lenguaje de los estudiantes 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48:59Z</dcterms:created>
  <dc:creator>Judi Yost</dc:creator>
  <dc:description/>
  <dc:language>en-US</dc:language>
  <cp:lastModifiedBy>Jacqueline</cp:lastModifiedBy>
  <dcterms:modified xsi:type="dcterms:W3CDTF">2008-05-15T03:26:59Z</dcterms:modified>
  <cp:revision>216</cp:revision>
  <dc:subject/>
  <dc:title>Why Essential Questions?</dc:title>
</cp:coreProperties>
</file>