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  <p:custShowLst>
    <p:custShow name="Custom Show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15D5-1799-44A3-922A-8B2805C8C8AB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AAE2-0344-45F9-A7C8-BDAB96A020C0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C858-8CB8-41E0-88E8-2140CD97E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E9B1-0B12-49EB-8D3C-8E4AEB318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09AA-2268-48B4-BB6F-8B601C620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C5BA-354B-40A0-A063-5C09873F5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3D13-5B0C-400F-AC8C-20C4F2DCE3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32F0-ED10-4ABD-B684-3E03B05B9D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E80C-C115-46E8-B78B-28AF523EDE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175B-40D5-4877-A463-B65AF40EF2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584B-B78B-414F-AD69-E228458B2B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5B07-746A-4B38-95C1-CB68A5EC73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8601-CFB5-47DA-83D1-7FDC5F750E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7C5B-3F6C-42A9-9BBB-C976181EF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AF6E-5802-46B0-AA44-8EAB067311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1852-FAA3-47BD-A055-9F276A9D85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23B1-9775-4DB1-8B7E-A08E727774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7F35-5ABF-411A-B6FD-226E107A82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3A23-D06F-4BBB-A063-A56B34EB49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868F-59BC-4FA2-943B-8A0A8FBF36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460B-40FB-45D5-B70A-3F4582487D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AF71-9DEB-45D9-B377-52C7D9B33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DB71-FB35-4A37-B40B-D843F8017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034B-6B0F-4FEC-B3D8-DD6366549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522F-BE21-4B7D-9C2F-D6FFAFE89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E5A2-861A-4D6C-8796-15C1E6EF0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579B-2BFA-45B6-BCFC-DB3802AEDE6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5D79-C18A-455C-8E46-448CC12B6A5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6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966960" y="6350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Derechos de autor © 2008, Corporación Intel. Todos los derechos reservados. Intel, el logo de la Iniciativa Intel Educación y el Programa Intel Educar son marcas registradas de la Corporación Intel en los Estados Unidos y otros países.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*Otros nombres y marcas pueden ser reclamadas como propiedad de tercero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intelEDU_4c_lrg [Converted]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PPT_pic copy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66960" y="6350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Derechos de autor © 2008, Corporación Intel. Todos los derechos reservados. Intel, el logo de la Iniciativa Intel Educación y el Programa Intel Educar son marcas registradas de la Corporación Intel en los Estados Unidos y otros países.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*Otros nombres y marcas pueden ser reclamadas como propiedad de tercero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57200" y="5486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Verdana"/>
              </a:rPr>
              <a:t>Preguntas orientadoras del currículo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2A29-B098-4FE5-A70A-4D887A540DC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Preguntas de conteni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Tiene un limitado  grupo de respuestas correctas, respuestas basadas en hech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 menudo se refieren a definiciones,  identificaciones y, en general, a la recodar información (ejemplo: las preguntas se encuentran en una prueb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yudan a responder a las preguntas unid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99"/>
                </a:solidFill>
                <a:latin typeface="Verdana"/>
              </a:rPr>
              <a:t>Ejemplos:</a:t>
            </a:r>
            <a:r>
              <a:rPr b="0" i="1" lang="es-C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ffffff"/>
                </a:solidFill>
                <a:latin typeface="Verdana"/>
              </a:rPr>
              <a:t>PE:  ¿Por qué necesitamos de los otro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</a:rPr>
              <a:t>PU: </a:t>
            </a:r>
            <a:r>
              <a:rPr b="1" i="1" lang="es-CR" sz="1800" spc="-1" strike="noStrike">
                <a:solidFill>
                  <a:srgbClr val="ffffff"/>
                </a:solidFill>
                <a:latin typeface="Verdana"/>
              </a:rPr>
              <a:t>¿Cuál de nuestros ayudantes comunitarios es el más importante?  O ¿Cuál ayudante comunitario le gustaría se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99"/>
                </a:solidFill>
                <a:latin typeface="Verdana"/>
              </a:rPr>
              <a:t>CQ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Quienes son algunos de los ayudantes comunitario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Qué hace un ayudante comunitario?</a:t>
            </a:r>
            <a:r>
              <a:rPr b="1" i="1" lang="es-CR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DB34-FF35-4D69-B419-13F4B69A6C3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¿Cuál es la diferencia entre una pregunta esencial y una pregunta de contenido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4313160"/>
        </p:xfrm>
        <a:graphic>
          <a:graphicData uri="http://schemas.openxmlformats.org/drawingml/2006/table">
            <a:tbl>
              <a:tblPr/>
              <a:tblGrid>
                <a:gridCol w="4037040"/>
                <a:gridCol w="4192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 esen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s de contenido basadas en un hecho de “una” sola respues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el arte refleja la cultura o la cambia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 arte ¿Qué es el renacimiento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prospera un organismo en su entorno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uál es el ciclo de vida de la rana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un conflicto produce un cambio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uál es el conflicto en la historia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Por qué cambian las ley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se forman las ley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Es la Historia una historia del progreso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Quién es un inventor importante y qué -él o ella- inventó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4EBD-F84F-4D56-9C8B-71BA4B142DC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146"/>
          <p:cNvSpPr/>
          <p:nvPr/>
        </p:nvSpPr>
        <p:spPr>
          <a:xfrm>
            <a:off x="22860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¿De qué maneras apoyan las preguntas de contenido, de unidad y la esencial al aprendizaj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6320" y="1371600"/>
          <a:ext cx="9067680" cy="4632480"/>
        </p:xfrm>
        <a:graphic>
          <a:graphicData uri="http://schemas.openxmlformats.org/drawingml/2006/table">
            <a:tbl>
              <a:tblPr/>
              <a:tblGrid>
                <a:gridCol w="1930320"/>
                <a:gridCol w="7137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jemplo de estánd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ncepto 3: Organismos y medio ambie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mprender las relaciones entre varios organismos y su medio ambient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jemplo del obje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os estudiantes serán capaces de identificar un ecosistema y explicar como los organismos dentro de un ecosistema están conectados y son interdependient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s de conteni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- ¿Cómo recolecto información y la despliego en un gráfico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- ¿Cuáles animales urbanos hay ahí y qué necesitan para sobrevivir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s de un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puede la fauna urbana y los humanos convivir juntos de manera armonios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 esen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podemos todos llevarnos bie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tilizando información actual sobre las lesiones infringidas a la vida silvestre, tomadas de un refugio de vida silvestre local, los estudiantes aprenden cuales especies animales han sido lesionadas, las causas de las lesiones y los efectos de la reducción de la fauna urbana. Aportan recomendaciones para la reducción de las causas de lesiones provocadas por humanos a la asociación ornitológica local, la sociedad humanitaria, las asociaciones de vecinos y a otros grupos interesados. Al final de cada presentación pública, los estudiantes reúnen las impresiones de los asistentes a los datos mostrados y publican sus hallazgos e ideas en un boletín informativo para el públic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484200" y="6415200"/>
            <a:ext cx="6451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70c0"/>
                </a:solidFill>
                <a:latin typeface="Verdana"/>
              </a:rPr>
              <a:t>Los programas de Intel Educación son financiados por la Fundación Intel y la Corporación Intel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70c0"/>
                </a:solidFill>
                <a:latin typeface="Verdana"/>
              </a:rPr>
              <a:t>Derechos de autor © 2007, Corporación Intel. Todos los derechos reservados. Intel e Intel </a:t>
            </a:r>
            <a:r>
              <a:rPr b="0" lang="en-US" sz="700" spc="-1" strike="noStrike">
                <a:solidFill>
                  <a:srgbClr val="0070c0"/>
                </a:solidFill>
                <a:latin typeface="Symbol"/>
                <a:ea typeface="Symbol"/>
              </a:rPr>
              <a:t></a:t>
            </a:r>
            <a:r>
              <a:rPr b="0" lang="es-ES_tradnl" sz="700" spc="-1" strike="noStrike">
                <a:solidFill>
                  <a:srgbClr val="0070c0"/>
                </a:solidFill>
                <a:latin typeface="Verdana"/>
              </a:rPr>
              <a:t> Educación son marcas comerciales o marcas registradas de la Corporación Intel o sus subsidiarias en los Estados Unidos y otros países. *Otros nombres y marcas pueden ser reclamadas como propiedad de tercero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E321-EFD1-4A29-8830-783F08121E6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Hacer preguntas es contagios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romueve el aprendizaje auténtico, lo que insta a que los estudiantes hagan más pregunt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Los estudiantes tienen mayor posibilidad de convertirse en aprendices autónomos, porque están interesados en las respuest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Los estudiantes ven las relaciones entre la materia aprendida y su mundo, esto puede cambiar toda su perspectiva de lo que se trata la educació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9E5D-07AF-4195-93D7-5CCAE06310B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Verdana"/>
              </a:rPr>
              <a:t>Las preguntas orientadoras del currículo incluyen las preguntas esenciales, de unidad y de contenido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tratar las destrezas de pensamiento de orden superi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instar a la comparación, síntesis, interpretación y la evaluación, entre otros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asegurarse que los proyectos de los estudiantes sean persuasivos y cautivan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instar a algo más que una simple reafirmación de los hech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enfocarse en temas importan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relacionar el aprendizaje con otras disciplinas y temas de estud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hacer preguntas que han sido planteadas a lo largo de la historia de la human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tratar las preguntas interesantes que hacen los estudian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80880" y="1295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Verdana"/>
              </a:rPr>
              <a:t>¿Por qué utilizar preguntas orientadoras del currículo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DAE5-5BC1-45A2-A6C1-1EB40D07584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Preguntas esenciales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Son amplias y abierta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Tratan de grandes ideas y conceptos durader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Son cautivadoras y significativ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laman a la curiosid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Plantean un desafío razon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Requieren destrezas de pensamiento de orden superi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Poseen respuestas que no pueden ser encontradas en un lib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 menudo entrecruzan disciplinas y ayudan a que los estudiantes vean cómo se relacionan las materias entre s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99"/>
                </a:solidFill>
                <a:latin typeface="Verdana"/>
              </a:rPr>
              <a:t>Ejemplo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E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Por qué necesitamos unos de otro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6E0C-E634-4A00-A2CC-2C470091950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¿De qué manera ayudan las preguntas esenciales a los docentes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yudan a que los docentes se concentren en los temas importantes de sus currículos anuales y llevan un sentido interdisciplinar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nen en relieve preguntas importantes que son comunes a distintas asignaturas (Matemática, Ciencias, Literatura, Historia, entre otras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 centran en torno a asuntos trascendentales, problemas, inquietudes, intereses o temas que también surgen en otras unidad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868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7993-0D9C-4E9F-A77E-93A2CF5A7D2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¿Cómo ayudan las preguntas esenciales a los estudiantes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as preguntas esenciales ponen en relieve y se centran en el estudio de eventos y tópicos a lo largo de un proyecto o curso que de otro modo pareciera arbitrario o inconex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Ocupan la imaginación del estudiante y relacionan al sujeto con sus propias experiencias e ide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o existe una única y obvia respuesta “correcta”, de modo que los estudiantes son desafiados a explorar muchas posibilidad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mueven las discusiones profundas y preparan el escenario para fomentar el cuestionamien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yudan a que los estudiantes comparen, contrasten y hagan analogí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199F-37AE-4FF3-9CCF-691ABFAFE5A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Preguntas de unidad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Son preguntas abiertas que se enlazan directamente a un proyecto o un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Plantean un desafío razon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Requieren  destrezas de pensamiento de orden superi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yudan a los estudiantes a construir sus propias respuestas y su propio significado de la información obtenida por ell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poyan la pregunta esenc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99"/>
                </a:solidFill>
                <a:latin typeface="Verdana"/>
              </a:rPr>
              <a:t>Ejemplos:</a:t>
            </a:r>
            <a:r>
              <a:rPr b="1" i="1" lang="es-CR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ff"/>
                </a:solidFill>
                <a:latin typeface="Verdana"/>
              </a:rPr>
              <a:t>PE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ff"/>
                </a:solidFill>
                <a:latin typeface="Verdana"/>
              </a:rPr>
              <a:t>¿Por qué necesitamos de los otro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99"/>
                </a:solidFill>
                <a:latin typeface="Verdana"/>
              </a:rPr>
              <a:t>PU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18960" indent="-318960"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Cuál de nuestros ayudantes comunitarios es el más important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18960" indent="-318960"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Cuál ayudante comunitario le gustaría ser?</a:t>
            </a:r>
            <a:r>
              <a:rPr b="1" i="1" lang="es-CR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B397-6FF6-41F2-875C-45E88C7B8C5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¿Cómo las preguntas de unidad ayudan a la pregunta esencial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419720"/>
        </p:xfrm>
        <a:graphic>
          <a:graphicData uri="http://schemas.openxmlformats.org/drawingml/2006/table">
            <a:tbl>
              <a:tblPr/>
              <a:tblGrid>
                <a:gridCol w="3884760"/>
                <a:gridCol w="434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 esen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s de un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puede la matemática ayudarme a comprender el mundo que me rode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Para qué sirven los fractales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Por qué las novelas han sido siempre importantes a lo largo de la histori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Por qué todavía leemos a Cervantes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De qué manera la obra de Cervantes es relevante para mi vid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el arte refleja o cambia la sociedad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el arte impresionista refleja la vida hacia finales de 1800?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el arte contemporáneo refleja su vida y cultur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Qué se necesita para cambiar el mundo?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repercutieron las acciones de Simón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Bolívar</a:t>
                      </a: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en América Latina hace ya más de 150 años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las acciones y pensamiento de Simón Bolívar inciden hoy en su vid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1C4-A27C-4EAC-A364-14F6631C50B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Verdana"/>
              </a:rPr>
              <a:t>Equipos de docentes de diferentes disciplinas pueden usar sus propias preguntas de unidad apoyados en una pregunta esencia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47 Imagen" descr="Imagen2.jpg"/>
          <p:cNvPicPr/>
          <p:nvPr/>
        </p:nvPicPr>
        <p:blipFill>
          <a:blip r:embed="rId1"/>
          <a:stretch/>
        </p:blipFill>
        <p:spPr>
          <a:xfrm>
            <a:off x="1066680" y="2209680"/>
            <a:ext cx="7096320" cy="362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Jacqueline</cp:lastModifiedBy>
  <dcterms:modified xsi:type="dcterms:W3CDTF">2008-05-15T03:18:53Z</dcterms:modified>
  <cp:revision>227</cp:revision>
  <dc:subject/>
  <dc:title>Why Essential Questions?</dc:title>
</cp:coreProperties>
</file>