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5F23-0819-479C-AB58-F80B7B1C8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62E1-F65E-462A-9944-05D28306B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AC49-38C0-4B6F-9FD9-962299A5A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PlaceHolder 1"/>
          <p:cNvSpPr>
            <a:spLocks noGrp="1"/>
          </p:cNvSpPr>
          <p:nvPr>
            <p:ph type="sldImg"/>
          </p:nvPr>
        </p:nvSpPr>
        <p:spPr>
          <a:xfrm>
            <a:off x="1152360" y="692280"/>
            <a:ext cx="455472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C5BEF-FB0E-4082-B8DF-6930E286FD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39F5A0D9-F850-43CD-9CAF-F27DF04C7E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AE294630-5A16-43CD-B1B0-AB2CBED23E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6E0CAD1C-8F1E-4ADC-A9F3-E217AEC039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F937D402-58A2-4FC4-88C6-A93DC5D98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83FD445-E9FD-4657-8E0D-892F164723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18469226-7CE6-4656-9848-4FCC195ABE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EA667B6A-F781-4495-91D4-DAFB21999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ACDBF917-C247-42AB-AC98-619BCB1B79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27F477A3-18CD-44A9-8DD3-78EAA6D3C7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5B2C7E54-AA94-4EF5-8A44-549F970DCF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B5B678C6-E843-41B6-BB59-B8ACEA29EC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C8E1-6506-4505-B86B-F358AAF155E5}"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BC0C0E9E-C05B-4D80-B7B1-41AD846ACF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7776E98C-5841-4540-80EE-4C4528F7CA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7F8001D-6940-4275-B153-7E68434EA2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C240662D-1A14-449D-8741-1A31F5A647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4297F154-E877-4826-A1E4-197085EBF7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A998840C-ACCD-486E-87CC-3BAAA4A288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2"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03A53948-B6D3-4686-A0B7-9EC626A7A8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4"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5BC0D77-DE3F-44FA-9FB2-B8EB34DB38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C90EDF0-4C7B-46D2-8764-DA13DA710F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2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800376D2-AAC7-47D8-9C51-B7B6EDAEEA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454B4B6-C24E-452B-881E-54F3951A07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948BA564-1E5E-4E67-8508-81C5BD85E7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2" name=""/>
          <p:cNvGrpSpPr/>
          <p:nvPr/>
        </p:nvGrpSpPr>
        <p:grpSpPr>
          <a:xfrm>
            <a:off x="304920" y="1447920"/>
            <a:ext cx="8237520" cy="3580920"/>
            <a:chOff x="304920" y="1447920"/>
            <a:chExt cx="8237520" cy="3580920"/>
          </a:xfrm>
        </p:grpSpPr>
        <p:sp>
          <p:nvSpPr>
            <p:cNvPr id="13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6" name=""/>
            <p:cNvGrpSpPr/>
            <p:nvPr/>
          </p:nvGrpSpPr>
          <p:grpSpPr>
            <a:xfrm>
              <a:off x="304920" y="1447920"/>
              <a:ext cx="8237520" cy="3580560"/>
              <a:chOff x="304920" y="1447920"/>
              <a:chExt cx="8237520" cy="3580560"/>
            </a:xfrm>
          </p:grpSpPr>
          <p:sp>
            <p:nvSpPr>
              <p:cNvPr id="13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FD719F36-E78C-4FD1-8FDE-4D167C06DE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E327255E-9777-401D-9F3E-DC99730988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783D8E22-26E8-4555-BD1B-9642677175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EF42F26F-70FC-4EA6-A20C-B41E5E934F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0"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75D3480-32ED-4F27-B14D-7D82D33D51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FA2A865-A307-4C4B-A71B-65FC732FF3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A9EFE44A-89F5-4211-909E-21F48A92ED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6"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EF303245-70FA-4E59-8F28-9D669EC2B1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0580CAEB-FACB-4B7A-81DA-D18484848F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50DEA830-005A-4BCC-BAB3-5629EE5422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0" name=""/>
          <p:cNvGrpSpPr/>
          <p:nvPr/>
        </p:nvGrpSpPr>
        <p:grpSpPr>
          <a:xfrm>
            <a:off x="304920" y="1447920"/>
            <a:ext cx="8237520" cy="3580920"/>
            <a:chOff x="304920" y="1447920"/>
            <a:chExt cx="8237520" cy="3580920"/>
          </a:xfrm>
        </p:grpSpPr>
        <p:sp>
          <p:nvSpPr>
            <p:cNvPr id="161"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2"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3"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4" name=""/>
            <p:cNvGrpSpPr/>
            <p:nvPr/>
          </p:nvGrpSpPr>
          <p:grpSpPr>
            <a:xfrm>
              <a:off x="304920" y="1447920"/>
              <a:ext cx="8237520" cy="3580560"/>
              <a:chOff x="304920" y="1447920"/>
              <a:chExt cx="8237520" cy="3580560"/>
            </a:xfrm>
          </p:grpSpPr>
          <p:sp>
            <p:nvSpPr>
              <p:cNvPr id="165"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87210723-8A71-443B-9975-D50B4D9132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2" name=""/>
          <p:cNvGrpSpPr/>
          <p:nvPr/>
        </p:nvGrpSpPr>
        <p:grpSpPr>
          <a:xfrm>
            <a:off x="304920" y="1447920"/>
            <a:ext cx="8237520" cy="3580920"/>
            <a:chOff x="304920" y="1447920"/>
            <a:chExt cx="8237520" cy="3580920"/>
          </a:xfrm>
        </p:grpSpPr>
        <p:sp>
          <p:nvSpPr>
            <p:cNvPr id="17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or Master Teachers:</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Facilitation Guid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earning to Facilitate</a:t>
              </a:r>
              <a:endParaRPr b="0" lang="en-US" sz="2000" spc="-1" strike="noStrike">
                <a:solidFill>
                  <a:srgbClr val="ffffff"/>
                </a:solidFill>
                <a:latin typeface="Times New Roman"/>
              </a:endParaRPr>
            </a:p>
          </p:txBody>
        </p:sp>
        <p:sp>
          <p:nvSpPr>
            <p:cNvPr id="17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6" name=""/>
            <p:cNvGrpSpPr/>
            <p:nvPr/>
          </p:nvGrpSpPr>
          <p:grpSpPr>
            <a:xfrm>
              <a:off x="304920" y="1447920"/>
              <a:ext cx="8237520" cy="3580560"/>
              <a:chOff x="304920" y="1447920"/>
              <a:chExt cx="8237520" cy="3580560"/>
            </a:xfrm>
          </p:grpSpPr>
          <p:sp>
            <p:nvSpPr>
              <p:cNvPr id="17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111BA0FA-968F-4A41-B034-C33DBFC231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623BBFD5-36A0-4905-99BC-B5DA4D3509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BE6E5924-0560-47B2-91EA-DAC0D02515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Guid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D43F26B7-0FD8-4FFA-959B-4D6024E3EB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FFAD72D-6181-4AF7-B380-8837F0BEEFD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17600" y="1908000"/>
            <a:ext cx="4953240" cy="2475000"/>
          </a:xfrm>
          <a:prstGeom prst="rect">
            <a:avLst/>
          </a:prstGeom>
          <a:ln w="0">
            <a:noFill/>
          </a:ln>
        </p:spPr>
      </p:pic>
      <p:sp>
        <p:nvSpPr>
          <p:cNvPr id="192"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A9CF5199-0E37-46BF-AEE8-763D8A0912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DDED0B04-9CD5-4531-8E6F-7DB6284E8B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B62E2D9A-A8D4-46DE-B323-3FF47479F7A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F8A43241-0B16-4F79-9F9F-3D6C3C61BB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E4C2E852-E188-4958-A567-F852A015E2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4ECB826-5E64-43ED-A4B5-829B5760CD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7D091628-0BA8-445E-8DCA-E45133C385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5CD323B-3119-4598-ADFE-761FD4AA70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AA06E2C-D49F-48E8-99FA-5152E46FFF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D72C8FE-EF3E-4D40-8313-33E9426029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5-08T22:47:05Z</dcterms:modified>
  <cp:revision>543</cp:revision>
  <dc:subject/>
  <dc:title>Module 1</dc:title>
</cp:coreProperties>
</file>