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7DF-B611-435B-BC79-A4A9C8E9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068-BD11-4ED5-B2F5-59F96BCE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5B0-79D7-4465-9E35-B1E986C4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AE9-6148-423E-97B3-80A7C456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D87-7165-4C6B-A35E-70EBA8BD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BEE-D110-4985-A8CF-1057433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08B-86B0-490A-A85F-50F7F30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E2A-B4F5-4791-8283-366CEBE5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BE8-1128-4BA7-AB1A-1E9623A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01F-C9A9-4B6B-B3F5-25F4969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EE1-DE34-4849-AD72-9EE5D58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391-A53D-493A-8D9D-BD33EB2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533-22D9-41FA-9695-E0D734FCA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รองเท้าทำให้ </a:t>
            </a:r>
            <a:r>
              <a:rPr b="0" lang="en-US" sz="4400" spc="-1" strike="noStrike">
                <a:solidFill>
                  <a:srgbClr val="ff99cc"/>
                </a:solidFill>
                <a:latin typeface="Arial"/>
                <a:ea typeface="Angsana New"/>
              </a:rPr>
              <a:t>“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อยู่ด้วยกันอย่างมีความสุขตลอดไป</a:t>
            </a:r>
            <a:r>
              <a:rPr b="0" lang="en-US" sz="4400" spc="-1" strike="noStrike">
                <a:solidFill>
                  <a:srgbClr val="ff99cc"/>
                </a:solidFill>
                <a:latin typeface="Arial"/>
                <a:ea typeface="Angsana New"/>
              </a:rPr>
              <a:t>” 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แตกต่างกั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</a:t>
            </a:r>
            <a:r>
              <a:rPr b="0" i="1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นิทานเรื่องซินเดอเรลล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และเซนดริลลอน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ngsana New"/>
              </a:rPr>
              <a:t>…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ngsana Ne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Arial"/>
                <a:cs typeface="Angsana New"/>
              </a:rPr>
              <a:t>จะเป็นอย่างไรถ้าซินเดอเรลลา และเซนดริลลอนไม่ได้ทิ้งรองเท้าไว้ที่งานเลี้ย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เจ้าชายและพอลจะไม่รู้ว่าจะหาตัวทั้งสองคนได้อย่างไร และจะไม่เกิด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ngsana New"/>
              </a:rPr>
              <a:t>“</a:t>
            </a: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ล้วเราก็อยู่ด้วยกันอย่างมีความสุขตลอดไ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158760" y="3521160"/>
            <a:ext cx="34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แก้วของซินเดอเรลล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5901480" y="3531600"/>
            <a:ext cx="32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รองเท้าสีชมพูของเซนดริลล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รองเท้าพิเศษ มันเป็นส่วนหนึ่งของ</a:t>
            </a:r>
            <a:br>
              <a:rPr sz="4800"/>
            </a:b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ของขวัญที่วิเศษ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  <a:ea typeface="Angsana New"/>
              </a:rPr>
              <a:t>.....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จาก</a:t>
            </a:r>
            <a:r>
              <a:rPr b="0" i="1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ม่ทูลหัว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ของซินเดอเรลลา และจาก </a:t>
            </a:r>
            <a:r>
              <a:rPr b="0" i="1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แนนนิ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 ของเซนดริลล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  <a:cs typeface="Angsana New"/>
              </a:rPr>
              <a:t>เสื้อคลุม รถม้า ม้า คนรับใช้ที่เป็นชาย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  <a:cs typeface="Angsana New"/>
              </a:rPr>
              <a:t>เสื้อสำหรับงานเลี้ยงสวยงาม มันมหัศจรรย์มากที่ทำรถม้าจากผลแตง จากนั้นแม่ทูนหัวเสกคนรับใช้จากหน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12596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352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นิทานเรื่องซินเดอเรลลา และเซนดริลลอน เหมือนกัน แต่ทั้งสองเรื่องมีส่วนที่แตกต่า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99cc"/>
                </a:solidFill>
                <a:latin typeface="Arial"/>
                <a:cs typeface="Angsana New"/>
              </a:rPr>
              <a:t>ส่วนที่แตกต่างในนิทานเรื่องเซนดริลลอ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ิทานเรื่องนี้เกิดขึ้นบนเกาะมาร์ทินิค ไม่ใช่ในยุโร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ัวละครมีชื่อเป็นภาษาฝรั่งเศส และใช้คำในภาษาฝรั่งเศสสำหรับอาหาร เช่น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fruit à pai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มายถึง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breadfru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นนนิน เสก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agouti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ิ้งจก และ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manicou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ให้กลายเป็นม้า รถม้าและคนรับใช้ สัตว์เหล่านี้อาศัยอยู่ในมาร์ทินิค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ผู้คนแต่งกายแตกต่างกัน มีผ้าพันคอทำจากเส้นไหมที่สวยงาม หมวกโพกศีรษะ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(turbans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ละลูกปัดมากมายพร้อมทั้งกำไลข้อม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99cc"/>
                </a:solidFill>
                <a:latin typeface="Arial"/>
                <a:cs typeface="Angsana New"/>
              </a:rPr>
              <a:t>การเพิ่มความแตกต่างของประเทศ ทำให้นิทานน่าสนใจ</a:t>
            </a: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ซินเดอเรลลา และ เซนดริลลอ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เหมื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แตกต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99cc"/>
                </a:solidFill>
                <a:latin typeface="Times New Roman"/>
                <a:cs typeface="Angsana New"/>
              </a:rPr>
              <a:t>แตกต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พี่สาวต่างมารดา และแม่เลี้ยงใจร้า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งานบ้านตลอดเวล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เป็นคนสวย ที่ถ่อมตน – แต่งกายด้วยเสื้อผ้ามอซ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ใจดีมีเมตตา – ตั้งใจจะช่วยแม้แต่พี่สาวต่างมารด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ngsana New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Times New Roman"/>
                <a:cs typeface="Angsana New"/>
              </a:rPr>
              <a:t>อยู่ด้วยกันอย่างมีความสุขตลอดไ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ชุดที่สวมทำจากกำมะหยี่สีฟ้า พร้อมผ้าพันคอรอบคอสีกุหลาบ และผ้าโพกศีรษะที่ประดับด้วยเพชรนิลจินดา </a:t>
            </a: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สีชมพ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งานเลี้ยงวันเกิดของพอ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ชุดแต่งกายสำหรับงานเลี้ยงเหมือนชุดที่พระราชินีสวมและมงกุฎฝังเพช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รองเท้าแก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99ccff"/>
                </a:solidFill>
                <a:latin typeface="Times New Roman"/>
                <a:cs typeface="Angsana New"/>
              </a:rPr>
              <a:t>การเต้นรำจัดขึ้นสำหรับเจ้าช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ซินเดอเรล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cc"/>
                </a:solidFill>
                <a:latin typeface="Times New Roman"/>
                <a:cs typeface="Angsana New"/>
              </a:rPr>
              <a:t>เซนดริลล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สิ่งที่สำคัญที่สุด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ประเด็นของนิทานทั้งสองเรื่องคือ</a:t>
            </a:r>
            <a:r>
              <a:rPr b="0" lang="th-TH" sz="4400" spc="-1" strike="noStrike">
                <a:solidFill>
                  <a:srgbClr val="ff99cc"/>
                </a:solidFill>
                <a:latin typeface="Arial"/>
                <a:ea typeface="Angsana New"/>
              </a:rPr>
              <a:t>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cc"/>
                </a:solidFill>
                <a:latin typeface="Arial"/>
                <a:cs typeface="Angsana New"/>
              </a:rPr>
              <a:t>ความดีของเราจะเอาชนะปัญหาที่รายล้อมได้เสม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ซินเดอเรลล่า และ เซนดริลลอน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มีความสุขที่ได้ช่วยเหลือผู้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ทำงานบ้านทุกอย่างที่แม่เลี้ยงให้ทำ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ด้วยความช่วยเหลือเล็ก ๆ น้อย ๆ จากเพื่อน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มีรอยยิ้มที่นำแสงสว่างมาสู่ในวันที่ฝนต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ใจดีกับทุกคน – ทั้งคนและสัตว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Passara</cp:lastModifiedBy>
  <dcterms:modified xsi:type="dcterms:W3CDTF">2008-03-05T08:57:51Z</dcterms:modified>
  <cp:revision>50</cp:revision>
  <dc:subject/>
  <dc:title>Yes, Shoes Can Make a Difference!</dc:title>
</cp:coreProperties>
</file>