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574-82AC-45AB-A4C1-19EC601F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D31-B5E1-4BED-9B40-0FCC8202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D94-032F-423C-8394-5D07F6BA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7AB-DD97-4828-B352-AD60BA9E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C03-5CDE-4ED9-AFD3-E87C4788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F4D-2BDE-49F1-9CED-76FC105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AE6-9EFF-4A37-870E-E21B2B4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757-0370-47C5-A8C1-23476E82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811-1BF0-4438-9471-089FD3ED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5C1-E7C9-420F-AA3B-0BB204DE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103-882A-4921-A230-F6870E1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A90-7522-4D65-A5A0-990BB166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B50-D5E3-4FB0-869B-F2998DEBD1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6699ff"/>
                </a:solidFill>
                <a:latin typeface="Arial"/>
                <a:cs typeface="Angsana New"/>
              </a:rPr>
              <a:t>การแบ่งแยกเหตุการณ์ในเทพนิยาย</a:t>
            </a:r>
            <a:br>
              <a:rPr sz="4800"/>
            </a:br>
            <a:r>
              <a:rPr b="0" lang="th-TH" sz="4800" spc="-1" strike="noStrike">
                <a:solidFill>
                  <a:srgbClr val="6699ff"/>
                </a:solidFill>
                <a:latin typeface="Arial"/>
                <a:cs typeface="Angsana New"/>
              </a:rPr>
              <a:t>ว่าเป็นแฟนตาซีหรือเป็นจริ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ความแตกต่างระหว่างแฟนตาซี และ ความเป็นจริ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ประโยคใดบอกว่าเหตุการณ์นั้นอาจเกิดขึ้นได้ในชีวิตจริ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เซนดริลลอน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ngsana New"/>
              </a:rPr>
              <a:t>(Cendrillon) </a:t>
            </a: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มีกิ้งก่าอ้วนอยู่ในมื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  <a:cs typeface="Angsana New"/>
              </a:rPr>
              <a:t>กิ้งก่าอ้าปาก และพูดกับเธ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5181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6699ff"/>
                </a:solidFill>
                <a:latin typeface="Arial"/>
                <a:cs typeface="Angsana New"/>
              </a:rPr>
              <a:t>อะไรคือเหตุผลสำหรับการเลือกของเร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Arial"/>
                <a:cs typeface="Angsana New"/>
              </a:rPr>
              <a:t>เซนดริลลอนเป็นการผสมผสา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เหตุการณ์ที่ไม่เคยเกิดขึ้นในชีวิตจริงทำให้เทพนิยายสนุกสนาน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  <a:cs typeface="Angsana New"/>
              </a:rPr>
              <a:t>เหตุการณ์ที่เป็นจริงช่วยให้เราเชื่อมโยงเข้ากับตัวละครในเรื่อง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>
            <a:off x="914400" y="30481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4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1042 -0.13055 L 0.12639 -0.22106 C 0.15087 -0.24143 0.18715 -0.25277 0.22517 -0.25277 C 0.2684 -0.25277 0.30295 -0.24143 0.32743 -0.22106 L 0.44375 -0.13055 E">
                                      <p:cBhvr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ช่วยฉันตัดสินใจเหตุการณ์ในเซนดริลลอ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เหตุการณ์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รายละเอีย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004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แฟนตาซี หร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เรื่องจริ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981080"/>
            <a:ext cx="30481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ฉันรู้ได้อย่างไ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360" y="2530440"/>
            <a:ext cx="864072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คิดว่า จะนำแฟนตาซีและเรื่องจริงมาใช้ในเทพนิยาย</a:t>
            </a:r>
            <a:br>
              <a:rPr sz="4400"/>
            </a:br>
            <a:r>
              <a:rPr b="0" lang="th-TH" sz="4400" spc="-1" strike="noStrike">
                <a:solidFill>
                  <a:srgbClr val="6699ff"/>
                </a:solidFill>
                <a:latin typeface="Arial"/>
                <a:cs typeface="Angsana New"/>
              </a:rPr>
              <a:t>ซินเดอเรลลาเรื่องถัดไปที่คุณอ่านได้อย่างไ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3:58:39Z</dcterms:created>
  <dc:creator> </dc:creator>
  <dc:description/>
  <dc:language>en-US</dc:language>
  <cp:lastModifiedBy>Passara</cp:lastModifiedBy>
  <dcterms:modified xsi:type="dcterms:W3CDTF">2008-03-04T03:07:39Z</dcterms:modified>
  <cp:revision>10</cp:revision>
  <dc:subject/>
  <dc:title>Classifying Fairy Tale Events as Fantasy or Realism</dc:title>
</cp:coreProperties>
</file>