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0C3D-432E-4957-96AA-F88970E17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5120" y="428940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820D-0811-4FCA-BF5B-10BEAA935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6296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D566-6496-4D48-8EFA-B5AF26072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5316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1120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9512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85316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1120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0C9C-4512-4216-8044-CDF95569B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7760" y="457200"/>
            <a:ext cx="2971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73D1-8913-4639-AD50-36D5B0BB2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6296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95120" y="428940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6296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316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1120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9512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5316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81120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AFC9-82C0-4CAC-A23B-C25A74CFC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61AE-EFBA-4C2C-9B3B-537223ADC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0883-6531-4DD2-87A3-E0FED7BAC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7760" y="457200"/>
            <a:ext cx="2971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3A51-CDF7-4462-86AC-0E01FD185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BCD3-1C6E-44F3-AA46-13D2378B7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6296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CC50-D6FB-4A70-B080-D94C32A6D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A1ED-5848-4C62-BB8D-EBE25B1CF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720" y="6400440"/>
            <a:ext cx="83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1EF5-6FFD-497C-AD82-143042018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5032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6397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3975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560" y="2895480"/>
            <a:ext cx="6553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ทัศนคติในเทพนิยา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33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ทัศนคติในศิลป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ในศิลปะเป็นมุมมองจากสิ่งที่คนเราเห็นภาพหรือฉา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มองดูภาพถ่าย แล้วกำหนด 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  <a:ea typeface="Angsana New"/>
              </a:rPr>
              <a:t>“</a:t>
            </a:r>
            <a:r>
              <a:rPr b="0" lang="th-TH" sz="48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มุมมอง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  <a:ea typeface="Angsana New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732480" cy="4953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3713400" cy="4953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705720" y="2133720"/>
            <a:ext cx="2209680" cy="285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783" y="6336"/>
                </a:moveTo>
                <a:lnTo>
                  <a:pt x="-745" y="864"/>
                </a:lnTo>
              </a:path>
              <a:path w="21600" h="21600">
                <a:moveTo>
                  <a:pt x="-745" y="0"/>
                </a:moveTo>
                <a:lnTo>
                  <a:pt x="-745" y="21600"/>
                </a:ln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Arial"/>
                <a:cs typeface="Angsana New"/>
              </a:rPr>
              <a:t>อะไรที่อยู่ไกลเกินกว่าต้นไม้สีเขียวที่อยู่ด้านหน้าของภา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มุมมองใหม่ในภาพถ่า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ทัศนคติในเรื่องก็เช่นเดียวกับมุมมองในภาพถ่า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มุมมองที่แตกต่างในภาพ ให้วิธีใหม่ในการคิดเกี่ยวกับเรื่องนั้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มุมมองในวรรณกรร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95480" y="1980720"/>
            <a:ext cx="6019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ในวรรณกรรม ทัศนคติเป็นมุมมองซึ่งผู้อ่านเชื่อมโยงกับเรื่อง – โดยทั่วไปเป็นคนที่เล่าเรื่องนั้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ในเซนดริลลอน เรารู้ว่าคนที่เล่าเรื่องคือ แนนนิน ซึ่งเป็นแม่ทูนหัวของเซนดริลลอ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คนที่เล่านิทา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95480" y="19807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มีตัวละครที่เชื่อมโยงเหตุการณ์ทำให้นิทานมีความเป็นส่วนตัวมากขึ้น และช่วยให้ผู้อ่านรู้สึกมีส่วนเกี่ยวข้อ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แม่ทูนหัวของเซนดริลลอน สามารถมองเห็นสิ่งต่าง ๆ จากความเข้าใจของเธอเอ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ยกตัวอย่างเช่น เธอไม่รู้ความคิดของเซนดริลลอน แต่เธอสามารถบอกได้ว่าเซนดริลลอนคิดอะไรจากการกระทำและคำพู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เกิดอะไรขึ้นเมื่อทัศนคติเปลี่ย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จะเป็นอย่างไร ถ้ามาดามพรอสเพอไรน์ แม่เลี้ยงเป็นผู้เล่าเรื่อ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จะเป็นอย่างไร ถ้าพอลเล่าเรื่อ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ทางเลือกของทัศนคติอื่น 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นิทานจะเปลี่ยนไปอย่างไร ถ้าคนที่รู้เรื่องที่อยู่แดนไกลเป็นคนเล่าเรื่อง คนคนนี้เรียกว่าคนเล่าเรื่องคนที่สา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จะเป็นอย่างไรถ้าเราในฐานะ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Angsana New"/>
              </a:rPr>
              <a:t>“</a:t>
            </a:r>
            <a:r>
              <a:rPr b="0" lang="th-TH" sz="32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ฉัน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Angsana New"/>
              </a:rPr>
              <a:t>” </a:t>
            </a:r>
            <a:r>
              <a:rPr b="0" lang="th-TH" sz="32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เป็นคนเล่านิทาน นิทานจะเปลี่ยนไปอย่างไร คนคนนี้เรียกว่าคนเล่าเรื่องที่หนึ่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คุณตัดสินใ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เซนดริลลอน</a:t>
            </a: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จะเป็นเทพนิยายที่ดีขึ้นหรือไม่ ถ้าตัวละครคนอื่น ๆ เป็นคนเล่าเรื่อ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imes New Roman"/>
                <a:cs typeface="Angsana New"/>
              </a:rPr>
              <a:t>คิดถึงเรื่องนี้เมื่อคุณเลือกเทพนิยายซินเดอเรลล่าที่จะอ่านเรื่องถัดไ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1:47:06Z</dcterms:created>
  <dc:creator> </dc:creator>
  <dc:description/>
  <dc:language>en-US</dc:language>
  <cp:lastModifiedBy>Passara</cp:lastModifiedBy>
  <dcterms:modified xsi:type="dcterms:W3CDTF">2008-03-04T03:33:43Z</dcterms:modified>
  <cp:revision>15</cp:revision>
  <dc:subject/>
  <dc:title>Point of View in Fairy Tales</dc:title>
</cp:coreProperties>
</file>