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7A5-2AE3-4497-8FC8-7B32B1C4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CAD-A6DD-43A1-B71A-30338E6E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EDC-00C5-429B-858D-351986B1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760-6DE8-43F2-B8FF-64E1B43C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026-9DFF-432D-8DE9-FCC1696D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323-1DB0-4C7C-B705-C73A734D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6F6-14A9-4445-AFD7-EB56D70D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AA5-F48B-4C28-AA65-BBC4E60D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CFF-602F-4675-BA68-BC70060A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8F4-91EF-4D99-9D0A-0248BEB5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3E8-C96A-42F1-A6FE-BF23FC22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0BC-CD0E-471B-B5F1-C119BAE3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C94B-239B-49AD-A77E-9F50F2612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47960" y="4191120"/>
            <a:ext cx="419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r. Fran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Jun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1652760" cy="175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90920" y="3733920"/>
            <a:ext cx="1981080" cy="1704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886200" y="3276720"/>
            <a:ext cx="100476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943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4880" y="2936880"/>
            <a:ext cx="329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457200"/>
            <a:ext cx="5867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เศษส่วนพื้นฐาน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คืออะไ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หมายถึงชิ้นของสิ่งของชนิดใดชนิดหนึ่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ี้คือ ครึ่งหนึ่งของคุกกี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477120" y="2666880"/>
            <a:ext cx="1143000" cy="982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4280" y="3886200"/>
            <a:ext cx="8305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หมายถึงส่วนหนึ่งของกลุ่มของสิ่งขอ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หนึ่งส่วนสาม หรือ หนึ่งชิ้นในสามชิ้นของชอกโกแลตชิพคุ๊กกี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133720" y="5257800"/>
            <a:ext cx="1131840" cy="971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657600" y="5334120"/>
            <a:ext cx="1371600" cy="93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34120" y="5334120"/>
            <a:ext cx="1371600" cy="93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บันทึกเกี่ยวกับเศษส่ว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4572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3581280"/>
            <a:ext cx="1523880" cy="946440"/>
          </a:xfrm>
          <a:prstGeom prst="wedgeRectCallout">
            <a:avLst>
              <a:gd name="adj1" fmla="val -138851"/>
              <a:gd name="adj2" fmla="val 59083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ี่คือ เศ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5638680"/>
            <a:ext cx="1981080" cy="581400"/>
          </a:xfrm>
          <a:prstGeom prst="wedgeRectCallout">
            <a:avLst>
              <a:gd name="adj1" fmla="val 108393"/>
              <a:gd name="adj2" fmla="val -70111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ี่คือ ส่ว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5181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705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คือตัวเลขที่ใช้เรียกส่วนหนึ่งของกลุ่ม หรือส่วนหนึ่งของทั้งหม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581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99ff"/>
                </a:solidFill>
                <a:latin typeface="Arial Rounded MT Bold"/>
                <a:cs typeface="Angsana New"/>
              </a:rPr>
              <a:t>เศษหนึ่งส่วนสี่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ea typeface="Angsana New"/>
              </a:rPr>
              <a:t> เขียนได้ดังนี้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5304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ตัวเลขที่อยู่</a:t>
            </a:r>
            <a:r>
              <a:rPr b="0" lang="th-TH" sz="2400" spc="-1" strike="noStrike" u="sng">
                <a:solidFill>
                  <a:srgbClr val="000000"/>
                </a:solidFill>
                <a:uFillTx/>
                <a:latin typeface="Arial Rounded MT Bold"/>
                <a:cs typeface="Angsana New"/>
              </a:rPr>
              <a:t>ด้านบน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ของเส้น เรียกว่า เศ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ตัวเลขที่อยู่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 Rounded MT Bold"/>
                <a:cs typeface="Angsana New"/>
              </a:rPr>
              <a:t>ด้านล่าง</a:t>
            </a:r>
            <a:r>
              <a:rPr b="0" lang="th-TH" sz="2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ของเส้น เรียกว่า ส่ว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แม่แบบเศษส่ว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เศษส่วนสามารถแสดงเป็นส่วนต่าง ๆ ของวงกล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2406600"/>
            <a:ext cx="1600200" cy="147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5800" y="2406600"/>
            <a:ext cx="1600200" cy="1479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43200" y="2438280"/>
            <a:ext cx="6095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ี่คือ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1/4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ของวงกล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ใน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ที่ถูกระบายสีไว้ ดังนั้นเราจึงเรียกว่า </a:t>
            </a:r>
            <a:r>
              <a:rPr b="0" lang="th-TH" sz="2800" spc="-1" strike="noStrike">
                <a:solidFill>
                  <a:srgbClr val="ff0000"/>
                </a:solidFill>
                <a:latin typeface="Arial Rounded MT Bold"/>
                <a:cs typeface="Angsana New"/>
              </a:rPr>
              <a:t>เศษหนึ่งส่วนสี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หรือ แสดงเป็นส่วนต่าง ๆ ของสี่เหลี่ย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168880" y="4218120"/>
            <a:ext cx="3679920" cy="2639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181480" y="4218120"/>
            <a:ext cx="3679920" cy="2639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510552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นื่คือ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3/4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ของสี่เหลี่ย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ใน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Arial Rounded MT Bold"/>
                <a:cs typeface="Angsana New"/>
              </a:rPr>
              <a:t>ถูกระบายไว้ ดังนั้นเราจึงเรียกว่า เศษสามส่วนสี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21:20:32Z</dcterms:created>
  <dc:creator>Lancer</dc:creator>
  <dc:description/>
  <dc:language>en-US</dc:language>
  <cp:lastModifiedBy>Passara</cp:lastModifiedBy>
  <dcterms:modified xsi:type="dcterms:W3CDTF">2008-04-09T11:27:39Z</dcterms:modified>
  <cp:revision>34</cp:revision>
  <dc:subject/>
  <dc:title>Fraction Basics</dc:title>
</cp:coreProperties>
</file>