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jpeg" ContentType="image/jpeg"/>
  <Override PartName="/ppt/media/image6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CF7-636D-4FEF-82AA-DF833B5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2D3-877E-452B-8DF2-6564C303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091-0BD4-4974-8B15-B1AD1DA0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EEC-26FF-49A8-8F7F-D620EC02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398-BB06-4191-A846-48051517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4E4-D70C-4468-A4EA-3335E2D1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30E-B46A-4A1F-94A0-038A6B9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A23-FA41-4A57-9B3A-8B6B4BE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47A-AC7C-49BD-8520-1D1C6107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A70-C720-4F51-B596-38C6A4C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57E-500D-49AD-B0E5-3904ED8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DB6-91EB-4D72-82E1-56F5ED1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0688-8DD6-4E12-AFD3-51CFFBD1E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ความลึกลับของอาณาจักรมายั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กิดอะไรขึ้นกับอาณาจักรมายั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9960" cy="16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90033"/>
                </a:solidFill>
                <a:latin typeface="Tempus Sans ITC"/>
                <a:cs typeface="Angsana New"/>
              </a:rPr>
              <a:t>สถาปัตยก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วัดที่วิจิตรบรรจงเป็นจำนวนมากเพื่อชบูชาพระเจ้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วัดใหม่บนวัดเก่าที่มีอยู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พระราชวังที่ยิ่งใหญ่ประดับด้วยประติมากรรมให้กับพระมหากษัตริย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ยังสร้างสุสานที่ประดับด้วยคำจารึกสำหรับพระมหากษัตริย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39751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9900"/>
                </a:solidFill>
                <a:latin typeface="Tempus Sans ITC"/>
                <a:cs typeface="Angsana New"/>
              </a:rPr>
              <a:t>วิทยาศาสตร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ควบคุมความรู้ทั้งมว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กำหนดการสังเกตทางดาราศาสตร์เพื่อคำณวนการเคลื่อนที่ของดาวนพเคราะห์และดวงดา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คิดแนวคิดทางคณิตศาสต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สร้างปฏิทินที่ถูกต้องแม่นย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1748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00"/>
                </a:solidFill>
                <a:latin typeface="Tempus Sans ITC"/>
                <a:cs typeface="Angsana New"/>
              </a:rPr>
              <a:t>โครงสร้างทางการเมื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แต่ละเมืองก่อขึ้นด้วยรัฐที่เป็นอิสร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ไม่เคยรวบรวมเมืองต่าง ๆ เข้าเป็นอาณาจั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หลาย ๆ เมืองรวมกันเข้าเป็นพันธมิตรเพื่อการเมืองหรือการค้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44492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8080"/>
                </a:solidFill>
                <a:latin typeface="Tempus Sans ITC"/>
                <a:cs typeface="Angsana New"/>
              </a:rPr>
              <a:t>การ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ขายผลผลิตไปทั่วดินแดน 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Meso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มืองต่าง ๆ แข่งขันซึ่งกันและกันเพื่อครอบครองเส้นทางการค้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ค้าขยายวัฒนธรรมครอบคลุมทั่วภูมิภาคทั้งหม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5608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808000"/>
                </a:solidFill>
                <a:latin typeface="Tempus Sans ITC"/>
                <a:cs typeface="Angsana New"/>
              </a:rPr>
              <a:t>เกษตรก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มีความหลากหลายที่ยิ่งใหญ่ของแหล่งอาหารในภูมิภา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รัฐจัดการและชี้แนะงานทางการเกษตรและผลผล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พัฒนาคลองชลประทานและไร่ยกระดั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มีผลผลิตทางการเกษตรเป็นจำนวนมากเพียงพอที่จะส่งออ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สำเร็จของระบบเกษตรกรรมนำมาซึ่งการเพิ่มขึ้นอย่างรวดเร็วของจำนวนประชาก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8000"/>
                </a:solidFill>
                <a:latin typeface="Tempus Sans ITC"/>
                <a:cs typeface="Angsana New"/>
              </a:rPr>
              <a:t>อย่างไรก็ตาม ระบบการเกษตรล้มเหลวเนื่องจากแรงกดดันทางสิ่งแวดล้อ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ทำลายต้นไม้ในป่าเป็นจำนวน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ใช้ที่ดินจนหม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แห้งแล้งทำลายที่ดิ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นื่องจากความแห้งแล้ว ทำให้เกิดการขาดแคลนอา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สงครามเปลี่ยนแปลงสิ่งต่าง ๆ </a:t>
            </a:r>
            <a:r>
              <a:rPr b="1" lang="en-US" sz="2400" spc="-1" strike="noStrike">
                <a:solidFill>
                  <a:srgbClr val="3333cc"/>
                </a:solidFill>
                <a:latin typeface="Tempus Sans ITC"/>
              </a:rPr>
              <a:t>700-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่อให้เกิดการแข่งขันเพื่อยึดครองเส้นทางการค้า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ถี่ของการทำสงครามเพิ่มขึ้นอย่างรวดเร็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มีการจับเหยื่อเป็นจำนวนมากเพื่อบูช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ถูกจับและลอบสังหารเป็นจำนวน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เมืองเริ่มละทิ้งเมืองต่าง 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ไม่มีการบันทึกทางประวัติศาสตร์เก็บรักษาไว้ในบางเมื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23241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มื่อ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61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s Pilas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9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lenque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1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pán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5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ikal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879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aracól: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จารึกครั้งสุดท้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90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วามแห้งแล้งปกคลุมไปทั่วภูมิภาค ความล้มเหลวของการเก็บเกี่ยวพืชไร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9616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ทฤษฏีบางประการเกี่ยวกับการล่มสลาย</a:t>
            </a:r>
            <a:br>
              <a:rPr sz="3600"/>
            </a:br>
            <a:r>
              <a:rPr b="1" lang="th-TH" sz="3600" spc="-1" strike="noStrike">
                <a:solidFill>
                  <a:srgbClr val="cc0000"/>
                </a:solidFill>
                <a:latin typeface="Tempus Sans ITC"/>
                <a:cs typeface="Angsana New"/>
              </a:rPr>
              <a:t>ของอารยธรร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ความกดดันด้านสิ่งแวดล้อมและความหายนะทางธรรมชาติเป็นต้นเหตุของความล้มเหลวของระบบเกษตร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ความล้มเหลวของระบบเกษตรกรรมนำมาซึ่งการแข่งขันเพื่อยึดครองเส้นทางการค้าข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สงครามเพิ่มขึ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จำนวนประชากรลดลงเนื่องจากความอดหย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การลอบสังหารพระมหากษัตริย์นำมาซึ่งการเสื่อมสลายของสังค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ชนชั้นขุนนางต่อสู้กันเองเพื่อควบคุมสังค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ความสมดุลของจักรวาลสั่นคลอ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00000"/>
                </a:solidFill>
                <a:latin typeface="Angsana New"/>
                <a:cs typeface="Angsana New"/>
              </a:rPr>
              <a:t>ประชากรลุกฮือขึ้นต่อต้านชนชั้นสู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3619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079960" cy="323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cc00"/>
                </a:solidFill>
                <a:latin typeface="Tempus Sans ITC"/>
                <a:cs typeface="Angsana New"/>
              </a:rPr>
              <a:t>ชาวเมืองละทิ้งเมืองต่าง ๆ ไปอยู่รวมกันเป็นกลุ่มเล็ก ๆ ในป่าลึ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อารยธรรมและวัฒนธรรมได้รับการเก็บรักษาไว้จนกระทั่งทุกวันนี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เกิดอะไรขึ้นกับอาณาจักรมาย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วัฒนธรรมของชาวมายันในยุคคลาสิคทันสมัยม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สังคมมายันมีเสถียรภาพมา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ชาวมายันพัฒนาศิลปะ การเขียน ดาราศาสตร์ เกษตรกรรมและสถาปัตย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อย่างไรก็ตาม </a:t>
            </a: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2670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empus Sans ITC"/>
                <a:cs typeface="Angsana New"/>
              </a:rPr>
              <a:t>อารยธรรมที่รุ่งเรืองนี้สูญหายไปก่อนการเข้ามาของชาวยุโร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4864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empus Sans ITC"/>
                <a:cs typeface="Angsana New"/>
              </a:rPr>
              <a:t>ทำไมเมืองมายันสูญหายไปก่อนศตวรรษที่ </a:t>
            </a:r>
            <a:r>
              <a:rPr b="1" lang="en-US" sz="2000" spc="-1" strike="noStrike">
                <a:solidFill>
                  <a:srgbClr val="0000cc"/>
                </a:solidFill>
                <a:latin typeface="Tempus Sans ITC"/>
                <a:ea typeface="Angsana New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286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รอดพ้นจากความเสื่อมสลายของอารยธรรมโดยการรักษาประเพณีของตนไว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ปฏิบัติตามพิธีกรรมด้านการเพาะปลูก และการเก็บเกี่ย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ผสมผสานพิธีการทางศาสนาแบบโบราณเข้ากับของคริสเตีย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สะท้อนค่านิยมออกทางงานศิลป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empus Sans ITC"/>
                <a:cs typeface="Angsana New"/>
              </a:rPr>
              <a:t>ชาวมายันพูดภาษาของตนเอง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71500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77120" y="6172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s by Rosa Hem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เมื่อ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200-600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ก่อสร้างเมืองที่ยิ่งใหญ่จากหิ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300-700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พัฒนาของวํฒนธรรม ช่วงเวลาของความรุ่งเรืองที่ยิ่งใหญ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700-800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การขยายตัวของประชากรอย่างมากถึง 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3 </a:t>
            </a: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ล้า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44492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Tempus Sans ITC"/>
                <a:cs typeface="Angsana New"/>
              </a:rPr>
              <a:t>ที่ไห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562360" cy="424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38680" y="457200"/>
            <a:ext cx="29847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empus Sans ITC"/>
                <a:cs typeface="Angsana New"/>
              </a:rPr>
              <a:t>บทนำสู่อารยธรรมยุคคลาสิค </a:t>
            </a:r>
            <a:r>
              <a:rPr b="1" lang="en-US" sz="2400" spc="-1" strike="noStrike">
                <a:solidFill>
                  <a:srgbClr val="ff0000"/>
                </a:solidFill>
                <a:latin typeface="Tempus Sans ITC"/>
                <a:ea typeface="Times New Roman"/>
              </a:rPr>
              <a:t>(200-9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สร้างเมืองที่สวยงามเต็มไปด้วยวัด พระราชวังและศูนย์การค้าขนาดใหญ่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สังคมที่มีชนชั้นทางสังคมเป็นลำดับชั้น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คิดปฏิทินที่แม่นยำและมีประสิทธิภาพ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คิดระบบการเขียนเพื่อบันทึกวันที่ทางประวัติศาสตร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สร้างประติมากรรม เซรามิก และสิ่งประดับต่าง ๆ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เส้นทางตลาดสู่ที่ที่ห่างไก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ขายผลผลิตทางอาหาร เซรามิก สิ่งทอและผลิตภัณฑ์ที่สะดวกสบา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ขาพัฒนาระบบเกษตรกรรมที่ทันสมั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66"/>
                </a:solidFill>
                <a:latin typeface="Tempus Sans ITC"/>
                <a:cs typeface="Angsana New"/>
              </a:rPr>
              <a:t>สังคมมายันแบ่งออกเป็นชนชั้นตามลำดับชั้นที่ออกแบบอย่างด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ราชา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ea typeface="Angsana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hau) 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ป็นตัวแทนของพระเจ้าบนโล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สงฆ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ขุนนา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นักร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่างฝีมื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สถาปนิ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ประติมา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่างทำเซรามิ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น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คนรับใช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ทา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8400" y="2895480"/>
            <a:ext cx="1925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171880" cy="488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ความเชื่อและพิธีกรรมทางศาสน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ิธีกรรมทางศาสนารักษาดุลยภาพของจักรวา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ศาสนามีบทบาทสำคัญในวิถีชีวิตของชาวมายัน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และพระสงฆ์เป็นบุคคลที่สามารถประกอบพิธีทางศาสนาและพิธีต่าง ๆ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หลั่งเลือดของพระองค์เพื่อเป็นอาหารให้พระเจ้าและกำหนดชะตากรรม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บูชามนุษย์เป็นการให้เกียรติแก่พระเจ้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มอบพืชผลที่ดีและความสำเร็จให้กับเมืองต่าง ๆ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าวมายันเล่นเกมลูกบอกในสนามขนาดใหญ่เพื่อรักษาดุลยภาพของจักรวา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hichén Itzá:   Cancha de Pel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พระเจ้า</a:t>
            </a:r>
            <a:r>
              <a:rPr b="1" lang="en-US" sz="3200" spc="-1" strike="noStrike">
                <a:solidFill>
                  <a:srgbClr val="009999"/>
                </a:solidFill>
                <a:latin typeface="Tempus Sans ITC"/>
              </a:rPr>
              <a:t>: </a:t>
            </a:r>
            <a:r>
              <a:rPr b="1" lang="th-TH" sz="3200" spc="-1" strike="noStrike">
                <a:solidFill>
                  <a:srgbClr val="009999"/>
                </a:solidFill>
                <a:latin typeface="Tempus Sans ITC"/>
                <a:cs typeface="Angsana New"/>
              </a:rPr>
              <a:t>ชาวมายันบูชาพระเจ้าหลายองค์ในเวลาเดียวกัน เช่น</a:t>
            </a:r>
            <a:r>
              <a:rPr b="1" lang="en-US" sz="3200" spc="-1" strike="noStrike">
                <a:solidFill>
                  <a:srgbClr val="009999"/>
                </a:solidFill>
                <a:latin typeface="Tempus Sans ITC"/>
              </a:rPr>
              <a:t>...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Hunab Ku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ผู้สร้า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Ah Puch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ความตา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hak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ฝ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tzamná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ความรู้ทางศาสน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k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ล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Yum Kax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เจ้าแห่งพืชผล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2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x Chel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ทพีแห่งพระจันทร์และความอุดมสมบูรณ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87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cc"/>
                </a:solidFill>
                <a:latin typeface="Tempus Sans ITC"/>
                <a:cs typeface="Angsana New"/>
              </a:rPr>
              <a:t>สงครา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ชัยชนะแห่งสงครามขึ้นอยู่กับพิธีกรรมบางประการเพื่อเป็นเกียรติแก่พระเจ้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พระมหากษัตริย์เป็นผู้กำหนดเวลาที่จะเริ่มทำสงครา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นักรบต่อสู้เพื่อเป็นเกียรติแก่เมื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empus Sans ITC"/>
                <a:cs typeface="Angsana New"/>
              </a:rPr>
              <a:t>เมืองที่ชนะสงคราม สามารถเรียกร้องบรรณาการจากคนของอีกเมือง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2960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2:03:13Z</dcterms:created>
  <dc:creator>Vanessa G. Donnelly</dc:creator>
  <dc:description/>
  <dc:language>en-US</dc:language>
  <cp:lastModifiedBy>Passara</cp:lastModifiedBy>
  <dcterms:modified xsi:type="dcterms:W3CDTF">2008-01-04T11:01:38Z</dcterms:modified>
  <cp:revision>153</cp:revision>
  <dc:subject/>
  <dc:title>EL MISTERIO DE LOS MAYAS</dc:title>
</cp:coreProperties>
</file>