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0063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15E-F09F-49FF-9718-95DE2D49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CEB-3B67-4371-869C-35DED29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9C1-077A-4A10-B003-261BE364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171-800A-4813-87AD-9649C818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30F-4DFA-4981-9AFF-D684693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024-90FF-4064-B4D3-80B5AA3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F2F-82C9-44A5-B254-68C07A5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935-B2A9-446B-A7A0-F06D1C4D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9F1-5F8D-477C-8E71-C7E3B30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9B1-4973-4112-A955-7F47395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445-0407-4F31-AE2D-DEC97C7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DDD-2B60-426E-9D70-C529E40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avi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83A4-099F-485D-A99C-748FF794F48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i.com/calc/docs/83plus.htm" TargetMode="External"/><Relationship Id="rId3" Type="http://schemas.openxmlformats.org/officeDocument/2006/relationships/hyperlink" Target="http://overpop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00"/>
                </a:solidFill>
                <a:latin typeface="Ravie"/>
                <a:cs typeface="Angsana New"/>
              </a:rPr>
              <a:t>ติดตามแนวโน้ม – </a:t>
            </a:r>
            <a:br>
              <a:rPr sz="6600"/>
            </a:br>
            <a:r>
              <a:rPr b="0" lang="th-TH" sz="6600" spc="-1" strike="noStrike">
                <a:solidFill>
                  <a:srgbClr val="ffff00"/>
                </a:solidFill>
                <a:latin typeface="Ravie"/>
                <a:cs typeface="Angsana New"/>
              </a:rPr>
              <a:t>คาดคะเนอนาคต</a:t>
            </a:r>
            <a:br>
              <a:rPr sz="4400"/>
            </a:br>
            <a:br>
              <a:rPr sz="4400"/>
            </a:br>
            <a:br>
              <a:rPr sz="1600"/>
            </a:br>
            <a:r>
              <a:rPr b="0" lang="th-TH" sz="4800" spc="-1" strike="noStrike">
                <a:solidFill>
                  <a:srgbClr val="ffffff"/>
                </a:solidFill>
                <a:latin typeface="Ravie"/>
                <a:cs typeface="Angsana New"/>
              </a:rPr>
              <a:t>แคลิฟอร์เนีย </a:t>
            </a:r>
            <a:r>
              <a:rPr b="0" lang="en-US" sz="4800" spc="-1" strike="noStrike">
                <a:solidFill>
                  <a:srgbClr val="ffffff"/>
                </a:solidFill>
                <a:latin typeface="Ravie"/>
                <a:ea typeface="Angsana New"/>
              </a:rPr>
              <a:t>: </a:t>
            </a:r>
            <a:r>
              <a:rPr b="0" lang="th-TH" sz="4800" spc="-1" strike="noStrike">
                <a:solidFill>
                  <a:srgbClr val="ffffff"/>
                </a:solidFill>
                <a:latin typeface="Ravie"/>
                <a:cs typeface="Angsana New"/>
              </a:rPr>
              <a:t>ยังเป็นมลรัฐทองคำอยู่หรือ</a:t>
            </a:r>
            <a:br>
              <a:rPr sz="8800"/>
            </a:br>
            <a:br>
              <a:rPr sz="8800"/>
            </a:br>
            <a:br>
              <a:rPr sz="8800"/>
            </a:br>
            <a:r>
              <a:rPr b="0" i="1" lang="th-TH" sz="2000" spc="-1" strike="noStrike">
                <a:solidFill>
                  <a:srgbClr val="ffff00"/>
                </a:solidFill>
                <a:latin typeface="Ravie"/>
                <a:cs typeface="Angsana New"/>
              </a:rPr>
              <a:t>โดย</a:t>
            </a:r>
            <a:r>
              <a:rPr b="0" i="1" lang="en-US" sz="2000" spc="-1" strike="noStrike">
                <a:solidFill>
                  <a:srgbClr val="ffff00"/>
                </a:solidFill>
                <a:latin typeface="Ravie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Ravie"/>
              </a:rPr>
              <a:t>Kristina &amp; Marc</a:t>
            </a:r>
            <a:endParaRPr b="0" lang="en-US" sz="2000" spc="-1" strike="noStrike">
              <a:solidFill>
                <a:srgbClr val="ffffff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ข้อเสนอแนะของเรา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จำเป็นต้องมีการศึกษาต่อเนื่องและการวิเคราะห์แนวโน้มของข้อมูลถึงผลกระทบที่เป็นไปได้ของจำนวนประชากรที่มากเกินไปต่อทรัพยากร และคุณภาพชีวิต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 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แนะนำ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่า การวิเคราะห์ข้อมูลให้เสร็จสมบูรณ์เพื่อนำข้อมูลเกี่ยวกับความสัมพันธ์ระหว่างจำนวนประชากรมากเกินไปและผลกระทบต่าง ๆ เช่น การหนาแน่นของยานพาหนะ การขาดแคลนพลังงานและน้ำ การเสื่อมโทรมของสภาพแวดล้อม และอาชญากรรมที่เพิ่มขึ้น ทำให้เราสามารถใช้ข้อมูลในการเตรียมการและแก้ไขปัญหาของรัฐ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แหล่งอ้างอิงที่ใช้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0"/>
            <a:ext cx="8153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I-83 Plus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xas Instru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2000,  Texas Instruments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orporated.  21 Jul 2000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 Unicode MS"/>
                <a:hlinkClick r:id="rId2"/>
              </a:rPr>
              <a:t>http://www.ti.com/calc/docs/83plus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&gt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op Overpopulatio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Save Ourselves, Save The Eart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8 July 2000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verpopulation Group.  21 July 2000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 Unicode MS"/>
                <a:ea typeface="Times New Roman"/>
                <a:hlinkClick r:id="rId3"/>
              </a:rPr>
              <a:t>http://overpop.or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ภาพรวม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เป็นใคร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คณะกรรมการของกลุ่มประชากรศาสตร์ในแผนกการคลังแห่งรัฐ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ราทำอะไร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ศึกษาแนวโน้มประชากรในรัฐ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คาดเดาผลกระทบจากการมีจำนวนประชากรมากเกินไป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ิเคราะห์นัยยะที่มีต่อแหล่งทรัพยากรและคุณภาพของชีวิต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ทำไมจึงสำคัญ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สามารถเตรียมและวางแผนสำหรับนัยยะที่เป็นไปได้จากการมีประชากรมากเกินไปและผลกระทบก่อนที่จะเกิดขึ้น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งานนำเสนอของเรา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วิเคราะห์แนวโน้มจำนวนประชากรของแคลิฟอร์เนีย และการคาดเดาอนาคต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นัยยะและผลกระทบ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ข้อเสนอแนะ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8580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จำนวนประชากรของแคลิฟอร์เนีย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ใช้เว็บไซต์การสำรวจสำมะโนประชากรสหรัฐฯ เราพบข้อมูลประชากรต่อไปนี้ 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ป็นหลักล้าน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90800" y="3583080"/>
          <a:ext cx="289260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0" y="3583080"/>
                    <a:ext cx="2892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rcRect l="0" t="21008" r="0" b="16007"/>
          <a:stretch/>
        </p:blipFill>
        <p:spPr>
          <a:xfrm>
            <a:off x="6172200" y="3733920"/>
            <a:ext cx="1828800" cy="1168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1303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ารสร้างสูตรจากข้อมูล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x =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ีตั้งแต่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ของแคลิฟอร์เนีย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ูตร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1.323 • 1.033</a:t>
            </a:r>
            <a:r>
              <a:rPr b="0" lang="en-US" sz="32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หสัมพันธ์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r = .99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ูตรนี้หมายความถึงจำนวนประชากรที่เริ่มจาก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.323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คน และเพิ่มขึ้น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3.3%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่อปีโดยเฉลี่ยตั้งแต่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ราฟแสดงผลลัพธ์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สูตรสมการถดถอยที่เกือบจะตรงกับข้อมูลทางประวัติศาสตร์ที่เป็นจริง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79360" y="2971800"/>
          <a:ext cx="8864640" cy="370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2971800"/>
                    <a:ext cx="886464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Ravie"/>
                <a:cs typeface="Angsana New"/>
              </a:rPr>
              <a:t>การคาดคะเนสำหรับอนาคต</a:t>
            </a:r>
            <a:endParaRPr b="0" lang="en-US" sz="44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ช้สูตร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y = 1.323 • 1.033</a:t>
            </a:r>
            <a:r>
              <a:rPr b="0" lang="en-US" sz="36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x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,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การคาดคะเนสำหรับจำนวนประชากรในอนาคตของแคลิฟอร์เนีย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ัวอย่างเช่น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2050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ืออีก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160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ปีนับตั้งแต่ 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1890 1.323 X 1.033</a:t>
            </a:r>
            <a:r>
              <a:rPr b="0" lang="en-US" sz="3600" spc="-1" strike="noStrike" baseline="50000">
                <a:solidFill>
                  <a:srgbClr val="0000ff"/>
                </a:solidFill>
                <a:latin typeface="Angsana New"/>
                <a:ea typeface="Angsana New"/>
              </a:rPr>
              <a:t>160</a:t>
            </a:r>
            <a:r>
              <a:rPr b="0" lang="en-US" sz="3600" spc="-1" strike="noStrike">
                <a:solidFill>
                  <a:srgbClr val="0000ff"/>
                </a:solidFill>
                <a:latin typeface="Angsana New"/>
                <a:ea typeface="Angsana New"/>
              </a:rPr>
              <a:t> = 238.6 </a:t>
            </a: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5105520"/>
          <a:ext cx="8076960" cy="8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105520"/>
                    <a:ext cx="80769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นัยยะสำคัญ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ff"/>
                </a:solidFill>
                <a:latin typeface="Angsana New"/>
                <a:cs typeface="Angsana New"/>
              </a:rPr>
              <a:t>แคลิฟอร์เนียจะมีประชากรมากเกินไป และหนาแน่นเกินไป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99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เท่ากับ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3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201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จะเท่ากับ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65 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ล้านคน มากกว่าสองเท่าของจำนวนประชากรใน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1990 mill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ในปี </a:t>
            </a:r>
            <a:r>
              <a:rPr b="0" lang="en-US" sz="3200" spc="-1" strike="noStrike">
                <a:solidFill>
                  <a:srgbClr val="0000ff"/>
                </a:solidFill>
                <a:latin typeface="Angsana New"/>
                <a:ea typeface="Angsana New"/>
              </a:rPr>
              <a:t>2050 </a:t>
            </a:r>
            <a:r>
              <a:rPr b="0" lang="th-TH" sz="3200" spc="-1" strike="noStrike">
                <a:solidFill>
                  <a:srgbClr val="0000ff"/>
                </a:solidFill>
                <a:latin typeface="Angsana New"/>
                <a:cs typeface="Angsana New"/>
              </a:rPr>
              <a:t>จำนวนประชากรเกือบจะเท่ากับจำนวนประชากรทั้งหมดของสหรัฐอเมริกาในปัจจุบัน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Ravie"/>
                <a:cs typeface="Angsana New"/>
              </a:rPr>
              <a:t>ผลกระทบที่เป็นไปได้จากการมีจำนวนประชากรมากเกินไป</a:t>
            </a:r>
            <a:endParaRPr b="0" lang="en-US" sz="3600" spc="-1" strike="noStrike">
              <a:solidFill>
                <a:srgbClr val="ffffff"/>
              </a:solidFill>
              <a:latin typeface="Ravi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หนาแน่นของยานพาหน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ขาดแคลนพลังงาน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ขาดแคลนน้ำ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เสื่อมลงของสภาพแวดล้อม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อาชญกรรมเพิ่มขึ้น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20:34:54Z</dcterms:created>
  <dc:creator>Pittsburg High School</dc:creator>
  <dc:description/>
  <dc:language>en-US</dc:language>
  <cp:lastModifiedBy>Passara</cp:lastModifiedBy>
  <cp:lastPrinted>2004-12-14T21:27:47Z</cp:lastPrinted>
  <dcterms:modified xsi:type="dcterms:W3CDTF">2008-02-18T12:33:18Z</dcterms:modified>
  <cp:revision>95</cp:revision>
  <dc:subject/>
  <dc:title>The Future of California Will it still be golden?</dc:title>
</cp:coreProperties>
</file>