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4DB-E0E4-4580-917D-3C7C155C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24D-6D90-4748-9E90-47B8CCBC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5E9-9465-4DBC-8988-D916AB2D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A91-B4E5-4CE0-86F6-A8DB635B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0DDB-9C08-45B8-879F-146C45E0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505-34A5-4B2C-86D1-C44F63CD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BBE-401C-43A1-8C33-A342C9CE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9B7-1574-4C9C-925C-2FDED3FC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26D-CDA7-4F15-BB8D-C46277BA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B78-FAA8-4AB9-836D-63A633F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C87-B145-421A-BE03-F477536C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866-88DF-46CB-8316-143D6234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1F50-7220-42D2-8558-06A7FA772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8472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’t Trash the Earth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การศึกษาแบบสหวิทยาการ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เรื่องการนำกลับมาใช้อีกของระดับเกรดห้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Mrs. Davis, Mrs. Dugger, and Mrs. McB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Port Neches Midd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Port Neches-Groves 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Texas Recycling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texasrecyclingsummi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texasrecycled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tnrcc.state.tx.us/exec/sbea/rtol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tnrcc.state.tx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texasrecyclesday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ktb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recycletx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คำถามสร้างพลังคิ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วามรับผิดชอบต่อสังคม – ใครกำหน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ห้นิยามความรับผิดชอบทางสังค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ห้นิยามชุมช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กำลังเกิดอะไรขึ้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ว่างในชุมชนกำลังปิดลงในไม่ช้านี้โดยพวกเราไม่ได้ช่วยเหลือแต่อย่างใด ทางเมืองต้องการแนวทางแก้ไขเพื่อลดปริมาณขยะที่นำมาทิ้งในบริเวณนี้อย่างเร่งด่วน คุณได้รับการว่าจ้างอย่างเป็นทางการให้เป็นที่ปรึกษาด้านการจัดการกับเศษขยะ วางแผนและเตรียมข้อเสนอของคุณนำเสนอต่อคณะกรรมการในอีกสองสัปดาห์ ข้อเสนอห้าอันดับแรกจะได้รับรางวัลพิเศ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เราจะทำอะไรในชั่วโมงวิทยาศาสตร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ิจัยการอนุรักษ์พลังงานและแหล่งพลัง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ำรวจกระบวนการและวิทยาศาสตร์ที่อยู่เบื้องหลังการนำกลับมาใช้อี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ิจัยนโยบายปัจจุบันของการนำกลับมาใช้อีกของโรงเรียน และการปฏิบัต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ำรวจแผนการจัดการกับเศษขย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ช้ข้อมูลเพื่อพัฒนาแผนทางเลื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ำสไลด์งานนำเสนอโดยใช้ความคิดสร้างสรรค์และความรู้โดยคำนึงถึงข้อเสนอเรื่องการจัดการกับเศษขยะที่จะทำให้คณะกรรมการประทับใ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เราจะทำอะไรในชั่วโมงคณิตศาสตร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ำการวิเคราะห์ค่าใช้จ่ายเรื่องการจัดการกับเศษขยะของโรงเรีย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รือชุมช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ละการนำกลับมาใช้อีกในปัจจุบ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เก็บข้อมูลที่เกี่ยวกับการบริโภคข้อมูลในบ้าน โรงเรียน ชุมชนและโล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ส่ข้อมูลลงในตารางทำการและกราฟเพื่อช่วยในการตีความข้อค้นพ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ำงานกับผู้เชี่ยวชาญด้านการจัดการกับเศษขยะเพื่อตัดสินว่าจะสามารถลดค่าใช้จ่ายได้อย่างไ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ิจารณามาตรการตัดค่าใช้จ่ายและตัดสินความเป็นไปได้ของการเปลี่ยนแปลงการปฏิบัติในปัจจุบ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เราทำอะไรในชั่วโมงศิลป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ทำงานเดี่ยวหรือกับเพื่อนคู่หูเพื่อจัดทำงานศิลปะหรือสิ่งประดิษฐ์จากเศษขย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ถ่ายภาพดิจิทัลของงาน เขียนคำบรรยายสำหรับภาพ และพัฒนางานแสดงสำหรับโรงเรียนหรือชุมช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เราจะทำอะไรในชั่วโมงสังคมศึกษ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ำการศึกษาด้านประวัติศาสตร์ของการจัดการกับเศษขยะในชุมชน ประเทศและโลกให้เสร็จสมบูรณ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ศึกษาประเด็นเศษขยะจากทั่วโล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จัดทำประวัติเทคโนโลยีใหม่และความก้าวหน้าในด้านการนำกลับมาใช้อี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จัดทำเว็บไซต์ของกลุ่มที่แสดงให้เห็นสภาพของดาวเคราะห์และเน้นถึงความสำคัญของการลด การนำกลับมาใช้ซ้ำและการนำกลับมาใช้ใหม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เราจะทำอะไรในชั่วโมงภาษาศิลป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ำรวจทัศนคติและการปฏิบัติ โดยทั่วไปของเจ้าหน้าที่นักเรียนที่เกี่ยวกับการนำกลับมาใช้อีกและการจัดการกับเศษขย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ใช้ข้อมูลจากการสำรวจเพื่อจัดทำแผ่นพับที่จะสื่อ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รียกร้องให้ท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ละโน้มน้าวผู้คนที่ต้องมีส่วนร่วมในแผนการอนุรักษ์ในโรงเรียนและหรือชุมช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ฝึกทักษะการพูดเพื่อโน้มน้า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โชคด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ดาวเคราะห์ของเรารอคอยความช่วยเหลือจากคุ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3:38:47Z</dcterms:created>
  <dc:creator>Passara</dc:creator>
  <dc:description/>
  <dc:language>en-US</dc:language>
  <cp:lastModifiedBy>Passara</cp:lastModifiedBy>
  <dcterms:modified xsi:type="dcterms:W3CDTF">2008-06-06T04:01:54Z</dcterms:modified>
  <cp:revision>9</cp:revision>
  <dc:subject/>
  <dc:title>Don’t Trash the Earth การศึกษาแบบสหวิทยาการ เรื่องการนำกลับมาใช้อีกของระดับเกรดห้า</dc:title>
</cp:coreProperties>
</file>