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354C-BAFE-47AC-B128-8E09D6682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0022-22EB-4455-A558-0A7D9D3F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3C6B-4326-4B86-A940-EACF7BE5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B480-0F90-427C-A3DE-EDF4476F7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8455-4AF3-4572-8190-35FFFE9E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13C8-2522-4969-AEBE-848A7CD7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C53D-DD1E-4160-B4F2-CDCC7F96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C979-0EE0-4E4F-9DD1-C40CB280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B85B-03F3-4973-9CA1-D00A9CE2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0BF-4A90-44E9-BD32-80243193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21DA-0D23-48F9-8ABA-FD5EBB34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559F-5594-42AE-AD90-BFDEE423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4D8D-A764-4A4C-B059-531C65C98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engine Programming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ADD-B032-4A52-825D-DBD5FC9FCB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mory Address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d with operan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dr 1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d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perand corresponds to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two operands a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+ off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 to large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5D33-D553-42F9-988E-A2B2631595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mediate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constant in thirty-two bit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mmed [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d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,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iva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,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rot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sixteen bit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v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all zeros or all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es bit r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&lt; 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otation (same as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&lt; 8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 to the left by eigh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&lt; 1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 to the left by sixtee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F268-D5DA-4451-8FB1-19B56F0A27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gister Nam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automated by assemb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ves available for manual assig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recti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Type Of Register As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areg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neral-purpose register from the A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breg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eneral-purpose register from the B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$reg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RAM transfer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$$reg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DRAM transfer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A519-2A9B-43FC-8C93-DB13667834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utomated Register Assign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loc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ve to declare register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endloc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erminate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s names in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s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es bank for each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s names in code with correct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06C8-0438-4E12-A1D4-1D8552A476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llustration Of Automated Register Nam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r more register names specified on .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local myreg loopctr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// Code in this block can use registers myreg, loopctr, and t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end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s valid only within 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opes can be n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8C1E-9935-4FA2-A8FF-9600DFACE4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llustration Of Nested Register 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local myreg loopctr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outer scope defines myreg &amp; loopct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local rone rtwo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nested scope defines rone &amp; r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end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local rthree rfour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/ nested scope defines rthree &amp; rf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end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endlo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CE87-D2CC-4943-AD4C-DB4694D924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flic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nds must come from separate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sequences cau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 + 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 +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 baseline="20000">
                <a:solidFill>
                  <a:srgbClr val="000000"/>
                </a:solidFill>
                <a:latin typeface="Arial"/>
                <a:ea typeface="Arial"/>
              </a:rPr>
              <a:t>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 + 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ssignment is va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r must chang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E5A2-49F3-459D-92EA-AF915CAF1D9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cro Preprocessor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i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 constant substit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tional 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meterized macro expa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ithmetic expression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 generation of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9405-2B96-4E5B-9A9D-DDFFBF6457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cro Preprocessor Stat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ywor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#includ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clude a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#defin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efine symbolic con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#define_eval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val arithmetic expression &amp; define con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#undef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move previous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#macro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tart macro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#endm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d a macro 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#ifdef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tart conditional compilation if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#ifndef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tart conditional compilation if not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#if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tart conditional compilation if expr. tr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#els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lse part of conditional compi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#elif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lse if part of conditional compi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#endif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nd of conditional compi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#for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tart definite 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#whil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tart indefinite 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#repeat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tart indefinite iteration (test af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#endloop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erminate an 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52E4-36A9-4B9A-B127-9EC91B019DA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cro Defi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occur at any point i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macr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nam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[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arameter 1 , parameter 2 , . . .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lines of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end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A32A-F377-4DB9-BBF5-AD3DF1EB29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croengine Cod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low-level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to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in assembl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F3C-EF67-4151-8EC4-5E77EC0726F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cro 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e a = b + c +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/* example macro add5 computes a=b+c+5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#macro add5[a, b, c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local t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u[tmp, c, +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u[a, b, +, tmp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endlo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#end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s values a, b, and c in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9262-6952-410E-95C5-FFFEFD2989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cro Expans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dd5[var1, var2, var3]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s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local t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u[tmp, var3, +, 5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u[var1, var2, +, tmp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endlo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: can generate illegal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8F0-A434-4F25-B76C-CA72B60E23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ration Of Repeated Cod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 pre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#whi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ment for it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#define_ev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arithmetic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to generate repeated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7B0-8F54-4AE6-BD30-62911AFF42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Of Repeated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rocessor c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define LOO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while (LOOP &lt;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u_shf[reg, -, B, reg, &gt;&gt;LOOP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define_eval LOOP LOOP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end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u_shf[reg, -, B, reg, &gt;&gt;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u_shf[reg, -, B, reg, &gt;&gt;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lu_shf[reg, -, B, reg, &gt;&gt;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6252-E87C-403A-9786-B251426C442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ructured Programming Directiv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code appear to follow structured programming con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lud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reak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ment al l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rectiv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i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ditional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eli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erminate previous conditional execu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      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tart a new conditional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els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erminate previous conditional executi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efine an altern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endif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d .if condi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whil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definite iteration with test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endw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d .while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repeat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ndefinite iteration with test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until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End .repeat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break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ave a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continue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kip to next iteration of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F046-0A1B-412E-B906-1954291A86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chanisms For Context Switch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xt switching is volu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 can execu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tx_ar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instruction (e.g., memory refer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95F-B5CE-4DDD-B025-CA9DA4E688B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gument To ctx_arb Instru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s disposition of th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olunt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: thread suspended until l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gnal_eve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: thread suspended until specified event occ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il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thread ter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4204-21F6-4689-A11F-F58E24F135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ext Switch On Reference Instruc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ken added to instruction to control context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ossibl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tx_sw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thread suspended until operation compl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ig_d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: thread continues to run, and signal posted when operation compl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als available for SRAM, SDRAM, FBI, PCI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017A-2425-4FC6-8FFA-E6D587F6CCF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direct Referen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or choice of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nd on other RISC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 of one instruction modifies next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s st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, a count of words to read from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memory access instruction to rea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BCD-6780-4EBC-8C7B-A307F7B5CEB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elds That Can Be Modif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engine associated with a memory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ing transfer reg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 of words of memory to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d ID of the hardware thread (i.e., thread to signal upon comple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EA1-C5B1-41A0-8D3C-0E9605EE7D1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eatures Of Intel’s Microengine Assembl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ves to control 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 register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ro preprocessor (extension of C preprocess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of structured programming mac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4058-3663-4770-A05E-59BC0FD5603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Indirect Reference Operat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r codes two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U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 with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irect referenc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destination of ALU operation is – – (i.e., no destin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s ALU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result of ALU instruction to modify field in next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B83-D5C9-439D-B4AC-ACF4D5A9D76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Of Indirect Refer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u_shf [ – –, – –, b, 0x13, &lt;&lt; 16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cratch [ read, $reg0, addr1, addr2, 0 ], indirect_r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instruction coded with count of 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U instruction computes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E89-6D7B-45E4-98E7-B894EEA0E8A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f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engine cannot directly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es ( I/ O devices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mediate hardware uni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as transfer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ple registers can be used as large, contiguous bu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3481-1B79-45F5-9BE6-610891D9A6B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ternal Transfer Proced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cate contiguous set of transfer registers to hol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reference instruction that moves data to or from allocated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ge for thread to wait until the operation comple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8FF-5376-498E-9458-F051E96CC5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llocating Contiguous Regist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sters assigned by assemb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r needs to ensure transfer registers contig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mbler provid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xfer_ord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allocate four continuous SRAM transfer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local $reg1 $reg2 $reg3 $reg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xfer_order $reg1 $reg2 $reg3 $reg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7F6D-2FC8-4C18-8302-87A487F1866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engines programmed in assembly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’s assembler prov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ves for structuring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ro pre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mated register assign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D20-97D4-441F-B634-8D61CF752A0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atement Synta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bel: operator operands t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ret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ke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ends on instr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9676-37FC-4E27-8ABF-0699CE2270E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ent Statem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style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style (between / * and */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++ style ( / / until end of lin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assembly style ( ; until end of lin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traditional comments remain in code for intermediate steps of assemb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2ED-061F-4B57-8B1C-94C895CF6D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ssembler Direc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 with period in colum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assembly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associat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yna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register five in the A register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.areg mynam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F719-6D4A-4A65-A222-366EE799B96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Operand Synt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lu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okes the A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u [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d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rc 1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rc 2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oper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ination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source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source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minus signs ( – – ) can be specified for destination, if non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367-4312-497B-A4E8-851F9612D8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mory Opera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r specif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ion of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in memory (two registers u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transfer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 of words to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tok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DB9C-414B-4B9A-A902-99B5A6BD6B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mory Operation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ram [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directio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fer_r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ddr 1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ddr 2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coun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]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optional_t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dram [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directio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fer_r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ddr 1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ddr 2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coun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]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optional_t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cratch [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directio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xfer_re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ddr 1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ddr 2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coun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],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optional_to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568C-89CD-4F7A-B5D7-DB62FAFCBD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1:56:57Z</dcterms:created>
  <dc:creator>Joel Schuetze</dc:creator>
  <dc:description/>
  <dc:language>en-US</dc:language>
  <cp:lastModifiedBy>jjohnso2</cp:lastModifiedBy>
  <dcterms:modified xsi:type="dcterms:W3CDTF">2004-07-16T05:24:01Z</dcterms:modified>
  <cp:revision>3</cp:revision>
  <dc:subject/>
  <dc:title>Microengine Programming I</dc:title>
</cp:coreProperties>
</file>