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1755-D659-438A-B346-8513593D5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1BCF-3F49-4764-AA25-14B8E83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B697-F0F4-40A0-8B04-52694638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46C8-C820-4395-87C0-985F74DF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899D-5335-4E0F-A087-A5603520F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B26D-4F29-4487-A4DC-13BCECE1A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7D5A-7A41-443B-92C6-5B46B106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3C49-D59E-40F2-B334-6C3F6AC3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682D-D68C-4705-845B-E97A7CC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07CC-43F1-478E-95C0-428B8683F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3317-5511-4BCF-9DAC-4CC9688A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D289-3AF8-4229-904F-18A4D4C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957-0AD5-4C85-AD4E-967B2CBF0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Programming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9B6E-006A-4940-9C48-AEE2080F6E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rol And Status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ver one hundred fif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access to hardware units on the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low processors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fig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ro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ongARM: mapped into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icroengines: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E879-AF1F-4F74-A5A7-104813BB67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sr Instru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on micro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csr [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cm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d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$xf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C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cou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tern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ast_w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s access to subset of CSRs through the FBI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cal_csr_r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s access to local CS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1DD4-4437-400F-8196-6E93CBA972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Dispatch Loop Macr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ch microengine execu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t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alogous to core event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vents are low level (e.g., hardware device becomes read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K includes predefined macros related to dispatch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32AC-D59B-4FFF-9EB8-4DAB250160E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edefined Dispatch Loop Macro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Macro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Buf_Alloc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Allocate a packet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Buf_GetData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Get the SDRAM address of a packet buff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(note: the name is mislead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Drop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rop a packet and recycle th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GetBufferLength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Compute the length (in bytes) of the packet portion of a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GetBufferOffse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Compute the offset of packet data within a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GetInputPor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Obtain the input port over which the packet ar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GetOutputPor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Find the port over which the packet will be 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GetRxSta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Obtain the receive status of th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Ini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nitialize the dispatch loop mac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MESink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end a packet to next microbloc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ASink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end a packet to the Strong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ASourc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ceive a packet from the Strong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AceTag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microblock that is handling a packet so th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trongARM wil kn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BufferLength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length of packet data in th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BufferOffse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offset of packet data in the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ExceptionCode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exception code for the StrongA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InputPort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port over which the packet arri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OutputPor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port on which the packet will be 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DL_SetRxStat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Specify the receive status of the 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4932-CDD4-4D90-8C59-823121A4CD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Selection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so supplied by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ow selection of packet from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ound-robin from a set of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for 10 / 100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cro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oundRobin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rict FIFO or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d for Gigabit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cro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ifo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580-8B74-4C0F-A928-D85A4E2EB71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btaining Packets From StrongAR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 can receive packet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put port (ingress) or another micro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patch loop tests for each pos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ackets from StrongARM should have lower prio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1C2A-A653-4735-97AF-99675BFA832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f Prio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thernetIngr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btains Ethernet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SASou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btains packet from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ach retur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BUFFER_N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, if no packet wa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achieve priority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SASourc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u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_CONSUME_NU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imes before returning a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FC8-C86D-4873-8953-1C6AD2012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Dispos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xiliary variabl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patch loop finds a packet and calls 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cr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ts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buffer_n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patch loop examin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buffer_nex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invo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L_Dro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drop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L_SASin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send to 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L_MESink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send to ‘‘next’’ 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7384-B8F5-4070-A526-8153831A33C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ther Predefined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cros needed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ffer mani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her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edefined macro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095-345E-47DE-B700-04906CE06A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Code To Process Packet Head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Allocate eight SDRAM transfer registers to hold the packet head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xbuf_alloc [ $$hdr, 8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Reserve two general-purpose registers for the computation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local base off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Compute the SDRAM address of the data buff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uf_GetData [ base, dl_buffer_handle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Compute the byte offset of the start of the packet in the buff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DL_GetBufferOffset [ offset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Convert the byte offset to SDRAM words by dividing by eigh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(shift right by three bits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lu_shf [ offset, – –, B, offset, &gt;&gt;3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Load thirty-two bytes of data from SDRAM into eight SDRAM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transfer registers. Start at SDRAM address base + offse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dram [ read, $$hdr0, base, offset, 4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4EAD-5261-471F-B2EB-A638DB2D52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pecialized Memory Op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ffer pool mani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cessor coordination via bit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tomic memory inc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cessor coordination via memory lo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1151-564F-4A3C-AA45-FE694F4EF8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0592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Example Code To Process Packet Header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1920" y="2133720"/>
            <a:ext cx="8534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Inform the assembler that we have finished using the tw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registers: base and offse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Process the packet header in the SDRAM transf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starting at register $$hdr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Free the SDRAM transfer registers when finished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xbuf_free [ $$hdr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592E-346B-4818-BB47-7F37423FA0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Using Intel® Dispatch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mer must perform five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fine three symbolic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clare registers with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loc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.import_va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rective to name tag values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clude the macros pertinent to the micro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itialize the macros as the first part of a dispatc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te: three constants must be defined before macros are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_CONSUME_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X_EXCE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QNUM_IGN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6EF5-C9AE-45FF-8876-D13764243E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Required Register Declar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following declarations a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.local dl_reg1 dl_reg2 dl_reg3 dl_buffer_handle dl_next_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F4C1-A86F-4C8E-8C94-555618AE8D8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Naming Tag Valu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d in microblock that sends packets (exceptions) to core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.import_v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r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.import_var IPV4_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8DD6-7A20-4BC8-96CD-DB0AC845AFE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cluding Intel®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st include two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Loop_h.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LoopImportVars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gress microblock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thernetIngress.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gress microblock 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thernetEgress.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B20-77A8-43A9-817C-392E5A1C04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Of Intel® Mac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 ca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I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perform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ypical initialization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DL_Init [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EthernetIngress_Init [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. . . /* Other microblock initialization call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7907-99BA-46C3-9B9B-4874EA8CABF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I/ 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frame divided into sixty-four octet units for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ach unit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vision performed by interfac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croengine transfers each mpacket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der uses two bits to specify position of m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art Of Packet (SOP) set for first mpacket of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d Of Packet (EOP) set for last mpacket of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te: cell can have both SOP and EOP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956-327C-4F03-B826-0E0867919EB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acket I/ 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 interru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patch loop uses p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y Bus Sequencer checks devices and sets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 loop tests 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9C25-4E25-41A1-8823-C2702E5A33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gress Packet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coming mpacket placed in Receive FIFO (R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 can transfer from RFIFO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RAM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rectly into SD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RAM transfer has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dram [ r_fifo_rd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$$xf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u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], indirect_r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23F6-EDAD-49DF-9BDC-97610342F09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Egres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ep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erve space in Transmit FIFO (TFIF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py mpacket from memory into T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t SOP and EOP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ali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lag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MIT_VALIDA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 used to copy from SDRAM to TFI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dram [ t_fifo_wr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$$xf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u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], indirect_r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1566-227F-4A35-B43A-C934A733A51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uffer Pool Manip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RAM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ight linked 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ratio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us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 of 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sram [ pop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$xf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r, – –, – –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listnum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DFE5-AE51-483E-9950-CC7C209096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etting The Valid Fla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 A XMIT_VALIDATE Regi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alid bit is in C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ast_w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struction to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fast_wr [ 0, xmit_validate ], indirect_r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8141-FC34-4189-A457-A660C6B6D15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ther Det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 must check status of mpacket to determine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C hardware detected problem (e.g., bad C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packet arrived with no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formation found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CV_CNT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A1E0-2D77-466F-8230-4CD5E1EBED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pecial operations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SR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croengine executes event loop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spat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ecks for packets ar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lls macro(s) to process each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ends packets to next specified 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l® supplies large set of dispatch loop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0847-21BA-4F9E-B470-32F51A567C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ny details required to use Intel® dispatch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 I/ O performed on sixty-four byte units c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packet can be transferred from RFIFO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RAM transf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ny details required to perform trivial operations on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4C1A-953F-4F56-BAEB-23760869D4A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ocessor Coordin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Via Bit Test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vided by SRAM and Scratchpad mem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tomic test-and-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sk used to specify bit in a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scratch [ bit_wr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$xf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op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647-71FD-4D4B-8470-67B75F7755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Bit Manipulation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rati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t_bit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t the specified bits to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lear_bit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t the specified bits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est_and_set_bit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Place the original word in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read transfer register, and se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he specified bits to 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est_and_clear_bit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Place the original word in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read transfer register, and se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he specified bits to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F6B-DA6E-4402-99F3-70FBC62ED2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tomic Memory Incr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mory shared am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cro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atomic increment to avoid incorrec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scratch [ incr, – –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, 1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8202-3311-4D36-B962-A41DB8922F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ocessor Coordin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Via Memory Loc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d of memory acts as mutual exclusion 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hieved wit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mory 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d_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btains a lock on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s values starting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ing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rite_unloc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s values 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nlocks the specified l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939-2C95-4555-AC1E-360FF3331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ocessor Coordin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Via Memory Lock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 of read_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ram [ read_lock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$xf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unt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], ctx_sw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k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tx_swa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d (thread blocks until lock obtain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neral form of write_un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ram [ unlock, – –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1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ddr 2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, 1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08AB-DC83-40E4-A45F-B626456BC3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mplementation Of Memory Loc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hieved with a CAM that holds eight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releases contiguous items in C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sequ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most eight addresses can be locked at any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read can remained blocked even if its request can be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BB6-3A1B-4D66-A4F5-40FB1EB79B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17:05:28Z</dcterms:created>
  <dc:creator>Joel Schuetze</dc:creator>
  <dc:description/>
  <dc:language>en-US</dc:language>
  <cp:lastModifiedBy>jcao3</cp:lastModifiedBy>
  <dcterms:modified xsi:type="dcterms:W3CDTF">2004-07-26T09:31:55Z</dcterms:modified>
  <cp:revision>4</cp:revision>
  <dc:subject/>
  <dc:title>Microengine Programming II</dc:title>
</cp:coreProperties>
</file>