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BA98-7056-47F4-AABB-F43213FBA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F89C-4A8D-4588-BE72-9E73C6A3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0692-BA90-4C93-93BB-DD916BDE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8FCD-C703-431F-9195-645B9528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D2C2-B2A2-4EF9-80F7-B5B90C77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7E8B-1E00-4554-AF2F-35950FCE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AE55-EBBF-437F-869B-4E4D4975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FBE-2B2F-4F0E-AA22-9F29261E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4D8-B20E-4A76-B53C-834F01E3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1ED-B5B6-494D-8759-182CC094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CCD0-CC41-42F6-8FE5-A102CBF9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D162-991F-475A-A5D1-03703657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0B9E-8B70-4527-BCA5-4BFB79B31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’s Second Generation Proce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55CB-33B6-4D2C-989F-0C9C15FAFA1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icroengine Enhancemen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TM segmentation and reassembly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yte alignment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 ME clusters with independent b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engine Versi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3A9-854C-4706-B743-3C0C2D48C6B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ther Facil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flector mode path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nal, unidirectional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low microengines to commun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xt Neighbor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ss data from one ME to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nded for software pipe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36EF-FFA2-4D5B-8725-2BA104E98A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® IXP2800 Feat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ame general architecture as 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xteen microengines (1.4 G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wo unidirectional sixteen-bit Low Voltage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gnaling data interfaces that can be configur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SPI-4 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SIX switching fabric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ur QDR-SRAM interfaces (1.6 gigabytes per sec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hree RDRAM interfaces (1.6 gigabytes per second ea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32BB-1849-48D2-8944-3FD6F9CA5B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l is moving to second generation of network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ree models announ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l® IXP2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l® IXP2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l® IXP2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ame general architecture, ex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ster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re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ore hardware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ewer, faster extern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4C28-F6BD-4E69-B1A6-0E57FAB5FB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erminolog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the network processor industry, one has to be careful when describing successive versions of network processors because the delay between the announcement of a new product and the actual date at which customers can obtain the product gives a second meaning to the phrase ‘‘later versions of a network processor’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2F6-5E47-4145-B27A-75810EAE4A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eneral Characterist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ame basi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mbedded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allel micro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nhanc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ount of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ctional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1251-E722-4037-85E9-ABBD068338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odels Of Next Generation Chip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wo primary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l® IXP2400 (2.4 G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l® IXP2800 (10 Gb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Version of 2800 with onboard encryption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l® IXP28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D6B0-1C68-40A0-B45C-5A9B00F051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Use Of Two Chips For Higher Throughp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chip insufficient for full du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rease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separate chips for ingress and egress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eed communication path between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64D7-06B5-4432-A8D3-EF30CCAAA3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® IXP2400 Feat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Scale embedded processor (ARM compliant) with c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ight microengines (400 or 600 MH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ight hardware threads per micro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ple microengine instruction stores of one thous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tructions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wo hundred fifty-six general-purpos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ve hundred twelve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ressing for two gigabyte DDR-D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ddressing for thirty-two megabyte QDR-S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xteen words of Next Neighbo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5FED-2C08-4A6F-9BA3-C380CA648F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mory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ternal DDR-D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ternal QDR-S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-array hardware in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board Scratchpa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board local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1599-EBDD-4D0B-810E-D317F17592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ternal Connections And B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 IX b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igh-speed interfaces attach to Media or Switch Fabric (MSF)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SF configurabl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topia 1, 2, or 3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SIX-L1 fabric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PI-3 (POS-PHY 2/3)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7FE1-A0E8-413B-8D5C-3D85F7D4CE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Enhance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plier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seudo-random number gen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RC calcul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ur thirty-two bit timers and timer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xteen entry C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mestamping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upport for generalized thread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x hundred forty words of local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ueue manipulation mechanism that eliminates the need for 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823F1-2D46-4B7D-AA58-9481587CF8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6:55:27Z</dcterms:created>
  <dc:creator>Joel Schuetze</dc:creator>
  <dc:description/>
  <dc:language>en-US</dc:language>
  <cp:lastModifiedBy>jcao3</cp:lastModifiedBy>
  <dcterms:modified xsi:type="dcterms:W3CDTF">2004-07-26T09:35:02Z</dcterms:modified>
  <cp:revision>3</cp:revision>
  <dc:subject/>
  <dc:title>Intel’s Second Generation Processors</dc:title>
</cp:coreProperties>
</file>