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9028-76B9-4F43-9905-892FB387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3F9-A434-4A33-8091-2BCCEC5C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3FF2-0CB8-49F6-9D8D-097D93DC0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6CCB-E721-4F63-82F3-98D85C416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DAEA-0241-4984-8956-85920AE6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D64-48F0-462B-8023-B94BA88C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8E4-6F95-44AE-AC5B-F0B8C5A76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95F0-1492-4765-B569-ED80B6F1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6AFF-2030-44F0-842F-3F37C7C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A14-E006-42F6-8E95-1B720BF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144-49D2-4005-AC8D-CBF1A277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00C8-DB3A-4E38-AF12-343FD9FB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FC35D-FE34-46B1-B0EA-6C5EC831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Reference System And Software Development Ki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Bridal Veil, SD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89AE-9AF5-4E32-BDB3-71937A9AA0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ference Syste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vided by ven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rgeted at potenti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ually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rdware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velopment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wnload and bootstrap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ference implemen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EE0-A57E-46F3-B694-A42D83266F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 Reference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le-board network processor test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lugs into PCI bus on a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BE3F-2299-4B43-95C4-0F930CA622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l Reference Hardwa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antity or Size                      I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                  Intel® IXP1200 network processor (232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8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Mbytes of SRA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256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Mbytes of SDRA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8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Mbytes of Flash RO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4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10/ 100 Ethernet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Serial interface (cons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PCI bus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PMC expans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D4B8-7452-4DCA-B134-20C48701FE3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 Reference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Known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ware Development Kit (SD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uns on P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nclu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oftware                           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 compiler                   Compile programs for the Strong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MicroC compil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Compile programs for the microeng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ssemble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Assemble programs for the microeng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ownloade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Load software into the network proc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Monitor                        Communicate with the network processor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teract with running soft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ootstrap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Start the network processor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ference Code         Example programs for the Intel® IXP1200 that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how to implement basic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CB71-D4BC-44E5-B2E7-D858BA64C6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asic Paradig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software on conventional comp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ad into refere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est / measur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4EA-AA0C-4CA8-B5DD-2ACA96913D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ootstrapp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ced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Powering on host causes network processor board to run boot monitor from Flash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Device driver on host communicates across the PCI bus with bootmonitor to load operating system (Embedded Linux) and initial RAM disk configuration into network processor’s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Host signals boot monitor to start the Strong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Operating system runs login process on serial line and starts telne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Operating systems on host and StrongARM configure PCI bus to act as Ethernet emulator; the StrongARM uses NFS to mount two file systems, R and W, from a server on th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E15-365F-4378-A0CA-76974CD25B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tarting Soft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ompile code for StrongARM and microeng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reate system configuration file named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sys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opy code and configuration file to read-only public download directory,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Run terminal emulation program on host and log onto Strong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hange to NSF-mounted directory R, and run shell script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star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with argument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sys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Later, to stop the Intel® IXP1200, run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stop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76D2-CF2D-451E-8942-18409C76D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ferenc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d by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rgeted at potential custo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ually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rdware 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ross-developm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wnload and bootstrap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ferenc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A419-7FED-490A-B0D1-89C1EFF7B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9:06:09Z</dcterms:created>
  <dc:creator>Joel Schuetze</dc:creator>
  <dc:description/>
  <dc:language>en-US</dc:language>
  <cp:lastModifiedBy>jcao3</cp:lastModifiedBy>
  <dcterms:modified xsi:type="dcterms:W3CDTF">2004-07-26T09:23:31Z</dcterms:modified>
  <cp:revision>3</cp:revision>
  <dc:subject/>
  <dc:title>Reference System And Software Development Kit (Bridal Veil, SDK)</dc:title>
</cp:coreProperties>
</file>