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95BB-BC4D-4D9C-8A5B-EAA4DC02E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4AFD-1BCF-4D62-B0DC-799CD77E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3C34-DDDD-4F82-8C8A-5ADACC0BC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8058-EBC7-4694-AA4D-9C678AAB8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73DA-1A15-4191-A17C-BBD673CC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F975-CBF6-4BE7-A729-3415227FF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BF19-EC9E-4EB4-A375-D252469B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D046-AF02-4D8D-9C90-49B9A2D5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82D0-421C-45B3-8240-74DC391F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D66D-0C2F-42FD-9A91-A4AD9BF5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E599-B728-4E31-85A1-71EAC044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0313-4115-4DD5-8BDC-3D5C2FEC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ing and Network Processor Curricul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540B-4E75-4196-87B8-EC51D5A3D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ardware Architectur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 Protocol Processing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d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gregate R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024B-8AD9-45C4-A442-48D6961A28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wo Measures Of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rate (bits per seco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interfac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gregat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 rate (packets per seco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interfac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gregat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7B35-6FD4-4AFA-8F30-EF87E0E4DB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Fast Is A Fast Connection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of fast data rate keeps cha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60: 10 Kb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70: 1 Mb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0: 10 Mb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0: 100 Mb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0: 1000 Mbps (1 Gb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3: 2400 Mb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50F0-A89D-49EB-A903-6E39B9BCF1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Fast Is A Fast Connection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of fast data rate keeps chan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60: 10 Kb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70: 1 Mb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0: 10 Mb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90: 100 Mb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0: 1000 Mbps (1 Gb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3: 2400 Mb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oon: 10 Gbps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C14F-F495-4ABB-B4FB-901F6CCCF0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gregate Rate Vs.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-Interface Rat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ce 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 at which data enters /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 of interface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sure of total data rate system can hand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aggregate rate crucial if CPU handles traffic from all interfa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E6BB-C6D3-432E-820B-8E54324423E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Note About System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aggregate data rate is defined to be the sum of the rates at which traffic enters or leaves a system. The maximum aggregate data rate of a system is important because it limits the type and number of network connections the system can hand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9779-466A-4C57-A83D-5236FB4BD2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cket Rate Vs. Data Rat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s of CPU over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-bit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-packet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face hardware handles much of per-bit process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7C19-56B7-4F92-981B-089E534B29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Note About System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r protocol processing tasks that have a fixed cost per packet, the number of packets processed is more important than the aggregate data 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DEA3-52F0-475F-8F28-91ED210680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Packet Rat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y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Network          Packet Rate              Packet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Rate    For Small Packets   For Large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Gbps               In Kpps                     In Kp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0Base-T             0.010                    19.5                              0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00Base-T           0.100                  195.3                              8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C-3                    0.156                   303.8                            12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C-12                  0.622                1,214.8                            51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000Base-T        1.000                 1,953.1                           82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C-48                 2.488                 4,860.0                          204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C-192               9.953               19,440.0                          819.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C-768             39.813               77,760.0                       3,278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concept: maximum packet rate occurs with minimum-size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0D35-C68D-47B6-AF13-C43DB49D313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ime Per Packe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y                   Time per packet                Time per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small packets               for large pac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i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)                                ( i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0Base-T                             51.20                                  1,214.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00Base-T                             5.12                                     121.4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C-3                                       3.29                                      78.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C-12                                     0.82                                      19.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000Base-T                           0.51                                      12.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C-48                                     0.21                                        4.8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C-192                                   0.05                                        1.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OC-768                                   0.01                                        0.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these numbers are for a single connectio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DF01-0113-41F8-8F88-CC922BCB431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ftware running on a general-purpose processor is an insufficient architecture to handle high-speed networks because the aggregate packet rate exceeds the capabilities of a CP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0291-9FC2-4B09-8A97-A647A340DC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Brief History Of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uter Hardw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n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5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olidation on von Neumann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 O controlled by 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 O become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ution of third generation architecture with interru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842A-E36B-4DE3-9F11-F89FE3AC29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sible Ways To Solv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CPU Bottlen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e-grain paralle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metric coarse-grain paralle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coarse-grain paralle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-purpose coproces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s with onboard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rt NICs with onboard st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swit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pip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E29E-BD12-4D2F-BD82-7511CBB2B7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e-Grain Paralle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roces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-level paralle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 checksum: add values of eight consecutive memory locations at the sam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: insignificant advantages for packet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04D5-106B-491D-BE84-2D8FC5C89C6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ymmetric Coarse-Grain Parallelis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metric multiprocessor 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, identical proces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 design: each CPU operates on one p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coord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: coordination and data access mean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ors cannot handl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s more packets than on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3D51-E6C1-4CC1-9D5E-8FF06567F10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Coarse-Grain Parallelis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proces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ed for specific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generic instructions for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problems of coordination and data access as symmetric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r much choose how many copies of each processor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D94A-BE1B-4334-B4DE-7FB4990783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pecial-Purpose Coprocessor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-purpose 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ed to conventional processor to speed comp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ked like software subrout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 implementation: ASIC c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operations that yield greatest improvement in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8093-F8D7-4799-9894-E69F9C6C616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eral Princip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o optimize computation, move operations that account for the most CPU time from software into hard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2220-0D82-4C1A-BE53-C5C0A3034C7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eral Princip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o optimize computation, move operations that account for the most CPU time from software into hard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a known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mdahl’s law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performance improvement from faster hardware technology is limited to the fraction of time the faster technology can be us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695C-62C8-4119-8351-D3CD54BDAB6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ICs And Onboard Proces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optimiz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board address recognition and filt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board buff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ffer and operation ch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optimiz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5DA7-E5A3-46BC-9F39-3D01DD18979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mart NICs With Onboard Stack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hardware to 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-the-shelf chips for layer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Cs for layer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each NIC to operate independ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ly a multi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processing power increased dramatic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A82E-8EC4-45FF-829B-D5CE7F24BF3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mart NIC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ith Onboard Proces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 handles layers 2 and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only handles exce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7721-F61E-4C95-8CD5-EF83E1CBBE5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/ O Process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olved from after-thought to central infl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-end systems (e.g., microcontroll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mb I/ O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does all the work (polls devi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, share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cost, but low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58E3-5560-404D-8371-5C435A6AEC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l Switch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to new 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paradig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details (e.g., protoco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-orien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9F11-BC31-408F-B2A8-B8EC2E4DFDB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ell Switching Detail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-size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fixed-size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aranteed time to transmit/ rece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(connection-oriented) addr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er address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on packet changes at each sw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connection se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A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2A8A-F251-4A16-8B48-13E8EF7BA14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ta Pipelin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each packet through series of proces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rocessor handles some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-suited to many protocol processing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 processor can be 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94C9-F03A-4EA2-9D3E-024F7B0023E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rate can be more important than data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st packet rate achieved with smallest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s measured per interface or aggreg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hardware needed for highest-speed network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rt NIC can include part of protocol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and pipelined hardware also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10A4-AD9E-41B9-9AE4-2488C6BB2BD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/ O Processing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-range systems (e.g., minicomput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, share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 O interfaces contain logic for transfer and status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s device then resumes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s data to / from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when operation comp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5FF3-890C-401B-8913-118B32D129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/ O Processing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continued)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-end systems (e.g., mainfram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, programmable I/ O 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downloads code to be 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ce has private on-board buffer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IBM channel, CDC peripheral 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1F14-E6A9-4FD4-8429-814B4929FE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etworking Systems Evolu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enty year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trend as computer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an with central 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ft to emphasis on I/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main gen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AB40-80DC-48E8-98A3-2AE493C14B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rst Generation Network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software-based rou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conventional (minicomputer) 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general-purpose 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share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 O over a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interface cards use same design as other I/ O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5B05-52A3-4B45-850A-6C290C2ED4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tocol Processing In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rst Generation Network Syst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-purpose processor handles most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icient for low-spe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we will examine other generations later in the cou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F215-8C9F-4BA8-B59D-5FB76BE71C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Fast Does A CPU Need To Be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s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 at which data arr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ount of processing to be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2722-2DC6-47B8-AD2F-986B9C0098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16:50:00Z</dcterms:created>
  <dc:creator>Joel Schuetze</dc:creator>
  <dc:description/>
  <dc:language>en-US</dc:language>
  <cp:lastModifiedBy>jjohnso2</cp:lastModifiedBy>
  <dcterms:modified xsi:type="dcterms:W3CDTF">2004-07-16T03:24:17Z</dcterms:modified>
  <cp:revision>4</cp:revision>
  <dc:subject/>
  <dc:title>Hardware Architectures For Protocol Processing And Aggregate Rates</dc:title>
</cp:coreProperties>
</file>