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8A87-ECA0-49EE-A190-F9D6939E7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9B8D-8C86-4701-A39A-CB5D08BD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A24A-CB10-4EE6-9045-3FAB9E6E7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F9C6-D1CA-4E0D-823C-9A84B4AFF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3B6A-12DB-461C-BC21-A0A3B330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2B90-F716-4D6C-8328-D747461B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3B51-4A72-4577-844B-1C939D977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EC12-608C-4640-BCB2-BE33D3A3A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0513-F7A7-4E43-BC65-071B2B2B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FE6A-CBF6-4E1C-A4DF-6F476BEF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EBA6-19F5-4727-AFA5-B2A10750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F11F-953E-423B-AC2D-E987E384A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ing and Network Processor Curriculu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533B9-9E51-49A6-8C75-BCCC7B706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ventional Computer Hardware Architectur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23A7-E9B2-45DE-8E44-7DDCBE79D2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s Paradig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two basic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perations cast as forms of the ab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3601-F266-4491-A042-536D46FB5E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etch/St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amental paradig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hroughout hardware, including network proces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4BC1-9012-40BC-8BB4-60AC508272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etch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address of a device on address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etc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control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t for device that owns the address to resp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successful, extract value (response) from data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1C2E-FBDC-4A9E-8113-CD336E8E89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ore Ope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address of a device on address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value on data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su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control 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it for device that owns the address to resp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unsuccessful, report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B01B-DC19-455C-B0B3-872BDF5F52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Of Operations Mapped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o Fetch/Store Paradig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ine disk device attached to a 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the hardware can perform three (nontransfer) oper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disk spi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 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current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62B1-C16F-4D3C-BB32-48C79F37A1B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ample Of Operations Mappe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o Fetch/Store Paradigm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 the disk two contiguous bus addresses D and D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nge for store of nonzero to address D to start disk spi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nge for store of zero to address D to stop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nge for fetch from address D+1 to return current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effect of store to address D+1 can be defined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ears to work, but has no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urns an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F4D0-CA6D-4E78-9204-CD71F11063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s Address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bitrary hardware can be attached to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 address lines result in 2k possible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can refer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(e.g., RAM or R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bitrary devices can be placed at arbitra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space can contain ‘‘holes’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A807-ACBE-49FC-BFC8-C5BA6EABB0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s Address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ce on bus known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mory mapp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ions that correspond to nontransfer operations known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trol and Status Registers (CS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66BD-6E19-4433-8D7D-7CF8D7408DE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twork I/O O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ventional Hard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Interface Card (NI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hes between bus and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es like other I/O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s electrical/optical details of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s electrical details of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es over bus with CPU or other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6278-3ACD-4730-A124-B4B9D8D946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king Network I/O F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idea: migrate more functionality onto 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techniques used with 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board address recognition &amp; fil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board packet buff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Memory Access (D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on and buffer ch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ABFD-14CF-4B89-BC35-1DC74D19F0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ftware-Based Network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conventional hardware (e.g., P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the entir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cates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s I/O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s all protocol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7A67-F350-4B89-8639-7E331E954A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nboard Address Recognition And Fil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 given set of addresses to ac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on’s unicast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broadcast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ero or more multicas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packet arrives, NIC checks destination add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pt packet if address on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ard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BDB4-D354-4547-B21F-8F8B12E09D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nboard Packet Buff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 given high-speed local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ing packet placed in NIC’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computer’s memory/bus to operate slower than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les small packet bur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86C1-9AFF-48B2-B690-B22157BF95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rect Memory Access (DM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es packet buffer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es buffer address to 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es on with other comp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pts incoming packet from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ies packet over bus to buffer 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s CPU that packet has arr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F280-82A3-4C43-B3EA-19BC2DEC68A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ffer Ch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cates multiple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es linked list to 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s next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s into one or more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: a buffer can be smaller than p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D59B-AB7F-45D8-B1A6-9C6FE5158F8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peration Ch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es multiple bu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s linked list of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es list to 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s list and performs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CPU after each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: multiple operations proceed without CPU inter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8ACD-FA97-4559-9D93-8035FC0DE5E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-based network systems run on conventional 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interface cards can be optimized to reduce CPU lo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716D-4CBA-4393-BC26-9DB7847E445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Study Protocol Process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n Conventional Hardwa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d in early IP ro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algorithms developed / optimized for conventional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in low-speed network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iest to create / modif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s less than special-purpose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9C2B-B792-4606-968E-43FB0D8419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Study Protocol Process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n Conventional Hardware?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s continue to increase in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conventional hardware present in all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AC0A-87C7-406E-B1B7-8E831F1088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rious 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is growing fas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if network bandwidth growing 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special-purpose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al hardware will become irrelev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EB14-A81C-415B-AA94-6840ED5CA4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ventional Computer Hard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important a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r more b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6437-A150-420D-ACA5-48BCC0E7AC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ven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ute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 is central, shared interconn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component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te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F7B4-E432-425F-B064-6802690664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s Organization And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llel wires (K+N+C tot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p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ddress of K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ata value of N bits (width of the b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information of C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446D-F893-45B1-9504-4F930F9EFAB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s Wid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r 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more data per uni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s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more physical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omise: to simulate wider bus, use hardware that multiplexes trans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E516-E6D7-4D92-BDB4-8E9867C090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20:56:19Z</dcterms:created>
  <dc:creator>Joel Schuetze</dc:creator>
  <dc:description/>
  <dc:language>en-US</dc:language>
  <cp:lastModifiedBy>jjohnso2</cp:lastModifiedBy>
  <dcterms:modified xsi:type="dcterms:W3CDTF">2004-07-16T03:07:44Z</dcterms:modified>
  <cp:revision>6</cp:revision>
  <dc:subject/>
  <dc:title>Conventional Computer Hardware Architecture </dc:title>
</cp:coreProperties>
</file>