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0F49-FC10-45B4-9622-5B0A34F6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DAA7-0829-4ED6-9F7E-FCA55DFD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CA24-E9AA-4567-A30C-7C1D3F51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0B16-8C47-42A2-9236-E82EC89B3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0695-F457-495D-8845-7EEEF63C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49BE-E9EA-4600-82AB-D02328377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CF6A-345A-44D7-845C-C4A1D3AE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D743-998D-479C-894D-E0900EAF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EBCF-7545-410D-8A64-11CDC4A4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3B5-00BA-4847-A202-24657F8B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AD3-C3F0-48C5-A1C4-F4FB3921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4447-7C50-450E-888C-6631F79D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A8C6-34A2-4F2B-BE0F-C59DE4F00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 Processing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23F-7F00-4ACE-81D9-90E02DFBC6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ueing And Packet Disc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paradigm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tore-and-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ing packet placed i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going packet placed in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queue is full, choose packet to disc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fects throughput of higher-layer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97B0-5CE7-4490-A1F3-A9CE851CB4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ueing Priori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queues used to enforce priority among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ing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priority as function of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d in appropriate priority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ueueing discip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s priority que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 which packet to s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5BA9-4013-43F2-8670-75A4811D9D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Of Queueing Disciplin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y Queue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unique priority number to each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 packet from highest priority queue that is nonemp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trict priorit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sta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9E73-732B-4BC3-97A2-FE4262EC1F7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Of Queueing Disciplin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Round Robin (WR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 unique priority number to each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all queues round-rob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N, max number of packets to select from a queue proportional to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 up to N packets before moving to next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ell if all packets equal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63E-2C84-437A-94E6-6842897B1E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s Of Queueing Disciplines (continued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ed Fair Queueing (WF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selection from queue proportional to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packet size rather than number of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cates priority to amount of data from a queue rather than number of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1242-4EB6-4ABD-92C1-38C9CBB59B5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cheduling And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coordinate parallel and concurrent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on multiple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on multiple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duler attempts to achieve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329B-6566-4E3D-8ED1-4F277036A9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curity: Authentication And Privac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entication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ender’s id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dentiality mechanis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intermediaries cannot interpret packet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in common networking terminology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ivac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Virtual Private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F09-152A-48D8-8D32-96C043D831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ffic Measurement And Polic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by network mana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measure aggregate traffic or per-flow traf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related to Service Level Agreement (S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is high if performed in real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03F8-0A35-4A25-97E3-7B72C51DF2D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Shap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raffic conform to statistical b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bur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packet tr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pos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packets (seldom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 pac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FBAF-B572-49DD-99CB-0F1E28905B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Traffic Shaping Mech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ky bu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s steady number of packets per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depends on number of packets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guarantee steady 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A65-AE6E-411F-AAD7-2D1CF3742C3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functions that occur in packet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se set of operations sufficient for all packet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n efficient implementation for the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2AF3-7FDE-4F5B-8926-90652A082F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Traffic Shaping Mechanism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 bu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s steady number of bits per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e depends on number of bits wa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hieves steady 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ifficult to im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2CC-A3BE-4CA5-820D-04681A036E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ffic Sha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ive in bur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 at steady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E3AF-7584-4951-BAB2-393B92656A8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er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piece of network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ffic 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protocol processing (e.g., retransmi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number of timer operations (e.g., set, canc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hi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BDD5-D7D5-4842-B834-7ECB4D87A58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ry packet processing function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lookup and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detection and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 and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ultiplexing and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ing and dis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and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measurement, policing, and sha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44F-AAC9-44A6-B812-E1A2E59EC7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cket Processing Functions We Will Consid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lookup and packet forwarding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detection and cor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gmentation, segmentation, and re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me and protocol demultipl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ueing and packet disc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eduling and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: authentication and priv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measurement, policing, and shap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3E32-1F40-464F-BEBD-30754C5C5E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ddress Lookup And Packet Forwar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ing requires address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up is table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 match (typically layer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est-prefix match (typically layer 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depends on size of table and type of 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0907-EB89-4E40-AD93-143796FBE6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rror Detection and Corre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sent with packet used as ver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proportional to size of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implemented with special-purpose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A046-F5D1-46BB-99F4-5A54D25C3F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 Important Note About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cost of an operation is proportional to the amount of data processed. An operation such as checksum computation that requires examination of all the data in a packet is among the most expensiv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DAE-7C33-48A7-9807-5E4A339A73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gmentation, Segmentation, And Reassembl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fragments and reassembles dat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M segments and reassembles AAL5 pa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idea; details di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is high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must be kept and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reassembled fragments occupy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234D-429A-4FB3-BA39-B6035C25DE2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rame And Protocol Demultiplex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technique used in layere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appears in each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ed on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on input to select ‘‘next’’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demultiplexing proportional to number of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FB9A-46AA-4A60-824C-9BC4797BA3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 Classifi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to demultiple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es multiple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lower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n classification later in the cour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sson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124B-14E9-4B06-882B-5344EECFBD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21:12:10Z</dcterms:created>
  <dc:creator>Joel Schuetze</dc:creator>
  <dc:description/>
  <dc:language>en-US</dc:language>
  <cp:lastModifiedBy>jjohnso2</cp:lastModifiedBy>
  <dcterms:modified xsi:type="dcterms:W3CDTF">2004-07-16T03:04:36Z</dcterms:modified>
  <cp:revision>4</cp:revision>
  <dc:subject/>
  <dc:title>Packet Processing Functions</dc:title>
</cp:coreProperties>
</file>