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0302-62CB-43D4-86C6-555914BD2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04B4-C9D9-4349-82C6-F40146D5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86DB-F88B-4F14-945E-79EB3535F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44CB-EAC5-4478-BF39-54EE68017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958-52D0-4792-88E0-1AAD2D91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DBA-AC08-4B4F-827E-89691BA6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BACC-56DB-4347-A7A6-0F09B1E74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3035-EC6B-4A94-B256-0228CAA4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DA53-8008-4EFF-9682-9A81FA566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B4E-0EA6-4E8F-9BE7-6C5A3D9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7B35-0E9B-4EEE-98F6-F6E067EAC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666-E0D1-4880-A450-98DA00CC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E0F0F-B48C-4918-AD2D-0848718B5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view Of Protocols And Packet Forma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C431-33E2-454A-B26D-D8E7A402AA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tocol Lay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76720" y="1752480"/>
            <a:ext cx="2590560" cy="457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276720" y="2209680"/>
            <a:ext cx="25905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76720" y="2666880"/>
            <a:ext cx="2590560" cy="4572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276720" y="3124080"/>
            <a:ext cx="259056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76720" y="3581280"/>
            <a:ext cx="2590560" cy="45720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" name=""/>
          <p:cNvCxnSpPr/>
          <p:nvPr/>
        </p:nvCxnSpPr>
        <p:spPr>
          <a:xfrm flipH="1">
            <a:off x="6095520" y="1980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768360" y="178920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/>
          <p:nvPr/>
        </p:nvCxnSpPr>
        <p:spPr>
          <a:xfrm flipH="1">
            <a:off x="6095520" y="2437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784200" y="22845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/>
          <p:nvPr/>
        </p:nvCxnSpPr>
        <p:spPr>
          <a:xfrm flipH="1">
            <a:off x="6111360" y="29332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6784200" y="27417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/>
          <p:nvPr/>
        </p:nvCxnSpPr>
        <p:spPr>
          <a:xfrm flipH="1">
            <a:off x="6111360" y="3390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784200" y="31989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/>
          <p:nvPr/>
        </p:nvCxnSpPr>
        <p:spPr>
          <a:xfrm flipH="1">
            <a:off x="6111360" y="38476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784200" y="365616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07080" y="5146560"/>
            <a:ext cx="597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-layer Internet Referenc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rotocols can occur at each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53D6-F457-4A70-871B-C2D9978E24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yer 2 Protoc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rotocols a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centrate on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43A3-5D80-47FB-9DA9-E93F0DEAF8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hernet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8-bit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address assigned to each station (N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ation address in each packet can specify delivery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computer (uni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puters in broadcast domain (broad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omputers in broadcast domain (multic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BE3-E3B8-430B-AF4E-D2276F69B8D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hernet Addressing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address is all 1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bit determines whether remaining addresses are unicast or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F72-1D4F-408F-AAB0-917E3A53D5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thernet Frame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5909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5120" y="25909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590920"/>
            <a:ext cx="685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86200" y="2590920"/>
            <a:ext cx="4952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6 - 1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057400"/>
            <a:ext cx="121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2057400"/>
            <a:ext cx="131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4080" y="2057400"/>
            <a:ext cx="85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rame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64200" y="2297160"/>
            <a:ext cx="136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in 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62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83908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533520" y="3352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840" y="3225960"/>
            <a:ext cx="78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3526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3962160" y="3352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32259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33526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93640" y="4202280"/>
            <a:ext cx="273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7000" y="3973680"/>
            <a:ext cx="7689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ed physical layer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s and removes preamble and CRC on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s and appends CRC and preamble o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yer 2 systems use source, destination and (possibly) type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A6D-D9EE-48E1-97EF-C5356DEB8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(heterogeneous) computer networks interconnec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P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-user computers, call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s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each attach to specific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col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both hosts and ro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illusion of hom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F280-E593-42C7-8A71-CC226E5C2F4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net Protocols Of Inte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Resolution Protocol (A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Protocol (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Control Protocol (TC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C123-438D-4CBC-9BA8-7A792B76A4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6:22:42Z</dcterms:created>
  <dc:creator>Joel Schuetze</dc:creator>
  <dc:description/>
  <dc:language>en-US</dc:language>
  <cp:lastModifiedBy>jjohnso2</cp:lastModifiedBy>
  <dcterms:modified xsi:type="dcterms:W3CDTF">2004-07-16T03:17:00Z</dcterms:modified>
  <cp:revision>6</cp:revision>
  <dc:subject/>
  <dc:title>Review Of Protocols And Packet Formats </dc:title>
</cp:coreProperties>
</file>