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CE94-B022-423D-B5E6-5D8DF064B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7A6-137E-4D60-8190-705E2F74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284-F842-48D9-996B-90256E43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FCD6-4C49-4CC2-BEB5-B4B3116AC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572-90ED-471B-AAF7-52D02140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576-B13B-47C3-B917-259776EB1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FCFF-E016-4AAD-88C2-B5E572D3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EEAD-A8DD-4448-9D3B-2CA9A4D0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9AA6-75DE-462D-8413-F0A01D8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C20-004E-4739-818A-CA4C5625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0FF-17CF-4E4D-A836-67A5957C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DF50-A065-4D38-B1FF-8E8D6F4A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201F-8E28-462D-9484-11E878D01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Overview Of The Intel® IXA Network Proces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Lesson 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5425-47A3-46D8-8671-9366831C4A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l®  IXP1200 Memory Hierarc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mory        Maximum     On               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ype               Size         Chip?              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GP Registers     128 regs.         yes       Intermediate compu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st. Cache         16 Kbytes       yes       Recently used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Data Cache           8 Kbytes       yes       Recently us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Mini Cache        512 bytes         yes       Data that is reused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Write buffer     unspecified       yes       Write operation bu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cratchpad          4 Kbytes       yes       IPC and synchro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st. Store          64 Kbytes       yes       Microengine instr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FlashROM           8 Mbytes         no       Bootst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RAM                  8 Mbytes         no       Tables or packet hea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DRAM            256 Mbytes        no        Packe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0436-6B78-4ED3-9407-3400962218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l®  IXP1200 Memory Characteristic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emory    Addressable         Relative           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ype    Data Unit (bytes)  Access Time   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cratch                  4                           12 - 14         synchronization 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est-and-set and other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it manipul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tomic inc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RAM                     4                           16 - 20        queue manipul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bit manipul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DRAM                  8                           32 - 40        direct transfer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to I / O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280-AC01-44A0-9AE7-0AFCFCA4099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Memory Addressabi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ach memory specifi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imum addressable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RAM organized into 4-by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DRAM organized into 8-byt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long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hysical address refers to word or long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DRAM address 1 refers to bytes 8 through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RAM address 1 refers to bytes 4 through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D038-E164-4135-9ACD-9C56D95049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 will use Intel Intel®  IXP1200 as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l®  IXP1200 o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mbedded processor plus parallel packet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nections to external memories an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BC39-76D2-42AF-B9FC-FFB10DC243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An Example Network Process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e w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oose on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Examine the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Gain first-hand experience with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The choice: 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4B7-A503-4EB5-9443-D6B9986D90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l Network Processor Terminolog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Intel® Internet Exchange Architecture (Intel® IX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road reference to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oth hardware an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rol plane and data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  <a:ea typeface="宋体"/>
              </a:rPr>
              <a:t>Intel® IXA Network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etwork processor that implements Intel® IX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6229-EDFA-44C3-AACC-85AEA013A4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® IXP1200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Name of first generation Intel® Network Processor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Four mode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Model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Pin         Support           Support            Possible C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Number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unt      For CRC      For ECC Rates           (in MH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tel® IXP1200   432            no                    no                 166, 200, or 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tel® IXP1240   432            yes                   no                 166, 200, or 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tel® IXP1250   520            yes                   yes                166, 200, or 2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Intel® IXP1250   520            yes                   yes                166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ifferences in speed, power consumption,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rm Intel®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IXP12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refers to any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0C2-55E5-4D96-8E23-6C76A7E3F4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® IXP1200 Featu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embedded RISC proces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ix programmable packet proce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ple, independent onboard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rocessor synchronization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mall amount of onboar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ne low-speed serial line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 for external mem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ultiple interfaces for external I/ O 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 coprocessor for hash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Other functional un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ABB-5CCA-4F77-98D6-59F44608D4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l® IXP1200 External Connection Speed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ype          Bus Width     Clock Rate   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erial line          (NA)                  (NA)              38.4 K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PCI bus            32 bits            33-66 MHz          2.2 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IX bus               64 bits           66-104 MHz         4.4 G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DRAM bus     64 bits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≤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232 MHz      928.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SRAM bus     16 or 32 bits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≤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宋体"/>
              </a:rPr>
              <a:t>232 MHz      464.0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Note: MBps abbreviat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ega Bytes per sec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48D0-6E74-4FC8-9A8E-3F6161D216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Intel® IXP1200 Internal Un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Quantity     Component                             Purp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      Embedded RISC processor     Control, higher layer protoco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and exce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6      Packet processing engines     I/O and basic packet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    SRAM access unit                    Coordinate access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xternal SRAM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     SDRAM access unit                Coordinate access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xternal SDRAM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      IX bus access unit                 Coordinate access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xternal IX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1      PCI bus access unit               Coordinate access to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                                                                        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xternal PCI b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several  Onboard buses                       Internal control and data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51D2-7129-4103-A7AF-B71EB4E6CA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Intel®  IXP1200 Internal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8544-96ED-426A-A16F-E3B6D2ECA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rocessors On The Intel®  IXP1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rocessor Type               Onboard?        Programma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General Purpose Processor         no                                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Embedded RISC Processor         yes                               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Microengines                                 yes                                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Coprocessors                                yes                             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宋体"/>
              </a:rPr>
              <a:t>Physical Interfaces                        no                                   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0D5D-0DF3-45AC-A6B8-F4E824126C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7:11:42Z</dcterms:created>
  <dc:creator>Joel Schuetze</dc:creator>
  <dc:description/>
  <dc:language>en-US</dc:language>
  <cp:lastModifiedBy>jcao3</cp:lastModifiedBy>
  <dcterms:modified xsi:type="dcterms:W3CDTF">2004-07-26T09:16:59Z</dcterms:modified>
  <cp:revision>9</cp:revision>
  <dc:subject/>
  <dc:title>Overview Of The Intel Network Processor</dc:title>
</cp:coreProperties>
</file>