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9450-0297-47C8-B110-F1475D02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C4EF-4DEC-4C3C-92E9-8546DD023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7ACC-9E11-4D36-9E53-6A844166E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9840-B4D7-4CDB-B5C3-E22BC1AC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233-73B8-4341-A15B-E5301ECC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C5A2-D1ED-49B8-ADFF-FA57035F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872-3A36-428C-A8FC-A8FB132CC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8922-9E6B-4BB6-A8DF-E4F7997E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C9DB-3ABB-4DCF-AA9C-B9516F66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823D-D16E-4F15-83AD-93AA2BB0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BCD0-6475-40C7-BEAB-0817D602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10DE-856A-4E51-848E-B79D5013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949B-6851-45C7-AD11-CD758DAD1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n Example 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sson 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8388-326B-4655-BA5A-D4608E0272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hared Symbolic Const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re component programmed i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croblock component programmed in assembl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ypical trick: bracket lines of code with #ifndef to prevent multiple instant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nusual tr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th languages share C-preprocessor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n place all constant definitions in shared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FBB7-1F46-4734-A9EB-96D255D8F2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stinguishing Code At Compile Tim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eprocessor can distingu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de for cor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de for microblock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echnique: symbolic constan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CROCO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nly defined when assembling micro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an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#if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9604-C719-4404-A23E-0AA0FD4EF4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Example File Of Symbolic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stants (wwbump_import.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/* wwbump_import.h -- define or import tag for wwbump MicroACE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#ifndef _WWBUMP_IMPORT_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#define _WWBUMP_IMPORT_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#ifdef MICRO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.import_var WWBUMP_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#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#define WWBUMP_TAG_STR "WWBUMP_TAG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#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#endif /* _WWBUMP_IMPORT_H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BC58-674B-4C16-9919-B13BEBA466D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vision Of Microcod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nto 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wo main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ollow Intel naming convention: macro and file names related to microcode start with uppercase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WBump.u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de for packe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fines macro WWB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WB_dl.u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ains code for dispatch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7D6A-AB52-46A6-87EE-BE9CFCAE764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Bump Macr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erforms two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pecifies eventual output port for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lassifies the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presented as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trongARM (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xt microblock (Eg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ored in regis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l_next_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691-8D37-47F2-A49D-AC07D03480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Bump Deta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s Inte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gres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al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L_GetInputPo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determine input port (0 or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all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L_SetOutputPor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specify output 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hen passing packet to core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t exception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WBUMP_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et return code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X_EXCEP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6BA5-CBA3-4379-8D20-B0A970F6920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Steps WWBump Takes During Classif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ad packet header into six SDRAM transfer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thernet type field (0800 16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P type field (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CP destination port (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fficult (ugly) in micro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ust use IP header length to calculate port off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ort number is 16 bits; transfer register is 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CFF-6247-4BCD-AFBF-5A9BDC1E1C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WWBump.uc (part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WWBump.uc - microcode to process a packet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define ETH_IP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0x800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Ethernet type for 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define IPT_TCP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6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IP type for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define TCP_WWW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80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Dest. port for WW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macro WWBumpInit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empty because no initialization is needed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end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macro WWBump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xbuf_alloc[$$hdr,6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Allocate 6 SDRAM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Reserve a register (ifn) and compute the output port for th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frame; a frame that arrives on port 0 will go out port 1, and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vice versa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.local if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L_GetInputPort[ifn]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Copy input port number to if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alu [ ifn, ifn, XOR, 1 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XOR with 1 to reverse num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L_SetOutputPort[ifn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Set output port for eg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.end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1626-6ACB-4DCA-8628-46440BDC03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ile WWBump.uc (part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Read first 24 bytes of frame header from SDRAM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.local base o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Buf_GetData[base, dl_buffer_handle] ; Get the base SDRAM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DL_GetBufferOffset[off]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 ; Get packet offset in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alu_shf[off, --, B, off, &gt;&gt;3]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; Convert to Quad-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sdram[read, $$hdr0, base, off, 3], ctx_swap ; Read 3 Quad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; (six regist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.end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Classify the packet. If any test fails, branch to NotWeb#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Verify frame type is IP (1st two bytes of the 4th longword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.local e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immed[etype, ETH_IP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alu_shf[ --, etype, -, $$hdr3, &gt;&gt;16]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; 2nd operand is shif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br!=0[NotWeb#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.end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Verify IP type is TCP (last byte of the 6th longword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br!=byte[$$hdr5, 0, IPT_TCP, NotWeb#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D6B-EFBB-4D03-AD75-CF9A09B7FE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WWBump.uc (part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Verify destination port is web (offset depends on IP header siz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.local base boff dpoff d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Get length of IP header (3rd byte of 4th longword), an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convert to bytes by shifting by six bits instead of eigh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ld_field_w_clr[dpoff, 0001, $$hdr3, &gt;&gt;6] ; Extract header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Mask off bits above and below the IP length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.local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mmed[mask, 0x3c] ; Mask out upper and lower 2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lu [ dpoff, dpoff, AND, mask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.end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0307-5DED-4B1A-9727-32905A827F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e Wi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sider an 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amine all the user-written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e how the pieces fit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975-C48C-4713-9836-C53D124DADF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WWBump.uc (part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Register dpoff contains the IP header length in bytes. Add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Ethernet header length (14) and offset of the destinatio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port (2) to obtain offset from the beginning of the packet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of the destination port. Add to SDRAM address of buffer,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and convert to quad-word offset by dividing by 8 (shift 3)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alu[dpoff, dpoff, +, 16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Add Ether+TCP offs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Buf_GetData[base, dl_buffer_handle]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Get buffer base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L_GetBufferOffset[boff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Get data offset in buf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alu[boff, boff, +, dpoff]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Compute byte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alu_shf[boff, --, B, boff, &gt;&gt;3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Convert to Q-Word add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dram[read, $$hdr0, base, boff, 1], ctx_swap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Read 8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Use lower three bits of the byte offset to determine which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byte the destination port will be in. If value &gt;= 4, dest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port is in the 2nd longword; otherwise it’s in the first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alu[ dpoff, dpoff, AND, 0x7 ]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; Get lowest three b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alu[ --, dpoff, -, 4]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; Test and condi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br&gt;=0[SecondWord#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; branch if value &gt;=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84A-B992-4ACF-82FB-0CDCF5D273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WWBump.uc (part 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FirstWord#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Load upper two bytes of register $$hdr0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ld_field_w_clr[dport, 0011, $$hdr0, &gt;&gt;16] ; Shift before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br[GotDstPort#]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; Check por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econdWord#: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/* Load lower two bytes of register $$hdr1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ld_field_w_clr[dport, 0011, $$hdr1, &gt;&gt;16]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; Shift before ma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GotDstPort#: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Verify destination port is 80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.local wp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mmed[wprt, TCP_WWW]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; Load 80 in reg. wp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lu[--, dport, -, wprt]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; Compare dport to wp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br!=0[NotWeb#]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; and branch if not eq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.end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.endlo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21CD-3D93-4E0D-96F8-9C8B172FC5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WWBump.uc (part 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sWeb#: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Found a web packet, so send to the StrongARM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Set exception code to zero (we must set this)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.local ex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Declare register ex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mmed[exc, 0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Place zero in exc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L_SetExceptionCode[exc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set exception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.end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Set tag core component’s tag (required by Intel macros)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.local ace_tag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Declare register ace_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mmed32[ace_tag, WWBUMP_TAG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Place wwbump tag in re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L_SetAceTag[ace_tag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and set t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.end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Set register dl_next_block to IX_EXCEPTION to cause dispatch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to pass packet to StrongARM as an exceptio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mmed[dl_next_block, IX_EXCEPTION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Store return val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br[Finish#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Done, so branch to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otWeb#: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Found a non-web packet, so forward to next microblock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mmed32[dl_next_block, 1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Set return code to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82E5-50C7-4CF3-B15B-481B4FC20D1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WWBump.uc (part 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Finish#: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Packet processing is complete, so clean up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xbuf_free[$$hdr]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; Release xfer 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#end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1F9-DC09-4C0D-B31C-41D78F2F7C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ispatch Loop Algorith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nitialize dispatch loop macr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do foreve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f (packet has arrived from the StrongAR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end the packet to egress microbl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f (packet has arrived from Ethernet port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nvoke WWBump macro to process the packe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f (return code specifies exception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end packet to StrongAR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end packet to egress microbloc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7E12-5D6C-4D52-B216-A4E3BA89E2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ispatch Loop Co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tained in fi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WB_dl.u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ot defined as separate mac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cludes severa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andard (Intel) header files to define basic mac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ur packet processing macro (file WWBump.u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C3E-615C-4696-B209-31AE1D44306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WWB_dl.uc (part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WWB_dl.uc - dispatch loop for wwbump program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Constant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#define IX_EXCEPTION 0 ; Return value to raise an 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#define SA_CONSUME_NUM 31 ; Ignore StrongARM packets 30 of 31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#define SEQNUM_IGNORE 31 ; StrongARM fastport sequence 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Register declarations (as required for Intel dispatch loop macros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.local dl_reg1 dl_reg2 dl_reg3 dl_reg4 dl_buffer_handle dl_next_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Include files for Intel dispatch loop macro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#include "DispatchLoop_h.u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#include "DispatchLoopImportVars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#include "EthernetIngress.u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#include "wwbump_import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Include the packet processing macro defined previously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#include "WWBump.u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9947-FA47-4537-ADCC-DAB8FC8F83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WWB_dl.uc (part 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Microblock initialization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DL_Init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EthernetIngress_Init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WWBumpInit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Dispatch loop that runs forever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.while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Top_Of_Loop#: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 /* Top of dispatch loop (for equivalent of C continue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Test for a frame from the StrongARM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DL_SASource[ ]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 ; Get frame from 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alu[--, dl_buffer_handle, -, IX_BUFFER_NULL]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; If no frame, go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br=0[Test_Ingress#], guess_branch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; for ingress f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br[Send_MB#]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; If frame, go send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acr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LSA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ecks for packets from Strong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eturns one packet aft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A_CONSUME_NU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1C0-7268-463F-BCB9-D638B11D13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WWB_dl.uc (part 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Test_Ingress#: /* Test for an Ethernet fram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thernetIngress[ 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Get an Ethernet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alu[--, dl_buffer_handle, -, IX_BUFFER_NULL]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If no frame, go 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br=0[Top_Of_Loop#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to start of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Check if ingress frame valid and drop if not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br!=byte[dl_next_block, 0, 1, Drop_Packet#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Invoke WWBump macro to set output port and classify the fram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WWBump[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Use return value from WWBump to dispose of frame: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if exception, jump to code that sends to StrongARM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else jump to code that sends to egress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alu[ --, dl_next_block, -, IX_EXCEPTION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Return code is exce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br=0[Send_SA#]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so send to StrongA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br[Send_MB#]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; Otherwise, send to next micro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Not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l_next_block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pecifies whether the frame should be treated as an exception or forwarded to next micro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B564-1A29-4B93-B2BD-6BE57403DFF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WWB_dl.uc (part 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end_SA#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Send the frame to the core component on the StrongARM as a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exception. Note that tag and exception code are assigned by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the microblock WWBump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L_SASink[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.continue ; Continue dispatch lo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end_MB#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Send the frame to the next microblock (egress). Note that th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output port (field oface hidden in the internal structure) has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been assigned by microblock WWBump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L_MESink[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.contin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rop_Packet#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Drop the frame and start over getting a new fram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L_Drop[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.end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op ; Although the purpose of these no-ops 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op ; undocumented, Intel examples include th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.endlo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2D5-4245-4FB2-A916-C4E21762153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hoice Of Network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d to demonst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asic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de structure and organ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imize code size and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void excessive de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gnore performanc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9CBC-6A91-4057-8DA9-7BF825CFF1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de For Core Compon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ritten in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fines two bas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ception handler called when packet arrives from Strong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fault action called when another frame arrives (e.g., from another A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D29A-C479-45EC-8963-6D2CD93830F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xception Handl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ction nam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ceives packets from micro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st call Intel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mGetException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n call Intel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mSendPack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 forward packet to a micro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ree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ointer to ACE control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ing buffer (not used in our c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ointer to ix_buffer holding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3FB-212B-49A4-88AB-CA29AF077EF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efault A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unction na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x_action_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quired part of every 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alled when frame arrives from source other than microblock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ur version merely discards the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de in fi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tion.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31A2-8B7B-4786-9E9B-31C573ED96C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action.c (part 1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action.c -- Core component of wwbump that handles exceptions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include &lt;wwbump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include &lt;stdlib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include &lt;wwbcc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x_error exception(void *ctx, ix_ring r, ix_buffer 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truct wwbump *wwb = (struct wwbump *) ctx; /* ctx is the AC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x_error 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unsigned char 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(void) r; /* Note: not used in our example cod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Get the exception code: Note: Intel code requires this step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 = RmGetExceptionCode(wwb-&gt;tag, &amp;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 ( e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fprintf(stderr, "%s: Error getting exception code", wwb-&gt;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x_error_dump(stderr, 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x_buffer_del(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return 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ll to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RmGetExceptionCod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require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DA2A-B3E5-423D-B8F5-C6B19B7B954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ile action.c (part 2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Webcnt++; /* Count the packet as a web packe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Send the packet back to wwbump microblock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e = RmSendPacket(wwb-&gt;tag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f ( e ) { /* If error occurred, report the error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x_error_dump(stderr, 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x_buffer_del(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eturn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irst line of this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erforms entire ‘‘work’’ of exception 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Increments global counter (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Webcn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ce packet has been counted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mSendPacke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enqueues packet back to microblock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2BD5-1199-4DA5-8AA7-31C2BFDC713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action.c (part 3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A core component must define an ix_action_default function that i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invoked if a frame arrives from the core component of another ACE.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Because wwbump does not expect such frames, the version of th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default function used with wwmbump simply deletes any packet tha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it receives via this interface.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nt ix_action_default(ix_ace * a, ix_buffer 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(void) a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This line prevents a compiler warning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x_buffer_del(b)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Delete the fram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eturn RULE_DONE;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This step required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de for default action is trivial: discard any packet that ar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0FEE-BBB1-4333-BE51-F550BDD8211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itialization And Final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ditional code needed for each 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x_in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erforms initi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locates memory for the ACE control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vokes Intel mac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x_ace_in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 internal 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mIn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form connection to Resourc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mRegis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register with Resourc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DEE-5170-4AE7-960E-2122A00EFA9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nitialization And Finaliz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x_fini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erforms fin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vokes Intel mac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c_fin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terminate cross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mTer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terminate Resource 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x_ace_fin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deallocate ACE control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075F-ECB3-4136-867C-A71C497BF9F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ile init.c (part 1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init.c -- Initialization and completion routines for the wwbump AC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#include &lt;string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#include &lt;wwbump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#include &lt;wwbcc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Initialization for the wwbump AC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ix_error ix_init(int argc, char **argv, ix_ace ** a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struct wwbump *wwb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ix_error 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(void)arg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Set so ix_fini won’t free a random value if ix_init fail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*ap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Allocate memory for the WWBump structure (includes ix_ace)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wwb = malloc(sizeof(struct wwbump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if ( wwb == NULL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eturn ix_error_new(IX_ERROR_LEVEL_LOCAL, IX_ERROR_OOM, 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"couldn’t allocate memory for ACE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42FC-78EB-4DFD-A5FF-FB43919F137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ile init.c (part 2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Microengine mask is always passed as the third argum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wwb-&gt;ue = atoi(argv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Set blockname used to associate the ACE with its microblock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trcpy(wwb-&gt;bname, "WWBUMP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The name of the ACE is always the 2nd argum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The first argument is the name of the executabl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wwb-&gt;name[sizeof(wwb-&gt;name) - 1] = ’\0’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trncpy(wwb-&gt;name, argv[1], sizeof(wwb-&gt;name) - 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Initializes the ix_ace handle (including dispatch loop, control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access point, etc)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e = ix_ace_init(&amp;wwb-&gt;ace, wwb-&gt;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f (e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free(ww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eturn ix_error_new(0,0,e,"Error in ix_ace_init()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019C-063A-4C20-85BC-93C2B12385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e 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ivial network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-line paradigm using two 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thernet-to-Ethernet conne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ump-in-the-w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unt Web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rame carries 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atagram carries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stination port is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a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WBum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eb Wire Bum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C37-AA8E-4B49-B817-624B189E6C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init.c (part 3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Initialize a connection to the resource manage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 = RmIn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 (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x_ace_fini(&amp;wwb-&gt;ac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free(ww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return ix_error_new(0,0,e,"Error in RmInit()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Register with the resource manager (including exception handler)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 = RmRegister(&amp;wwb-&gt;tag, wwb-&gt;bname,&amp;wwb-&gt;ace, exception, wwb, wwb-&gt;u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 (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RmTer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x_ace_fini(&amp;wwb-&gt;ac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free(ww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return ix_error_new(0,0,e,"Error in RmRegister()\n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82B-BDAC-4B92-9437-5DD68A4E5FF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init.c (part 4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Initialize crosscalls */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 = cc_init(ww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 ( e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RmUnRegister(&amp;wwb-&gt;ta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RmTerm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x_ace_fini(&amp;wwb-&gt;ac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free(ww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return 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*ap = &amp;wwb-&gt;ac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x_error ix_fini(int argc, char **argv, ix_ace * a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truct wwbump *wwb = (struct wwbump *) a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x_error 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(void)arg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(void)argv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ap == 0 if ix_init() fails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 ( ! ap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61E-952A-462E-92D6-4539E3CE1B0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init.c (part 5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/* Finalize crosscall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e = cc_fini(ww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if (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return 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/* Unregister the exception handler and microblocks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e = RmUnRegister(wwb-&gt;tag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if (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return ix_error_new(0,0,e,"Error in RmUnRegister()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/* Terminate connection with resource manager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e = RmTerm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if (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return ix_error_new(0,0,e,"Error in RmTerm()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/* Finalize the ix_ace handle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e = ix_ace_fini(&amp;wwb-&gt;ace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if ( e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return ix_error_new(0,0,e,"Error in ix_ace_fini()\n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/* Free the malloc()ed memory *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free(wwb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return 0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5EE-F2CE-484D-A363-45BFACCFCA3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e Important Poi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wbump performs a trivial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code invokes Intel’s ingress and egress 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code is written using Intel’s dispatch loop mac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code is l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858-FEE7-4AAA-AD15-421E756B42B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e Important Poi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wbump performs a trivial ta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code invokes Intel’s ingress and egress 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code is written using Intel’s dispatch loop mac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The code is hu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0B60-E594-4CDB-B3CB-1C61F9741B6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n Example Crossc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ivial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vide access to current Web packet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wbump ACE acts as crosscall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ly exports one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n be called from non-ACE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ported function nam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etc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24FB-A22E-4B55-A1C7-3363315D239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Basic Steps When Build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 Crosscall Faci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fine a set of functions that the crosscall server ex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reate 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rface Definition Langua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D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 declaration for each function, and use the IDL compiler to generate the corresponding stub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rite code for each exported function with arguments that match the generated stub arg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rite an initializatio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rite a finalizatio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8369-85C0-4DEC-9AB2-7F65E56AD200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xample IDL Specifi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interface wwbu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twoway long getcnt(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DL specification decla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ame and type of exported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ype of each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43A-B78D-4020-BF60-8FBFE394B95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iles Generated By The IDL Compil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i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stub_c.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rosscall data types and types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nitialization and finalization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intNam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nterface name as a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F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_opName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Function name as a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tub_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init(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lient crosscall init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tub_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fini(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lient crosscall fin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E_F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_fpt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Function pointer for F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tub_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E_F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(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lient-side crosscall fun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C_VMT_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E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rosscall Virtual Method Tab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eferred_cb_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E_IF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(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lient callback proto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E_F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_cb_fptr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lient callback function poi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B_VMT_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E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lient callback VM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getCBVMT_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(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Find VMT for call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sk_c.h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eclarations of server-side interfa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k_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init(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erver initi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k_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fini(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erver final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getCCVMT_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(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Find the VMT for the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nvoke_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E_IF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(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nvoke a crossc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stub_c.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ncluded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A82-E87F-4E6A-90A8-26E0848A990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More Files Generated By The IDL Compil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Fi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cc_c.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Prototypes for individual crosscall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E_F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(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Prototype for function F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sk_c.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ncluded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cb_c.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Prototypes and Virtual Method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for client-side callback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E_F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_cb(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Prototype for client call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stub_c.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ncluded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stub_c.c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ode for client-side initialization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finalization crosscall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E_sk_c.c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ode for server-side initialization 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finalization and VMT accessor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cc_c.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Prototypes for individual crosscall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E_F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(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Prototype for function F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sk_c.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ncluded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cb_c.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Prototypes and Virtual Method T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for client-side callback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E_F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N_cb(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Prototype for client call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_stub_c.h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ncluded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2E54-684F-4953-8D6A-C7E319BC63D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WWBum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as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affic in either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unts Web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6056-1F43-4849-9593-0D99C4D2B1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Even More IDL-Generated Fil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il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E_cc_c.c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Default code for crosscall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that merely return an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IFAC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E_cb_c.c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Default implementations of client call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functions that merely return an err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CABF-35C8-49CE-A8A4-48F1B4FB7E3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de For A (Trivial) Crosscall Serv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er must sup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de for exported function(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itializatio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inalization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lobal variable decla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de to change pointer(s) in globa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virtual method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ample code in fi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wbcc.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4BA9-47AB-446D-830A-07B3397B2CA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ile wwbcc.c (part 1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wwbcc.c -- wwbump crosscall function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#include &lt;stdlib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#include &lt;string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#include &lt;wwbump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#include &lt;wwbcc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#include "wwbump_sk_c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#include "wwbump_cc_c.h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long Webcnt; /* Stores the count of web packet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Initialization function for the crosscall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x_error cc_init(struct wwbump *ww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CC_VMT_wwbump *vm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x_cap *cap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x_err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Initialize an ix_base_t structure to 0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memset(&amp;wwb-&gt;ccbase, 0, sizeof(wwb-&gt;ccbase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Get the OMS communications access point (CAP) of the AC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x_ace_to_cap(&amp;wwb-&gt;ace, &amp;capp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8B82-270D-4EB0-879E-08C444B4B08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le wwbcc.c (part 2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Invoke the crosscall initialization function and check for error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e = sk_wwbump_init(&amp;wwb-&gt;ccbase, capp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if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eturn ix_error_new(0,0,e,"Error in sk_wwbump_init()\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Retarget incoming crosscalls to our getcnt function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Get a pointer to the CrossCall Virtual Method Tabl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e = getCCVMT_wwbump(&amp;wwb-&gt;ccbase, &amp;vm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if (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sk_wwbump_fini(&amp;wwb-&gt;ccba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eturn ix_error_new(0,0,e,"Error in getCCVMT_wwbump()\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Retarget function pointer in the table to getcnt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vmt-&gt;_pCC_wwbump_getcnt = get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Set initial count of web packets to zero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Webcnt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C8B-F8B7-4E86-9AA7-01B2551C9DB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ile wwbcc.c (part 3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Cross call termination function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ix_error cc_fini(struct wwbump *ww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ix_error 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Finalize crosscall and check for error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e = sk_wwbump_fini(&amp;wwb-&gt;ccba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if ( e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eturn ix_error_new(0,0,e,"Error in sk_wwbump_fini()\\n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eturn 0; /* If no error, indicate sucessful return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Function that is invoked each time a crosscall occur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ix_error getcnt(ix_base_t* bp, long* r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(void)bp; /* Reference unused arg to prevent compiler warning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Actual work: copy the web count into the return value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*rv = Webcn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/* Return 0 for success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C38F-EA4B-48FC-A3ED-ADBE1CA44BF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ying It All Togeth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ed to spec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Es to be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hich ACEs are ingress / e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umber and speed of network 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figuration fil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am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xsys.conf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grammer usually modifies sampl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05C-C9B5-4899-A8AC-0983FBE004F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nfiguration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file 0  /mnt/SlowIngressWWBump.u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fines fi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/mnt/lowIngressWWBump.u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gress microcode (type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ssociated with slow ports (10/100 por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F731-EA68-4D6E-ADCC-23031D64082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figuration Exampl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microace wwbump /mnt/wwbump none 0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pecif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wbum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s a micro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uns on the ingress side (first z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s unknown type (second z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79C0-98EE-403C-AC9A-F97A009FCFA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figuration Exampl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bind static ifaceInput/default wwb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bind static wwbump/default iface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pecif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fault binding for ingress AC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wb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fault binding for output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wwbum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s ACE nam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faceOutp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1CD5-7B94-4C57-A0C5-ECAE651BABBB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figuration Examp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pecifies command to be run on the Strong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ypical use: preload ARP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sh arp -s 10.1.0.2 01:02:03:04:05: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B1D4-2F78-4807-8BB5-0705A1CD9A78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de written f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idal vei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st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ccepts input from either port zero or port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wards incoming traffic to opposite 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s the ingress and egress library ACEs supplied by In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fines a wwbump Micro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asses each Web packet to the core component (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vides access to current packet count via the cross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Uses a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xsys.confi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ile to specify binding of tar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FE20-FC21-417E-921F-7E5D4B2812F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 huge amount of low-level code is required, even for a trivial ACE that counts Web packets or a trivial crosscall that returns the contents of an integer. In addition to the code, a detailed configuration file must be created to specify bindings among 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132F-62A6-4870-ADEF-E59A8E6A9CC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tatic ACE Data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tel software requ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atic control block for 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ructure is named (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x_a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er can add additional fields to control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61F5-D418-4793-9C63-A7F956F8A4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ields In The Wwbump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trol B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ield  Typ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nam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  string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Name of the ACE in ixsys.confi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tag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   int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D of ACE assigned by Resourc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u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   int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Bitmask of microengines running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the 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bname   string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TAG name that the microblock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ccbase  ix_base_t  Handle for crosscall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B9F1-CAB7-4319-AD5D-3601257779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Example Declarations (wwbump.h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wwbump.h -- global constants and declarations for wwbump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ifndef __WWBUMP_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define __WWBUMP_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include &lt;ix/asl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include &lt;ix/microace/rm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include &lt;ix/asl/ixbasecc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include &lt;wwbump_import.h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typedef struct wwbump wwbu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struct wwbu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x_ace ace; /* Mandatory handle for all ACEs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har name[128]; /* Name of this ACE given in ixsys.config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nt tag; /* ID assigned by RM for SA-to-ME communic.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nt ue; /* Bitmask of MEs this MicroACE runs on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har bname[128]; /* Block name (need .import_var $bname_TAG)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x_base_t ccbase; /* Handle for cross call servic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/* Exception handler prototyp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int exception(void *ctx, ix_ring r, ix_buffer b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#endif /* __WWBUMP_H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5E51-3781-4A2A-A3ED-36472A2C08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5T20:08:53Z</dcterms:created>
  <dc:creator>Joel Schuetze</dc:creator>
  <dc:description/>
  <dc:language>en-US</dc:language>
  <cp:lastModifiedBy>jcao3</cp:lastModifiedBy>
  <dcterms:modified xsi:type="dcterms:W3CDTF">2004-07-26T09:33:11Z</dcterms:modified>
  <cp:revision>4</cp:revision>
  <dc:subject/>
  <dc:title>An Example ACE</dc:title>
</cp:coreProperties>
</file>