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3BC-B293-447E-B45B-59A32D58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455E-0E23-4238-915F-B51E2BCC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CBC4-D80B-4707-950B-ACA0AAA68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AAB-9BE0-428E-A6F6-F3B3F3F70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18AC-2C79-4B02-B0D2-0D0666C8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8E1F-90A3-4B1F-A05E-7F462BF8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118-31B7-4732-AD73-6C987E54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176-4824-421C-90BA-1F91AB6D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513A-21AF-411D-B404-7CC43B47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46A5-E537-4785-8556-7CFF1DBC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CFFC-7046-4464-B10F-532196E9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4597-11DE-45EC-A77D-8E2EE903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9605-4498-4263-95AA-BDE2A6AAE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witching Fab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4C23-A9F0-4780-87B1-56AC2665D7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ime-Division Fabric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shared bu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ef advantage: 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ef disadvantage: low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790-70FF-4690-94EC-5A7EDB0CF3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ime-Division Fabric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shared memor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better than shared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more 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2E38-FBC6-45C4-A3A1-2A9A7C30FF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-Stage Fabric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omise between pure time-division and pure space-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empt to combine advantages of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cost from time-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performance from space-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ique: limited sha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C8EF-8B51-4DA6-83DA-09F5784556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nyan Fabri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multi-stage fa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rou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queues allowed, but not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B5C9-C7C7-4670-931B-7E682C1277D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Banyan Building Bloc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 added to front of each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bit of address used to select 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375D-B8FA-490B-8BFC-ED785DE86BF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ing fabric provides connections inside single network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basic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-division has lowest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ce-division has highest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stage designs compromise between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nyan fabric is example of multi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2F78-64BF-4830-A231-EA352A60FA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hysical Interconne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al box with backp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lad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ug into backplane s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blade contains one or more network conne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ABA-AA21-4F12-9E1F-2FBFEEE14E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gical Interconne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witching fabr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s transport from one blade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omes bottleneck as number of interfaces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387A-B6D6-482B-BA38-BB3D5F17707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witching Fabric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side a single network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onnection among I/ O ports (and possibly CP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transfer unicast, multicast, and broadcast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s to arbitrary data rate on any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s to arbitrary packet rate on any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es to arbitrary number of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low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low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8114-B359-4AEC-A74E-70942A69E9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Switching Fabr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-division (separate pa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use multiple paths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rt con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-division (shared med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F46-0579-4C57-A745-61E9F85D8B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ir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pe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co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49AD-120C-4D75-9CD4-2C5E70ED38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ssible Compromis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ion of physical pa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parallel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bar desig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A60E-EDF1-4B34-BAED-9C98F7C342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rossba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simultaneous transfer on disjoint pairs of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still hav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rt con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5D43-D638-40D2-8E16-34500A6B99F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lving Conten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s (FIF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ed to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ed to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intermediat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45F-03CA-4545-9451-6863C3F2549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6T16:23:18Z</dcterms:created>
  <dc:creator>Joel Schuetze</dc:creator>
  <dc:description/>
  <dc:language>en-US</dc:language>
  <cp:lastModifiedBy>jjohnso2</cp:lastModifiedBy>
  <dcterms:modified xsi:type="dcterms:W3CDTF">2004-07-16T03:30:03Z</dcterms:modified>
  <cp:revision>3</cp:revision>
  <dc:subject/>
  <dc:title>Switching Fabrics</dc:title>
</cp:coreProperties>
</file>