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E1D9-1C71-4F90-94E2-D19C84807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C84-96CF-4C27-8B41-B85BDD939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7A71-89DD-42E6-AEB8-B971BC147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0033-EC20-4C97-A4F6-999C1460A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ADD-2A4A-49B3-9C6A-65AE1145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6FFB-00B8-43F7-A471-04278A55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6D4-440A-4C30-9775-5DC1BB42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4F5B-4C22-4554-86FF-1CCBC057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ED82-7EC0-40CA-86EB-21D7F532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5E00-2E8B-4018-8710-0AA158B8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526A-518D-4678-9FE2-BDA403215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FC2D-FA2A-479F-9C76-C9A6E80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AB87-D579-4A3D-999D-B6C6041D6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Packet Processing: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gorithms And Data Structu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722E-3E98-4B0D-93FC-37A69DCF08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 Filt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source address in frames to identify computers on each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destination address to decide whether to forward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9C2E-09E2-4EBB-92A8-1D20C597FFA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idg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547640"/>
            <a:ext cx="8076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: two network interfaces each operating in promiscuous m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n empty list, L, that will contain pairs of val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forev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quire the next frame to arriv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I to the interface over which the frame arriv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the source address, 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ract the destination address,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the pair ( S, I ) to list L if not already pres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pair ( D, I ) appears in list 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op the fr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the frame over the other interfa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AF16-4778-430C-B103-5D9A9A0C6B0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 Of Table Look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high speed (more on this lat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-based systems typically 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shin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able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BE71-4F48-4E89-962F-87BD3443B7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s number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ell if table not fu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al technique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uble has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8FCD-1EB9-4E0F-A9B8-1FAF959D21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sh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371600"/>
            <a:ext cx="8153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ven: a key, a table in memory, and the table size 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: a slot in the table that corresponds to th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an empty table slot if the key is not in th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: double hashing with open addre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P1 and P2 to be prime numb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ld the key to produce an integer, 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table pointer Q equal to (P1 x K ) modulo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increment R equal to (P2 x K ) modulo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table slot Q not equal to K and nonempty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     (Q + R) modulo 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is point, Q either points to an empty table slot or to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ot containing the ke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48006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990720" y="48769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A7E6-EC48-45DE-8CE9-1339985D3F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ddress Looku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r can compare integer in one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ddress can be longer than integer (e.g., 48 b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multiple comparisons per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d address into integer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80D9-0DFC-4F04-BCE6-205CAE156F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ol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s N-bit value into M-bit key, M &lt;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technique: exclusiv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: two values map to same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compare full value when key m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4EA9-4D89-4144-9BB4-EEA7A75073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Forward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hosts as well as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next hop, interface)     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f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(datagram, routing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66720" y="3124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2589-2A75-495B-B147-8BFDD1B0C1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Routing Tab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entry per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y conta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-bit IP address of de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address m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2-bit next-hop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bit interfa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FB96-3B47-41DC-9B99-6241C211638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IP Routing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estination       Address              Next-Hop    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ddress             Mask                  Address     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92.5.48.0      255.255.255.0     128.210.30.5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28.10.0.0      255.255.0.0         128.210.141.12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.0.0.0                 0.0.0.0            128.210.30.5       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tored in 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number is for internal use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ero mask produc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faul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94ED-8221-4D9D-A28A-107E27A64E3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py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packet moved from one memory location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avoided whenever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packet in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buffer address among threads/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8432-683D-445F-8DD2-BEEBBB24AA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Forward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 destination address A and routing table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: a next hop and interface used to route datagrams to 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entry in table 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MASK to the Address Mask in the en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DEST to the Destination Address in the en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A &amp; MASK) == DES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p; use the next hop and interface in the en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point is reached, declare error: no route exi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542-DFA0-493F-88A5-226F75BC8C1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Fragmen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when datagram larger than network M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s IP datagram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FLAGS bits in datagram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show FLAGS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55B0-2C81-4374-B063-2A943B1268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 Fragmentation Algorith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art 1: Initializ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: an IP datagram, D, and a network M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e: a set of fragments for 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O NOT FRAGMEN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is se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 and report an erro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the size of the datagram header, 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N to be the largest multiple of 8 su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H+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e an offset counter, O, to ze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209C-5048-42B1-B72F-9E18CB3A646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P Fragmentation Algorith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art 2: Processing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datagram empt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fragment that has a copy of D’s hea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up to the next N octets of data from D and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in the fragme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RE FRAG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in fragment hea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TAL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in fragment header to be H+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RAGMENT OFF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in fragment header to 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and set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ECKS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eld in frag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O by N/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399F-2340-462B-B4E3-7F111D415B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ssembl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ment of frag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IP SOURCE ADDRESS and IDENTIFICATION fields in datagram header to group related fra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s fragments to form original dat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68A7-D5BC-4B9B-949F-48959F94CB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ssembl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 a fragment, F, add to a partial reassem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: maintain a set of fragments for each data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IP source address, S, and ID fields from 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 and ID to produce a lookup key, 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fragment set with key K or create a new s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F into the s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et contains all the data for the datagram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a completely reassembled datagram and process i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9D10-BEDA-48FC-BAF7-D4D4D962211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ata Structure For Reassemb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large enough to hold original dat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 of pieces that have arr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FD0-FACB-468C-B315-2EC47D86B5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 Connec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lves a pair of end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ed with SYN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inated with FIN or RESET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d by 4-tu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src addr, dest addr, src port, dest por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ACB6-F47D-460B-AE4C-A17B9DD02A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Connection Recognition Algorithm (Part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: a copy of traffic passing across a net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: a record of TCP connections present in the traf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a connection table, C, to empt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IP datagram that carries a TCP segme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IP source, S, and destination, D, address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act the source, P 1 , and destination, P 2 , port numb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(S,D,P 1 , P 2 ) as a lookup key for table C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new entry, if need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299-38BA-4D2D-BFEF-10B30AF2D3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Connection Recognition Algorithm (Part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egment has the RESET bit set, delete the entr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the segment has the FIN bit set, mar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in one direction, removing the entry from C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nection was previously closed in the oth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 if the segment has the SYN bit set, mark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io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ing established in one direction, making it   completely established if it was previously marked as being established in the oth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5ACF-937F-45C2-8167-B3603871DB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ffer Al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, fixed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-siz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list of fixed-size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6C00-0904-4399-966D-0BC40E6DB0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CP Splic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 two TCP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data to pass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avoid termination overhead translate segment header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02CF-F299-4A7E-AB7A-41471B6034F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Splicing Algorith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art 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: two TCP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: sequence translations for splicing the conn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D1, the difference between the starting sequences on incoming connection 1 and outgoing connection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D2, the difference between the starting sequences on incoming connection 2 and outgoing connection 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E7F9-7474-473F-916E-E1D22CC8A9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P Splicing Algorithm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art 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segment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egment arrived on connection 1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1 to sequence 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D2 from acknowledgement number;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 else if segment arrived on connection 2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D2 to sequence 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tract D1 from acknowledgement numbe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F151-23B4-4813-9E78-EE536309D95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processing algorithms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brid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fragmentation and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spli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lookup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ll match for lay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 prefix match for lay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9164-CBE9-47A9-B4A8-0225F54BBB6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ffer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fer address must be resolvable in all contex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st implementation: keep buffers in kernel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E2C0-3807-4F0A-8FD6-231FAA0B9DE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ger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tle endian (least-significant byte at lowest add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endian (most-significant byte at lowest add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E702-A34A-4652-A2DB-C49E997441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ger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ed when heterogeneous computers communic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s defi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twork byt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s convert to network byte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brary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    data size    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hs          16 bits        Network byte order to host’s byt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ons          16 bits        Host’s byte order to network byt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tohl           32 bits        Network byte order to host’s byt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onl           32 bits        Host’s byte order to network byte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5F5B-53E4-41C1-AD0F-B53D2E112B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 Of Algorithms Implemented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Software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ernet b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 fragmentation and reassem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connection recognition and spl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table look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7FFD-09D3-422B-892E-4C6CD0352B6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y Study These Algorith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sight on packet processing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inforce 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tudents recall protocol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ill need them in la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BC7-E6DE-4E9D-A1EF-BC9B917CBA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ernet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etween a pair of Ether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 transparent conn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ens in promiscuous m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s frames in both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s addresses to fil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F6EA-4BE0-4FDD-BB87-0F454D05A3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21:36:39Z</dcterms:created>
  <dc:creator>Joel Schuetze</dc:creator>
  <dc:description/>
  <dc:language>en-US</dc:language>
  <cp:lastModifiedBy>jjohnso2</cp:lastModifiedBy>
  <dcterms:modified xsi:type="dcterms:W3CDTF">2004-07-16T03:05:30Z</dcterms:modified>
  <cp:revision>8</cp:revision>
  <dc:subject/>
  <dc:title>Basic Packet Processing: Algorithms And Data Structures</dc:title>
</cp:coreProperties>
</file>