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047B42-5062-48D5-89DE-BC3C8AD784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97126-0420-423E-BEC8-D2C81114E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80046-9068-464B-8701-B0DB3C507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BAD09F-04B2-4DA8-85D9-353222CF2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4D52F-8540-48A5-84B7-BBBE7C0C6B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6D516-57CB-465A-B799-7EF224EE3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47EE6-3838-4874-B605-6D74D88EF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C1A88-A8F4-43E9-A927-8DA65D4CC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11061D-1A9A-4FBF-887E-D296F8961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D0080-D397-4B5E-8337-A0B248B3F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D27CA-54DA-4FE3-9CF9-B895450AF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14B56-870A-44B7-9757-32A377A720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r>
              <a:rPr b="0" lang="en-US" sz="1400" spc="-1" strike="noStrike">
                <a:solidFill>
                  <a:srgbClr val="000000"/>
                </a:solidFill>
                <a:latin typeface="Arial"/>
              </a:rPr>
              <a:t>Networking and Network Processor Curriculum </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r>
              <a:rPr b="0" lang="en-US" sz="1400" spc="-1" strike="noStrike">
                <a:solidFill>
                  <a:srgbClr val="000000"/>
                </a:solidFill>
                <a:latin typeface="Arial"/>
              </a:rPr>
              <a:t>Lesson 11</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BE85-52CC-4E1C-B9F0-3BB7CB4FA0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Network Processors: Motivation And Purpos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 11</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3C97BF5-EBA6-40AB-97A5-AF9E238AD32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re Third Generation Systems Sufficie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 name="PlaceHolder 2"/>
          <p:cNvSpPr>
            <a:spLocks noGrp="1"/>
          </p:cNvSpPr>
          <p:nvPr>
            <p:ph type="sldNum" idx="3"/>
          </p:nvPr>
        </p:nvSpPr>
        <p:spPr/>
        <p:txBody>
          <a:bodyPr/>
          <a:p>
            <a:fld id="{249C7208-6E8E-4917-938B-524178AF41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re Third Generation Systems Sufficie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mos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5360D72-FC98-4EB6-96C6-AE9DE095D9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re Third Generation Systems Sufficien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most . . . but not quit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4EA6754-A9D8-4382-AE02-DDBC7C0A48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blems With Third Generation System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cos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time to marke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icult to simulate/ tes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nsive and time-consuming to change</a:t>
            </a:r>
            <a:endParaRPr b="0" lang="en-US" sz="32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ven trivial changes require silicon respin</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8-20 month development cycle</a:t>
            </a:r>
            <a:endParaRPr b="0" lang="en-US" sz="28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ttle reuse across product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ed reuse across version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36516E8-5135-420D-BD56-0F3E5FE4D5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blems With Third Generation Systems (continued)</a:t>
            </a:r>
            <a:endParaRPr b="0" lang="en-US" sz="40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onsensus on overall framewor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tandards for special-purpose support chip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in-house expertise (ASIC designer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4D75151-D765-4832-865B-8A943C07EA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 Fourth Gener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al: combine best features of first generation and third generation system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lexibility of programmable processo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gh speed of ASIC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called </a:t>
            </a:r>
            <a:r>
              <a:rPr b="0" i="1" lang="en-US" sz="3200" spc="-1" strike="noStrike">
                <a:solidFill>
                  <a:srgbClr val="000000"/>
                </a:solidFill>
                <a:latin typeface="Arial"/>
              </a:rPr>
              <a:t>network processors</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456F1EAB-1ECA-4971-96B2-EF71E2D114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1" lang="en-US" sz="4000" spc="-1" strike="noStrike">
                <a:solidFill>
                  <a:srgbClr val="000000"/>
                </a:solidFill>
                <a:latin typeface="Arial"/>
              </a:rPr>
              <a:t>Definition Of A Network Processor</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 </a:t>
            </a:r>
            <a:r>
              <a:rPr b="0" lang="en-US" sz="3200" spc="-1" strike="noStrike">
                <a:solidFill>
                  <a:srgbClr val="000000"/>
                </a:solidFill>
                <a:latin typeface="Arial"/>
              </a:rPr>
              <a:t>network processor </a:t>
            </a:r>
            <a:r>
              <a:rPr b="0" i="1" lang="en-US" sz="3200" spc="-1" strike="noStrike">
                <a:solidFill>
                  <a:srgbClr val="000000"/>
                </a:solidFill>
                <a:latin typeface="Arial"/>
              </a:rPr>
              <a:t>is a special-purpose, programmable hardware device that combines the low cost and flexibility of a RISC processor with the speed and scalability of custom silicon (i.e., ASIC chips). Network processors are building blocks used to construct network syste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6A63741-86D2-4491-803E-8FCDED098E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etwork Processors: Potential Advantag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ly low co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ightforward hardware interf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 to acces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mor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twork interface device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m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scale to higher</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ta rate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cket rat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1EF8617-0032-495F-8EC7-5DC572A2F4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etwork Processors: Potential Advantag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latively low cos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aightforward hardware interf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 to access</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mor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etwork interface devices</a:t>
            </a:r>
            <a:endParaRPr b="0" lang="en-US" sz="24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rogramm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ility to scale to higher</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ta rate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acket rat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67A6505-B09F-4F8A-A2B6-0C5DD79D553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Promise Of Programmability</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producers</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wer initial development cost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use software in later releases and related system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ster time-to-marke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ame high speed as ASIC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consumers</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uch lower product cos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expensive (firmware) upgrade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FAAABF2-1353-4789-BC3D-6B2658F5DD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ond Generation Network System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urrent with ATM development (early 1990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pose: scale to speeds faster than single CPU capac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eatur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Use classification instead of demultiplexing</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centralized architecture to offload CPU</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sign optimized for fast data path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8A5DC81-C3D1-4173-B918-8174E9C108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oice Of Instruction Set</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mability alone insuffici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need higher spe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network processors hav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structions for specific protocol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structions for specific protocol processing task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ices difficul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76EB754-5356-4B11-A4A9-0FE9ABF2F49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struction Se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choose one instruction 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single instruction set best for all u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factor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wer consump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eat dissipa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s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discussion later in the course</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E5B350E-A597-47E6-A0D2-9E77AA39D3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calabilit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primary techniqu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arallelism</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ata pipelin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 many processor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w should they be interconnected?</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discussion later</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DE074B9-29E6-44F5-BD44-920741AC3A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sts And Benefits Of Network Processor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ly</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re expensive than conventional processo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lower than ASIC desig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network processors fi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mewhere in the middl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2E30817-DC50-4F62-893C-4F09D57251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chieving Higher Speed</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know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ust partition packet processing into separate function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o achieve highest speed, must handle each function with separate hardwar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unknown</a:t>
            </a:r>
            <a:endParaRPr b="0" lang="en-US" sz="28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actly what functions to choos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actly what hardware building blocks to us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actly how building blocks should be interconnect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BAA4527-3F87-4716-89FE-760C294A6E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Variety Of Network Processor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s driving a gold rush</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Ps will dramatically lower production costs for network system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good NP design potentially worth lots of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de variety of architectural experimen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ild rush to try yet another varia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681C27D-DBC6-4DF8-B29A-49ABC70F5F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n Interesting Observ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developed using ASICs</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gh development cost ($1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wer cost to replicat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ystem developed using network processors</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wer development cos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gher cost to replicat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sion: amortized cost favors ASICs for most high-volume system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ECC1884-A7B2-443D-93C4-84B9ECAA48F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ummar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network systems have embedded processor on each NI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ocessor is programmable chip with facilities to process packets faster than conventional processo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motivation is economic</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wer development cost than ASIC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gher processing rates than conventional processor</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93354D27-DAF3-4916-876F-99FE2929F4A3}"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econd Generation Network Systems (details)</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network interfac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owerful NIC</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ivate buffer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speed hardware interconnects NIC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purpose processor only handles excep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fficient for medium speed interfaces (100 Mbp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62741D7-991A-4592-8A93-71F0D6C865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80520"/>
            <a:ext cx="8153280" cy="1752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minder: Protocol Processing In</a:t>
            </a:r>
            <a:br>
              <a:rPr sz="3600"/>
            </a:br>
            <a:r>
              <a:rPr b="1" lang="en-US" sz="3600" spc="-1" strike="noStrike">
                <a:solidFill>
                  <a:srgbClr val="000000"/>
                </a:solidFill>
                <a:latin typeface="Arial"/>
              </a:rPr>
              <a:t>Second Generation Network Systems</a:t>
            </a:r>
            <a:endParaRPr b="0" lang="en-US" sz="3600" spc="-1" strike="noStrike">
              <a:solidFill>
                <a:srgbClr val="000000"/>
              </a:solidFill>
              <a:latin typeface="Arial"/>
            </a:endParaRPr>
          </a:p>
        </p:txBody>
      </p:sp>
      <p:sp>
        <p:nvSpPr>
          <p:cNvPr id="48" name="PlaceHolder 2"/>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C handles most of layers 1 - 3</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path forwarding avoids CPU completely</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026409F-A658-4B75-B213-089A2D6D22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ird Generation Network System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te 1990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ality partitioned furt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l hardware on each N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most all packet processing off-loaded from CPU</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F3DDD5A-05A8-4BB6-9517-45959C4BE0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ird Generation Design</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C contain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IC hardwar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mbedded processor plus code in RO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IC handl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lassification</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rwarding</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raffic policing</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nitoring and statistic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0D7DBDA-7A86-4ABC-A992-815773A3B84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mbedded Process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possibiliti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lex Instruction Set Computer (CISC)</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educed Instruction Set Computer (RISC)</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ISC used often because</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igher clock rate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maller</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wer power consumptio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A7D0B55-C5A2-46B4-AA9A-DBA8FCBD99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140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urpose Of Embedded Processor</a:t>
            </a:r>
            <a:br>
              <a:rPr sz="4000"/>
            </a:br>
            <a:r>
              <a:rPr b="1" lang="en-US" sz="4000" spc="-1" strike="noStrike">
                <a:solidFill>
                  <a:srgbClr val="000000"/>
                </a:solidFill>
                <a:latin typeface="Arial"/>
              </a:rPr>
              <a:t>In Third Generation Systems</a:t>
            </a:r>
            <a:endParaRPr b="0" lang="en-US" sz="4000" spc="-1" strike="noStrike">
              <a:solidFill>
                <a:srgbClr val="000000"/>
              </a:solidFill>
              <a:latin typeface="Arial"/>
            </a:endParaRPr>
          </a:p>
        </p:txBody>
      </p:sp>
      <p:sp>
        <p:nvSpPr>
          <p:cNvPr id="56" name="PlaceHolder 2"/>
          <p:cNvSpPr>
            <a:spLocks noGrp="1"/>
          </p:cNvSpPr>
          <p:nvPr>
            <p:ph/>
          </p:nvPr>
        </p:nvSpPr>
        <p:spPr>
          <a:xfrm>
            <a:off x="457200" y="2133720"/>
            <a:ext cx="8305920" cy="39924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ird generation systems use an embedded processor to handle layer 4 functionality and exception packets that cannot be forwarded across the fast path. An embedded processor architecture is chosen because ease of implementation and amenability to change are more important than spee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EC3774C-294E-4BFA-8145-1117469AA5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rotocol Processing In Third Generation System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purpose ASICs handle lower layer fun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RISC) processor handles layer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U only handles low-demand processing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F6E01E9-8645-4084-BA79-6646F387CA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1T20:08:17Z</dcterms:created>
  <dc:creator>Joel Schuetze</dc:creator>
  <dc:description/>
  <dc:language>en-US</dc:language>
  <cp:lastModifiedBy>jjohnso2</cp:lastModifiedBy>
  <dcterms:modified xsi:type="dcterms:W3CDTF">2004-07-16T03:32:55Z</dcterms:modified>
  <cp:revision>3</cp:revision>
  <dc:subject/>
  <dc:title>Network Processors: Motivation And Purpose </dc:title>
</cp:coreProperties>
</file>