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0926-9DEB-49DC-990A-5B7AFCAB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EFD4-EC09-4894-A6E0-CEA6E4145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0EC7-0AE9-45A3-9414-302EFB2D0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914-FFD5-4530-BD27-D40D137C3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2A9-0DFA-438A-B857-5183157F2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CEC6-2FC1-4C60-9753-FA899636F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856B-0DAD-4449-8BE0-EBDDD89F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670D-1DB0-4D16-B4D9-2F491558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2BAF-DDF2-44A0-9E79-6EE58D54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1066-FDD8-48CD-BF77-5E38DA5CA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1C76-EDE4-43C0-9478-0524D807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B278-BCE4-4B28-AEB7-C1DE9B94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3ED2-5EE9-484B-A7E3-48C4A0DBF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rogramming Mode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(Intel® AC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sson 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9CE7-D449-4ED1-9501-53BFBC53B36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vision Of ACE Into Component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croblocks for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as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ack ACE runs entirely on Strong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A674-BDC3-49A4-96FA-A064BB78138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icroblock Grou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t of one or more micro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eated as single un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aded onto microengine for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an be replicated on multiple microengines for higher spe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761-E165-4FB6-A5EE-E5A8C0439C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Replication Of Microblock Grou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ypically use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gress microblock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gress microblock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plications depend on number and speed of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DK software computes replications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7735-2BBA-4839-87A5-96BC44CECE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icroblock Struc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synchronou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er cre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itialization ma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patch lo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BB69-E8A7-4470-8A8D-F94CF9DC1C6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ispatch Loo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termines disposition of each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turn co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ei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end packet to Strong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orward packet to ‘‘next’’ micro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card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3D3D-244C-4ED0-923C-47FB5CE16C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ispatch Loo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Allocate global register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Initialize dispatch loop; Initialize Ethernet devic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Initialize ingress microblock; Initialize IP microblo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while (1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Get next packet from input device(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Invoke ingress microblo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if ( return code == 0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rop the pack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} else if ( return code == 1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end packet to ingress core compon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} else { /* IP packet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Invoke IP microblo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if ( return code == 0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rop packe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} else if ( return code == 1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end packet to IP core compon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end packet to egress microblock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2965-A828-4C53-993B-72BF77FC62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rguments Passed 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rocessing Mac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ffer hand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or a frame that contains a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 set of state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ain information about the 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n be mod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 variable na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l_next_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ed to store return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2376-B69A-47D7-A424-AFDB3245AB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acket Queu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laced between AC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ffer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ermit asynchronous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D8A-56D3-4DFF-B560-F4979C13C8C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Excep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ckets passed from microblock to cor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icrocode sets dl_next_block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X_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patch loop forwards packet to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CE tag used to identify corresponding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xception handl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 invoked in core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DDD8-1A10-4EEE-84C0-8C8470AF6AD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ossible Actions Core Componen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pplies To Excep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sume the packet and free the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dify the packet before sending it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nd the packet back to the microblock for further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orward the packet to another ACE on the Strong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2FF-5F51-4679-8761-F487DEE23D6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ctive Computing Element (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fined by Intel’s S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ot part of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6342-7BAC-44D6-A24C-72B9DDD6C77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rosscall Mechanis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d betw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re component of one ACE and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E core component and non-ACE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ot intended for packet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perates like Remote Procedure Call (R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echanism 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ross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9DE1-ED6E-47CF-BB53-64CD0587E0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rosscall Imple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oth caller and callee programmed to use crossc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claration given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terface Definition Language (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L compi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ads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enera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ub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at handle calling detai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81F-5CF1-408D-9EDF-BAFDE8D017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rosscall Implementa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ree types of crossca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ferred: caller does not block; return notification 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eway: caller does not block; no value retu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woway: caller blocks; callee returns 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woway call corresponds to traditional R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ype of call determined at compil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D87-E465-4FC6-8CC5-8B9F35A2F4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woway Calling And Bloc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cause the core component of an ACE is prohibited from blocking, an ACE cannot make a twoway call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B02A-EB57-4549-A086-52AD9045E0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tel® SDK uses ACE programming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sic unit of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n include code for StrongARM (core) and microengines (microbloc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acket queues used to pass packets between 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rosscall mechanism used for nonpacket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49F8-ACAC-4902-A8E7-433F27E6C25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CE Featu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damental software building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ed to construct packet process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uns on StrongARM, microengine, or 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ndles control plane and fast or slow data path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ordinates and synchronizes with other 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n have multiple inputs or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n serve as part of a pipe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F78D-FF88-418D-BAFB-88F6630003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CE Termin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ibrary 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uilt by 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vailable with SD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ventional 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uilt by Intel 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an incorporate items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ction Servic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cro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re compon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uns on Strong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icroblock compon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uns on microeng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C9F6-D3BE-46E9-92E2-6698AC6AE1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ore Termin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ource micro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ndles ingress from I/ O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ink micro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ndles egress to I/ O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ansform micro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rmediate position in a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2FA7-8A1F-4457-AD3E-AE252C4444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our Conceptual Parts Of An A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tions associated with each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essage and ev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403D-124C-4128-B368-2116388DDF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Output Targets And Late Bin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E has set of out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ach output gi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arget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utputs bound dynamically at ru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nbound target corresponds to packet dis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6384-F2A0-4833-BDCB-BA687F4213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nceptual ACE Interconne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3123720"/>
            <a:ext cx="822960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gress ACE acts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cess ACE acts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ans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gress ACE acts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nections created at ru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2362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2133720"/>
            <a:ext cx="14475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ress 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2362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76720" y="21337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 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57800" y="2133720"/>
            <a:ext cx="160020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ress 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2438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4560" y="201780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00800" y="201780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42AE-CA3B-4648-B197-7BBD04EFE1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mponents Of MicroA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revie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ingle ACE with two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rongARM (core compon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croengines (microblock compon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mmunication possible between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8FA-25AD-4F1C-9456-587AB07F245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9:28:50Z</dcterms:created>
  <dc:creator>Joel Schuetze</dc:creator>
  <dc:description/>
  <dc:language>en-US</dc:language>
  <cp:lastModifiedBy>jcao3</cp:lastModifiedBy>
  <dcterms:modified xsi:type="dcterms:W3CDTF">2004-07-26T09:27:46Z</dcterms:modified>
  <cp:revision>4</cp:revision>
  <dc:subject/>
  <dc:title>Programming Model (Intel ACE)</dc:title>
</cp:coreProperties>
</file>