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2331-B690-4612-AD6E-89456EA21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F727-6E54-475E-869E-DCA59443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5301-0014-4E61-AA63-765A0120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FB9C-98CB-4ECB-81C6-5CDA8BDF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B2EA-1166-4FDC-92A6-D90A127E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2006-90A6-4BCB-874A-DD591C73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73D-5A33-4D4D-8C36-1849CB34D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396B-DB38-4C6C-BBCA-9B36D20E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2BC2-1E7E-4685-83AB-D2AD5DE9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26DF-8DF2-41B2-B4E3-E8105BE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1EA3-D35A-4538-9555-CD963D5C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60FE-21F0-4C0C-B9A1-C8334D8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ing and Network Processor Curriculu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sson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C0AF0-2F16-415A-9BDE-9509FFEB3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sign Tradeoffs And Conseq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 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6AC1-766B-4341-BEEF-890B08CB17D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licit Parallelis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Cost And Programmabi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licit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 is less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difficult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it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ghtly low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693-6E7A-436D-9C74-2274C5E116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is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Strict Packet Ord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paralle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s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out-of-order pac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ct packet ord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ds protocols such as TC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nullify use of paralle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BAF-95AD-46E5-BDE8-8C8007BA96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eful Classification Vs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gh-Speed Parallel Classifica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c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no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fa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ynamic class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synchronization for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F6B4-3A52-44AC-8432-8804B893C6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mory Speed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s. Programm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arate memor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allel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ield high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banked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to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830-9E13-4DAB-912A-E805B55CBA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/ O Performanc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s. Pin Cou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 wid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 to produce higher 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ease to take fewer p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C47-DD42-4CD0-9B26-2A2AFA0386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gramming Langu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hree-way tradeo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have two, but not three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 of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7CD-B23E-4A5E-BE49-114CAD9987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ming Languages Tha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fer High Functionalit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programming vs.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-level language offers ease of programming, but lowe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-level language offers higher performance, but makes programming more diffic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5DAF-5FE0-4C81-9340-51DA794010D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ming Languages Tha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fer Ease Of Program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vs.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restricted language, compiler can generate optimized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 functionality and ease of programming lead to inefficient co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553-C7AA-4828-811D-56B639A014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ming Languages That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ffer High Performan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e of programming vs. function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compiler and ease of programming imply a restricted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ing code for general applications requires more programmer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8FBB-9B67-48B5-9B36-9129853A86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threading: Throughpu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Ease Of Programm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threads of control can increase through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 the operation of threads that exhibit less contention requires more programmer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A59-EDFD-4761-B4BF-EFF35407CC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w Development Cos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undamental economic motiv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costs $1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processor costs programm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E85F-2A5B-49FE-9B47-86322EF039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ffic Managemen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High-Speed Forwarding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ffic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nage traffic on multiple, independent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extra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ind forwar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ed at highest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stinguish among 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2E1-DCFC-4269-BC76-0789C006006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ity Vs.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fic Architectural Ro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network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in any part of any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with any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-purpose network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ed to one role / protoc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s expensive, but may need many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A4D-9653-427A-B397-2262E5D8D6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cial-Purpose Memory Vs.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ral-Purpose Memor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-purpos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type of memory serves al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 be optimal for any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-purpose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ized for one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require multiple memory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CBA3-6E5A-4636-8D13-2A2785712C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Architectural Adva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ward compat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s same instruction set through multiple ver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not provide maxima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chitectural ad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more optimiz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for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FA15-87F4-4692-B975-A7CE9EB2F0E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arallelism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Pipeli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are fundamental performance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sed in combination: pipeline of parallel proce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long is pipel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parallelism at each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2700-9341-4218-A0A2-E7021A20C3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esign tradeof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asy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8A67-7518-4C9C-80A1-4FC204F110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rogrammability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Processing Spee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mable hardware is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ility costs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8774-BE16-4FAE-A839-9E5BA46863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e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Functio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with most functionality is slow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ng functionality to NP lowers its overall ‘‘speed’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BEEE-A8D9-4DE7-9716-87759585D21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ed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def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ncl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cket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rst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C84-FC42-48D4-99FB-7E0C757D4B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-Interface Rate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Aggregate R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-interface rate important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ysical connections form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cales by having faster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gregate rate important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bric forms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cales by having more inter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9032-E2AB-44B8-832A-33E9F8A19F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creasing Processing Speed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Increasing Bandwidth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ill network processor capabilities or the bandwidth of network connections increase more rapid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effect of more transis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Moore’s Law apply to bandwid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E29-93E2-467A-8721-67C1E3D608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ookaside Coprocessor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Flow-Through Coprocess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ow-through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at wire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a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ular and easy to 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cation can be bottlen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A1D-76B9-4E58-92B5-EC958878F3E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orm Pipelin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s. Synchronized Pip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form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s in lock-step like assembl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tage must finish in exactly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chronized pip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ffers allow computation at each stage to dif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ation expens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C259-5FEF-45D8-BEBE-AE9A8FD672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2T16:48:24Z</dcterms:created>
  <dc:creator>Joel Schuetze</dc:creator>
  <dc:description/>
  <dc:language>en-US</dc:language>
  <cp:lastModifiedBy>jjohnso2</cp:lastModifiedBy>
  <dcterms:modified xsi:type="dcterms:W3CDTF">2004-07-16T04:14:45Z</dcterms:modified>
  <cp:revision>3</cp:revision>
  <dc:subject/>
  <dc:title>Design Tradeoffs And Consequences</dc:title>
</cp:coreProperties>
</file>