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5A10-B268-470C-8822-9DB008036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EC7B-E222-4B6D-B7CF-37448FB7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4D9B-46CB-41A5-9CE7-1D26EBF1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2CC9-FA92-47CF-9106-C3726689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18E-18DD-4F02-A880-D63CD2E53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DED4-5563-4C97-8FCB-5555BA645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A480-7DD1-4610-AE11-229352A1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23A-D8BC-44D9-8053-7B8C8E40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C52-0CE0-4417-B8BC-519C63E9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A0B-B0B9-4791-A8AD-1324352F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AFF-B074-4622-9A08-6891D307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2E9-FBD0-4378-AC98-83025C40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72C1-F14A-4A42-B9C9-A6149D1D2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Software On A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ventional Process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ED93-E181-4A21-A9F4-00FD7EAD8D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ypical Implementations And AP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API using blocking (e.g., socket A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application thread runs while an application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API using 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dedicated to one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nchronous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on interrupt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FB6-A2B0-4E44-8054-14412D18979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Asynchronous AP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use with network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st possibl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fficient for basic packet processing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 O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r manipulation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BA6E-1AE6-4D9D-AE39-4810FA9558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Asynchronous AP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zation and terminati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_startup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_shutdow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function (called asynchron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v_fram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_fbu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_frame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67D-FD36-44F7-A94D-AC41D997E9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Asynchronous API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r functions (called asynchronous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ayed_ca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iodic_ca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l_call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d by outside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ole_command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989-6E1E-48FF-AD71-D757460648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cessing Prior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ich code CPU runs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devices need high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software has medium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programs have lowest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s provide buffering across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8148-AFED-4439-8177-AB7F12FCD46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we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um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est P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dri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ing fr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11E3-1330-4856-8DA6-81524DBAC2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 Of Prioritie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An Operating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le approa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th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7D25-EFFF-49D1-9561-1239C1EA8FB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rupt Mechanism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t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s asynchron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s current processing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s processor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anches to specified loc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A6D4-DD76-487C-BBB1-368889D459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Types Of Interru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rdware inter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device (b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service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ftware inter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by executing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riority than hardware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priority than other OS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D099-6E84-42F3-9662-520587164F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ftware Interrupts 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stack operates as software inter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interru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ice driver raises software interru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evice driver finis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interrupt cl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col code is invo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D0FC-1E6D-4323-88A7-EA69105D637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Implementations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 Softwar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applicatio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as user-leve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direct access to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cost to copy data from kernel addres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un a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ir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613-BBD4-4034-8D2E-97B6D5F746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rnel Thread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 to interru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iar to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er-grain control than software interru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assigned arbitrary range of prior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F63-6C2E-4550-813F-C70FF5D614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ual Orga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passes among multiple threads of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ue of packets between each pair of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s synchronize to access que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5C4-ADAC-40E0-BCDC-284A1D7B44E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sible Organization Of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ernel Threads For Layere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p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p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hreads per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hreads per protocol plus timer management thread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thread per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20CF-23F6-4557-BA22-F9E092306BC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e Thread Per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for programmer to under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matches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priority to be assigned to each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 packet is enqueued once p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56E3-B5C4-4458-9476-9AE8E48ED6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e Thread Per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 one thread p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ation matche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s packet is enqueued once per l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ver one thread per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for programmer to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r-grai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riority to be assigned to each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4AD4-6B9E-4873-BB28-9E58EBB3F6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Threads Per Protoc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ivision of du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ifies programm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control than single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for incoming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for outgoing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 for management/ ti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C822-CC68-4E86-AF4B-612BEAB94D5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mers And Protoco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tocols implement time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Retransmission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2MSL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 Cache entry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Reassembly time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9D6-8D43-4F7B-8D21-66F1DE22EB8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ple Threads Per Protocol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us Timer Management Thread(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rotocols each need timer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timer thread incurs over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consolidate timers for multiple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CD8-8022-455F-B54F-37A9C59088F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s One Timer Thread Suffic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range of timeouts (microseconds to tens of secon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want to give priority to some timeo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two or more timer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466-816F-47A7-897E-8DDFBE04823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ultiple Timer Thre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threads usually suff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-granularit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specified in 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at low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all-granularity t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specified in microsec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at higher pri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0885-FFF1-4C7A-A1C4-CC067B352AE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Implementations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 Softwar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embed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-purpose hardwar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to specific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for stand-al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has ful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52E0-DCC7-41D0-A619-FAC174997A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ad Synchr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for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pass a packet to lay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eues th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for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s packet from the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7BEF-5C5C-4254-9641-74AA41B2E94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read Synchron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for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to pass a packet to lay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queues th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for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s packet from the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Context switch requir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9A09-B2C9-4970-AC18-8A636027C88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ext Switc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passes from current thread to a waiting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be minim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EB2-0D6E-4F40-9A25-9C4669446B1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e Thread Per Pack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allocate set of 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its for packet to arr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es through protocol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to wait for nex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es context swi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6CDA-E023-4EB2-96D2-50F31B6193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ket processing software usually runs in 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I can be synchronous or asynchron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ities achieved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nterru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thread architectures pos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8D5F-3B24-4F62-A874-EC3B783EA99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Implementations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 Softwar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embedded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-purpose hardware de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dicated to specific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al for stand-alon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has full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will experience this in lab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80E2-336D-420D-B5F9-88AA4E40DEC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Implementations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tocol Software (continued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n operating system ker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fficult to program than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with kernel priv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access to network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EDAD-8009-4EAE-BD66-BC839FF804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face To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plication Program Interface (A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ous interface can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CCA-B678-4642-8CF2-BD854C9574E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ynchronous AP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vent-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s set of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s which function to invoke for each event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 has no control over function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keep state in share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 (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when packet arr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24B1-7558-47A6-A19E-92D101B3574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chronous API Using Bloc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s main flow-of-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ly invokes functions as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-in functions block until request 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ait_for_packet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 until packet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ier to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646-ECBB-4236-A394-C82623839C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ynchronous API Using Poll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blocking form of synchronous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function call returns immed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s operation if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error code otherw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fun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ry_for_packet(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returns next packet or error code if no packet has arr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r to underlying hard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B6D-12E9-4277-8A22-491D521A0C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9T22:08:40Z</dcterms:created>
  <dc:creator>Joel Schuetze</dc:creator>
  <dc:description/>
  <dc:language>en-US</dc:language>
  <cp:lastModifiedBy>jjohnso2</cp:lastModifiedBy>
  <dcterms:modified xsi:type="dcterms:W3CDTF">2004-07-16T03:20:32Z</dcterms:modified>
  <cp:revision>3</cp:revision>
  <dc:subject/>
  <dc:title>Protocol Software On A Conventional Processor </dc:title>
</cp:coreProperties>
</file>