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8826-5A4E-4F09-91B5-6EE09902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DEB0-C2A0-4833-9CE0-7C2CFE60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9C8-B9D9-4B8C-BFCD-40077089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1FD5-28FB-4D38-8099-BA7E6887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E84-8DDC-4DDC-8B00-805669B9B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637B-F6BA-45B6-B772-DD9F70C14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4BFF-9890-4BD8-A36A-78F06B7BC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49A-0535-47AD-93F5-2E104B0BF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A2BE-71B0-4650-A1C8-AC3346C3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CC9F-ACD1-49C2-A5E9-E014A22B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7DCF-BE95-4C6D-A3A5-0E4253D3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8EA4-4745-4CD3-A747-C86BB490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ing and Network Processor Curriculu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CB707-D3BB-48F2-A557-DBAE6971A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QUICK OVERVIEW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F NETWORK PROCESS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EADE-B7B0-4CAE-81E0-9654C8A808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Idea In A Nut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se new hardware building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them programm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support for protocol processing and 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-purpose processor(s) for control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-purpose processor(s) for packet processing and table look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functional units for tasks such as checksum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 as much as possible onto on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 result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work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70DB-3782-4E9E-8B7B-5815F3747C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Rest Of The Cou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general problem being 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vey some approaches vendors have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possible archite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example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how to implement systems using network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B7CF-4E9B-42F6-9E06-10931011877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etwork Systems Problem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rates keep incre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s and applications keep ev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design is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implementation and testing take too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s often contain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-purpose hardware designed for one system cannot be re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6E96-7AD7-4C9A-A439-D061A4019D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halleng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ways to improve the design and manufacture of complex networking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1087-7ADC-4159-82D3-DB0F938AFC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Big Ques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yst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we have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devices not yet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physical communication mechanis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we have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communication systems not yet   designed / standard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peed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we have 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peeds much faster than those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268B-0461-4FC3-A3B4-E4B3C30986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Big Ques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protoco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we have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protocols not yet designed / standard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p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thing we have 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applications not yet designed / standard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89E-F925-47E2-A9AF-89185361FE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Challeng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restate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flexible, general technologies that enable rap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cost design and manufacture of a variety of scalable, robust, efficient network systems that run a variety of existing and new protocols, perform a variety of existing and new functions for a variety of existing and new, higher-speed networks to support a variety of existing and new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351-433D-4C94-8BAC-0D997AD98D6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cial Difficult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tious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gue problem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s evolving with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sure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ing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610-9F97-4E64-AB07-21E7B4F283C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derat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and extensible to accommo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ry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r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ry physical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B59B-A0F5-49CA-B975-31F079BC8B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mabilit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to low-cost hardware for next generation network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flexibility than ASIC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/ faster to update than ASIC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expensive to develop than ASIC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need: a programmable device with more capability than a conventional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14C-E0BB-4EE5-B6BD-0E3AD5F2DA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4T17:34:52Z</dcterms:created>
  <dc:creator>Joel Schuetze</dc:creator>
  <dc:description/>
  <dc:language>en-US</dc:language>
  <cp:lastModifiedBy>jjohnso2</cp:lastModifiedBy>
  <dcterms:modified xsi:type="dcterms:W3CDTF">2004-07-16T03:10:05Z</dcterms:modified>
  <cp:revision>5</cp:revision>
  <dc:subject/>
  <dc:title>A QUICK OVERVIEW OF NETWORK PROCESSORS </dc:title>
</cp:coreProperties>
</file>