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9B96-B313-4C7B-BCEA-EECDB1A10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5738-D061-4167-AF0A-2F678610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D60-DD93-4FCB-9420-29081FDC9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853-448E-4B50-889D-1814D1D89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714A-0E7A-4E06-B1A5-DC1086FD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7D74-657F-4686-AF88-D8056C48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C5E0-D0B1-4107-95A8-FCD30132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60F6-A144-46FC-939D-794C3673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19A-F8A0-40AC-B653-4094413B5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C3C-3493-4292-BF41-293D02BA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FE8D-F712-44CA-AF63-5A32E740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6E74-2679-468E-9FC0-900D4C05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2F2D-C6CE-468A-A008-8ABB994BD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omplexity Of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Processo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DEFE-DFD4-41DD-AF2F-68AB857256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gress Proces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 of error detection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lookup and packe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gmentation or 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sha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ing and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ing and buff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securit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F38C-E4A3-420E-BFC5-0DCBB4C80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Note About 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like a conventional processor, scalability is essential for network processors. To achieve maximum scalability, a network processor offers a variety of special-purpose functional units, allows parallel or pipelined execution, and operates in a distributed environ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55DC-0C49-49BB-AF0A-13D7F37CE2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Will Network Processo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gress processing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gress processing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mbin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2F76-750C-4329-B2C0-D44B82C528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Will Network Processor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 U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ingress processing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gress processing on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combina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: No single r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9E7D-6952-496F-9C7A-1AA1B563D03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tential Architectural Rol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Network Process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for a conventional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gmentation of a conventional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input path of a network interface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a network interface card and central interconn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central interconnect and an output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the output path of a network interface 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ed to central interconnect like other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7D72-E4A2-45D4-8B0C-D24DBE2146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 Interesting Potential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ole For Network Processo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addition to replacing elements of a traditional third generation architecture, network processors can be attached directly to a central interconnect and used  to implement stages of a macroscopic data pipeline. The interconnect allows forwarding among stages to be optimiz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5B6F-E361-4BCA-BFC4-F76C541462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ventional Processor Desig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 instruction set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n emulator/ simulator f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a compiler that translates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 and emulate example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result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ant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EB7-38C7-4D6F-A5E2-B16E779F89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Processor 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mulate low-level logic (e.g., Veri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handle real packet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GA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 and time-consu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make major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4A8-2BA7-41D0-A1E4-4356D02EC8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Processo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 conventional processor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isting cod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ior hardware exper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esign diff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B1A2-7F49-406C-A5E4-498342E9C4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rdware And Software Desig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cause a network processor includes many low-level hardware details that require specialized software, the hardware and software designs are codependent; software for a network processor must be created along with the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B210-E1B8-4A14-8C21-51077B2849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Should A Network Processo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e Designed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s network processor will per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le of network processor in overall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659F-A0AE-4A02-944C-B30C6896FF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processing divided into ingress and egress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processor design is challenging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 generality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xisting code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designs evolving with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4CAF-7897-401F-85E5-75C281C16EF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for all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for all protocol process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for all possibl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to high bi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 to high packet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g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ality, not merely comprehens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7CAA-C18C-489B-B5DA-4F40564C82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Key Poi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network processor is not designed to process a specific protocol or part of a protocol. Instead, designers seek a minimal set of instructions that are sufficient to handle an arbitrary protocol processing task at high sp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F91-2866-44D8-92D4-10B5B9AA3D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Processor Desig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understand network processors, consider problem to be 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being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process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B971-264F-495B-88B5-D4E5E5688C2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Process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detection and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measurement and po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and protocol de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lookup and packet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, fragmentation, and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and schedu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: authentication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114D-F6B2-413A-ACC8-BB6FEF5E44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our list of functions encompass all protocol proc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function(s) are most important to optimiz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functions map onto hardware units in a typical network syst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hardware units in a network system can be replaced with network process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inimal set of instructions is sufficiently general to implement all func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3BE-CA27-4451-A8AF-AB89876798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vision Of Functional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tion problem to reduc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division into two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pplied when packet arrives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gress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s applied when packet leaves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gress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1C03-8CB9-44F3-B399-6607D5A656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gress Proces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and error det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or de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easurement and pol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lookup and packet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 modification and transport spl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ssembly or flow 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, queueing, and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FF11-AA38-440E-A580-EE9C1DE71B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20:21:39Z</dcterms:created>
  <dc:creator>Joel Schuetze</dc:creator>
  <dc:description/>
  <dc:language>en-US</dc:language>
  <cp:lastModifiedBy>jjohnso2</cp:lastModifiedBy>
  <dcterms:modified xsi:type="dcterms:W3CDTF">2004-07-16T03:35:12Z</dcterms:modified>
  <cp:revision>3</cp:revision>
  <dc:subject/>
  <dc:title>The Complexity Of Network Processor Design</dc:title>
</cp:coreProperties>
</file>