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3B1-3159-4943-A6F8-40B4D9DF1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BB16-90E2-4AA5-B8E0-5F75DEA8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57AA6-F472-466D-9B17-DFDBB79C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A0C-73B0-4C0C-8D78-38FC768E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D6B-69CC-492A-BE69-165258DD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36E1-EA96-45B5-ADE2-FBBBD533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9462-330D-4603-8540-1A54DF5E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CCF9-54CC-4FEC-8147-36538403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7BD1-E4CA-49AE-9239-BF5E8701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29D-1AEA-4B3B-897F-A4DC0F6E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DA5-8058-4EE2-BA3F-E37E1C00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7E2-231D-4DE8-99A6-868BC456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FA11-3C33-44C8-AD38-6E15825EB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ific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63F-0B39-4001-A452-71ECA9205A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 Of Optimizing Software Classification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( (TCP port == 80) &amp;&amp; (IP type == 6) &amp;&amp; (frame type == 0x0800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the packet matches the classific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the packet does not match the classific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each step, test the field that will eliminate the mo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4AF-D7D4-464B-BD85-AC8642DE9B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e About Optim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though the maximum number of comparisons in a software classifier is fixed, the average number of comparisons is determined by the order of the tests; minimum comparisons result if, at each step, the classifier tests the field that eliminates the most packet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083-C7A3-4E46-BA59-FA6E3289DC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rdware Implementation Of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uild special-purpose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needed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atenate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result in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can operate in parall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0ED1-5A76-4CAF-9774-CA19ACD0D6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al Cases Of 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-size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E890-E685-4854-ACE7-5F5F605E918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 Practi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usually involves multiple categ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 grouped together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have a default categ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ategory specified with rul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54B3-ED22-4C9B-AA22-1D10DAA31A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Multi-Category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1: traffic destined for We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2: traffic consisting of ICMP echo request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3: all other traffic (defaul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D0A-AAE2-4A05-80E2-2A8B70DA19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ule Se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 server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octet Ethernet type is 0800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octet IP type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octet TCP destination port is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MP echo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octet Ethernet type is 0800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octet IP type i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-octet ICMP type is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C44A-BFC3-45C4-97EB-58742751042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Implementation Of Multiple Ru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(frame type != 0x080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nd frame to flow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 else if (IP type == 6 &amp;&amp; TCP destination port == 80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nd packet to flow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 else if (IP type == 1 &amp;&amp; ICMP type == 8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nd packet to flow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nd frame to flow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rther optimization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E88-F0D8-49FE-9B26-88E91CDF39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ariable-Size Packet Hea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s not at fixed off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ly handled with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ite cases can be specified in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E85E-B9DE-4194-9807-816AE176A9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Variable-Size Header: IP Op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Se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octet frame type field contains 0800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octet field at the start of the datagram contains 45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octet type field in the IP datagram contains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octet field 22 octets from start of the datagram contains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Se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octet frame type field contains 0800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octet field at the start of the datagram contains 46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octet type field in the IP datagram contains 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octet field 26 octets from the start of datagram contains 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057C-C5EC-4750-9F16-A2A24C2F80C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c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de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 layere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proceeds through one layer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put, software in each layer chooses module at next high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output, type field in each header specifies encap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B54-957E-4680-AE4D-628EC02158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ffect Of Protocol Design On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headers fastest to class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ariable-size header adds one computation 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worst case, classification no faster than de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eme example: IPv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144D-AF03-4EF9-81A3-7A5F2FCC891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ybrid Class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s hardware and software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used for standar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used for exce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software classifier can operate at slower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9420-4B8E-4AC2-A2C8-DD27CF5460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Basic Types Of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s specified in rule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der fields and values known a 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s created by observing packet st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taken from h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ine-grain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t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2CAB-E40E-405A-8336-07C47B7C98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Static Class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one flow per servic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header field used to identify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TYPE OF SERVICE (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DIFFSERV interpre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Ethernet type field also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4F70-98B9-4630-B857-D44E4C1351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Dynamic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flow per TCP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er fields used to identify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source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destination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ource por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destination por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Ethernet type and IP type fields also che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968-C29A-4F37-904F-F4F04BF0E99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 Of Dynamic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performed in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kept in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information created/ updated at wire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F336-9446-4AF2-8645-E04F8A2C7A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Conceptual B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assification: packet    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warding: flo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cket dis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binding is usually 1-t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 binding can be 1-to-1 or many-to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1905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2514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18FF-F489-4896-90B8-5B8B4FE8D64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low Ident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-oriented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-flow SVC can be created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ID equals connection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less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w ID used in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flow ID mapped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 next hop, interfac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489C-5B17-4918-8233-190E60356C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lationship Of Classification And Forwarding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A Connection-Oriented Networ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a connection-oriented network, flow identifiers assigned by classification can be chosen to match connection identifiers used by the underlying network. Doing so makes forwarding more efficient by eliminating one bin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4107-51DD-4CD5-9639-BA994E61CE1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warding In A Connectionless Network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te for flow determined when flow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ing used in place of route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 identifier corresponds to index of entry in forwarding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 cache must be changed when route ch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D2C3-39CF-4499-A9C0-0633ADAB16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Disadvantage Of Demultiplex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though it provides freedom to define and use arbitrary protocols without introducing transmission overhead, demultiplexing is inefficient because it imposes sequential processing among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349F-3207-4915-9EED-AECD28EA8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ond Generation Network Syste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greater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lassification instead of de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entralized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omputational power on each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C implements classification and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speed internal interconnection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s 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st data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990C-7CF8-4CD5-88FB-CC02434C826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ification And Forwarding Chi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d by vend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hardware classification and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configuration: rule sets given in 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BB9-F891-4B46-87F0-6DCDBEE393B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ication faster than de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implemented in hardware o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packet contents to assign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t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8497-A281-4874-967A-EDF44E3C6F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to de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higher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s all layer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in number of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ssible implem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0C8C-DCD6-4C50-821B-7C8636F46D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lass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fy Ethernet frames carrying traffic to We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exact header content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le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type field specifies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type field specifies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destination port specifies Web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F51-0F45-46BF-B951-1F1A8552B6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izes and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octet Ethernet type is 0800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octet IP type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-octet TCP destination port is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C1AD-001D-44C4-88C0-FA3B81017A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Implement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f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values in header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ually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ogical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field compar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( (frame type == 0x0800) &amp;&amp; (IP type == 6) &amp;&amp; (TCP port == 80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the packet matches the classific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clare the packet does not match the classifica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E567-9D59-4376-87DC-C2CF692F2E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ptimizing Software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performed sequenti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reorder comparisons to minimize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CC6-320A-4EF1-BAD6-017C7D19BF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Of Optimiz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Class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5.0% of all frames have frame type 0800 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7.4% of all frames have IP type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4.3% of all frames have TCP port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assume values 6 and 80 do not occur in corresponding positions in non-IP packet he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ordering tests can optimize process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3EEC-63E5-48C4-90C9-E3564D35F4D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7:41:48Z</dcterms:created>
  <dc:creator>Joel Schuetze</dc:creator>
  <dc:description/>
  <dc:language>en-US</dc:language>
  <cp:lastModifiedBy>jjohnso2</cp:lastModifiedBy>
  <dcterms:modified xsi:type="dcterms:W3CDTF">2004-07-16T03:27:02Z</dcterms:modified>
  <cp:revision>4</cp:revision>
  <dc:subject/>
  <dc:title>Classification And Forwarding</dc:title>
</cp:coreProperties>
</file>