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F28-7CCE-44DC-988F-E310CDEA9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9FD1-73ED-4788-93C0-E3F9C1BBC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AC30-C6C5-427C-8D1C-779B9AAE7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AC6-12FF-4069-8648-FB46600C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87D3-5937-4F08-9E59-FEC41E622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B470-68AB-4239-9989-27DCA7FF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E6B9-D600-46A6-92A3-5E169E0D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54D-7FC8-47F1-95BC-0E817DDE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4335-EC5D-4C64-B10A-B2FB1F2FC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417-69DA-495A-901F-B7C839C2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E897-A68E-435B-8214-7E1FC098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1367-F7FC-445C-8796-F54DE9FC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80C8-A065-4002-9888-2D7D8B99B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CE Run-Time Structur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n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trongARM Fac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sson 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A93-1245-48FC-86FD-ED33692DAC7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ceptual Structure Of ACE Core Compon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main( ) /* Core component of an AC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Intel_init( ); /* Perform internal initialization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ix_init( ); /* Call user’s initialization function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Intel_event_loop( ): /* Perform internal even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loop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ix_fini( ); /* Call user’s termination function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Intel_fini( ); /* Perform internal cleanup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exit( ); /* Terminate the Linux process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BD7C-A900-4BA4-A80E-A2087C4467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vent Loop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entral to asynchronous programming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s p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peatedly checks for presence of event(s) and calls appropriate hand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n be hidden from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 AC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grammer can modify / ext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B0AC-281E-439C-B76F-22F7FBB5F0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llustration Of ACE Event Loo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ntel_event_loop(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do forever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E = getnextevent(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f (E is termination eve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eturn to calle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} else if (E is exception eve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all exception handler fun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} else if (E is timer event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all timer handler fun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/* Note: additional event tests can be added here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99F-4F3A-4ECF-8E2C-864FAB28681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 Note About Event Loo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ware: although it may seem trivial, the event loop mechanism has several surprising consequences for program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F4FA-61FE-4E47-9CED-851737B62C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vent Loop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f event loop st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l processing st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arrival of a new event will not trigger invocation of an event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clusion: the event loop must go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882-B673-4A04-864E-1FC1ABA3DA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synchronous Programming, Event Loops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Threads, And Block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cause each core component executes as a single thread of control, no handler function is permitted to block because doing so will stop the event loop and block the entire core compon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69A7-322D-43E6-A202-9722A8A65F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rohibition On Blocking Call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grammer must use asynchronous cal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lling program spec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unction to in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rguments to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allbac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lle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voked asynchron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ceives copy of arguments, and compute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pecifies callback to be inv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F586-B2F5-4D21-A289-D39EE46852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llustration Of Asynchronous Callback (part 1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h { /* Synchronous version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y = f ( x ); /* Call f (potentially blocking)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z = g( y ); /* Use the result from f to call g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q += z; /* Use the value of z to update q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h1 { /* Asynchronous version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llocate global variables y, z, and q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establish cbf1 as the callback function for f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establish cbg1 as the callback function for g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tart f1(x) with a nonblocking cal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etur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1355-DF45-49F6-835B-377E80BB62F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llustration Of Asynchronous Callback (part 2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function cbf1(retval) { /* Callback function for f1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y = retv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start g1(y) with a nonblocking cal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retu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function cbg1(retval) { /* Callback function for g1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z = retva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q += 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retur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23C6-5905-4E44-B712-AEAE250E5FF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de Complex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Because it uses the asynchronous paradigm, the core component of an ACE is usually significantly more complex and difficult to understand than a synchronous program that solves the same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61E5-6FDC-45C1-8AD1-B99672C8DD5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trongARM Responsibiliti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ading ACE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reating and initializing 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olving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naging the operation of 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llocating and reclaiming resources (e.g.,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rolling microengin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mmunication among core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rface to non-AC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rface to operating system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orwarding packets between core component and microblock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3C5-6ADA-4800-8E78-C32B1C562B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me Good New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E core component structured around event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nderlying system is sequ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o mutual exclusion nee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4A78-FF2A-4003-8480-DC3EF506C6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me Good New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E core component structured around event 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nderlying system is sequ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No mutual exclusion neede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46D-98C9-499A-AF47-2807191B802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mory Allo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erformed by StrongA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mMallo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(in Resource Manager) allocates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quest must specify type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D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r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mGetPhysOffse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aps virtual address to physical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sulting physical address passed to micro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56FF7-84B6-47E4-97DF-B9998D7041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teps Taken At System Startup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oad and start ASL kernel module, name server, and re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oad and start device drivers for the network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oad and initialize the Resource Manager which determines how many copies of each ingress and egress microblock group to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rse and check configuration fil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xsys.conf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art core component of each ACE, which causes ACE to invok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x_ini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1E7-0DB1-444D-B481-01412596D0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Steps Taken At System Startu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urn on interfaces, assign microblock groups to microengines, and resolve external references (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atch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ind the ACE targets and physical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rt microengines ru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89AD-6749-4F3E-80D4-EF8643C239C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CE Data Structu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ores information needed by Intel® SDK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ust be allocat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x_in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d deallocat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x_f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s structu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x_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an be extended with data defined by 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BA8D-161E-4719-B12E-F0BBA2612A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Example ACE Data Decla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#include &lt;ix/asl.h&gt; /* Include Intel’s library declarations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tructmyace { /* Programmer’s control block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truct ix_ace ace; /* Intel’s ace embedded as first item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nt mycount; /* Counter used by programmer’s code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/* Programmer can insert additional data items here...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002B-EFA4-434B-B9EA-9871BA4B789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Example Data Structure Allo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x_init ( ... , ix_ace **app , ...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truct myace *ap; /* Ptr to programmer’s control block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ap = malloc ( sizeof ( struct myace )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*app = &amp;ap-&gt;ace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x_ace_init ( &amp;ap-&gt;ace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/* Other initialization code goes here...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3F86-B586-45E6-8A51-B32A0DD4FC1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rossc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s 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ree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way: no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woway: conventional procedure c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eferred: asynchronous return through call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396A-B54C-4360-A862-93A9D1CF85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ossible Crosscall 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ller              Called Procedure     Bloc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CE core component             ACE core component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CE core component             non-ACE application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non-ACE application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ACE core component           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non-ACE application              non-ACE applic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CF1-4127-473B-92CF-8058077E711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mpon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bject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inds names to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es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source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cess to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munication with micro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mory manag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F88B-28B7-43FD-9B9C-EFEEF5EB46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rosscall Declar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terface Definition Language (ID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clares typ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ported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rgu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A17-EB19-4531-BA06-6EA2A94464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xample IDL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nterface Packet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truct packetinf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nt numpackets; /* Count of total packet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nt numbcasts; /* Count of broadcast packets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oneway void incTcount ( in int addedpackets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deferred int resetTcount ( in int newnumpkts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twoway int resetPinfo ( in struct packetinfo 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472-E7F9-4246-AA42-D0077BAD87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imer Manage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erformed on Strong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s 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ollows asynchronou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5214-9620-407E-A4E2-4450A253EE9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Using A Tim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itialize H, a handle for an ix_ev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ssociate handle H with a callback function, C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lculate T, a time for the event to occu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chedule event H at time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t any time prior to T, event H can be cance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t time T, function CB will be called if the event has not been cancell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CF09-CE20-4C26-A1C5-4DD5651188F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re component of 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uns as Linux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s asynchronous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s event loop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cludes functions nam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x_ini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x_f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sponsible for memory allocation and timer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A43E-EBB7-4C17-935D-67904FAD9DE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mponent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perating System Specific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hared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vides virtual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hould be nam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S independent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tion Services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oadable kernel mo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un-time support for core 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CP/IP sup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754-E91F-4296-AC7E-569CCCC2A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icroengine Assignmen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utomated by S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er speci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ype (speed) of each 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ype of each 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DK choo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umber of replications for each micro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ssignment of microblocks to microeng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B63E-06F0-4BB4-B253-B3488607B0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Type Values Used In Configuration Fi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ly two port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rresponds to 10 / 100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a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rresponds to Gigabit Eth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umeric Value           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0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low ingress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1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low egress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2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Fast ingress file for Por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3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Fast ingress file for Port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4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Fast egress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28A4-1154-4477-B7E3-F1D24836D3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ieces Of ACE Code Programmer Wri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itialization fun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lled when ACE beg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ception handl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ceives packets sent by micro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tion fun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at correspond to packet class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rosscall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E ac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mer fun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or timed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llback fun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or return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rmination fun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alled when the ACE ter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2C7-66BB-43D6-999A-6438DC6F0A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served Nam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DK software uses fixed names for som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E initialization function must be nam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x_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CE termination function must be nam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x_f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2A74-9705-4707-8B89-FE622307257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Overall Structure Of Core Compone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re component of ACE runs as separate Linux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ways the same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grammer do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rite mai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DK supplies structure and mai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s a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vent loo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9AE5-F053-4F23-BA9F-B5FA3453855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0:17:25Z</dcterms:created>
  <dc:creator>Joel Schuetze</dc:creator>
  <dc:description/>
  <dc:language>en-US</dc:language>
  <cp:lastModifiedBy>jcao3</cp:lastModifiedBy>
  <dcterms:modified xsi:type="dcterms:W3CDTF">2004-07-26T09:29:46Z</dcterms:modified>
  <cp:revision>4</cp:revision>
  <dc:subject/>
  <dc:title>ACE Run-Time Structure And StrongARM Facilities</dc:title>
</cp:coreProperties>
</file>