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E762-130B-4E51-82D4-56FE7C609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3362-0E2D-4A7A-815D-0B0619345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BE05-D1F5-471C-99B5-BC4A12250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AC85-BDF0-42D1-8AB1-CCCA3FAF5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A7A6-3EAE-43A2-832C-E7AC51592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1603-BAB3-4F89-A8B7-B755062A3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6050-879C-4D8D-B04C-9061AF196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1A7B-ACF2-46DD-A777-179A9AE8E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634C-5134-44BA-AD47-9C09E8C67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E94D-882A-4E33-8134-4908B422D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BA3B-87D2-4933-9D2E-314498FA3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8986-2FA8-4D19-81C3-AB07AFF4B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working and Network Processor Curriculu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1218C-F29F-4C36-A793-31A3528163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Embedded RISC Processor (StrongARM Cor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Lesson 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1729-23F8-45E0-9094-ADD214CB08A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Tasks That Can Be Performed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By StrongARM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ootstr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Exception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Higher-layer protocol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Interactive 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iagnostics and lo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Memory al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pplication programs (if need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User interface and/ or interface to the G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ontrol of packet proces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Other administrative fun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865C-D742-4332-A123-81B9A641726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StrongARM Characteristic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Reduced Instruction Set Computer (RIS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Thirty-two bit arithme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Vector floating point provided via a co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Byte addressable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Virtual memory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Built-in serial 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Facilities for a kernelized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191F-D389-4E4C-B674-BB66F673BA9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Arithmetic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trongARM is configurable in two m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ig end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Little end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hoice made at run-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57AC-C68D-41A1-84E2-B4DAA35644B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StrongARM Memory Organiza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ingle, uniform address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Includes memories and de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Byte addressa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5D9F-86BF-45AC-BC43-8B5B29218D9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Embedded processor on Intel® IXP1200 is Strong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trongARM addr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Single, uniform address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ncludes all mem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yte address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9699-DF2E-40EC-9D69-E84F3D82247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2T18:52:54Z</dcterms:created>
  <dc:creator>Joel Schuetze</dc:creator>
  <dc:description/>
  <dc:language>en-US</dc:language>
  <cp:lastModifiedBy>jcao3</cp:lastModifiedBy>
  <dcterms:modified xsi:type="dcterms:W3CDTF">2004-07-26T09:18:47Z</dcterms:modified>
  <cp:revision>3</cp:revision>
  <dc:subject/>
  <dc:title>Embedded RISC Processor (StrongARM Core)</dc:title>
</cp:coreProperties>
</file>