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993-5F04-4253-BE7A-4ACCEFDBD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1DF8-BF4B-4DB2-89B3-05CDECDF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1513-21E6-49BB-8C82-6F14774C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9F1D-42BB-4783-81E3-D8DBFCC6C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FB3-9B6F-4866-BD73-66F39D1E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38FA-E5A1-4D60-9AD6-58E5B486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3607-D6E3-4174-B852-73D6181E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E4CB-8C6D-43B1-9E10-7BB129BB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5CF-8851-4C8F-AC08-4484CCAF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2D71-DA14-4A5F-BCBB-04376276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CD0-B2A4-4F3B-BAF4-7D795F6A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0A23-572F-4D01-BD78-73BE8F0B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0B1E-EA8D-4C2A-B180-DEE85A3527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ssues In Scaling A Network Process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51C-DCDA-40E0-B4B6-F553513F7A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Memo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Technolog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breviati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ynchronized DRAM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DRAM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ynchronized with C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lower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ad Data Rate SRAM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DR-SRAM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mized for low 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nd multiple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ero Bus Turnaround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RAM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ZBT-SRAM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mized for rand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ast Cycle RAM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CRAM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ow cycle time optim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or block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ouble Data Rate DRAM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DR-DRAM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ptimized for 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educed Latency DRAM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RLDRAM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ow cycle time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ow powe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09A-1D5E-43DB-A6A9-66594C7112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mory Cac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-purpose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ot work well in network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3D03-F40E-4FCF-BDF8-2BE6FD78FD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mory Cac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-purpose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not work well in network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temporal loc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ache size (either more entries or larger granularity of ac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8D4F-A538-4D06-9D7C-0C2F5E1FDE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nt Addressable Memory (CAM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ation of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access 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-match pattern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search enabled with parallel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52D8-3731-44D3-A032-EE13B7A3020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okup In Conventional CA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for which to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 retu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lot that matches key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lots that match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0EF7-9364-40F8-9ABF-A61E5330A07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ernary CAM (T-CA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masking of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for network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8B86-0005-4B68-BA4E-B0937F46D89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-CAM Looku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lot has bit m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uses mask to decide which bits to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each slot do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( ( key &amp; mask ) == ( slot &amp; mask )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lare key matches slo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clare key does not match slo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1B19-E763-49B4-B163-0550B6D827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ing A T-CAM For Classifi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ct values from fields in h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values in contiguous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a key for T-CAM 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classification in s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FCC-5BF2-4D30-B21C-E885DF6A83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ftware Scalabil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ways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resourc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y aris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paralle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optimized by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lines on heterogeneous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D45-9459-414E-970E-852B72EC9D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bility key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subsystems affecting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mory type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-CAM useful for classifi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8380-6398-4DE9-9597-27774DC175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gn Ques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we make network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s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to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powerfu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gener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a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of the ab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 is fundamen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EC72-3C84-46A5-830F-2DF8B11E59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ing The Processor Hier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processors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more concurrent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processor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numbers of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BC3A-F4D3-40F7-B36C-2F344E1CE1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yramid Of Processor Sc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371600"/>
            <a:ext cx="8305920" cy="3429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2666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05120" y="3657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269240" y="17524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58680" y="2133720"/>
            <a:ext cx="198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bedd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2819520"/>
            <a:ext cx="18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/O 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17480" y="380988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 Levels Of Processor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4040" y="5018040"/>
            <a:ext cx="618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levels need the most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4C5E-5AD3-4766-A10C-F7CF48F401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ing The Memory Hier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85B-B1A8-4563-AB63-F6B73F9134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mory Spe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lat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w read/ write access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AM 2 - 10 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M 50 - 70 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memory takes order of magnitude longer than onboar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BDB7-4F92-4FD6-ABE0-784B33857A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mory Spee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cycl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successive read/ write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for networking because packets are lar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Cycle time (tRC) is time for successive fetch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Cycle time (tWC) is time for successive store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C15-DAD2-463C-ABC5-7BA1E19D8F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Pyramid Of Memory Sca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49525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st memory is least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371600"/>
            <a:ext cx="8305920" cy="34290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20574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2666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3657600"/>
            <a:ext cx="5410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68880" y="16002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2209680"/>
            <a:ext cx="179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board m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2971800"/>
            <a:ext cx="18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S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12760" y="3886200"/>
            <a:ext cx="182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ernal D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9476-06E8-4F56-8D36-0309D8FBEC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mory Bandwid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measure of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arallelism in access path yields more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cale arbitrar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nout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must have addresses as wide as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6FAE-8ADE-4C0B-AE8A-E0AA8023D1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7:16:52Z</dcterms:created>
  <dc:creator>Joel Schuetze</dc:creator>
  <dc:description/>
  <dc:language>en-US</dc:language>
  <cp:lastModifiedBy>jjohnso2</cp:lastModifiedBy>
  <dcterms:modified xsi:type="dcterms:W3CDTF">2004-07-16T03:42:25Z</dcterms:modified>
  <cp:revision>3</cp:revision>
  <dc:subject/>
  <dc:title>Issues In Scaling A Network Processor</dc:title>
</cp:coreProperties>
</file>