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EF82-CEB4-43FA-BE30-1DD62CD9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243-7AF1-47F6-9191-D587A6D6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5A9-BC5D-48A9-B283-5F3F7F6E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606-D8AA-4B56-B6F5-324311ADA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5D4C-DC9C-400A-8ADD-ACE661E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F645-4FB9-451F-9042-A0C0384A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35F6-0789-4FB7-BD63-1B1FE42D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857E-CA4E-4223-8241-BF7E6A803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D2B8-2C9B-4F4B-B3EC-E4002F842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E09-5178-41B7-A040-4EB8B7E7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445C-2867-4472-8C1C-A33B8A54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337-BDE5-41F2-AE23-D4A4BCED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F71F-5236-4F85-8654-F00A0E8F6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nguages Used For Class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AF22-9FC7-4906-AE46-8A5690F3EB4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Characteris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xes declarative and imperative paradig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ach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d for protocols with fixed-size header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 unit of data is eight-bit by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BE2-E60E-4F25-8673-5509B0B1BE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Not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m specified by tu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ffse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yond a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[ offset : size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octet field fourteen octets beyond symbol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RAME [ 14 : 2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A83-3947-4965-B378-29BF8414AE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Measures Of Data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consists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more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E977-419E-419D-BCA4-4FB4D0E2E9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CL Measures Of Data Siz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specify arbitrary bit position /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 uses less-than and greater-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less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a four-bit string six bits beyo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[ &lt;6&gt; : &lt;4&gt;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EFCC-8DD9-4196-8948-18DB498D15F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Commen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* ...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-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/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DCB1-02D4-46D8-85D0-482139E970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Primitiv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name header fie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defined by offset /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defined protocol spec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L does not understand IP, TCP, Ethernet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edefined network data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L does not understand IP addresses, Ethernet address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B0D-176B-4FE5-8E4D-3C6E4993D6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CL Cod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protocol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p {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/* declaration of datagram header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shl { ip[0:1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ers { ( vershl &amp; 0xf0 ) &gt;&gt; 4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mphl { ( vershl &amp; 0x0f )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len { tmphl &lt;&lt; 2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len { ip[2:2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ident { ip[4:2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rags { ip[6:2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tl { ip[8:1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roto { ip[9:1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ksum { ip[10:2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ource { ip[12:4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t { ip[16:4]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demux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 proto == 6 ) { tcp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 proto == 17 ) { udp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( default ) { ipunknown </a:t>
            </a:r>
            <a:r>
              <a:rPr b="0" i="1" lang="en-US" sz="16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// note: other protocol types can be added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} // end of datagram header decla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BF4-7F4A-49BA-9DBE-DEA2B1EAB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Header Leng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 in second four bits of IP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header size in 32-bit mult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C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fields on byte bound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bit fie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basic arithme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A9B0-AA05-4A91-91CC-84C57ED840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NCL Code To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tract Header Leng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shl { ip[0:1]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ers { ( vershl &amp; 0xf0 ) &gt;&gt; 4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mphl { ( vershl &amp; 0x0f 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len { tmphl &lt;&lt; 2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BB4-7023-4E43-A1E7-33F6639061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capsul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for layered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field from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s type of message encapsulated at lay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+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d us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940C-53EF-4E28-A6A6-235784DECE3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s For Build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Network Sta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language(s) ar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should processing be express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mportant is efficienc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code be optimized by 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45D-38AD-4F49-BE6E-6670EBC8E1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NCL Cod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Encaps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proto == 6 ) { tcp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proto == 17 ) { udp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 default ) { ipunknown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a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len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P protocol is 6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IP protocol is 17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cases classified a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p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B8AC-817C-40EE-9425-E0DDEB2D952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s to imperative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s function to exec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each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d b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u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C3-A6BD-484E-B0B0-F1CBDB960C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NCL Cod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o Invoke An A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rul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b_filter { ip &amp;&amp; tcp.dport == 80 } {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web_proc(ip.src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_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ate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p &amp;&amp; tcp.dport == 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 to be invoked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_proc(ip.src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6340-24A5-4D5C-A223-7A7920EADE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insic Funct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to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 check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specific protoco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A65F-E62E-45FA-AEB0-6101C96234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vailable Intrinsic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unction Nam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p.chksumvali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Verifies validity of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p.genchksum      Generates an I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cp.chksumvalid   Verifies validity of TCP                                                      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cp.genchksum     Generates a TC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p.chksumvalid   Verifies validity of UD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dp.genchksum     Generates a UDP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0C75-9550-45F1-9D05-4318BF6D2BF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amed Predicat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d name to pred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used later in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ociated with specif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EC32-BDCC-4B9D-A341-CD673827004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Predicat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redicat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.fragmentable { ! ( (ip.frags &gt;&gt; 14) &amp; 0x01 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BD79-84D8-4DCD-A6A1-6A01EB599A9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ditional Rule Exec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es order for predicate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izes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optimiz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use: verify IP checksum before proce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E9F-6DEB-4E1E-9368-445C091C350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llustration Of NCP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ditional Rule Exec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redicat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CPvalid { tcp &amp;&amp; tcp.cksumvalid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wit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 ( TCPvalid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predicat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ynFound { (tcp.flags &amp; 0x02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rule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NewConnection { SynFound } {      start_conn(tcp_dport)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7392-3FBA-4707-B8FA-E60CAE71C42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cremental Protocol Defi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rogrammer to add defini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e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re-existin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otoco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ell with included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ful when generic definition insu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fiel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protocol_name.field_name { definition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field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p.flags { ip[6 : &lt;3&gt;]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DB3B-4A4A-4C53-A065-4109988970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Programming Paradig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explicit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mplicit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2709-D656-4169-8EA6-ECFC1CE1D4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Set Facil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search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s grow dynam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 to sev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y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ach key is 32-bi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gives table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 must be power of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an grow larger than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D90A-A47E-4EC3-8699-98EFD3C06B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NCL Set Decla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clare se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_ad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e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y_addrs /* define a set of IP addresses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&lt; 1 &gt; { /* number of keys in each entry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ize_hint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{ 256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D88A-DF4D-4D0A-AED7-12FE6D235A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NCL Set Declar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arc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y_add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earch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y_addrs. ip_src_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ip.source) /* search key is IP source addr.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058E-600F-44DC-A53C-2282179CCA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 Preprocess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s syntax from C-pre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f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896-C6C0-4852-83AD-080EB7061E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P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Agere Systems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n Agere Systems* F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fas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E1A1-543B-4578-9EB3-ADFA152D13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PL Characteristic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usual, declarative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pattern parad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s from conventional syntactic pattern languages like SNOBOL or Aw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s parallel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1F2-F5F0-416A-AA62-A4F4E56FA14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PL Syntax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++ comments //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can’t understand thi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-like preprocessor (#def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ety of 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i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xadecimal (begins with 0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 string (begins with 0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tted decimal IP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shed hexadeci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D8C-9658-49B2-B310-CC744FB8D36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wo Pass Process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dea in F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contains two independent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ming data processed by both 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: underlying interface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D54-43AD-4466-B93C-6FE3A30B482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erface Hardw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s each incoming packet into blocks of 64 oct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s one block at a time to FPP c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s additional information with each b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 number on which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detected error (e.g., invalid C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is the first block of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ock is the final block of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ABF-186C-49BA-8866-E3D8786A722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ss 1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block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voked once for each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mmodates blocks from multiple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s the blocks for each packet into a separate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wards complete queue to Pass 2 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 block of packet arr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detected and processing ab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BFF6-0FFB-4921-A3B8-12615720F04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oices Depend 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lying hardwar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and packet r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support available (e.g., compile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0B51-ECBC-4375-A4BE-433117403A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ss 2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packet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invoked once for eac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s complete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e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from Pas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information for the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s dis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ward packet for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ard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932D-8AEC-4014-BE4C-555FBE9C6990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PL Invo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 by hard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1 invoked when block arr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2 invoked when packet rea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plicit p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67AD-3D60-4FEF-891C-5C72384024A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ating Pass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er specifies starting label for each p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 by language dir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signate first p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TUP ROOT(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tarting_labe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signate second pa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TUP REPLAYROOT( 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starting_label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CFA1-6E68-413C-8952-8107C4706F3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ing A Pattern Match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Conditional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1: FPL does not provide a conditiona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2: FPL does provide matching among a set of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ck: use pattern selection to emulate conditional exec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66D-D36E-4497-8F82-A3C57BD0A5C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Conditional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Pass Proces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ware sets variabl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$FramerE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s 1 if block is final block of p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is 0 for other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-in functions used to enqueue b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Queu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block to 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QueueE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s block to queue and marks queue ready for second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AC3A-3EE7-4375-A78B-4AC10146B2C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Conditional I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rst Pass Processi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ual algorithm for enqueuing a bloc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( $FramerEOF 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QueueEOF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Queue(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2831-88EE-4904-AADF-0338B4C6396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tern Used For Condi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#include "fpp.fp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Code for the first pass of a program that handles Ethernet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TUP ROOT(HandleBlock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// Pas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andleBlock: EtherBlock($framerEOF: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therBlock: 0b0 fQueue(0:2, $portNumber:16, $offset:6, 0:1, 0: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therBlock: 0b1 fQueueEof(0:2, $portNumber:16, $offset:6, 0:1, 0:2, 0:24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56A-3517-4643-A295-606A3AB727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de For Second Pa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/ Code for the second pass of a program that classifies Ethernet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/ Symbolic constants used for classif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#define FRAMETYPEA 1 // ARP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#define FRAMETYPEI 2 // IP fra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#define FRAMETYPEO 3 // Other frames (not the abo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TUP REPLAYROOT(HandleFram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// Pas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ndleFr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Skip(96) // skip past dest &amp; src ad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 = CLASS // compute class from frame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SkipToEnd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Transmit(cl:21, 0:16, 0:5, 0: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: 0x0806:16 fReturn(FRAMETYPE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: 0x0800:16 fReturn(FRAMETYPEI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CLASS: BITS:16 fReturn(FRAMETYPE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6F27-C4B6-411F-A847-1AD5DEACF17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eptual Pattern M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 specifies sequence of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er moves through pac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ing proceeds if bits in packet match patt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403B-2AEB-48BF-A65D-9B2438302C5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wo Basic Types Of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ttern Func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 of items to m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d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e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e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of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n packet compared to all patt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ctly one must matc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15A7-4458-4A79-B8FD-93EA56F8758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derat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-orie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or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links to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6AC-D2BE-4B2A-9FA4-601D315EFC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Control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ndleFr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kip(96) // skip past dest &amp; src add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 = CLASS // compute class from frame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SkipToEnd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Transmit(cl:21, 0:16, 0:5, 0:6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5C1-9CBC-419C-BD06-3D5405BD704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Tre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:0x0806:16 fReturn(FRAMETYPEA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:0x0800:16 fReturn(FRAMETYPEI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ASS:BITS:16 fReturn(FRAMETYPEO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EA3F-551D-46C5-804E-B6AD85962B8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k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s bits i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SkipTo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ps to end of current p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Trans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s packet to RSP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s arbitrary bits (default c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second pass must match entire pack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E99-9626-45BA-A144-F6A0BC507E6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ttern Optim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PL compiler optimizes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 optimization: eliminate common pref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BE7-9245-426F-956A-2275BDF16D6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Pattern Optimiz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: 0x4 0x5 fSkip(152) fReturn(IPOPTIONS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: 0x4 0x6 fSkip(160) fReturn(IPOPTIONS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: 0x4 0x7 fSkip(168) fReturn(IPOPTIONS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: 0x4 BITS:4 fReturn(IPUNKNOW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: 0x4 IPHD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HDR: 0x5 fSkip(152) fReturn(IPOPTIONS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HDR: 0x6 fSkip(160) fReturn(IPOPTIONS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HDR: 0x7 fSkip(168) fReturn(IPOPTIONS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PHDR: BITS:4 fReturn(IPUNKNOW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0B5-84B0-4346-A845-68D0996A6C3F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P Address Examp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AddrMatch: *.*.*.* fReturn(0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AddrMatch: 10.*.*.* fReturn(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AddrMatch: 128.10.*.* fReturn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AddrMatch: 128.211.*.* fReturn(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pAddrMatch: 128.210.*.* fReturn(3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6949-3302-48FA-BD76-B806C95D7D6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ynamic Classifica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extend tree function at run-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use of A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converted to interna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E210-C44A-4624-8053-58EC864B231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ing languages for classification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-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-ori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links to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examined two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CL, the Network Classification Language from Intel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PL, the Functional Programming Language from Agere System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D7C9-7CE1-4BD3-A01E-4909EE97D9B5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ssible Hardware Architectur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C processor dedicated to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C processor shared with other ta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, parallel RISC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machine or FP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6CC5-F94A-473E-A62B-A16C321354C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Classifica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ngu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consider two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33AE-E79F-4E9B-A4B5-F2AA16763C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C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ands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twork Classifica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n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part of fas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052-538D-4CE9-A19C-BF67738CAC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Classifica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on Strong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Not part of fast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73BF-F43B-41D1-BCED-FC864AD69C8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20:56:45Z</dcterms:created>
  <dc:creator>Joel Schuetze</dc:creator>
  <dc:description/>
  <dc:language>en-US</dc:language>
  <cp:lastModifiedBy>jjohnso2</cp:lastModifiedBy>
  <dcterms:modified xsi:type="dcterms:W3CDTF">2004-07-16T04:09:00Z</dcterms:modified>
  <cp:revision>4</cp:revision>
  <dc:subject/>
  <dc:title>Languages Used For Classification</dc:title>
</cp:coreProperties>
</file>