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3EE1-8C0A-4A1D-9EAF-FC1C57E4B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CC57-0689-4454-9BAB-2E422E65A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70DE-A8B1-4D9F-9A38-B182A60E9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E5DB-D4F2-4381-8C27-5837BD96D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EB14-0258-4692-8F51-2C8DF61FD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3D59-0ECE-4FDD-8CB4-5E637EA7C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1EB4-75FC-4967-AF60-775F773CA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FB35-113E-4B86-A4A4-9BC8EFE61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9CA6-BD68-40D3-A120-8DC61D0CD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BAFA-806B-43FA-BE53-6DE5D20E3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32D1-F2C6-44FA-9B95-F372ED83D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37D0-241F-4CEE-B4FF-185FA1C8F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working and Network Processor Curriculu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1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6DEC7-62C4-4B9A-8571-66DC29586A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Packet Processor Hardware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(Microengines And FB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Lesson 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7D39-7AC3-4227-A1E6-454C08CA9D6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Example Instruction St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Consider two instruc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K: ALU operation to add the contents of R1 to R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K+1: ALU operation to add the contents of R2 to 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Second instruction cannot access R2 until value has been writ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Stall occ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92E8-7094-4657-B8B3-669117EF92F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Sources Of Dela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Access to result of previous / earlier op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Conditional bran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Memory 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DB54-76D8-4982-9A54-312DEB718F9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Memory Access Delay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ype Of               Approximate Access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Memory                       (in clock cyc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宋体"/>
              </a:rPr>
              <a:t>Scratchpad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宋体"/>
              </a:rPr>
              <a:t>12 - 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宋体"/>
              </a:rPr>
              <a:t>SRAM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宋体"/>
              </a:rPr>
              <a:t>16 -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宋体"/>
              </a:rPr>
              <a:t>SDRAM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宋体"/>
              </a:rPr>
              <a:t>32 - 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Delay is surprisingly lar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4967-1469-4F80-AC37-871045E2C27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Threads Of Execu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echnique used to speed proces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Multipl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hreads of execu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remain ready to r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Program defines threads and informs process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Processor runs one thread at a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Processor automatically switches context to another thread when current thread blo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Known a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hardware thread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7330-3283-4BDA-909B-67B3007F1EE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The Point Of Hardware Thread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Hardware threads increase overall throughput by allowing a microengine to handle up to four packets concurrently; with threads, computation can proceed without waiting for memory acc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E239-45DE-4292-9E57-2A13D507CA2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.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Context Switching T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Low-overhead context switch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means one instruction delay as hardware switches from one thread to an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Zero-overhead context switch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means no delay during context swit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Intel® IXP1200 offers zero-overhead context swit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97E7-630E-4332-B750-AADCB37E4E2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Microengine Instruction Stor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Private instruction store per microeng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Advantage: no conten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Disadvantage: small (1024 instructio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02F9-C3C1-4A88-B744-BEB33F8F471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General-Purpose Regis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One hundred twenty-eight per microeng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Thirty-two bits e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Used for computation or intermediate 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Divided into ba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Context-relative or absolute addr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7062-8B72-4B7C-92F5-C40907901B9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Forms Of Addressing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Absol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Entire set 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Uses integer from 0 to 1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Context-rela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One quarter of set available to each thr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Uses integer from 0 to 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llows same code to run on multiple microeng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2C4E-5EE6-400A-B213-2A9A2791CCE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Register Bank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Mechanism commonly used with RISC 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Registers divided int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A bank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B ba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Maximum performance achieved when each instruction references a register from the A bank and a register from the B ba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A090-2FB2-4A3B-BB2C-156BC538AB2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Role Of Microengine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Packet ingress from physical layer 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hecksum ver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Header processing and class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Packet buffering in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able lookup and forwar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Header mod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hecksum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Packet egress to physical layer hardwa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4CB8-3C0B-4F36-BD90-4FEDFAE3798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Transfer Register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Used to buffer external memory trans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Example: read a value from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opy value from memory into transfer 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Move value from transfer register into general-purpose 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One hundred twenty-eight per microeng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Divided into four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SRAM or SD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Read or wr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9876-1EFD-4A36-9DAC-2F8DB996AE6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Local Control And Status Register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Used to interrogate or control the Intel® IXP1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All mapped into StrongARM address 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Microengine can only access its own local CS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83A9-FD45-431B-8399-FCA75035AB2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Local CSR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Local CS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   Purp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USTORE_ADDRESS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Load the microengine control st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USTORE_DATA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Load a value into the control st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ALU_OUTPUT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Debugging: allows StrongARM to re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GPRs and transfer regis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ACTIVE_CTX_STS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Determine context stat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ENABLE_SRAM_JOURNALING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Debugging: place journal in SR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CTX_ARB_CTL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Context arbiter contr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CTX_ENABLES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Debugging: enable a con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CC_ENABLE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Enable condition c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CTX_n_STS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Determine context stat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CTX_n_SIG_EVENTS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Determine signal stat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CTX_n_WAKEUP_EVENTS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Determine which wakeup ev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宋体"/>
              </a:rPr>
              <a:t>are currently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Note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s digit from 0 through 3 (hardware contains a sepa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SR for each of the four context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6F44-EC31-4DC0-9C2A-F7886157ED3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Interprocessor Communication Mechanism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Thread-to-StrongARM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Interru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Signal ev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Thread-to-thread communication within one Intel® IXP1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Signal ev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Thread-to-thread communication across multiple Intel® IXP1200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Ready b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ACA5-1179-42BB-A848-83BE3783100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FBI Uni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Interface between processors and other functional un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Scratchpad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Hash 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FBI control and status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Control and operation of the Ready b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Control and operation of the IX b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ata buffers that hold data arriving from the IX b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ata buffers that hold data sent to the IX b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Operates like DMA control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Uses FIF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530A-104B-4966-91CD-80232FF73EE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FIFO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Hardware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Transfer performed in 64 byte blo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Misleading name: access is rand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Only path between external device and microeng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Receive FIFO (RFIF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Handles in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Physical interface moves data to RFIF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FBI moves data from RFIFO to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3CB3-8B1E-4ACB-B236-6094F933097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FIFO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(continued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Transmit FIFO (TFIF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Handles out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FBI moves data from memory to TFIF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Physical interface extracts data from TFIF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C1B6-BFA6-426F-A7CC-385B8578552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A Note About FIFO Transf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It is possible for a microengine to transfer data to or from a FIFO without going to mem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0D99-7AB0-4419-91A3-94007DD188D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FBI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Initiates and controls data transf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Contains active compon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Push eng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Pull eng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7460-4886-4C97-ADDE-C3C2D9497CF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ScratchPad Memor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Organized into 1K words of 4 bytes e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Offers special fac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est-and-set of individual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utoincrement (low latenc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F58C-E711-4AC0-A309-D917A72A75F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Microengine Characteristic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Programmable microcontrol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RISC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One hundred twenty-eight general-purpose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One hundred twenty-eight transfer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Hardware support for four threads and context switc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Five-stage execution pipe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ontrol of an Arithmetic Logic Unit (AL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Direct access to various functional un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DC2F-3D23-4CA1-BDC7-51C6E961E72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Hash Uni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Configurable co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Operates asynchronous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Intended for table lookup when multiplication or di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required (ALU does not have multiply instruc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A45D-E03B-44CD-AF75-B466C1CE072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Hash Unit Computa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omputes quotie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Q(x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nd remainde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R(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(x) * M(x) / G(x) ® Q(x) + R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(x) is input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M(x) is hash multiplier (configurab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G(x) is built-in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wo values for G — one for 48-bit hash, one for 64-bit ha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A3CF-2386-43F4-978D-46BECA02FCE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Hash Mathematic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Integer value interpreted as polynomial over field [0,1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宋体"/>
              </a:rPr>
              <a:t>20401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Arial"/>
                <a:ea typeface="宋体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Is interpreted 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宋体"/>
              </a:rPr>
              <a:t>x</a:t>
            </a:r>
            <a:r>
              <a:rPr b="0" lang="en-US" sz="2400" spc="-1" strike="noStrike" baseline="30000">
                <a:solidFill>
                  <a:srgbClr val="333399"/>
                </a:solidFill>
                <a:latin typeface="Arial"/>
                <a:ea typeface="宋体"/>
              </a:rPr>
              <a:t>17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宋体"/>
              </a:rPr>
              <a:t> + x</a:t>
            </a:r>
            <a:r>
              <a:rPr b="0" lang="en-US" sz="2400" spc="-1" strike="noStrike" baseline="30000">
                <a:solidFill>
                  <a:srgbClr val="333399"/>
                </a:solidFill>
                <a:latin typeface="Arial"/>
                <a:ea typeface="宋体"/>
              </a:rPr>
              <a:t>10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宋体"/>
              </a:rPr>
              <a:t> +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Similarly, value G(x) used in 48-bit ha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宋体"/>
              </a:rPr>
              <a:t>1001002000401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Arial"/>
                <a:ea typeface="宋体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Is interpreted 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宋体"/>
              </a:rPr>
              <a:t>x</a:t>
            </a:r>
            <a:r>
              <a:rPr b="0" lang="en-US" sz="2400" spc="-1" strike="noStrike" baseline="30000">
                <a:solidFill>
                  <a:srgbClr val="333399"/>
                </a:solidFill>
                <a:latin typeface="Arial"/>
                <a:ea typeface="宋体"/>
              </a:rPr>
              <a:t>48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宋体"/>
              </a:rPr>
              <a:t> + x</a:t>
            </a:r>
            <a:r>
              <a:rPr b="0" lang="en-US" sz="2400" spc="-1" strike="noStrike" baseline="30000">
                <a:solidFill>
                  <a:srgbClr val="333399"/>
                </a:solidFill>
                <a:latin typeface="Arial"/>
                <a:ea typeface="宋体"/>
              </a:rPr>
              <a:t>36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宋体"/>
              </a:rPr>
              <a:t> + x</a:t>
            </a:r>
            <a:r>
              <a:rPr b="0" lang="en-US" sz="2400" spc="-1" strike="noStrike" baseline="30000">
                <a:solidFill>
                  <a:srgbClr val="333399"/>
                </a:solidFill>
                <a:latin typeface="Arial"/>
                <a:ea typeface="宋体"/>
              </a:rPr>
              <a:t>25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宋体"/>
              </a:rPr>
              <a:t> + x</a:t>
            </a:r>
            <a:r>
              <a:rPr b="0" lang="en-US" sz="2400" spc="-1" strike="noStrike" baseline="30000">
                <a:solidFill>
                  <a:srgbClr val="333399"/>
                </a:solidFill>
                <a:latin typeface="Arial"/>
                <a:ea typeface="宋体"/>
              </a:rPr>
              <a:t>10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宋体"/>
              </a:rPr>
              <a:t> +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873A-BB52-44CC-8557-73D8A8B9A80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Hash Exampl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zh-CN" sz="28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宋体"/>
              </a:rPr>
              <a:t>A = 800000000001</a:t>
            </a:r>
            <a:r>
              <a:rPr b="0" lang="en-US" sz="2800" spc="-1" strike="noStrike" baseline="-25000">
                <a:solidFill>
                  <a:srgbClr val="333399"/>
                </a:solidFill>
                <a:latin typeface="Arial"/>
                <a:ea typeface="宋体"/>
              </a:rPr>
              <a:t>16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宋体"/>
              </a:rPr>
              <a:t> ( x</a:t>
            </a:r>
            <a:r>
              <a:rPr b="0" lang="en-US" sz="2800" spc="-1" strike="noStrike" baseline="30000">
                <a:solidFill>
                  <a:srgbClr val="333399"/>
                </a:solidFill>
                <a:latin typeface="Arial"/>
                <a:ea typeface="宋体"/>
              </a:rPr>
              <a:t>47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宋体"/>
              </a:rPr>
              <a:t> + 1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宋体"/>
              </a:rPr>
              <a:t>G = 1001002000401</a:t>
            </a:r>
            <a:r>
              <a:rPr b="0" lang="en-US" sz="2800" spc="-1" strike="noStrike" baseline="-25000">
                <a:solidFill>
                  <a:srgbClr val="333399"/>
                </a:solidFill>
                <a:latin typeface="Arial"/>
                <a:ea typeface="宋体"/>
              </a:rPr>
              <a:t>16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宋体"/>
              </a:rPr>
              <a:t> ( x</a:t>
            </a:r>
            <a:r>
              <a:rPr b="0" lang="en-US" sz="2800" spc="-1" strike="noStrike" baseline="30000">
                <a:solidFill>
                  <a:srgbClr val="333399"/>
                </a:solidFill>
                <a:latin typeface="Arial"/>
                <a:ea typeface="宋体"/>
              </a:rPr>
              <a:t>48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宋体"/>
              </a:rPr>
              <a:t> + x</a:t>
            </a:r>
            <a:r>
              <a:rPr b="0" lang="en-US" sz="2800" spc="-1" strike="noStrike" baseline="30000">
                <a:solidFill>
                  <a:srgbClr val="333399"/>
                </a:solidFill>
                <a:latin typeface="Arial"/>
                <a:ea typeface="宋体"/>
              </a:rPr>
              <a:t>36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宋体"/>
              </a:rPr>
              <a:t> + x</a:t>
            </a:r>
            <a:r>
              <a:rPr b="0" lang="en-US" sz="2800" spc="-1" strike="noStrike" baseline="30000">
                <a:solidFill>
                  <a:srgbClr val="333399"/>
                </a:solidFill>
                <a:latin typeface="Arial"/>
                <a:ea typeface="宋体"/>
              </a:rPr>
              <a:t> 25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宋体"/>
              </a:rPr>
              <a:t> + x</a:t>
            </a:r>
            <a:r>
              <a:rPr b="0" lang="en-US" sz="2800" spc="-1" strike="noStrike" baseline="30000">
                <a:solidFill>
                  <a:srgbClr val="333399"/>
                </a:solidFill>
                <a:latin typeface="Arial"/>
                <a:ea typeface="宋体"/>
              </a:rPr>
              <a:t> 10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宋体"/>
              </a:rPr>
              <a:t> + 1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宋体"/>
              </a:rPr>
              <a:t>M = 20D</a:t>
            </a:r>
            <a:r>
              <a:rPr b="0" lang="en-US" sz="2800" spc="-1" strike="noStrike" baseline="-25000">
                <a:solidFill>
                  <a:srgbClr val="333399"/>
                </a:solidFill>
                <a:latin typeface="Arial"/>
                <a:ea typeface="宋体"/>
              </a:rPr>
              <a:t>16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宋体"/>
              </a:rPr>
              <a:t> ( x</a:t>
            </a:r>
            <a:r>
              <a:rPr b="0" lang="en-US" sz="2800" spc="-1" strike="noStrike" baseline="30000">
                <a:solidFill>
                  <a:srgbClr val="333399"/>
                </a:solidFill>
                <a:latin typeface="Arial"/>
                <a:ea typeface="宋体"/>
              </a:rPr>
              <a:t>9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宋体"/>
              </a:rPr>
              <a:t> + x</a:t>
            </a:r>
            <a:r>
              <a:rPr b="0" lang="en-US" sz="2800" spc="-1" strike="noStrike" baseline="30000">
                <a:solidFill>
                  <a:srgbClr val="333399"/>
                </a:solidFill>
                <a:latin typeface="Arial"/>
                <a:ea typeface="宋体"/>
              </a:rPr>
              <a:t>3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宋体"/>
              </a:rPr>
              <a:t> + x</a:t>
            </a:r>
            <a:r>
              <a:rPr b="0" lang="en-US" sz="2800" spc="-1" strike="noStrike" baseline="30000">
                <a:solidFill>
                  <a:srgbClr val="333399"/>
                </a:solidFill>
                <a:latin typeface="Arial"/>
                <a:ea typeface="宋体"/>
              </a:rPr>
              <a:t>2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宋体"/>
              </a:rPr>
              <a:t> + 1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Hash computes R, remainder of M times A divided by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宋体"/>
              </a:rPr>
              <a:t>H(X) = R = M * A %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1610-F74A-4B82-B5B1-5AEFA2A3BF2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Hash Example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(continued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Multiplying yiel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宋体"/>
              </a:rPr>
              <a:t>M * A = x</a:t>
            </a:r>
            <a:r>
              <a:rPr b="0" lang="en-US" sz="2400" spc="-1" strike="noStrike" baseline="30000">
                <a:solidFill>
                  <a:srgbClr val="333399"/>
                </a:solidFill>
                <a:latin typeface="Arial"/>
                <a:ea typeface="宋体"/>
              </a:rPr>
              <a:t>56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宋体"/>
              </a:rPr>
              <a:t> + x</a:t>
            </a:r>
            <a:r>
              <a:rPr b="0" lang="en-US" sz="2400" spc="-1" strike="noStrike" baseline="30000">
                <a:solidFill>
                  <a:srgbClr val="333399"/>
                </a:solidFill>
                <a:latin typeface="Arial"/>
                <a:ea typeface="宋体"/>
              </a:rPr>
              <a:t>50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宋体"/>
              </a:rPr>
              <a:t> + x</a:t>
            </a:r>
            <a:r>
              <a:rPr b="0" lang="en-US" sz="2400" spc="-1" strike="noStrike" baseline="30000">
                <a:solidFill>
                  <a:srgbClr val="333399"/>
                </a:solidFill>
                <a:latin typeface="Arial"/>
                <a:ea typeface="宋体"/>
              </a:rPr>
              <a:t>49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宋体"/>
              </a:rPr>
              <a:t> + x</a:t>
            </a:r>
            <a:r>
              <a:rPr b="0" lang="en-US" sz="2400" spc="-1" strike="noStrike" baseline="30000">
                <a:solidFill>
                  <a:srgbClr val="333399"/>
                </a:solidFill>
                <a:latin typeface="Arial"/>
                <a:ea typeface="宋体"/>
              </a:rPr>
              <a:t>47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宋体"/>
              </a:rPr>
              <a:t> + x</a:t>
            </a:r>
            <a:r>
              <a:rPr b="0" lang="en-US" sz="2400" spc="-1" strike="noStrike" baseline="30000">
                <a:solidFill>
                  <a:srgbClr val="333399"/>
                </a:solidFill>
                <a:latin typeface="Arial"/>
                <a:ea typeface="宋体"/>
              </a:rPr>
              <a:t>9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宋体"/>
              </a:rPr>
              <a:t> + x</a:t>
            </a:r>
            <a:r>
              <a:rPr b="0" lang="en-US" sz="2400" spc="-1" strike="noStrike" baseline="30000">
                <a:solidFill>
                  <a:srgbClr val="333399"/>
                </a:solidFill>
                <a:latin typeface="Arial"/>
                <a:ea typeface="宋体"/>
              </a:rPr>
              <a:t>3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宋体"/>
              </a:rPr>
              <a:t> + x</a:t>
            </a:r>
            <a:r>
              <a:rPr b="0" lang="en-US" sz="2400" spc="-1" strike="noStrike" baseline="30000">
                <a:solidFill>
                  <a:srgbClr val="333399"/>
                </a:solidFill>
                <a:latin typeface="Arial"/>
                <a:ea typeface="宋体"/>
              </a:rPr>
              <a:t>2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宋体"/>
              </a:rPr>
              <a:t> +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Furtherm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宋体"/>
              </a:rPr>
              <a:t>M * A = Q * G +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W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宋体"/>
              </a:rPr>
              <a:t>Q = x</a:t>
            </a:r>
            <a:r>
              <a:rPr b="0" lang="en-US" sz="2400" spc="-1" strike="noStrike" baseline="30000">
                <a:solidFill>
                  <a:srgbClr val="333399"/>
                </a:solidFill>
                <a:latin typeface="Arial"/>
                <a:ea typeface="宋体"/>
              </a:rPr>
              <a:t>8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宋体"/>
              </a:rPr>
              <a:t> + x</a:t>
            </a:r>
            <a:r>
              <a:rPr b="0" lang="en-US" sz="2400" spc="-1" strike="noStrike" baseline="30000">
                <a:solidFill>
                  <a:srgbClr val="333399"/>
                </a:solidFill>
                <a:latin typeface="Arial"/>
                <a:ea typeface="宋体"/>
              </a:rPr>
              <a:t>2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宋体"/>
              </a:rPr>
              <a:t> + x</a:t>
            </a:r>
            <a:r>
              <a:rPr b="0" lang="en-US" sz="2400" spc="-1" strike="noStrike" baseline="30000">
                <a:solidFill>
                  <a:srgbClr val="333399"/>
                </a:solidFill>
                <a:latin typeface="Arial"/>
                <a:ea typeface="宋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96D3-00A0-4C52-A469-01D9A3CEFAB4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Hash Example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(continued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So, Q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宋体"/>
              </a:rPr>
              <a:t>106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Arial"/>
                <a:ea typeface="宋体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And R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宋体"/>
              </a:rPr>
              <a:t>x</a:t>
            </a:r>
            <a:r>
              <a:rPr b="0" lang="en-US" sz="2400" spc="-1" strike="noStrike" baseline="30000">
                <a:solidFill>
                  <a:srgbClr val="333399"/>
                </a:solidFill>
                <a:latin typeface="Arial"/>
                <a:ea typeface="宋体"/>
              </a:rPr>
              <a:t>47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宋体"/>
              </a:rPr>
              <a:t> + x</a:t>
            </a:r>
            <a:r>
              <a:rPr b="0" lang="en-US" sz="2400" spc="-1" strike="noStrike" baseline="30000">
                <a:solidFill>
                  <a:srgbClr val="333399"/>
                </a:solidFill>
                <a:latin typeface="Arial"/>
                <a:ea typeface="宋体"/>
              </a:rPr>
              <a:t>44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宋体"/>
              </a:rPr>
              <a:t> + x</a:t>
            </a:r>
            <a:r>
              <a:rPr b="0" lang="en-US" sz="2400" spc="-1" strike="noStrike" baseline="30000">
                <a:solidFill>
                  <a:srgbClr val="333399"/>
                </a:solidFill>
                <a:latin typeface="Arial"/>
                <a:ea typeface="宋体"/>
              </a:rPr>
              <a:t>38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宋体"/>
              </a:rPr>
              <a:t> + x</a:t>
            </a:r>
            <a:r>
              <a:rPr b="0" lang="en-US" sz="2400" spc="-1" strike="noStrike" baseline="30000">
                <a:solidFill>
                  <a:srgbClr val="333399"/>
                </a:solidFill>
                <a:latin typeface="Arial"/>
                <a:ea typeface="宋体"/>
              </a:rPr>
              <a:t>37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宋体"/>
              </a:rPr>
              <a:t> + x</a:t>
            </a:r>
            <a:r>
              <a:rPr b="0" lang="en-US" sz="2400" spc="-1" strike="noStrike" baseline="30000">
                <a:solidFill>
                  <a:srgbClr val="333399"/>
                </a:solidFill>
                <a:latin typeface="Arial"/>
                <a:ea typeface="宋体"/>
              </a:rPr>
              <a:t>33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宋体"/>
              </a:rPr>
              <a:t> + x</a:t>
            </a:r>
            <a:r>
              <a:rPr b="0" lang="en-US" sz="2400" spc="-1" strike="noStrike" baseline="30000">
                <a:solidFill>
                  <a:srgbClr val="333399"/>
                </a:solidFill>
                <a:latin typeface="Arial"/>
                <a:ea typeface="宋体"/>
              </a:rPr>
              <a:t>27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宋体"/>
              </a:rPr>
              <a:t> + x</a:t>
            </a:r>
            <a:r>
              <a:rPr b="0" lang="en-US" sz="2400" spc="-1" strike="noStrike" baseline="30000">
                <a:solidFill>
                  <a:srgbClr val="333399"/>
                </a:solidFill>
                <a:latin typeface="Arial"/>
                <a:ea typeface="宋体"/>
              </a:rPr>
              <a:t>26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宋体"/>
              </a:rPr>
              <a:t> + x</a:t>
            </a:r>
            <a:r>
              <a:rPr b="0" lang="en-US" sz="2400" spc="-1" strike="noStrike" baseline="30000">
                <a:solidFill>
                  <a:srgbClr val="333399"/>
                </a:solidFill>
                <a:latin typeface="Arial"/>
                <a:ea typeface="宋体"/>
              </a:rPr>
              <a:t>18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宋体"/>
              </a:rPr>
              <a:t> + x</a:t>
            </a:r>
            <a:r>
              <a:rPr b="0" lang="en-US" sz="2400" spc="-1" strike="noStrike" baseline="30000">
                <a:solidFill>
                  <a:srgbClr val="333399"/>
                </a:solidFill>
                <a:latin typeface="Arial"/>
                <a:ea typeface="宋体"/>
              </a:rPr>
              <a:t>12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宋体"/>
              </a:rPr>
              <a:t> 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宋体"/>
              </a:rPr>
              <a:t>x</a:t>
            </a:r>
            <a:r>
              <a:rPr b="0" lang="en-US" sz="2400" spc="-1" strike="noStrike" baseline="30000">
                <a:solidFill>
                  <a:srgbClr val="333399"/>
                </a:solidFill>
                <a:latin typeface="Arial"/>
                <a:ea typeface="宋体"/>
              </a:rPr>
              <a:t>11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宋体"/>
              </a:rPr>
              <a:t> + x</a:t>
            </a:r>
            <a:r>
              <a:rPr b="0" lang="en-US" sz="2400" spc="-1" strike="noStrike" baseline="30000">
                <a:solidFill>
                  <a:srgbClr val="333399"/>
                </a:solidFill>
                <a:latin typeface="Arial"/>
                <a:ea typeface="宋体"/>
              </a:rPr>
              <a:t>9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宋体"/>
              </a:rPr>
              <a:t> + x</a:t>
            </a:r>
            <a:r>
              <a:rPr b="0" lang="en-US" sz="2400" spc="-1" strike="noStrike" baseline="30000">
                <a:solidFill>
                  <a:srgbClr val="333399"/>
                </a:solidFill>
                <a:latin typeface="Arial"/>
                <a:ea typeface="宋体"/>
              </a:rPr>
              <a:t>8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宋体"/>
              </a:rPr>
              <a:t> + x</a:t>
            </a:r>
            <a:r>
              <a:rPr b="0" lang="en-US" sz="2400" spc="-1" strike="noStrike" baseline="30000">
                <a:solidFill>
                  <a:srgbClr val="333399"/>
                </a:solidFill>
                <a:latin typeface="Arial"/>
                <a:ea typeface="宋体"/>
              </a:rPr>
              <a:t>3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宋体"/>
              </a:rPr>
              <a:t> + x</a:t>
            </a:r>
            <a:r>
              <a:rPr b="0" lang="en-US" sz="2400" spc="-1" strike="noStrike" baseline="30000">
                <a:solidFill>
                  <a:srgbClr val="333399"/>
                </a:solidFill>
                <a:latin typeface="Arial"/>
                <a:ea typeface="宋体"/>
              </a:rPr>
              <a:t>1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宋体"/>
              </a:rPr>
              <a:t> +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The hash unit returns R as the value of the comput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宋体"/>
              </a:rPr>
              <a:t>90620C041B0B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Arial"/>
                <a:ea typeface="宋体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CB2A-8A3C-4512-B889-5EAF08CBAFCB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Other Intel® IXP1200 Hardwa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he Intel® IXP1200 contains over 1500 registers use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Configuration and bootstrap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Control of functional units and bu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Checking status of processors, threads, and onboard functional un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Example: IX bus registers used 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Control bus op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Configure the bus for 64-bit or 32-bit mode op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Control devices attached to the b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Specify whether a MAC device or the Intel® IXP handles control signa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DFB5-18AB-4ABE-B886-BD0F956F4B8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Summar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Microeng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Low-level, programmable packet proces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Use RISC design with instruction pipe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Have hardware threads for higher through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Use transfer registers to access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Use FIFOs for I/ 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Do not have multiply, but have access to hash un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3A52-EB36-4DD6-85EA-18C971864CB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Microengine Level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Not a typical CP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Does not contain native instruction for each op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Really 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microsequenc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0FC0-AC31-4B5A-B40D-BEB7172C7D6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Consequence Of Microsequenc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Because it functions as a microsequencer, a microengine does not provide native hardware instructions for arithmetic operations, nor does it provide addressing modes for direct memory access. Instead, a program running on a microengine controls and uses functional units on the chip to access memory and perform oper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4446-5281-4F55-9B38-9A332525403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Microengine Instruction S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57200" y="838080"/>
            <a:ext cx="8229600" cy="6019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6163-B213-4E9A-BB6A-9DBC523F575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Microengine View Of Mem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Separate address spa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Specific instruction to reference each memory 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Instruc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sdram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o access SDRAM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Instruc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sram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o access SRAM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Instruc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scratc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o access Scratchpad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Consequence: early binding of data to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D71F-B2F8-4EB0-832E-EECE9E8D4E3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Five-Stage Instruction Pipe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Stage Descri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宋体"/>
              </a:rPr>
              <a:t>Fetch the next instr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宋体"/>
              </a:rPr>
              <a:t>Decode the instruction and get register address(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宋体"/>
              </a:rPr>
              <a:t>Extract the operands from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宋体"/>
              </a:rPr>
              <a:t>Perform ALU, shift, or compare operations and set the condition c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宋体"/>
              </a:rPr>
              <a:t>Write the results to the destination 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8B47-4A2A-462A-8C15-9B223D1FBB1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Instruction Stall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Occurs when operand not avail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Processor temporarily stops exec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Reduces overall spe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Should be avoided when pos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499A-944D-4F48-8FF5-7647BC5BC7F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2T21:02:12Z</dcterms:created>
  <dc:creator>Joel Schuetze</dc:creator>
  <dc:description/>
  <dc:language>en-US</dc:language>
  <cp:lastModifiedBy>jcao3</cp:lastModifiedBy>
  <dcterms:modified xsi:type="dcterms:W3CDTF">2004-07-26T09:21:11Z</dcterms:modified>
  <cp:revision>8</cp:revision>
  <dc:subject/>
  <dc:title>Packet Processor Hardware (Microengines And FBI)</dc:title>
</cp:coreProperties>
</file>