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981A-16E1-41D4-B580-E3FA8FD7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5CAE-98FA-4538-AA9F-E766729E8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50CA-E309-472F-BEEB-127032570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A784-711B-4B23-A555-30C060A3F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84BD-40EB-46A6-BF14-9EA6830B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DD46-55C3-4F6E-9C6A-EF7583CA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A429-C49E-47C2-99A5-DED37995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9D0D-6550-471C-8861-B456763E7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347E-58D2-4B05-88D5-3EAEBA71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A652-D361-4964-9274-D79F6F26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6CC6-5271-4700-BC04-E673E257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407B-B40C-4FB6-A833-9CABD7AF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ing and Network Processor Curriculu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0444-2484-4ED4-A121-7C3AC0E3E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sic Terminology And Example Syste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A Quick Review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EE13-6C55-4253-8868-0E555DF00D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work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 hardware compo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s as fundamental building b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networks and intern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contain processor and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tes at one or more layers of the protocol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859C-78E0-4DCE-AA66-23C22B2411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Network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ernet s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LAN s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9894-3AD0-4F39-A880-1C27533023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LAN Swi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to conventional layer 2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s multiple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s frames among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computer has uniqu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nicast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s from conventional layer 2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manager to configur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roadcast dom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adcast domain known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virtu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3A3D-1435-43BC-817D-E8155621A9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roadcast Doma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s propagation of broadcast / multi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ally corresponded to fixed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er cable seg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er hub or swi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configurable via VLAN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r assigns ports to VL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191C-8020-4435-A60C-DEB2450729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Network Syste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host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P router (layer 3 switc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Network Address Translator (N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-robin Web load bala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P termin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950A-0B8B-4434-A96C-A1FFC757C2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Network Syste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usion Detection System (I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Private Network (VP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switch running S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gate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P splicer (also known as NAPT — Network Address and Protocol Transl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rt Web load bal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-top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92C1-417A-4508-B6A1-1694F7B347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Network System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control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/ flow analy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ffic moni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ffic pol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ffic sh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255A-7C33-4DB8-A8C3-73E6B86E810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ckets Cells And Fra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ic te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unit of data being transfer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vels independ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per and lower bounds on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BB5F-0508-4D6F-9B1D-F27F98CDA6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ckets Cells And Frame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packet (e.g., AT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ram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ayer-2 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understood by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P dat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DBF7-877B-4CBD-9874-5F81EFFDA7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ypes Of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di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nection-ori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har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i.e., multiac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6069-99D8-4F40-A8F0-CD39221E12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int-To-Point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s exactly two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used for long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data circuit connecting two rou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E20B-D3C3-4C7A-8527-6C19C3C82A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ta Circu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sed from phone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calle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rial lin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data is transmitted bit-ser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designed to carry digital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 depends on speed and d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-series standards define low speeds (e.g. T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S and OC standards define high sp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D6AE-155E-41CC-AC8F-6C03058476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ocal Area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hernet technology domin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1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 and wi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d by dedicated interface c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mportant to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yer 2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 framing and addr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A9EE-F0A6-40AC-932C-E001060ECA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C Addr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address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cast (single compu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cast (all computers in broadcast dom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ast (some computers in broadcast dom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2CA9-8DC6-4DBB-8BD6-330ACCD971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re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ion of multipl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heterogeneity of underlying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 Area Network (LAN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s limited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de Area Network (WAN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s arbitrary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C139-B7AD-40AE-A39A-2249C35660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4T18:21:51Z</dcterms:created>
  <dc:creator>Joel Schuetze</dc:creator>
  <dc:description/>
  <dc:language>en-US</dc:language>
  <cp:lastModifiedBy>jjohnso2</cp:lastModifiedBy>
  <dcterms:modified xsi:type="dcterms:W3CDTF">2004-07-16T03:13:02Z</dcterms:modified>
  <cp:revision>5</cp:revision>
  <dc:subject/>
  <dc:title>Basic Terminology And Example Systems (A Quick Review) </dc:title>
</cp:coreProperties>
</file>