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3269-6A60-42BB-BD3E-3E0BC60F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92AB-402C-4BA6-930C-A35860DAA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CF2-54E9-4091-AE47-07E390B6B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6021-A002-4387-964E-3F158DDA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EC13-2403-439B-8A01-57B0A223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CD4-C1BD-4D7B-8AA5-194A0DDF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8FB0-1B8A-42A9-A057-F146C999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B4D8-6F01-4346-8998-DFF0B4B6A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4C5-BE8F-4D38-9569-8FEFB8BF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AC70-BF4B-4E70-8B3C-E0597429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4558-E0C0-461F-AAE2-B70FEC9D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B678-2351-4906-8C5D-A9CEA273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F3C37-F88D-4623-B3FB-05903DE5E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Processor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1E6F-5E13-417B-A5DE-BCDF2599AE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Interfac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Packet Interface Level 3 or 4 (SPI-3 or SPI-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Des Framer Interface (SF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SIX fabric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The Optical Internetworking Forum (OIF) controls the SPI and SFI stand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3073-5FF1-4EA8-BF6B-F80D78CB62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ling And Notification Mechanis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 asynchronous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val of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r expi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tion of transfer across the fab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aradig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20C-4C3B-4BF1-8AC9-1FBBD70469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t Execution Suppor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oves overall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threads of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r switches context when a thread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1CE-F35F-429E-82D2-BA380C65861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pport For Concurrent Exec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edded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 switching i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/ O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support for context swi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overhead or zero-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737F-2899-4EE7-9E0E-98C83DC1C6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t Support Ques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or global threads (does thread execution span multiple processors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d or voluntary context switching (are threads preemptabl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4A5-0E26-4C59-B57B-692C4C5AD0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rdware And Software Dispatch Mechanis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s to overall control of parall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pat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s operation to per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s to a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6854-4E22-4510-A0CC-13C5E652BB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icit And Explicit Parallel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 paralle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ses parallelism to progra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software to understand parallel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it paralle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es parallel copies of functional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written as if single copy exec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304-4124-4ADE-92C5-51F0AA56270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chitecture Styles, Packet Flow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 Clock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edded processor plus fixed co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edded processor plus programmable I/ O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(number of processors scales to handle lo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peline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6D0-5168-4C00-90ED-42EAE1C9763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mbedded Processor Architectu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s all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s packet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as run-to-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3668-FE27-4B47-A044-9DD6E57282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rallel Architec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rocessor handles 1/N of total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2144-4764-48EE-B627-5C954C61941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chitectural Explo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 excess of exuberance and a lack of experience have produced a wide variety of approaches and architec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3D8F-6EC6-4E12-A1FC-3C4A03A0AFF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ipeline Architec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rocessor handles on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moves through ‘‘pipeline’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05A8-5270-4213-BD75-5B665756838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ock Ra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bedded processor runs at &gt; wire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processor runs at &lt; wire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peline processor runs at wire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5114-0396-480A-9948-23BF2BB5EFF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ftware Architec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rogram that invokes coprocessors like subrout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rogram that interacts with code on intelligent, programmable I/ O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-drive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C-style (program partitioned among processo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peline (even if hardware does not use pipe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ations of the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BAA4-414D-4AC0-A9AA-130AD7692B4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General purpose C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st level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ministrative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management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Routing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bedded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mediate functiona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-layer protoc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of I/O process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ception and error hand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-level ingress (e.g., reassemb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-level egress (e.g., traffic shap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/O 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ic packet proces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-level ingress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-level egress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 Uses Of Programmable Processo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C8CC-EDEE-4A26-A6A6-7357345AD10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ing The Processor Hier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maximize performance, packet processing tasks should be assigned to the lowest level processor capable of performing the tas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C048-6833-447D-A0FD-58E8FE6884B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processor architectures characteriz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l b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-purpose functional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concurrent or parallel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atch mechanis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EB35-402F-4D02-9CC4-55AFDC1FA1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ncipl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hierarc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 transfer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interface and communication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-purpose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ing and notification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urrent and parallel execution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 model and paradi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and software dispatch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2D90-4CD3-4F97-89AD-80EC9D2916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ng Hierarch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s of hardware un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s various aspects of packet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onboard and external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processor 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gu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2BA4-90A8-4676-9E65-939F412D86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ical Processor Hierarch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6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 Typ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able?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Ch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6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8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neral purpose CPU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e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ssi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6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7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mbedded processor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e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yp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6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5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/O processor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ye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yp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6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6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processor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yp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6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4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abric interfac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yp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6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ata transfer unit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yp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6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ramer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ssi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36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hysical transmitter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ossi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89B4-6488-4810-8733-EC0F9A81628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mory Hierarch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measu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access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tial access la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EE9C-E024-4DB7-B5A2-AAA1E0D4A2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ical Memory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Typ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. Spe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rox. Siz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Chi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ntrol stor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00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.P. Register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90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nboard Cache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40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nboard RAM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7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Static RAM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</a:rPr>
              <a:t>7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ynamic RAM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0</a:t>
            </a:r>
            <a:r>
              <a:rPr b="1" lang="en-US" sz="2000" spc="-1" strike="noStrike" baseline="30000">
                <a:solidFill>
                  <a:srgbClr val="333399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E5B6-1BDE-443F-9A0C-AFD7FB4629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al Transfer Mech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l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 FIF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board shared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3BF2-800B-49C2-AA0C-94043E4361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ternal Interface An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unication Mechanis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and specialized bus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I/ O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ing fabric interf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CD9A2-1E3C-4A77-912E-8DD37BDA2A2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7:00:54Z</dcterms:created>
  <dc:creator>Joel Schuetze</dc:creator>
  <dc:description/>
  <dc:language>en-US</dc:language>
  <cp:lastModifiedBy>jjohnso2</cp:lastModifiedBy>
  <dcterms:modified xsi:type="dcterms:W3CDTF">2004-07-16T03:40:30Z</dcterms:modified>
  <cp:revision>3</cp:revision>
  <dc:subject/>
  <dc:title>Network Processor Architectures</dc:title>
</cp:coreProperties>
</file>