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715-5BB0-42BB-9782-F8152DD1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354-DC15-4A96-A14D-30184BB1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3AE-278E-4889-A2C6-177E24B6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461-9920-4922-8EEF-8C343FD2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789-8309-42E4-9F78-21E63CBB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C14-FC0A-4A69-A5EE-F000155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AB8-D8F1-446E-A022-9298C5E7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72C-109E-466E-9C33-239D457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031-F058-4FF4-8EE1-C11306CB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959-75F0-4872-BD2F-93A6F0D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AB3-5993-46B0-ACE3-121F3A4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FCC-0980-4BE8-B789-6934864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FC5-3117-4483-99A0-0BF658F1D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ject P3-B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Scheduling and Reservations with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nd Prototyping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harness for adding limited application level MAC features to 802.11 provided (with RTS/CTS and ACK’s turned of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vailable, utilize Linux PC AP and client platforms with modified driver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document (full description, flow charts, pseudo-code, etc.) and prototype demo as deliv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protocol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209680"/>
            <a:ext cx="533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2895480"/>
            <a:ext cx="152640" cy="3812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3434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191480" y="3352680"/>
            <a:ext cx="761400" cy="2666520"/>
            <a:chOff x="4191480" y="3352680"/>
            <a:chExt cx="761400" cy="2666520"/>
          </a:xfrm>
        </p:grpSpPr>
        <p:sp>
          <p:nvSpPr>
            <p:cNvPr id="49" name=""/>
            <p:cNvSpPr/>
            <p:nvPr/>
          </p:nvSpPr>
          <p:spPr>
            <a:xfrm>
              <a:off x="4318560" y="3352680"/>
              <a:ext cx="634320" cy="179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4202640" y="4290480"/>
              <a:ext cx="739800" cy="86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480" y="4298760"/>
              <a:ext cx="634320" cy="172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04880" y="3464280"/>
            <a:ext cx="1301760" cy="1605600"/>
            <a:chOff x="2504880" y="3464280"/>
            <a:chExt cx="1301760" cy="1605600"/>
          </a:xfrm>
        </p:grpSpPr>
        <p:sp>
          <p:nvSpPr>
            <p:cNvPr id="53" name=""/>
            <p:cNvSpPr/>
            <p:nvPr/>
          </p:nvSpPr>
          <p:spPr>
            <a:xfrm flipV="1">
              <a:off x="2504880" y="3857040"/>
              <a:ext cx="759960" cy="12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082320" y="3857760"/>
              <a:ext cx="191520" cy="7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091320" y="3464280"/>
              <a:ext cx="715320" cy="11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06080" y="3528720"/>
            <a:ext cx="900720" cy="898560"/>
            <a:chOff x="4906080" y="3528720"/>
            <a:chExt cx="900720" cy="898560"/>
          </a:xfrm>
        </p:grpSpPr>
        <p:sp>
          <p:nvSpPr>
            <p:cNvPr id="57" name=""/>
            <p:cNvSpPr/>
            <p:nvPr/>
          </p:nvSpPr>
          <p:spPr>
            <a:xfrm>
              <a:off x="4906080" y="3528720"/>
              <a:ext cx="717840" cy="53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111280" y="3920760"/>
              <a:ext cx="51084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9840" y="3927240"/>
              <a:ext cx="6969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00200" y="4952880"/>
            <a:ext cx="1032120" cy="565200"/>
            <a:chOff x="1600200" y="4952880"/>
            <a:chExt cx="1032120" cy="565200"/>
          </a:xfrm>
        </p:grpSpPr>
        <p:graphicFrame>
          <p:nvGraphicFramePr>
            <p:cNvPr id="61" name=""/>
            <p:cNvGraphicFramePr/>
            <p:nvPr/>
          </p:nvGraphicFramePr>
          <p:xfrm>
            <a:off x="1600200" y="4952880"/>
            <a:ext cx="681120" cy="56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952880"/>
                      <a:ext cx="6811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" name=""/>
            <p:cNvGrpSpPr/>
            <p:nvPr/>
          </p:nvGrpSpPr>
          <p:grpSpPr>
            <a:xfrm>
              <a:off x="2184120" y="5172120"/>
              <a:ext cx="448200" cy="189000"/>
              <a:chOff x="2184120" y="5172120"/>
              <a:chExt cx="448200" cy="1890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184120" y="5172120"/>
                <a:ext cx="329400" cy="189000"/>
                <a:chOff x="2184120" y="5172120"/>
                <a:chExt cx="329400" cy="18900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2234880" y="5172120"/>
                  <a:ext cx="278640" cy="189000"/>
                  <a:chOff x="2234880" y="5172120"/>
                  <a:chExt cx="278640" cy="1890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2234880" y="5172120"/>
                    <a:ext cx="278640" cy="18900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277000" y="5205600"/>
                    <a:ext cx="205560" cy="120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2190600" y="5199120"/>
                  <a:ext cx="22680" cy="112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2184120" y="523152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2188800" y="527688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534760" y="5232600"/>
                <a:ext cx="97560" cy="100440"/>
                <a:chOff x="2534760" y="5232600"/>
                <a:chExt cx="97560" cy="100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34760" y="5281200"/>
                  <a:ext cx="4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rot="16200000">
                  <a:off x="2562120" y="5263200"/>
                  <a:ext cx="100440" cy="39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" name=""/>
          <p:cNvGrpSpPr/>
          <p:nvPr/>
        </p:nvGrpSpPr>
        <p:grpSpPr>
          <a:xfrm>
            <a:off x="4038480" y="5791320"/>
            <a:ext cx="1032120" cy="565200"/>
            <a:chOff x="4038480" y="5791320"/>
            <a:chExt cx="1032120" cy="565200"/>
          </a:xfrm>
        </p:grpSpPr>
        <p:graphicFrame>
          <p:nvGraphicFramePr>
            <p:cNvPr id="75" name=""/>
            <p:cNvGraphicFramePr/>
            <p:nvPr/>
          </p:nvGraphicFramePr>
          <p:xfrm>
            <a:off x="4038480" y="5791320"/>
            <a:ext cx="68112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5791320"/>
                      <a:ext cx="6811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7" name=""/>
            <p:cNvGrpSpPr/>
            <p:nvPr/>
          </p:nvGrpSpPr>
          <p:grpSpPr>
            <a:xfrm>
              <a:off x="4622400" y="6010560"/>
              <a:ext cx="448200" cy="189000"/>
              <a:chOff x="4622400" y="6010560"/>
              <a:chExt cx="448200" cy="18900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4622400" y="6010560"/>
                <a:ext cx="329400" cy="189000"/>
                <a:chOff x="4622400" y="6010560"/>
                <a:chExt cx="329400" cy="189000"/>
              </a:xfrm>
            </p:grpSpPr>
            <p:grpSp>
              <p:nvGrpSpPr>
                <p:cNvPr id="79" name=""/>
                <p:cNvGrpSpPr/>
                <p:nvPr/>
              </p:nvGrpSpPr>
              <p:grpSpPr>
                <a:xfrm>
                  <a:off x="4673160" y="6010560"/>
                  <a:ext cx="278640" cy="189000"/>
                  <a:chOff x="4673160" y="6010560"/>
                  <a:chExt cx="278640" cy="1890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4673160" y="6010560"/>
                    <a:ext cx="278640" cy="18900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4715280" y="6044040"/>
                    <a:ext cx="205560" cy="120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4628880" y="6037560"/>
                  <a:ext cx="22680" cy="112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4622400" y="606996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4627080" y="611532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973040" y="6071040"/>
                <a:ext cx="97560" cy="100440"/>
                <a:chOff x="4973040" y="6071040"/>
                <a:chExt cx="97560" cy="1004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973040" y="6119640"/>
                  <a:ext cx="4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 rot="16200000">
                  <a:off x="5000400" y="6101640"/>
                  <a:ext cx="100440" cy="39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" name=""/>
          <p:cNvGrpSpPr/>
          <p:nvPr/>
        </p:nvGrpSpPr>
        <p:grpSpPr>
          <a:xfrm>
            <a:off x="5791320" y="4343400"/>
            <a:ext cx="1031400" cy="565200"/>
            <a:chOff x="5791320" y="4343400"/>
            <a:chExt cx="1031400" cy="565200"/>
          </a:xfrm>
        </p:grpSpPr>
        <p:graphicFrame>
          <p:nvGraphicFramePr>
            <p:cNvPr id="89" name=""/>
            <p:cNvGraphicFramePr/>
            <p:nvPr/>
          </p:nvGraphicFramePr>
          <p:xfrm>
            <a:off x="5791320" y="4343400"/>
            <a:ext cx="680760" cy="56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4343400"/>
                      <a:ext cx="68076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" name=""/>
            <p:cNvGrpSpPr/>
            <p:nvPr/>
          </p:nvGrpSpPr>
          <p:grpSpPr>
            <a:xfrm>
              <a:off x="6374880" y="4562640"/>
              <a:ext cx="447840" cy="189000"/>
              <a:chOff x="6374880" y="4562640"/>
              <a:chExt cx="447840" cy="189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374880" y="4562640"/>
                <a:ext cx="328680" cy="189000"/>
                <a:chOff x="6374880" y="4562640"/>
                <a:chExt cx="328680" cy="18900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6425280" y="4562640"/>
                  <a:ext cx="278280" cy="189000"/>
                  <a:chOff x="6425280" y="4562640"/>
                  <a:chExt cx="278280" cy="1890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6425280" y="4562640"/>
                    <a:ext cx="278280" cy="18900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6467400" y="4596120"/>
                    <a:ext cx="205200" cy="120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6381360" y="4589640"/>
                  <a:ext cx="22680" cy="112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6374880" y="462204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6379560" y="466740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725160" y="4623120"/>
                <a:ext cx="97560" cy="100440"/>
                <a:chOff x="6725160" y="4623120"/>
                <a:chExt cx="97560" cy="100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725160" y="4671720"/>
                  <a:ext cx="4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6200000">
                  <a:off x="6752520" y="4653720"/>
                  <a:ext cx="100440" cy="39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2" name=""/>
          <p:cNvSpPr/>
          <p:nvPr/>
        </p:nvSpPr>
        <p:spPr>
          <a:xfrm>
            <a:off x="757800" y="5670720"/>
            <a:ext cx="26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test ha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0320" y="1905120"/>
            <a:ext cx="26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test ha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Project with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MAC reservation, error control and scheduling extensions to provide fast downloading of large files to 1,2..n users with simultaneous requests.  Prototype with 3 users each downloading a 10 MB file using TCP.  The goal is to minimize total elapsed time for delivering all 3 files to comple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ohnso2</cp:lastModifiedBy>
  <dcterms:modified xsi:type="dcterms:W3CDTF">2004-09-07T15:51:16Z</dcterms:modified>
  <cp:revision>4</cp:revision>
  <dc:subject/>
  <dc:title>PowerPoint Presentation</dc:title>
</cp:coreProperties>
</file>