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0F23-908B-4FCB-8F8F-13B88E79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10AE-D0E6-4452-BD13-1D11D387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9A6D-42DA-463D-B903-93CEFBF2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015-689B-4E9E-B229-E0303BFA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028A-622A-46C1-A018-89CD3D5E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FC67-971C-4424-9DF0-4316BE57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D9A5-6976-4FAC-B20D-4E32A016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61A4-635C-4234-8124-303FA41F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18AD-9772-41F5-8C12-AF3F2AED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2BBE-84CB-45EF-9F0A-5529CE0A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CFD0-5674-478D-8F6E-3DFB5E4B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78A0-A0D0-40EF-9FFA-02F73AC7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7E7F-2F8A-4EE1-B28D-5FA2DFFA5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ject P3-A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C Scheduling and Reservations with U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and Prototyping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harness for adding limited application level MAC features to 802.11 provided (with RTS/CTS and ACK’s turned of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vailable, utilize Linux PC AP and client platforms with modified driv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document (full description, flow charts, pseudo-code, etc.) and prototype demo as deliver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C Sce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 protocol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2209680"/>
            <a:ext cx="5335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7080" y="2895480"/>
            <a:ext cx="152640" cy="38124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343400" y="266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191480" y="3352680"/>
            <a:ext cx="761400" cy="2666520"/>
            <a:chOff x="4191480" y="3352680"/>
            <a:chExt cx="761400" cy="2666520"/>
          </a:xfrm>
        </p:grpSpPr>
        <p:sp>
          <p:nvSpPr>
            <p:cNvPr id="49" name=""/>
            <p:cNvSpPr/>
            <p:nvPr/>
          </p:nvSpPr>
          <p:spPr>
            <a:xfrm>
              <a:off x="4318560" y="3352680"/>
              <a:ext cx="634320" cy="179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>
              <a:off x="4202640" y="4290480"/>
              <a:ext cx="739800" cy="86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191480" y="4298760"/>
              <a:ext cx="634320" cy="172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504880" y="3464280"/>
            <a:ext cx="1301760" cy="1605600"/>
            <a:chOff x="2504880" y="3464280"/>
            <a:chExt cx="1301760" cy="1605600"/>
          </a:xfrm>
        </p:grpSpPr>
        <p:sp>
          <p:nvSpPr>
            <p:cNvPr id="53" name=""/>
            <p:cNvSpPr/>
            <p:nvPr/>
          </p:nvSpPr>
          <p:spPr>
            <a:xfrm flipV="1">
              <a:off x="2504880" y="3857040"/>
              <a:ext cx="759960" cy="121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082320" y="3857760"/>
              <a:ext cx="191520" cy="77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091320" y="3464280"/>
              <a:ext cx="715320" cy="11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906080" y="3528720"/>
            <a:ext cx="900720" cy="898560"/>
            <a:chOff x="4906080" y="3528720"/>
            <a:chExt cx="900720" cy="898560"/>
          </a:xfrm>
        </p:grpSpPr>
        <p:sp>
          <p:nvSpPr>
            <p:cNvPr id="57" name=""/>
            <p:cNvSpPr/>
            <p:nvPr/>
          </p:nvSpPr>
          <p:spPr>
            <a:xfrm>
              <a:off x="4906080" y="3528720"/>
              <a:ext cx="717840" cy="53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111280" y="3920760"/>
              <a:ext cx="51084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109840" y="3927240"/>
              <a:ext cx="69696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600200" y="4952880"/>
            <a:ext cx="1032120" cy="565200"/>
            <a:chOff x="1600200" y="4952880"/>
            <a:chExt cx="1032120" cy="565200"/>
          </a:xfrm>
        </p:grpSpPr>
        <p:graphicFrame>
          <p:nvGraphicFramePr>
            <p:cNvPr id="61" name=""/>
            <p:cNvGraphicFramePr/>
            <p:nvPr/>
          </p:nvGraphicFramePr>
          <p:xfrm>
            <a:off x="1600200" y="4952880"/>
            <a:ext cx="681120" cy="565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4952880"/>
                      <a:ext cx="68112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3" name=""/>
            <p:cNvGrpSpPr/>
            <p:nvPr/>
          </p:nvGrpSpPr>
          <p:grpSpPr>
            <a:xfrm>
              <a:off x="2184120" y="5172120"/>
              <a:ext cx="448200" cy="189000"/>
              <a:chOff x="2184120" y="5172120"/>
              <a:chExt cx="448200" cy="18900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2184120" y="5172120"/>
                <a:ext cx="329400" cy="189000"/>
                <a:chOff x="2184120" y="5172120"/>
                <a:chExt cx="329400" cy="189000"/>
              </a:xfrm>
            </p:grpSpPr>
            <p:grpSp>
              <p:nvGrpSpPr>
                <p:cNvPr id="65" name=""/>
                <p:cNvGrpSpPr/>
                <p:nvPr/>
              </p:nvGrpSpPr>
              <p:grpSpPr>
                <a:xfrm>
                  <a:off x="2234880" y="5172120"/>
                  <a:ext cx="278640" cy="189000"/>
                  <a:chOff x="2234880" y="5172120"/>
                  <a:chExt cx="278640" cy="1890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2234880" y="5172120"/>
                    <a:ext cx="278640" cy="189000"/>
                  </a:xfrm>
                  <a:prstGeom prst="rect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2277000" y="5205600"/>
                    <a:ext cx="205560" cy="120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" name=""/>
                <p:cNvSpPr/>
                <p:nvPr/>
              </p:nvSpPr>
              <p:spPr>
                <a:xfrm>
                  <a:off x="2190600" y="5199120"/>
                  <a:ext cx="22680" cy="1123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H="1">
                  <a:off x="2184120" y="5231520"/>
                  <a:ext cx="25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flipH="1">
                  <a:off x="2188800" y="5276880"/>
                  <a:ext cx="25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2534760" y="5232600"/>
                <a:ext cx="97560" cy="100440"/>
                <a:chOff x="2534760" y="5232600"/>
                <a:chExt cx="97560" cy="10044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2534760" y="5281200"/>
                  <a:ext cx="46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flipH="1" rot="16200000">
                  <a:off x="2562120" y="5263200"/>
                  <a:ext cx="100440" cy="392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4" name=""/>
          <p:cNvGrpSpPr/>
          <p:nvPr/>
        </p:nvGrpSpPr>
        <p:grpSpPr>
          <a:xfrm>
            <a:off x="4038480" y="5791320"/>
            <a:ext cx="1032120" cy="565200"/>
            <a:chOff x="4038480" y="5791320"/>
            <a:chExt cx="1032120" cy="565200"/>
          </a:xfrm>
        </p:grpSpPr>
        <p:graphicFrame>
          <p:nvGraphicFramePr>
            <p:cNvPr id="75" name=""/>
            <p:cNvGraphicFramePr/>
            <p:nvPr/>
          </p:nvGraphicFramePr>
          <p:xfrm>
            <a:off x="4038480" y="5791320"/>
            <a:ext cx="681120" cy="56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38480" y="5791320"/>
                      <a:ext cx="68112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7" name=""/>
            <p:cNvGrpSpPr/>
            <p:nvPr/>
          </p:nvGrpSpPr>
          <p:grpSpPr>
            <a:xfrm>
              <a:off x="4622400" y="6010560"/>
              <a:ext cx="448200" cy="189000"/>
              <a:chOff x="4622400" y="6010560"/>
              <a:chExt cx="448200" cy="18900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4622400" y="6010560"/>
                <a:ext cx="329400" cy="189000"/>
                <a:chOff x="4622400" y="6010560"/>
                <a:chExt cx="329400" cy="189000"/>
              </a:xfrm>
            </p:grpSpPr>
            <p:grpSp>
              <p:nvGrpSpPr>
                <p:cNvPr id="79" name=""/>
                <p:cNvGrpSpPr/>
                <p:nvPr/>
              </p:nvGrpSpPr>
              <p:grpSpPr>
                <a:xfrm>
                  <a:off x="4673160" y="6010560"/>
                  <a:ext cx="278640" cy="189000"/>
                  <a:chOff x="4673160" y="6010560"/>
                  <a:chExt cx="278640" cy="189000"/>
                </a:xfrm>
              </p:grpSpPr>
              <p:sp>
                <p:nvSpPr>
                  <p:cNvPr id="80" name=""/>
                  <p:cNvSpPr/>
                  <p:nvPr/>
                </p:nvSpPr>
                <p:spPr>
                  <a:xfrm>
                    <a:off x="4673160" y="6010560"/>
                    <a:ext cx="278640" cy="189000"/>
                  </a:xfrm>
                  <a:prstGeom prst="rect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4715280" y="6044040"/>
                    <a:ext cx="205560" cy="120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" name=""/>
                <p:cNvSpPr/>
                <p:nvPr/>
              </p:nvSpPr>
              <p:spPr>
                <a:xfrm>
                  <a:off x="4628880" y="6037560"/>
                  <a:ext cx="22680" cy="1123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H="1">
                  <a:off x="4622400" y="6069960"/>
                  <a:ext cx="25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flipH="1">
                  <a:off x="4627080" y="6115320"/>
                  <a:ext cx="25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973040" y="6071040"/>
                <a:ext cx="97560" cy="100440"/>
                <a:chOff x="4973040" y="6071040"/>
                <a:chExt cx="97560" cy="10044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973040" y="6119640"/>
                  <a:ext cx="46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H="1" rot="16200000">
                  <a:off x="5000400" y="6101640"/>
                  <a:ext cx="100440" cy="392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8" name=""/>
          <p:cNvGrpSpPr/>
          <p:nvPr/>
        </p:nvGrpSpPr>
        <p:grpSpPr>
          <a:xfrm>
            <a:off x="5791320" y="4343400"/>
            <a:ext cx="1031400" cy="565200"/>
            <a:chOff x="5791320" y="4343400"/>
            <a:chExt cx="1031400" cy="565200"/>
          </a:xfrm>
        </p:grpSpPr>
        <p:graphicFrame>
          <p:nvGraphicFramePr>
            <p:cNvPr id="89" name=""/>
            <p:cNvGraphicFramePr/>
            <p:nvPr/>
          </p:nvGraphicFramePr>
          <p:xfrm>
            <a:off x="5791320" y="4343400"/>
            <a:ext cx="680760" cy="565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91320" y="4343400"/>
                      <a:ext cx="68076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1" name=""/>
            <p:cNvGrpSpPr/>
            <p:nvPr/>
          </p:nvGrpSpPr>
          <p:grpSpPr>
            <a:xfrm>
              <a:off x="6374880" y="4562640"/>
              <a:ext cx="447840" cy="189000"/>
              <a:chOff x="6374880" y="4562640"/>
              <a:chExt cx="447840" cy="18900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6374880" y="4562640"/>
                <a:ext cx="328680" cy="189000"/>
                <a:chOff x="6374880" y="4562640"/>
                <a:chExt cx="328680" cy="189000"/>
              </a:xfrm>
            </p:grpSpPr>
            <p:grpSp>
              <p:nvGrpSpPr>
                <p:cNvPr id="93" name=""/>
                <p:cNvGrpSpPr/>
                <p:nvPr/>
              </p:nvGrpSpPr>
              <p:grpSpPr>
                <a:xfrm>
                  <a:off x="6425280" y="4562640"/>
                  <a:ext cx="278280" cy="189000"/>
                  <a:chOff x="6425280" y="4562640"/>
                  <a:chExt cx="278280" cy="189000"/>
                </a:xfrm>
              </p:grpSpPr>
              <p:sp>
                <p:nvSpPr>
                  <p:cNvPr id="94" name=""/>
                  <p:cNvSpPr/>
                  <p:nvPr/>
                </p:nvSpPr>
                <p:spPr>
                  <a:xfrm>
                    <a:off x="6425280" y="4562640"/>
                    <a:ext cx="278280" cy="189000"/>
                  </a:xfrm>
                  <a:prstGeom prst="rect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6467400" y="4596120"/>
                    <a:ext cx="205200" cy="120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6" name=""/>
                <p:cNvSpPr/>
                <p:nvPr/>
              </p:nvSpPr>
              <p:spPr>
                <a:xfrm>
                  <a:off x="6381360" y="4589640"/>
                  <a:ext cx="22680" cy="1123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>
                  <a:off x="6374880" y="4622040"/>
                  <a:ext cx="25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>
                  <a:off x="6379560" y="4667400"/>
                  <a:ext cx="25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6725160" y="4623120"/>
                <a:ext cx="97560" cy="100440"/>
                <a:chOff x="6725160" y="4623120"/>
                <a:chExt cx="97560" cy="1004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6725160" y="4671720"/>
                  <a:ext cx="46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 rot="16200000">
                  <a:off x="6752520" y="4653720"/>
                  <a:ext cx="100440" cy="392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2" name=""/>
          <p:cNvSpPr/>
          <p:nvPr/>
        </p:nvSpPr>
        <p:spPr>
          <a:xfrm>
            <a:off x="757800" y="5670720"/>
            <a:ext cx="264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test ha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pplication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0320" y="1905120"/>
            <a:ext cx="264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test ha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pplication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C Project with U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MAC reservation and scheduling extensions to provide flow QoS for 1,2..n users.  Test with 3 UDP sources generating ~0.5, 1, 2 Mbps.  Measure connection setup delay, flow rate, overhead, net throughput and packet loss rates.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johnso2</cp:lastModifiedBy>
  <dcterms:modified xsi:type="dcterms:W3CDTF">2004-09-07T15:50:05Z</dcterms:modified>
  <cp:revision>3</cp:revision>
  <dc:subject/>
  <dc:title>PowerPoint Presentation</dc:title>
</cp:coreProperties>
</file>