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02F661-F2BD-4ED7-8C60-9D6D80E709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5238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36734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BAB44-434F-406B-8775-672533736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36734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36734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35BEBB-758C-4F8A-897C-595C29E1EF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5238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5238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5238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36734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36734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36734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800822-9A79-41DC-B34A-5C0D9423ED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5238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4DC00-585E-4E1C-8CFB-610DC4F59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4FE1A-C41A-4D51-8162-690BC7A70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5238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5238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4A564-87D6-4B72-83C5-E5AAF639B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9A05F-C1CA-433E-BC1A-7A829B08B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560"/>
            <a:ext cx="8382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C2272-3A87-4386-A0AA-72116B928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5238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36734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22472-2DED-4939-8D78-F07EB4005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5238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36734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4720D-7C75-4321-840D-8DB391F06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36734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26E35-F9C1-4AE0-A1BC-BD224EA307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5238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9EFB7-273C-484D-9488-9F8F2D3E14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robertob@microsoft.com" TargetMode="External"/><Relationship Id="rId2" Type="http://schemas.openxmlformats.org/officeDocument/2006/relationships/hyperlink" Target="mailto:robertob@microsoft.com" TargetMode="External"/><Relationship Id="rId3" Type="http://schemas.openxmlformats.org/officeDocument/2006/relationships/hyperlink" Target="mailto:robertob@microsoft.com" TargetMode="External"/><Relationship Id="rId4" Type="http://schemas.openxmlformats.org/officeDocument/2006/relationships/hyperlink" Target="mailto:robertob@microsoft.com" TargetMode="External"/><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ftp://ftp.microsoft.com/services/isn/svcPvdrs/postings.xml"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microsoft.com/IsnN" TargetMode="External"/><Relationship Id="rId2" Type="http://schemas.openxmlformats.org/officeDocument/2006/relationships/hyperlink" Target="http://www.microsoft.com/IsnN" TargetMode="External"/><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ftp://ftp.microsoft.com/services/isn/svcPvdrs/postings.xml" TargetMode="External"/><Relationship Id="rId2" Type="http://schemas.openxmlformats.org/officeDocument/2006/relationships/hyperlink" Target="ftp://ftp.microsoft.com/services/isn/svcPvdrs/postings.xml" TargetMode="External"/><Relationship Id="rId3" Type="http://schemas.openxmlformats.org/officeDocument/2006/relationships/hyperlink" Target="http://www.microsoft.com/ISN/tech_columnists.asp" TargetMode="External"/><Relationship Id="rId4" Type="http://schemas.openxmlformats.org/officeDocument/2006/relationships/hyperlink" Target="mailto:robertob@microsoft.com"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pplication Usage Tracking Service</a:t>
            </a:r>
            <a:endParaRPr b="0" lang="en-US" sz="4000" spc="-1" strike="noStrike">
              <a:solidFill>
                <a:srgbClr val="000000"/>
              </a:solidFill>
              <a:latin typeface="Times New Roman"/>
            </a:endParaRPr>
          </a:p>
        </p:txBody>
      </p:sp>
      <p:sp>
        <p:nvSpPr>
          <p:cNvPr id="42" name="PlaceHolder 2"/>
          <p:cNvSpPr>
            <a:spLocks noGrp="1"/>
          </p:cNvSpPr>
          <p:nvPr>
            <p:ph type="subTitle"/>
          </p:nvPr>
        </p:nvSpPr>
        <p:spPr>
          <a:xfrm>
            <a:off x="533160" y="3886200"/>
            <a:ext cx="80010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crosoft Network Service Provider Group</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hlinkClick r:id="rId1"/>
              </a:rPr>
              <a:t>robertob</a:t>
            </a:r>
            <a:r>
              <a:rPr b="0" lang="en-US" sz="3200" spc="-1" strike="noStrike" u="sng">
                <a:solidFill>
                  <a:srgbClr val="000000"/>
                </a:solidFill>
                <a:uFillTx/>
                <a:latin typeface="Times New Roman"/>
                <a:hlinkClick r:id="rId2"/>
              </a:rPr>
              <a:t>@</a:t>
            </a:r>
            <a:r>
              <a:rPr b="0" lang="en-US" sz="3200" spc="-1" strike="noStrike" u="sng">
                <a:solidFill>
                  <a:srgbClr val="000000"/>
                </a:solidFill>
                <a:uFillTx/>
                <a:latin typeface="Times New Roman"/>
                <a:hlinkClick r:id="rId3"/>
              </a:rPr>
              <a:t>microsoft</a:t>
            </a:r>
            <a:r>
              <a:rPr b="0" lang="en-US" sz="3200" spc="-1" strike="noStrike" u="sng">
                <a:solidFill>
                  <a:srgbClr val="000000"/>
                </a:solidFill>
                <a:uFillTx/>
                <a:latin typeface="Times New Roman"/>
                <a:hlinkClick r:id="rId4"/>
              </a:rPr>
              <a:t>.com</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sion = 04feb01</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tup Options</a:t>
            </a:r>
            <a:endParaRPr b="0" lang="en-US" sz="4400" spc="-1" strike="noStrike">
              <a:solidFill>
                <a:srgbClr val="000000"/>
              </a:solidFill>
              <a:latin typeface="Times New Roman"/>
            </a:endParaRPr>
          </a:p>
        </p:txBody>
      </p:sp>
      <p:sp>
        <p:nvSpPr>
          <p:cNvPr id="72" name=""/>
          <p:cNvSpPr txBox="1"/>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73" name="" descr=""/>
          <p:cNvPicPr/>
          <p:nvPr/>
        </p:nvPicPr>
        <p:blipFill>
          <a:blip r:embed="rId1"/>
          <a:stretch/>
        </p:blipFill>
        <p:spPr>
          <a:xfrm>
            <a:off x="1676520" y="1447920"/>
            <a:ext cx="5995800" cy="461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tup Overview</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 “Centralized RDMS Configuration” once on your RDMS Hos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 “Application Usage Tracking Service” on every host where you want to enabled centralized logging of application/process create and terminate events, eventlog entries and services stop/pending/running state chang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tional] Run “System Updates” to install latest Microsoft Xml Parser release, currently September 200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tup Command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ractive Install/Uninstall –</a:t>
            </a:r>
            <a:endParaRPr b="0" lang="en-US" sz="36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uble click AppUseTrkSvc.msi</a:t>
            </a:r>
            <a:endParaRPr b="0" lang="en-US" sz="32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nattended Install –</a:t>
            </a:r>
            <a:endParaRPr b="0" lang="en-US" sz="36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siexec /i AppUseTrkSvc.msi RDMSHOST=myRdms</a:t>
            </a:r>
            <a:endParaRPr b="0" lang="en-US" sz="28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nattended Uninstall –</a:t>
            </a:r>
            <a:endParaRPr b="0" lang="en-US" sz="36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siexec /x AppUseTrkSvc.msi RDMSHOST=myRdms</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 Setup Options</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s that are tracked by default</a:t>
            </a:r>
            <a:endParaRPr b="0" lang="en-US" sz="32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ministrative tasks = cmd.exe cscript.exe kill.exe isql.exe isqlw.exe mmc.exe mofcomp.exe msiexec.exe net.exe netsh.exe pview.exe regedit.exe regedt32.exe robocopy.exe shutdown.exe taskmgr.exe tlist.exe wbemtest.exe wscript.exe xcopy.exe</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p hosted tasks = explorer.exe excel.exe iexplore.exe msaccess.exe notepad.exe outlook.exe powerpnt.exe winword.exe</a:t>
            </a:r>
            <a:endParaRPr b="0" lang="en-US" sz="2000" spc="-1" strike="noStrike">
              <a:solidFill>
                <a:srgbClr val="000000"/>
              </a:solidFill>
              <a:latin typeface="Times New Roman"/>
            </a:endParaRPr>
          </a:p>
          <a:p>
            <a:pPr marL="322200" indent="-322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change default list</a:t>
            </a:r>
            <a:endParaRPr b="0" lang="en-US" sz="32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siexec /i appUseTrkSvc.msi rdmsHost=myrdms wmiAppsAdm="cmd.exe netsh.exe foo.exe" wmiAppsAasp="explorer.exe iexplore.exe bar.exe“</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siexec /i appUseTrkSvc.msi rdmsHost=myrdms wmiAppsAdm=“*” wmiAppsAsp=“*”</a:t>
            </a:r>
            <a:endParaRPr b="0" lang="en-US" sz="2000" spc="-1" strike="noStrike">
              <a:solidFill>
                <a:srgbClr val="000000"/>
              </a:solidFill>
              <a:latin typeface="Times New Roman"/>
            </a:endParaRPr>
          </a:p>
          <a:p>
            <a:pPr lvl="1" marL="698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 Setup Options, contd</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ault Application polling interval = 15 secon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change default polling interva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siexec /i appUseTrkSvc.msi … WMIPLNGITVL=“&lt;#seconds&g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debugging, evaluation WMIPLNGITVL=“5” works wel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information on interactive and setup command line interface (CLI) options see readMe.tx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 Admin Integration</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www.microsoft.com/ISN/downloads.asp</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orts will display context sensitive view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oking at a User objec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ewUsage.asp shows user record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oking at a Computer objec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ewUsage.asp shows computer record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uld be included in next WebAdmin posting updat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 Purpose Event Provider</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hlinkClick r:id="rId1"/>
              </a:rPr>
              <a:t>ftp://ftp.microsoft.com/services/isn/svcPvdrs/postings.xml</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rrently we can only track wmi events for process based applications, I.e. myapp.ex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pep allows any COM capable environment to generate events with two lines of code</a:t>
            </a:r>
            <a:endParaRPr b="0" lang="en-US" sz="2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var oGpep = new ActiveXObject("GnlPpsEvntPvdr.Gpep");</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oGpep.Fire(“app.js", "johnd@mydom.com", 1001, c:\\path\\test.js");</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be used to include .ASP application tracking, see “WebApp” included with application usage tracking servic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pep, contd</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lt;myrdms&gt;/reports/default.asp enabled as an example</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ionDate value carried in QueryString for .ASP application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s in load balanced, zero session enabled environment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global.asa Session_OnStart/OnEnd for session enabled applications or keep CreationDate in Cookie, QueryString or Centralized Rdms temporary table</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Star “AdminEvents”</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duct of MCS Financial services initiatives</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nular/structured eventing model</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mi events for &lt; ## events/sec</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ce events (ie local file log) for &gt; ## events/s</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of ATL template wizards for generating provider code</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studio.net will encapsulate the best practices learned from these materials</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MSFT rep contact MCS Financial services for acces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osed future updates</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x any user highlighted bugs and apply appropriate feature/function change suggestion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orporate windows installer 1.5 support when whistler releases to enable reports ui url bootstrapped installs that don't require relaxed browser security settings and fix wmi information dialog tab order being affixed to check box initially even though its not first in tab order</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off Who/What is NSP?</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stomer unit, not a product group</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 Network and Telco markets</a:t>
            </a:r>
            <a:endParaRPr b="0" lang="en-US" sz="2800" spc="-1" strike="noStrike">
              <a:solidFill>
                <a:srgbClr val="000000"/>
              </a:solidFill>
              <a:latin typeface="Times New Roman"/>
            </a:endParaRPr>
          </a:p>
          <a:p>
            <a:pPr lvl="1" marL="646200" indent="-2484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 providers</a:t>
            </a:r>
            <a:endParaRPr b="0" lang="en-US" sz="2400" spc="-1" strike="noStrike">
              <a:solidFill>
                <a:srgbClr val="000000"/>
              </a:solidFill>
              <a:latin typeface="Times New Roman"/>
            </a:endParaRPr>
          </a:p>
          <a:p>
            <a:pPr lvl="1" marL="646200" indent="-2484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ipment providers</a:t>
            </a:r>
            <a:endParaRPr b="0" lang="en-US" sz="24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siness Development Team</a:t>
            </a:r>
            <a:endParaRPr b="0" lang="en-US" sz="2800" spc="-1" strike="noStrike">
              <a:solidFill>
                <a:srgbClr val="000000"/>
              </a:solidFill>
              <a:latin typeface="Times New Roman"/>
            </a:endParaRPr>
          </a:p>
          <a:p>
            <a:pPr lvl="1" marL="646200" indent="-2484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censing, partnerships, etc.</a:t>
            </a:r>
            <a:endParaRPr b="0" lang="en-US" sz="24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ineering Team</a:t>
            </a:r>
            <a:endParaRPr b="0" lang="en-US" sz="2800" spc="-1" strike="noStrike">
              <a:solidFill>
                <a:srgbClr val="000000"/>
              </a:solidFill>
              <a:latin typeface="Times New Roman"/>
            </a:endParaRPr>
          </a:p>
          <a:p>
            <a:pPr lvl="1" marL="646200" indent="-2484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chitectures, Deployments and Shareware solutions</a:t>
            </a:r>
            <a:endParaRPr b="0" lang="en-US" sz="24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ing Team</a:t>
            </a:r>
            <a:endParaRPr b="0" lang="en-US" sz="2800" spc="-1" strike="noStrike">
              <a:solidFill>
                <a:srgbClr val="000000"/>
              </a:solidFill>
              <a:latin typeface="Times New Roman"/>
            </a:endParaRPr>
          </a:p>
          <a:p>
            <a:pPr lvl="1" marL="646200" indent="-2484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e studies, Press Releases, </a:t>
            </a:r>
            <a:r>
              <a:rPr b="0" lang="en-US" sz="2400" spc="-1" strike="noStrike" u="sng">
                <a:solidFill>
                  <a:srgbClr val="000000"/>
                </a:solidFill>
                <a:uFillTx/>
                <a:latin typeface="Times New Roman"/>
                <a:hlinkClick r:id="rId1"/>
              </a:rPr>
              <a:t>http://www.microsoft.com/</a:t>
            </a:r>
            <a:r>
              <a:rPr b="0" lang="en-US" sz="2400" spc="-1" strike="noStrike" u="sng">
                <a:solidFill>
                  <a:srgbClr val="000000"/>
                </a:solidFill>
                <a:uFillTx/>
                <a:latin typeface="Times New Roman"/>
                <a:hlinkClick r:id="rId2"/>
              </a:rPr>
              <a:t>Isn</a:t>
            </a:r>
            <a:r>
              <a:rPr b="0" lang="en-US" sz="2400" spc="-1" strike="noStrike">
                <a:solidFill>
                  <a:srgbClr val="000000"/>
                </a:solidFill>
                <a:latin typeface="Times New Roman"/>
              </a:rPr>
              <a:t> and /AppHos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s / Additional Information</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re do I get it</a:t>
            </a:r>
            <a:endParaRPr b="0" lang="en-US" sz="3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hlinkClick r:id="rId1"/>
              </a:rPr>
              <a:t>ftp://ftp.microsoft.com/services/isn/svcPvdrs/postings.</a:t>
            </a:r>
            <a:r>
              <a:rPr b="0" lang="en-US" sz="2000" spc="-1" strike="noStrike" u="sng">
                <a:solidFill>
                  <a:srgbClr val="000000"/>
                </a:solidFill>
                <a:uFillTx/>
                <a:latin typeface="Times New Roman"/>
                <a:hlinkClick r:id="rId2"/>
              </a:rPr>
              <a:t>xm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hlinkClick r:id="rId3"/>
              </a:rPr>
              <a:t>http://www.microsoft.com/ISN/tech_columnists.asp</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UseTrkSvc.zip, appUseTrkSvcSrc.zip</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edback, questions, ide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hlinkClick r:id="rId4"/>
              </a:rPr>
              <a:t>robertob@microsoft.com</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Ps and DataCenter Op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P hosted web sites</a:t>
            </a:r>
            <a:endParaRPr b="0" lang="en-US" sz="28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t meet service level agreements (SLA), </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roubles arise need to decipher if delegated customer admins or ASP admins broke service</a:t>
            </a:r>
            <a:endParaRPr b="0" lang="en-US" sz="24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P hosted line of business applications</a:t>
            </a:r>
            <a:endParaRPr b="0" lang="en-US" sz="28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t be able to provide application usage reports</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optionally want to enable per minute billing</a:t>
            </a:r>
            <a:endParaRPr b="0" lang="en-US" sz="24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center Ops</a:t>
            </a:r>
            <a:endParaRPr b="0" lang="en-US" sz="28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to be able to track down why problems arise</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to be able to profile Ops staff task cycles to locate opportunities for creation of one step alternativ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rrent W2KS Retail Offering</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easy in-the-box way to track the following</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started what application/process</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long an application/process was run</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ck who was running what application/process last before host stopped</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ck routinely executed processes by Ops staff</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ntrally log all W2KS EventLog entries and Services state changes (i.e. stop/pending/running)</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s to above events to daily local log file when network is down or temporary congestion exis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lication Usage Tracking Service</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ware solution written and posted along with source cod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way of dealing with requirements listed on previous slid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 all in-the-box components so no additional licensing is required to us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ware solution so you may customize as you pleas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362320" y="4978440"/>
            <a:ext cx="289548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2006640" y="4673520"/>
            <a:ext cx="289548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638360" y="4356000"/>
            <a:ext cx="289548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chitecture</a:t>
            </a:r>
            <a:endParaRPr b="0" lang="en-US" sz="4400" spc="-1" strike="noStrike">
              <a:solidFill>
                <a:srgbClr val="000000"/>
              </a:solidFill>
              <a:latin typeface="Times New Roman"/>
            </a:endParaRPr>
          </a:p>
        </p:txBody>
      </p:sp>
      <p:sp>
        <p:nvSpPr>
          <p:cNvPr id="55" name=""/>
          <p:cNvSpPr/>
          <p:nvPr/>
        </p:nvSpPr>
        <p:spPr>
          <a:xfrm>
            <a:off x="1486080" y="1778040"/>
            <a:ext cx="35049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tralized RDMS Host with Database, Tables and Web reports installed</a:t>
            </a:r>
            <a:endParaRPr b="0" lang="en-US" sz="2400" spc="-1" strike="noStrike">
              <a:solidFill>
                <a:srgbClr val="000000"/>
              </a:solidFill>
              <a:latin typeface="Times New Roman"/>
            </a:endParaRPr>
          </a:p>
        </p:txBody>
      </p:sp>
      <p:sp>
        <p:nvSpPr>
          <p:cNvPr id="56" name=""/>
          <p:cNvSpPr/>
          <p:nvPr/>
        </p:nvSpPr>
        <p:spPr>
          <a:xfrm>
            <a:off x="1219320" y="4038480"/>
            <a:ext cx="289548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s with Wmi Event Generator and Processor installed</a:t>
            </a:r>
            <a:endParaRPr b="0" lang="en-US" sz="2400" spc="-1" strike="noStrike">
              <a:solidFill>
                <a:srgbClr val="000000"/>
              </a:solidFill>
              <a:latin typeface="Times New Roman"/>
            </a:endParaRPr>
          </a:p>
        </p:txBody>
      </p:sp>
      <p:sp>
        <p:nvSpPr>
          <p:cNvPr id="57" name=""/>
          <p:cNvSpPr/>
          <p:nvPr/>
        </p:nvSpPr>
        <p:spPr>
          <a:xfrm flipH="1" flipV="1">
            <a:off x="3390480" y="2997000"/>
            <a:ext cx="6858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flipH="1" flipV="1">
            <a:off x="3619080" y="2997360"/>
            <a:ext cx="83844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flipH="1" flipV="1">
            <a:off x="3848040" y="2997000"/>
            <a:ext cx="9907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H="1" flipV="1">
            <a:off x="4076280" y="2997000"/>
            <a:ext cx="1143000" cy="19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572000" y="3048120"/>
            <a:ext cx="4343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xml/http event data submission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ocally logs when network 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ow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orts Menu</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64" name="" descr=""/>
          <p:cNvPicPr/>
          <p:nvPr/>
        </p:nvPicPr>
        <p:blipFill>
          <a:blip r:embed="rId1"/>
          <a:stretch/>
        </p:blipFill>
        <p:spPr>
          <a:xfrm>
            <a:off x="1141560" y="1370160"/>
            <a:ext cx="6827760" cy="4914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ort Option 1 – Formatted Data</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67" name="" descr=""/>
          <p:cNvPicPr/>
          <p:nvPr/>
        </p:nvPicPr>
        <p:blipFill>
          <a:blip r:embed="rId1"/>
          <a:stretch/>
        </p:blipFill>
        <p:spPr>
          <a:xfrm>
            <a:off x="1141560" y="1370160"/>
            <a:ext cx="6827760" cy="491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ort Option 4 – Raw Xml Data</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70" name="" descr=""/>
          <p:cNvPicPr/>
          <p:nvPr/>
        </p:nvPicPr>
        <p:blipFill>
          <a:blip r:embed="rId1"/>
          <a:stretch/>
        </p:blipFill>
        <p:spPr>
          <a:xfrm>
            <a:off x="1141560" y="1370160"/>
            <a:ext cx="6827760" cy="491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1T19:54:58Z</dcterms:created>
  <dc:creator>Administrator</dc:creator>
  <dc:description/>
  <dc:language>en-US</dc:language>
  <cp:lastModifiedBy>Administrator</cp:lastModifiedBy>
  <dcterms:modified xsi:type="dcterms:W3CDTF">2001-02-05T08:54:44Z</dcterms:modified>
  <cp:revision>117</cp:revision>
  <dc:subject/>
  <dc:title>PowerPoint Presentation</dc:title>
</cp:coreProperties>
</file>