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5.wmf" ContentType="image/x-wmf"/>
  <Override PartName="/ppt/media/image12.png" ContentType="image/png"/>
  <Override PartName="/ppt/media/image8.png" ContentType="image/png"/>
  <Override PartName="/ppt/media/image29.jpeg" ContentType="image/jpeg"/>
  <Override PartName="/ppt/media/image28.png" ContentType="image/png"/>
  <Override PartName="/ppt/media/image13.wmf" ContentType="image/x-wmf"/>
  <Override PartName="/ppt/media/image9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22F9-0352-4DDC-B207-92219D4A750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lete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ared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lecomm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ared Company Calend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mail, F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anet/Internet Si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llaboration with 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ustomer Management and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ustomer lists and contact trac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ustomer Self-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wsletters, Brochures and fax bla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st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counting and Business Critical 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sh Flow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motions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 De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ertical Solu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10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1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577320"/>
            <a:ext cx="8371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10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4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84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577320"/>
            <a:ext cx="4084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9920" y="3577320"/>
            <a:ext cx="4084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10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53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0840" y="1447560"/>
            <a:ext cx="26953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1520" y="1447560"/>
            <a:ext cx="26953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577320"/>
            <a:ext cx="26953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0840" y="3577320"/>
            <a:ext cx="26953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1520" y="3577320"/>
            <a:ext cx="26953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10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108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10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108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10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492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8492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10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37108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10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4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8492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577320"/>
            <a:ext cx="4084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10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492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84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9920" y="3577320"/>
            <a:ext cx="4084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10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4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920" y="1447560"/>
            <a:ext cx="4084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577320"/>
            <a:ext cx="8371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10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108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0360" indent="-54036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04280" indent="-3834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901520" indent="-4464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365200" indent="-4622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365200" indent="-4622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365200" indent="-4622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.png"/><Relationship Id="rId13" Type="http://schemas.openxmlformats.org/officeDocument/2006/relationships/image" Target="../media/image15.wmf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8.png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9.png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20.png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21.png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22.png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23.png"/><Relationship Id="rId28" Type="http://schemas.openxmlformats.org/officeDocument/2006/relationships/oleObject" Target="../embeddings/oleObject12.bin"/><Relationship Id="rId29" Type="http://schemas.openxmlformats.org/officeDocument/2006/relationships/image" Target="../media/image24.png"/><Relationship Id="rId30" Type="http://schemas.openxmlformats.org/officeDocument/2006/relationships/oleObject" Target="../embeddings/oleObject13.bin"/><Relationship Id="rId31" Type="http://schemas.openxmlformats.org/officeDocument/2006/relationships/image" Target="../media/image25.png"/><Relationship Id="rId32" Type="http://schemas.openxmlformats.org/officeDocument/2006/relationships/image" Target="../media/image26.png"/><Relationship Id="rId33" Type="http://schemas.openxmlformats.org/officeDocument/2006/relationships/image" Target="../media/image27.png"/><Relationship Id="rId34" Type="http://schemas.openxmlformats.org/officeDocument/2006/relationships/image" Target="../media/image28.png"/><Relationship Id="rId35" Type="http://schemas.openxmlformats.org/officeDocument/2006/relationships/image" Target="../media/image29.jpeg"/><Relationship Id="rId3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108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Volume Licensing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Microsoft Open License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320" y="1778040"/>
            <a:ext cx="8923320" cy="362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 entry poin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28800" indent="-381240"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10 copies of Office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your customers stay lega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utomatic upgrades 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pgrade Advantag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vailable through distributor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For Infrastructure Providers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37108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ed install and configuration tim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28800" indent="-381240">
              <a:lnSpc>
                <a:spcPct val="90000"/>
              </a:lnSpc>
              <a:spcBef>
                <a:spcPts val="1276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Expand customer base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928800" indent="-381240">
              <a:lnSpc>
                <a:spcPct val="90000"/>
              </a:lnSpc>
              <a:spcBef>
                <a:spcPts val="1276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Higher margin services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mote management of serv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28800" indent="-381240">
              <a:lnSpc>
                <a:spcPct val="90000"/>
              </a:lnSpc>
              <a:spcBef>
                <a:spcPts val="1276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Immediate onsite support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ustomize the solu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28800" indent="-381240">
              <a:lnSpc>
                <a:spcPct val="90000"/>
              </a:lnSpc>
              <a:spcBef>
                <a:spcPts val="1276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Create direct link to your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website and email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10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For Application Development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305000"/>
            <a:ext cx="8371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0360" indent="-54036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ludes most popular components used by VAR custom developer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0360" indent="-54036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mon development language -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sual Basic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50 million applications created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103 ISVs licensed VBA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Visual Interdev - best tool for writing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VBA-based server applications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63240"/>
            <a:ext cx="7772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VAP</a:t>
            </a:r>
            <a:endParaRPr b="1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723000" y="3579840"/>
            <a:ext cx="2298600" cy="148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7c8a">
                  <a:alpha val="50196"/>
                </a:srgbClr>
              </a:gs>
              <a:gs pos="100000">
                <a:srgbClr val="9f515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27c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3760" y="2144880"/>
            <a:ext cx="1995480" cy="2774880"/>
          </a:xfrm>
          <a:prstGeom prst="ellipse">
            <a:avLst/>
          </a:prstGeom>
          <a:gradFill rotWithShape="0">
            <a:gsLst>
              <a:gs pos="0">
                <a:srgbClr val="f27c8a"/>
              </a:gs>
              <a:gs pos="100000">
                <a:srgbClr val="9f515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27c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9800" y="418140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62640" y="357516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IS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59240" y="4075200"/>
            <a:ext cx="162684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row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1840" y="230040"/>
            <a:ext cx="891216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Times New Roman"/>
              </a:rPr>
              <a:t>For Internet Service Providers</a:t>
            </a:r>
            <a:br>
              <a:rPr sz="4200"/>
            </a:br>
            <a:r>
              <a:rPr b="1" lang="en-US" sz="4200" spc="-1" strike="noStrike">
                <a:solidFill>
                  <a:srgbClr val="ffcc00"/>
                </a:solidFill>
                <a:latin typeface="Times New Roman"/>
              </a:rPr>
              <a:t>Path To Upsell Services</a:t>
            </a:r>
            <a:endParaRPr b="1" lang="en-US" sz="4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47840" y="3514680"/>
            <a:ext cx="169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22120" y="1846440"/>
            <a:ext cx="2683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mote a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7560" y="4094280"/>
            <a:ext cx="23904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al-u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8.8k to 56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modem%20highend%20sever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382840" y="2585880"/>
            <a:ext cx="1422360" cy="1101960"/>
          </a:xfrm>
          <a:prstGeom prst="rect">
            <a:avLst/>
          </a:prstGeom>
          <a:ln w="0">
            <a:noFill/>
          </a:ln>
        </p:spPr>
      </p:pic>
      <p:pic>
        <p:nvPicPr>
          <p:cNvPr id="97" name="modem%20highend%20sever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382840" y="2212920"/>
            <a:ext cx="1422360" cy="1101960"/>
          </a:xfrm>
          <a:prstGeom prst="rect">
            <a:avLst/>
          </a:prstGeom>
          <a:ln w="0">
            <a:noFill/>
          </a:ln>
        </p:spPr>
      </p:pic>
      <p:pic>
        <p:nvPicPr>
          <p:cNvPr id="98" name="laptop%20on%20briefcase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6507000" y="1371600"/>
            <a:ext cx="2117880" cy="1579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21112200">
            <a:off x="3844800" y="2328480"/>
            <a:ext cx="2635200" cy="493560"/>
          </a:xfrm>
          <a:prstGeom prst="leftArrow">
            <a:avLst>
              <a:gd name="adj1" fmla="val 34120"/>
              <a:gd name="adj2" fmla="val 70497"/>
            </a:avLst>
          </a:prstGeom>
          <a:gradFill rotWithShape="0">
            <a:gsLst>
              <a:gs pos="0">
                <a:srgbClr val="8f4951"/>
              </a:gs>
              <a:gs pos="100000">
                <a:srgbClr val="f27c8a"/>
              </a:gs>
            </a:gsLst>
            <a:lin ang="10800000"/>
          </a:gradFill>
          <a:ln w="12600">
            <a:solidFill>
              <a:srgbClr val="f27c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1615400">
            <a:off x="3844440" y="3538440"/>
            <a:ext cx="2635200" cy="493920"/>
          </a:xfrm>
          <a:prstGeom prst="leftArrow">
            <a:avLst>
              <a:gd name="adj1" fmla="val 34120"/>
              <a:gd name="adj2" fmla="val 70445"/>
            </a:avLst>
          </a:prstGeom>
          <a:gradFill rotWithShape="0">
            <a:gsLst>
              <a:gs pos="0">
                <a:srgbClr val="f27c8a"/>
              </a:gs>
              <a:gs pos="100000">
                <a:srgbClr val="8f4951"/>
              </a:gs>
            </a:gsLst>
            <a:lin ang="10800000"/>
          </a:gradFill>
          <a:ln w="12600">
            <a:solidFill>
              <a:srgbClr val="f27c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95520" y="5602320"/>
            <a:ext cx="2995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/outbound f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06640" y="4016520"/>
            <a:ext cx="389160" cy="1535040"/>
          </a:xfrm>
          <a:prstGeom prst="upDownArrow">
            <a:avLst>
              <a:gd name="adj1" fmla="val 49574"/>
              <a:gd name="adj2" fmla="val 72425"/>
            </a:avLst>
          </a:prstGeom>
          <a:gradFill rotWithShape="0">
            <a:gsLst>
              <a:gs pos="0">
                <a:srgbClr val="8f4951"/>
              </a:gs>
              <a:gs pos="100000">
                <a:srgbClr val="f27c8a"/>
              </a:gs>
            </a:gsLst>
            <a:lin ang="5400000"/>
          </a:gradFill>
          <a:ln w="12600">
            <a:solidFill>
              <a:srgbClr val="f27c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l800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861840" y="2390760"/>
            <a:ext cx="9129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840" y="230040"/>
            <a:ext cx="889632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Times New Roman"/>
              </a:rPr>
              <a:t>For Internet Service Providers</a:t>
            </a:r>
            <a:br>
              <a:rPr sz="4200"/>
            </a:br>
            <a:r>
              <a:rPr b="1" lang="en-US" sz="4200" spc="-1" strike="noStrike">
                <a:solidFill>
                  <a:srgbClr val="ffcc00"/>
                </a:solidFill>
                <a:latin typeface="Times New Roman"/>
              </a:rPr>
              <a:t>Path To Upsell Services</a:t>
            </a:r>
            <a:endParaRPr b="1" lang="en-US" sz="4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39120" y="4043520"/>
            <a:ext cx="234180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SD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dicated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ame re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DS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82280" y="1465200"/>
            <a:ext cx="1153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D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7840" y="3514680"/>
            <a:ext cx="169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95520" y="5602320"/>
            <a:ext cx="29955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/outbound f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06640" y="4016520"/>
            <a:ext cx="389160" cy="1535040"/>
          </a:xfrm>
          <a:prstGeom prst="upDownArrow">
            <a:avLst>
              <a:gd name="adj1" fmla="val 49574"/>
              <a:gd name="adj2" fmla="val 72425"/>
            </a:avLst>
          </a:prstGeom>
          <a:gradFill rotWithShape="0">
            <a:gsLst>
              <a:gs pos="0">
                <a:srgbClr val="8f4951"/>
              </a:gs>
              <a:gs pos="100000">
                <a:srgbClr val="f27c8a"/>
              </a:gs>
            </a:gsLst>
            <a:lin ang="5400000"/>
          </a:gradFill>
          <a:ln w="12600">
            <a:solidFill>
              <a:srgbClr val="f27c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modem%20highend%20sever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382840" y="2585880"/>
            <a:ext cx="1422360" cy="1101960"/>
          </a:xfrm>
          <a:prstGeom prst="rect">
            <a:avLst/>
          </a:prstGeom>
          <a:ln w="0">
            <a:noFill/>
          </a:ln>
        </p:spPr>
      </p:pic>
      <p:pic>
        <p:nvPicPr>
          <p:cNvPr id="111" name="modem%20highend%20sever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382840" y="2212920"/>
            <a:ext cx="1422360" cy="1101960"/>
          </a:xfrm>
          <a:prstGeom prst="rect">
            <a:avLst/>
          </a:prstGeom>
          <a:ln w="0">
            <a:noFill/>
          </a:ln>
        </p:spPr>
      </p:pic>
      <p:pic>
        <p:nvPicPr>
          <p:cNvPr id="112" name="modem%20highend%20sever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2390760" y="1787400"/>
            <a:ext cx="1422360" cy="1101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93760" y="2144880"/>
            <a:ext cx="1995480" cy="2774880"/>
          </a:xfrm>
          <a:prstGeom prst="ellipse">
            <a:avLst/>
          </a:prstGeom>
          <a:gradFill rotWithShape="0">
            <a:gsLst>
              <a:gs pos="0">
                <a:srgbClr val="f27c8a"/>
              </a:gs>
              <a:gs pos="100000">
                <a:srgbClr val="9f515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27c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9800" y="418140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l800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861840" y="2390760"/>
            <a:ext cx="912960" cy="1917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822120" y="1846440"/>
            <a:ext cx="2683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mote a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1112200">
            <a:off x="3844800" y="2328480"/>
            <a:ext cx="2635200" cy="493560"/>
          </a:xfrm>
          <a:prstGeom prst="leftArrow">
            <a:avLst>
              <a:gd name="adj1" fmla="val 34120"/>
              <a:gd name="adj2" fmla="val 70497"/>
            </a:avLst>
          </a:prstGeom>
          <a:gradFill rotWithShape="0">
            <a:gsLst>
              <a:gs pos="0">
                <a:srgbClr val="8f4951"/>
              </a:gs>
              <a:gs pos="100000">
                <a:srgbClr val="f27c8a"/>
              </a:gs>
            </a:gsLst>
            <a:lin ang="10800000"/>
          </a:gradFill>
          <a:ln w="12600">
            <a:solidFill>
              <a:srgbClr val="f27c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1615400">
            <a:off x="3844440" y="3538440"/>
            <a:ext cx="2635200" cy="493920"/>
          </a:xfrm>
          <a:prstGeom prst="leftArrow">
            <a:avLst>
              <a:gd name="adj1" fmla="val 34120"/>
              <a:gd name="adj2" fmla="val 70445"/>
            </a:avLst>
          </a:prstGeom>
          <a:gradFill rotWithShape="0">
            <a:gsLst>
              <a:gs pos="0">
                <a:srgbClr val="f27c8a"/>
              </a:gs>
              <a:gs pos="100000">
                <a:srgbClr val="8f4951"/>
              </a:gs>
            </a:gsLst>
            <a:lin ang="10800000"/>
          </a:gradFill>
          <a:ln w="12600">
            <a:solidFill>
              <a:srgbClr val="f27c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23000" y="3579840"/>
            <a:ext cx="2298600" cy="2541600"/>
          </a:xfrm>
          <a:custGeom>
            <a:avLst/>
            <a:gdLst>
              <a:gd name="textAreaLeft" fmla="*/ 111960 w 2298600"/>
              <a:gd name="textAreaRight" fmla="*/ 2186640 w 2298600"/>
              <a:gd name="textAreaTop" fmla="*/ 111960 h 2541600"/>
              <a:gd name="textAreaBottom" fmla="*/ 2429640 h 2541600"/>
            </a:gdLst>
            <a:ahLst/>
            <a:rect l="textAreaLeft" t="textAreaTop" r="textAreaRight" b="textAreaBottom"/>
            <a:pathLst>
              <a:path w="21600" h="23883">
                <a:moveTo>
                  <a:pt x="3600" y="0"/>
                </a:moveTo>
                <a:arcTo wR="3600" hR="3600" stAng="16200000" swAng="-5400000"/>
                <a:lnTo>
                  <a:pt x="0" y="20283"/>
                </a:lnTo>
                <a:arcTo wR="3600" hR="3600" stAng="10800000" swAng="-5400000"/>
                <a:lnTo>
                  <a:pt x="18000" y="238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27c8a">
                  <a:alpha val="50196"/>
                </a:srgbClr>
              </a:gs>
              <a:gs pos="100000">
                <a:srgbClr val="9f515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27c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62640" y="357516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IS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53040" y="4075200"/>
            <a:ext cx="18385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row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 dev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b h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me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laptop%20on%20briefcase" descr="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6507000" y="1371600"/>
            <a:ext cx="2117880" cy="1579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737480" y="2981160"/>
            <a:ext cx="388800" cy="524160"/>
          </a:xfrm>
          <a:prstGeom prst="upDownArrow">
            <a:avLst>
              <a:gd name="adj1" fmla="val 49574"/>
              <a:gd name="adj2" fmla="val 24753"/>
            </a:avLst>
          </a:prstGeom>
          <a:gradFill rotWithShape="0">
            <a:gsLst>
              <a:gs pos="0">
                <a:srgbClr val="8f4951"/>
              </a:gs>
              <a:gs pos="100000">
                <a:srgbClr val="f27c8a"/>
              </a:gs>
            </a:gsLst>
            <a:lin ang="5400000"/>
          </a:gradFill>
          <a:ln w="12600">
            <a:solidFill>
              <a:srgbClr val="f27c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936680" y="1382760"/>
            <a:ext cx="39754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uth Carolina Sup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0040" y="4344840"/>
            <a:ext cx="29710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ldwide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" y="3868560"/>
            <a:ext cx="48412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b373"/>
                </a:solidFill>
                <a:latin typeface="Times New Roman"/>
              </a:rPr>
              <a:t>Best Internet Commun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77720" y="3868560"/>
            <a:ext cx="146376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b373"/>
                </a:solidFill>
                <a:latin typeface="Times New Roman"/>
              </a:rPr>
              <a:t>Delta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480" y="3868560"/>
            <a:ext cx="20354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b373"/>
                </a:solidFill>
                <a:latin typeface="Times New Roman"/>
              </a:rPr>
              <a:t>Harvard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77720" y="1898640"/>
            <a:ext cx="146376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b373"/>
                </a:solidFill>
                <a:latin typeface="Times New Roman"/>
              </a:rPr>
              <a:t>Spell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20" y="2849400"/>
            <a:ext cx="40730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b373"/>
                </a:solidFill>
                <a:latin typeface="Times New Roman"/>
              </a:rPr>
              <a:t>Rocky Mountain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897200"/>
            <a:ext cx="21733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b373"/>
                </a:solidFill>
                <a:latin typeface="Times New Roman"/>
              </a:rPr>
              <a:t>Net Conce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37080" y="3379680"/>
            <a:ext cx="31021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dquarters.c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90320" y="2849400"/>
            <a:ext cx="30229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b373"/>
                </a:solidFill>
                <a:latin typeface="Times New Roman"/>
              </a:rPr>
              <a:t>Easy Street On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5520" y="2374920"/>
            <a:ext cx="26406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grity On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0" y="5294160"/>
            <a:ext cx="22640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ve's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60" y="4809960"/>
            <a:ext cx="68011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b373"/>
                </a:solidFill>
                <a:latin typeface="Times New Roman"/>
              </a:rPr>
              <a:t>Business Connectivity Solutions, Inc.- BC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20" y="5776920"/>
            <a:ext cx="15631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b373"/>
                </a:solidFill>
                <a:latin typeface="Times New Roman"/>
              </a:rPr>
              <a:t>Sup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86440" y="4344840"/>
            <a:ext cx="24804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T Integr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10800" y="4344840"/>
            <a:ext cx="277596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rthwest Nex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4880" y="5776920"/>
            <a:ext cx="26784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b373"/>
                </a:solidFill>
                <a:latin typeface="Times New Roman"/>
              </a:rPr>
              <a:t>Transport Log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90440" y="5294160"/>
            <a:ext cx="35884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eist Commun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080" y="6280200"/>
            <a:ext cx="41018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cas Commun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0200" y="5292720"/>
            <a:ext cx="15994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CA-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87040" y="5743440"/>
            <a:ext cx="19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b373"/>
                </a:solidFill>
                <a:latin typeface="Times New Roman"/>
              </a:rPr>
              <a:t>Inter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34920" y="4811760"/>
            <a:ext cx="13068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b373"/>
                </a:solidFill>
                <a:latin typeface="Times New Roman"/>
              </a:rPr>
              <a:t>Slip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00840" y="5294160"/>
            <a:ext cx="10890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y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18440" y="6280200"/>
            <a:ext cx="24181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tReach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18920" y="574524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b373"/>
                </a:solidFill>
                <a:latin typeface="Times New Roman"/>
              </a:rPr>
              <a:t>Internet Dela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24720" y="2374920"/>
            <a:ext cx="25610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net Alas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70480" y="879480"/>
            <a:ext cx="22258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b373"/>
                </a:solidFill>
                <a:latin typeface="Times New Roman"/>
              </a:rPr>
              <a:t>BellSouth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60" y="2374920"/>
            <a:ext cx="267696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inity 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56280" y="879480"/>
            <a:ext cx="14076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b373"/>
                </a:solidFill>
                <a:latin typeface="Times New Roman"/>
              </a:rPr>
              <a:t>BitSh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0" y="879480"/>
            <a:ext cx="15631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b373"/>
                </a:solidFill>
                <a:latin typeface="Times New Roman"/>
              </a:rPr>
              <a:t>Sup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1960" y="1897200"/>
            <a:ext cx="48229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b373"/>
                </a:solidFill>
                <a:latin typeface="Times New Roman"/>
              </a:rPr>
              <a:t>Highway Informatio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760" y="1382760"/>
            <a:ext cx="16009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t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83000" y="878040"/>
            <a:ext cx="24026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b373"/>
                </a:solidFill>
                <a:latin typeface="Times New Roman"/>
              </a:rPr>
              <a:t>Interpath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9160" y="3378240"/>
            <a:ext cx="48013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ted Interactive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99120" y="2849400"/>
            <a:ext cx="124596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b373"/>
                </a:solidFill>
                <a:latin typeface="Times New Roman"/>
              </a:rPr>
              <a:t>Netr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25400" y="1382760"/>
            <a:ext cx="19576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vu Cor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7631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Small Business Server ISP Support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429000" y="4132440"/>
          <a:ext cx="1562040" cy="102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132440"/>
                    <a:ext cx="1562040" cy="10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8160" y="4124160"/>
          <a:ext cx="3036960" cy="61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160" y="4124160"/>
                    <a:ext cx="30369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28600" y="3143160"/>
          <a:ext cx="1568520" cy="722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3143160"/>
                    <a:ext cx="156852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7186680" y="4727520"/>
          <a:ext cx="1881000" cy="949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86680" y="4727520"/>
                    <a:ext cx="18810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133200" y="4824360"/>
            <a:ext cx="1652760" cy="126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7743960" y="998640"/>
          <a:ext cx="1266840" cy="1450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43960" y="998640"/>
                    <a:ext cx="126684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" descr=""/>
          <p:cNvPicPr/>
          <p:nvPr/>
        </p:nvPicPr>
        <p:blipFill>
          <a:blip r:embed="rId13"/>
          <a:srcRect l="6912" t="7898" r="8886" b="13812"/>
          <a:stretch/>
        </p:blipFill>
        <p:spPr>
          <a:xfrm>
            <a:off x="52560" y="2070000"/>
            <a:ext cx="1869840" cy="870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4"/>
          <a:stretch/>
        </p:blipFill>
        <p:spPr>
          <a:xfrm>
            <a:off x="1905120" y="5375160"/>
            <a:ext cx="3476520" cy="473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5"/>
          <a:stretch/>
        </p:blipFill>
        <p:spPr>
          <a:xfrm>
            <a:off x="3790800" y="2238480"/>
            <a:ext cx="2571840" cy="89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266760" y="1047600"/>
          <a:ext cx="2952720" cy="854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66760" y="1047600"/>
                    <a:ext cx="295272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 rot="10800000">
          <a:off x="3532320" y="1100880"/>
          <a:ext cx="2033280" cy="939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 rot="10800000">
                    <a:off x="3532320" y="1100880"/>
                    <a:ext cx="20332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519960" y="2593800"/>
          <a:ext cx="2352600" cy="10112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519960" y="2593800"/>
                    <a:ext cx="23526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52280" y="6184800"/>
          <a:ext cx="2784600" cy="5968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52280" y="6184800"/>
                    <a:ext cx="2784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220920" y="6043680"/>
          <a:ext cx="2730600" cy="7952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220920" y="6043680"/>
                    <a:ext cx="27306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905440" y="961920"/>
          <a:ext cx="1527120" cy="11239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905440" y="961920"/>
                    <a:ext cx="15271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477120" y="6029280"/>
          <a:ext cx="2628720" cy="7333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6477120" y="6029280"/>
                    <a:ext cx="26287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607000" y="4632480"/>
          <a:ext cx="1327320" cy="131580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607000" y="4632480"/>
                    <a:ext cx="132732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Support From Application Leaders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000160" y="1981080"/>
            <a:ext cx="1491840" cy="1199520"/>
            <a:chOff x="2000160" y="1981080"/>
            <a:chExt cx="1491840" cy="1199520"/>
          </a:xfrm>
        </p:grpSpPr>
        <p:sp>
          <p:nvSpPr>
            <p:cNvPr id="193" name=""/>
            <p:cNvSpPr/>
            <p:nvPr/>
          </p:nvSpPr>
          <p:spPr>
            <a:xfrm>
              <a:off x="2000160" y="1988640"/>
              <a:ext cx="1491840" cy="11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4" name="intellisol" descr=""/>
            <p:cNvPicPr/>
            <p:nvPr/>
          </p:nvPicPr>
          <p:blipFill>
            <a:blip r:embed="rId32"/>
            <a:stretch/>
          </p:blipFill>
          <p:spPr>
            <a:xfrm>
              <a:off x="2084760" y="2362320"/>
              <a:ext cx="1377720" cy="76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spinsun2" descr=""/>
            <p:cNvPicPr/>
            <p:nvPr/>
          </p:nvPicPr>
          <p:blipFill>
            <a:blip r:embed="rId33"/>
            <a:srcRect l="0" t="20032" r="0" b="14255"/>
            <a:stretch/>
          </p:blipFill>
          <p:spPr>
            <a:xfrm>
              <a:off x="2460600" y="1981080"/>
              <a:ext cx="591480" cy="38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"/>
          <p:cNvGrpSpPr/>
          <p:nvPr/>
        </p:nvGrpSpPr>
        <p:grpSpPr>
          <a:xfrm>
            <a:off x="5565600" y="3683160"/>
            <a:ext cx="3100680" cy="892080"/>
            <a:chOff x="5565600" y="3683160"/>
            <a:chExt cx="3100680" cy="892080"/>
          </a:xfrm>
        </p:grpSpPr>
        <p:sp>
          <p:nvSpPr>
            <p:cNvPr id="197" name=""/>
            <p:cNvSpPr/>
            <p:nvPr/>
          </p:nvSpPr>
          <p:spPr>
            <a:xfrm>
              <a:off x="5565600" y="3683160"/>
              <a:ext cx="3100680" cy="89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8" name="meridian" descr=""/>
            <p:cNvPicPr/>
            <p:nvPr/>
          </p:nvPicPr>
          <p:blipFill>
            <a:blip r:embed="rId34"/>
            <a:stretch/>
          </p:blipFill>
          <p:spPr>
            <a:xfrm>
              <a:off x="5601600" y="3705840"/>
              <a:ext cx="3008880" cy="84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9" name="goldmine%20copy" descr=""/>
          <p:cNvPicPr/>
          <p:nvPr/>
        </p:nvPicPr>
        <p:blipFill>
          <a:blip r:embed="rId35"/>
          <a:stretch/>
        </p:blipFill>
        <p:spPr>
          <a:xfrm>
            <a:off x="2224080" y="3241800"/>
            <a:ext cx="308628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66720" y="4664160"/>
            <a:ext cx="7772400" cy="588960"/>
          </a:xfrm>
          <a:prstGeom prst="rect">
            <a:avLst/>
          </a:prstGeom>
          <a:solidFill>
            <a:srgbClr val="842b93">
              <a:alpha val="50000"/>
            </a:srgbClr>
          </a:solidFill>
          <a:ln w="12600">
            <a:solidFill>
              <a:srgbClr val="d18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ustomer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6720" y="5407200"/>
            <a:ext cx="7772400" cy="554040"/>
          </a:xfrm>
          <a:prstGeom prst="rect">
            <a:avLst/>
          </a:prstGeom>
          <a:solidFill>
            <a:srgbClr val="842b93">
              <a:alpha val="50000"/>
            </a:srgbClr>
          </a:solidFill>
          <a:ln w="12600">
            <a:solidFill>
              <a:srgbClr val="d18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coun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562040"/>
            <a:ext cx="1371600" cy="2959200"/>
          </a:xfrm>
          <a:prstGeom prst="rect">
            <a:avLst/>
          </a:prstGeom>
          <a:solidFill>
            <a:srgbClr val="f27c8a">
              <a:alpha val="50000"/>
            </a:srgbClr>
          </a:solidFill>
          <a:ln w="12600">
            <a:solidFill>
              <a:srgbClr val="f59f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Healt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ti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cor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chedu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1581120"/>
            <a:ext cx="1371600" cy="2940120"/>
          </a:xfrm>
          <a:prstGeom prst="rect">
            <a:avLst/>
          </a:prstGeom>
          <a:solidFill>
            <a:srgbClr val="f27c8a">
              <a:alpha val="50000"/>
            </a:srgbClr>
          </a:solidFill>
          <a:ln w="12600">
            <a:solidFill>
              <a:srgbClr val="f59f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Dist. &amp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Ret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int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ventor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562040"/>
            <a:ext cx="1371600" cy="2959200"/>
          </a:xfrm>
          <a:prstGeom prst="rect">
            <a:avLst/>
          </a:prstGeom>
          <a:solidFill>
            <a:srgbClr val="f27c8a">
              <a:alpha val="50000"/>
            </a:srgbClr>
          </a:solidFill>
          <a:ln w="12600">
            <a:solidFill>
              <a:srgbClr val="f59f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Mf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terials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ce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D/C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86400" y="1562040"/>
            <a:ext cx="1467000" cy="2959200"/>
          </a:xfrm>
          <a:prstGeom prst="rect">
            <a:avLst/>
          </a:prstGeom>
          <a:solidFill>
            <a:srgbClr val="f27c8a">
              <a:alpha val="50000"/>
            </a:srgbClr>
          </a:solidFill>
          <a:ln w="12600">
            <a:solidFill>
              <a:srgbClr val="f59f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Cons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&amp; Re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E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i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c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perty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gm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1562040"/>
            <a:ext cx="1371600" cy="2959200"/>
          </a:xfrm>
          <a:prstGeom prst="rect">
            <a:avLst/>
          </a:prstGeom>
          <a:solidFill>
            <a:srgbClr val="f27c8a">
              <a:alpha val="50000"/>
            </a:srgbClr>
          </a:solidFill>
          <a:ln w="12600">
            <a:solidFill>
              <a:srgbClr val="f59f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Profes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ime &amp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i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gm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122880"/>
            <a:ext cx="7772400" cy="525600"/>
          </a:xfrm>
          <a:prstGeom prst="rect">
            <a:avLst/>
          </a:prstGeom>
          <a:solidFill>
            <a:srgbClr val="48a9da">
              <a:alpha val="50000"/>
            </a:srgbClr>
          </a:solidFill>
          <a:ln w="12600">
            <a:solidFill>
              <a:srgbClr val="7ac1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mall Business 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952560"/>
            <a:ext cx="7772400" cy="525240"/>
          </a:xfrm>
          <a:prstGeom prst="rect">
            <a:avLst/>
          </a:prstGeom>
          <a:solidFill>
            <a:srgbClr val="48a9da">
              <a:alpha val="50000"/>
            </a:srgbClr>
          </a:solidFill>
          <a:ln w="12600">
            <a:solidFill>
              <a:srgbClr val="7ac1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ndows and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10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Breadth Of Solutions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10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Video Of VAPs, ISVs, ISPs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1377720"/>
            <a:ext cx="8371080" cy="25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asy to replicate across customer base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wers your costs per sal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ndard parts for a custom solu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er margin services/upsel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800280"/>
            <a:ext cx="8548560" cy="4924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Microsoft’s Small Business Partnership Strategy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Steve Ballmer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Executive Vice President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Sales And Support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Microsoft Corporation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10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Broad Choice Of Hardware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1165320"/>
            <a:ext cx="78868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0360" indent="-54036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p 12 Small Business OEM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u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aq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gita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l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atewa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038120" y="1800360"/>
            <a:ext cx="411012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19440" indent="-377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P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cr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C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ionex Elit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antex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108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Small Business Server -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What You’ve Told Us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5440" y="1663560"/>
            <a:ext cx="8371080" cy="45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w servic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ponent refresh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asy maintenanc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re ease of us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re connectivity opti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re user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re tailored versi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108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Investing In The Small Business Opportunity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598760"/>
            <a:ext cx="803448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0360" indent="-54036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&amp;D - $2.6 bill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0360" indent="-54036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rect Access Program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938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hannel seminars in 120 citie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938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1200 SBS training classe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938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Information and support for VARs, ISVs, and ISP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0360" indent="-54036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mand generation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938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mall Business Solutions advertising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938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eminar tour with U.S. Chamber of Commerce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10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Building On Popularity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4520" y="1009440"/>
            <a:ext cx="8370720" cy="57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0360" indent="-54036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ndows NTW - 20% new business PC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0360" indent="-54036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crosoft Office - 20MM+ units a yea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0360" indent="-54036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ndows NTS - 1.3 MM+ units/yea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x less than 600K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tWare less than 1 MM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0360" indent="-54036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crosoft Exchang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, Boeing, Lucent, British Telecom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MM seats a yea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0360" indent="-54036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9440" indent="-377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50K+ units a yea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629080" y="2793960"/>
            <a:ext cx="40035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Value-Adde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rovid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-54000" y="2519280"/>
            <a:ext cx="311148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ecff"/>
                </a:solidFill>
                <a:latin typeface="Times New Roman"/>
              </a:rPr>
              <a:t>BackOffice</a:t>
            </a:r>
            <a:br>
              <a:rPr sz="3200"/>
            </a:br>
            <a:r>
              <a:rPr b="1" lang="en-US" sz="3200" spc="-1" strike="noStrike">
                <a:solidFill>
                  <a:srgbClr val="afecff"/>
                </a:solidFill>
                <a:latin typeface="Times New Roman"/>
              </a:rPr>
              <a:t>Small Business</a:t>
            </a:r>
            <a:br>
              <a:rPr sz="3200"/>
            </a:br>
            <a:r>
              <a:rPr b="1" lang="en-US" sz="3200" spc="-1" strike="noStrike">
                <a:solidFill>
                  <a:srgbClr val="afecff"/>
                </a:solidFill>
                <a:latin typeface="Times New Roman"/>
              </a:rPr>
              <a:t>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92280" y="228600"/>
            <a:ext cx="77500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It’s Not Complete Without You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62840" y="2998800"/>
            <a:ext cx="31035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ecff"/>
                </a:solidFill>
                <a:latin typeface="Times New Roman"/>
              </a:rPr>
              <a:t>Third-party</a:t>
            </a:r>
            <a:br>
              <a:rPr sz="3200"/>
            </a:br>
            <a:r>
              <a:rPr b="1" lang="en-US" sz="3200" spc="-1" strike="noStrike">
                <a:solidFill>
                  <a:srgbClr val="afecff"/>
                </a:solidFill>
                <a:latin typeface="Times New Roman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44640" y="1251000"/>
            <a:ext cx="377064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ecff"/>
                </a:solidFill>
                <a:latin typeface="Times New Roman"/>
              </a:rPr>
              <a:t>Office 97 and</a:t>
            </a:r>
            <a:br>
              <a:rPr sz="3200"/>
            </a:br>
            <a:r>
              <a:rPr b="1" lang="en-US" sz="3200" spc="-1" strike="noStrike">
                <a:solidFill>
                  <a:srgbClr val="afecff"/>
                </a:solidFill>
                <a:latin typeface="Times New Roman"/>
              </a:rPr>
              <a:t>Windows NT</a:t>
            </a:r>
            <a:br>
              <a:rPr sz="3200"/>
            </a:br>
            <a:r>
              <a:rPr b="1" lang="en-US" sz="3200" spc="-1" strike="noStrike">
                <a:solidFill>
                  <a:srgbClr val="afecff"/>
                </a:solidFill>
                <a:latin typeface="Times New Roman"/>
              </a:rPr>
              <a:t>Works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05160" y="4309920"/>
            <a:ext cx="44496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ecff"/>
                </a:solidFill>
                <a:latin typeface="Times New Roman"/>
              </a:rPr>
              <a:t>ISP Services:</a:t>
            </a:r>
            <a:br>
              <a:rPr sz="3200"/>
            </a:br>
            <a:r>
              <a:rPr b="1" lang="en-US" sz="3200" spc="-1" strike="noStrike">
                <a:solidFill>
                  <a:srgbClr val="afecff"/>
                </a:solidFill>
                <a:latin typeface="Times New Roman"/>
              </a:rPr>
              <a:t>Email, Access,</a:t>
            </a:r>
            <a:br>
              <a:rPr sz="3200"/>
            </a:br>
            <a:r>
              <a:rPr b="1" lang="en-US" sz="3200" spc="-1" strike="noStrike">
                <a:solidFill>
                  <a:srgbClr val="afecff"/>
                </a:solidFill>
                <a:latin typeface="Times New Roman"/>
              </a:rPr>
              <a:t>Hosting,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90400" y="3224160"/>
            <a:ext cx="5764320" cy="608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83502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Small Business Is Big! 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33240" y="2013120"/>
            <a:ext cx="7508880" cy="40687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r" pos="3780000"/>
                <a:tab algn="ctr" pos="52578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terprise      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8,50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r" pos="3780000"/>
                <a:tab algn="ctr" pos="52578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porate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8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r" pos="3780000"/>
                <a:tab algn="ctr" pos="52578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Small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75M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7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r" pos="3780000"/>
                <a:tab algn="ctr" pos="52578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duc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r" pos="3780000"/>
                <a:tab algn="ctr" pos="52578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uden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0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r" pos="3780000"/>
                <a:tab algn="ctr" pos="52578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thusias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r" pos="3780000"/>
                <a:tab algn="ctr" pos="5257800"/>
                <a:tab algn="ct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m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20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6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39360" y="1008000"/>
            <a:ext cx="173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nsta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PCs (Mil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79840" y="95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68080" y="143496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Custo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9720" y="1978200"/>
            <a:ext cx="6273720" cy="0"/>
          </a:xfrm>
          <a:prstGeom prst="line">
            <a:avLst/>
          </a:prstGeom>
          <a:ln w="38160">
            <a:solidFill>
              <a:srgbClr val="e7b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ustomer Scenarios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79560"/>
            <a:ext cx="44956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7880" indent="-40788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frastruc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323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ete netwo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323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inform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323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323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lecommut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95880" y="3625920"/>
            <a:ext cx="476064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7880" indent="-40788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counting and business- critical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3934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sh flow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3934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motions 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3934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t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3934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ertical s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625920"/>
            <a:ext cx="49150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7880" indent="-40788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stomer managemen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323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stomer lists a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act tra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323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stomer self-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323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wsletters, brochur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fax bla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320" indent="-32364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st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95880" y="979560"/>
            <a:ext cx="5005440" cy="24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7880" indent="-40788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mun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3934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hedu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3934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ared Company Cale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3934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mail, F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3934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ranet/Internet s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3934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aboration with part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10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Rich Platform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9" name="000F4473" descr=""/>
          <p:cNvPicPr/>
          <p:nvPr/>
        </p:nvPicPr>
        <p:blipFill>
          <a:blip r:embed="rId2"/>
          <a:stretch/>
        </p:blipFill>
        <p:spPr>
          <a:xfrm>
            <a:off x="6207120" y="3332160"/>
            <a:ext cx="2500200" cy="304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76840" y="11192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30640" y="1093680"/>
            <a:ext cx="2395440" cy="27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1040" y="6075360"/>
            <a:ext cx="93960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01800" y="6100920"/>
            <a:ext cx="798480" cy="18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Windows%20NT%20Workstation%204-0%20Arabic" descr=""/>
          <p:cNvPicPr/>
          <p:nvPr/>
        </p:nvPicPr>
        <p:blipFill>
          <a:blip r:embed="rId3"/>
          <a:stretch/>
        </p:blipFill>
        <p:spPr>
          <a:xfrm>
            <a:off x="3375000" y="2281320"/>
            <a:ext cx="2522520" cy="3066840"/>
          </a:xfrm>
          <a:prstGeom prst="rect">
            <a:avLst/>
          </a:prstGeom>
          <a:ln w="0">
            <a:noFill/>
          </a:ln>
        </p:spPr>
      </p:pic>
      <p:pic>
        <p:nvPicPr>
          <p:cNvPr id="65" name="Office%20Pro%2097%20WIN" descr=""/>
          <p:cNvPicPr/>
          <p:nvPr/>
        </p:nvPicPr>
        <p:blipFill>
          <a:blip r:embed="rId4"/>
          <a:stretch/>
        </p:blipFill>
        <p:spPr>
          <a:xfrm>
            <a:off x="565200" y="1563840"/>
            <a:ext cx="2500200" cy="303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24868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Windows NT Workstation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Best Choice For Small Business:</a:t>
            </a:r>
            <a:br>
              <a:rPr sz="4400"/>
            </a:b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1520" y="1716120"/>
            <a:ext cx="8629560" cy="39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0360" indent="-54036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gher customer satisfac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1360" indent="-398880"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ecure multiple users on single workstation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1360" indent="-398880"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pplications, drivers protected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0360" indent="-54036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tter manageability for lower TCO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1360" indent="-398880"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Remote diagnostic tool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1360" indent="-398880"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reate policies to “lock down” machine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0360" indent="-54036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y or build PCs with Windows NTW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108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Microsoft Office 97 -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Great Desktop Platform 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7400" y="1808280"/>
            <a:ext cx="810252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ssential business productivity tool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fordable solutions platform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28800" indent="-381240"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50% less development and testing time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municate, collaborat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28800" indent="-381240"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Outlook forms, automatic faxing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928800" indent="-381240"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reate shared journals of customer info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928800" indent="-381240">
              <a:lnSpc>
                <a:spcPct val="90000"/>
              </a:lnSpc>
              <a:spcBef>
                <a:spcPts val="1125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Access, Excel, Word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108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Small Business Server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One Comprehensive Solution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3080" y="1765080"/>
            <a:ext cx="6967440" cy="406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ichest development platform for applicati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plete communication infrastructur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grated Internet connectivit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54612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asy to setup and manag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000F4473" descr=""/>
          <p:cNvPicPr/>
          <p:nvPr/>
        </p:nvPicPr>
        <p:blipFill>
          <a:blip r:embed="rId2"/>
          <a:stretch/>
        </p:blipFill>
        <p:spPr>
          <a:xfrm>
            <a:off x="6288120" y="2471760"/>
            <a:ext cx="2500200" cy="304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5360" y="209520"/>
            <a:ext cx="83250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Great Pricing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9040" y="942840"/>
            <a:ext cx="809604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143720"/>
            <a:ext cx="8342280" cy="1299960"/>
          </a:xfrm>
          <a:prstGeom prst="rect">
            <a:avLst/>
          </a:prstGeom>
          <a:gradFill rotWithShape="0">
            <a:gsLst>
              <a:gs pos="0">
                <a:srgbClr val="2589bb"/>
              </a:gs>
              <a:gs pos="100000">
                <a:srgbClr val="113f56"/>
              </a:gs>
            </a:gsLst>
            <a:lin ang="5400000"/>
          </a:gradFill>
          <a:ln w="3240">
            <a:solidFill>
              <a:srgbClr val="41a6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erver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R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rver with 5 clien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1,4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rver with 25 clien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2,45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2448720"/>
            <a:ext cx="8342280" cy="1299960"/>
          </a:xfrm>
          <a:prstGeom prst="rect">
            <a:avLst/>
          </a:prstGeom>
          <a:gradFill rotWithShape="0">
            <a:gsLst>
              <a:gs pos="0">
                <a:srgbClr val="2589bb"/>
              </a:gs>
              <a:gs pos="100000">
                <a:srgbClr val="113f56"/>
              </a:gs>
            </a:gsLst>
            <a:lin ang="5400000"/>
          </a:gradFill>
          <a:ln w="3240">
            <a:solidFill>
              <a:srgbClr val="41a6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Client Access Lic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 Client Add Pac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3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d clients to a maximum of 2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80880" y="3740760"/>
            <a:ext cx="8342280" cy="2604960"/>
            <a:chOff x="380880" y="3740760"/>
            <a:chExt cx="8342280" cy="2604960"/>
          </a:xfrm>
        </p:grpSpPr>
        <p:sp>
          <p:nvSpPr>
            <p:cNvPr id="78" name=""/>
            <p:cNvSpPr/>
            <p:nvPr/>
          </p:nvSpPr>
          <p:spPr>
            <a:xfrm>
              <a:off x="380880" y="3740760"/>
              <a:ext cx="8342280" cy="1299960"/>
            </a:xfrm>
            <a:prstGeom prst="rect">
              <a:avLst/>
            </a:prstGeom>
            <a:gradFill rotWithShape="0">
              <a:gsLst>
                <a:gs pos="0">
                  <a:srgbClr val="32a496"/>
                </a:gs>
                <a:gs pos="100000">
                  <a:srgbClr val="1b5b53"/>
                </a:gs>
              </a:gsLst>
              <a:lin ang="5400000"/>
            </a:gradFill>
            <a:ln w="9360">
              <a:solidFill>
                <a:srgbClr val="82d8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9152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Server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69152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Server with 5 clients, 5 user OfficePro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$2,899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0880" y="5045760"/>
              <a:ext cx="8342280" cy="1299960"/>
            </a:xfrm>
            <a:prstGeom prst="rect">
              <a:avLst/>
            </a:prstGeom>
            <a:gradFill rotWithShape="0">
              <a:gsLst>
                <a:gs pos="0">
                  <a:srgbClr val="32a496"/>
                </a:gs>
                <a:gs pos="100000">
                  <a:srgbClr val="1b5b53"/>
                </a:gs>
              </a:gsLst>
              <a:lin ang="5400000"/>
            </a:gradFill>
            <a:ln w="9360">
              <a:solidFill>
                <a:srgbClr val="82d8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9152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Client Access Licens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69152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5 Client Add Pack with 5 user OfficePro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$1,719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Technical Support Group</dc:creator>
  <dc:description/>
  <dc:language>en-US</dc:language>
  <cp:lastModifiedBy>Executive Committee</cp:lastModifiedBy>
  <cp:lastPrinted>1997-10-22T17:37:00Z</cp:lastPrinted>
  <dcterms:modified xsi:type="dcterms:W3CDTF">1997-10-22T18:49:31Z</dcterms:modified>
  <cp:revision>149</cp:revision>
  <dc:subject/>
  <dc:title>Steve Ballmer Executive Vice President Sales And Support Microsoft Corporation</dc:title>
</cp:coreProperties>
</file>