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</p:sldIdLst>
  <p:sldSz cx="9848850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FE81F5-1348-49D7-A46F-0C496B23B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ae00"/>
              </a:buClr>
              <a:buSzPct val="90000"/>
              <a:buFont typeface="Times New Roman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Open-ended to third par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88880">
              <a:lnSpc>
                <a:spcPct val="90000"/>
              </a:lnSpc>
              <a:spcBef>
                <a:spcPts val="720"/>
              </a:spcBef>
              <a:buClr>
                <a:srgbClr val="00ae00"/>
              </a:buClr>
              <a:buFont typeface="Wingding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API support is “pass-through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88880">
              <a:lnSpc>
                <a:spcPct val="90000"/>
              </a:lnSpc>
              <a:spcBef>
                <a:spcPts val="720"/>
              </a:spcBef>
              <a:buClr>
                <a:srgbClr val="00ae00"/>
              </a:buClr>
              <a:buFont typeface="Wingding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ooperation between app and service provid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ae00"/>
              </a:buClr>
              <a:buSzPct val="90000"/>
              <a:buFont typeface="Times New Roman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ompatible with future media AP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88880">
              <a:lnSpc>
                <a:spcPct val="90000"/>
              </a:lnSpc>
              <a:spcBef>
                <a:spcPts val="720"/>
              </a:spcBef>
              <a:buClr>
                <a:srgbClr val="00ae00"/>
              </a:buClr>
              <a:buFont typeface="Wingding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expect to see peer-to-peer data AP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ae00"/>
              </a:buClr>
              <a:buSzPct val="90000"/>
              <a:buFont typeface="Times New Roman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his is where the exciting applications ar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85000"/>
              </a:lnSpc>
              <a:spcBef>
                <a:spcPts val="720"/>
              </a:spcBef>
              <a:buClr>
                <a:srgbClr val="00ae00"/>
              </a:buClr>
              <a:buSzPct val="90000"/>
              <a:buFont typeface="Times New Roman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nformation stream carried over a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5000"/>
              </a:lnSpc>
              <a:spcBef>
                <a:spcPts val="720"/>
              </a:spcBef>
              <a:buClr>
                <a:srgbClr val="00ae00"/>
              </a:buClr>
              <a:buSzPct val="90000"/>
              <a:buFont typeface="Times New Roman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dia stream accessed via separate Windows “media” AP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84200">
              <a:lnSpc>
                <a:spcPct val="85000"/>
              </a:lnSpc>
              <a:spcBef>
                <a:spcPts val="720"/>
              </a:spcBef>
              <a:buClr>
                <a:srgbClr val="00ae00"/>
              </a:buClr>
              <a:buFont typeface="Wingdings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ome already defined (comm, wave, MCI, NDI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84200">
              <a:lnSpc>
                <a:spcPct val="85000"/>
              </a:lnSpc>
              <a:spcBef>
                <a:spcPts val="720"/>
              </a:spcBef>
              <a:buClr>
                <a:srgbClr val="00ae00"/>
              </a:buClr>
              <a:buFont typeface="Wingdings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thers being defined (datamodem, fax, video conferen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5000"/>
              </a:lnSpc>
              <a:spcBef>
                <a:spcPts val="720"/>
              </a:spcBef>
              <a:buClr>
                <a:srgbClr val="00ae00"/>
              </a:buClr>
              <a:buSzPct val="90000"/>
              <a:buFont typeface="Times New Roman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Use TAPI to determine association between telephony and media devi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85000"/>
              </a:lnSpc>
              <a:spcBef>
                <a:spcPts val="720"/>
              </a:spcBef>
              <a:buClr>
                <a:srgbClr val="00ae00"/>
              </a:buClr>
              <a:buSzPct val="90000"/>
              <a:buFont typeface="Times New Roman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ervice Provider may support multiple A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85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212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85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92120" y="290880"/>
            <a:ext cx="8863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88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85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12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88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85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92120" y="290880"/>
            <a:ext cx="8863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88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85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12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488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85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2120" y="290880"/>
            <a:ext cx="8863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488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485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212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488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485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92120" y="290880"/>
            <a:ext cx="8863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2120" y="290880"/>
            <a:ext cx="8863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88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85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212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488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85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92120" y="290880"/>
            <a:ext cx="8863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88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485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212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88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485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9086760" y="6940440"/>
            <a:ext cx="735120" cy="4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  <a:ea typeface="Arial Narrow"/>
              </a:rPr>
              <a:t>Slide </a:t>
            </a:r>
            <a:fld id="{19751A2B-7D32-4662-8724-F498B59EF75E}" type="slidenum">
              <a:rPr b="1" lang="en-US" sz="1400" spc="-1" strike="noStrike">
                <a:solidFill>
                  <a:srgbClr val="ffffff"/>
                </a:solidFill>
                <a:latin typeface="Arial Narrow"/>
                <a:ea typeface="Arial Narrow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9.wmf"/><Relationship Id="rId4" Type="http://schemas.openxmlformats.org/officeDocument/2006/relationships/image" Target="../media/image11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173240" y="1139760"/>
            <a:ext cx="7070760" cy="11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8000" spc="-1" strike="noStrike">
                <a:solidFill>
                  <a:srgbClr val="fafd00"/>
                </a:solidFill>
                <a:latin typeface="Arial"/>
                <a:ea typeface="Arial"/>
              </a:rPr>
              <a:t>TAPI Tutorial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521080" y="3525840"/>
            <a:ext cx="4305240" cy="28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Herman D’Hoog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t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oby Nix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icrosof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068560" y="3751200"/>
            <a:ext cx="5637240" cy="2916360"/>
          </a:xfrm>
          <a:prstGeom prst="rect">
            <a:avLst/>
          </a:prstGeom>
          <a:gradFill rotWithShape="0">
            <a:gsLst>
              <a:gs pos="0">
                <a:srgbClr val="000b2f"/>
              </a:gs>
              <a:gs pos="50000">
                <a:srgbClr val="00279f"/>
              </a:gs>
              <a:gs pos="100000">
                <a:srgbClr val="000b2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664160" y="5483160"/>
            <a:ext cx="1893960" cy="1112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3640" bIns="53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235400" y="5411880"/>
            <a:ext cx="412920" cy="316080"/>
          </a:xfrm>
          <a:prstGeom prst="round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02160" y="4995720"/>
            <a:ext cx="1160640" cy="3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CM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446200" y="4048200"/>
            <a:ext cx="2317680" cy="225756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6149880" y="3016080"/>
            <a:ext cx="682560" cy="2889720"/>
            <a:chOff x="6149880" y="3016080"/>
            <a:chExt cx="682560" cy="2889720"/>
          </a:xfrm>
        </p:grpSpPr>
        <p:sp>
          <p:nvSpPr>
            <p:cNvPr id="391" name=""/>
            <p:cNvSpPr/>
            <p:nvPr/>
          </p:nvSpPr>
          <p:spPr>
            <a:xfrm>
              <a:off x="6199200" y="3940200"/>
              <a:ext cx="633240" cy="1881360"/>
            </a:xfrm>
            <a:prstGeom prst="roundRect">
              <a:avLst/>
            </a:prstGeom>
            <a:solidFill>
              <a:srgbClr val="fde3ba"/>
            </a:solidFill>
            <a:ln w="25560">
              <a:solidFill>
                <a:srgbClr val="232323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49880" y="4024440"/>
              <a:ext cx="625320" cy="1881360"/>
            </a:xfrm>
            <a:prstGeom prst="roundRect">
              <a:avLst/>
            </a:prstGeom>
            <a:solidFill>
              <a:srgbClr val="fde3ba"/>
            </a:solidFill>
            <a:ln w="25560">
              <a:solidFill>
                <a:srgbClr val="232323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6334200" y="4113360"/>
              <a:ext cx="246240" cy="158760"/>
              <a:chOff x="6334200" y="4113360"/>
              <a:chExt cx="246240" cy="158760"/>
            </a:xfrm>
          </p:grpSpPr>
          <p:sp>
            <p:nvSpPr>
              <p:cNvPr id="394" name=""/>
              <p:cNvSpPr/>
              <p:nvPr/>
            </p:nvSpPr>
            <p:spPr>
              <a:xfrm>
                <a:off x="6334200" y="4113360"/>
                <a:ext cx="246240" cy="1587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411960" y="4154400"/>
                <a:ext cx="85680" cy="0"/>
              </a:xfrm>
              <a:prstGeom prst="line">
                <a:avLst/>
              </a:prstGeom>
              <a:ln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6400" y="4195800"/>
                <a:ext cx="136800" cy="0"/>
              </a:xfrm>
              <a:prstGeom prst="line">
                <a:avLst/>
              </a:prstGeom>
              <a:ln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418440" y="4230720"/>
                <a:ext cx="79200" cy="0"/>
              </a:xfrm>
              <a:prstGeom prst="line">
                <a:avLst/>
              </a:prstGeom>
              <a:ln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 txBox="1"/>
            <p:nvPr/>
          </p:nvSpPr>
          <p:spPr>
            <a:xfrm>
              <a:off x="6181560" y="4559400"/>
              <a:ext cx="17316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A B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6502320" y="4559400"/>
              <a:ext cx="22716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Roam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24760" y="4394160"/>
              <a:ext cx="20520" cy="36360"/>
            </a:xfrm>
            <a:prstGeom prst="ellipse">
              <a:avLst/>
            </a:prstGeom>
            <a:solidFill>
              <a:srgbClr val="790015"/>
            </a:solidFill>
            <a:ln w="12600">
              <a:solidFill>
                <a:srgbClr val="790015"/>
              </a:solidFill>
              <a:round/>
            </a:ln>
          </p:spPr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6440400" y="4352760"/>
              <a:ext cx="303120" cy="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00" spc="-1" strike="noStrike">
                  <a:solidFill>
                    <a:srgbClr val="676767"/>
                  </a:solidFill>
                  <a:latin typeface="Arial"/>
                  <a:ea typeface="Arial"/>
                </a:rPr>
                <a:t>Call Waiting</a:t>
              </a:r>
              <a:endParaRPr b="0" lang="en-US" sz="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6275520" y="4414680"/>
              <a:ext cx="40320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123-456-7890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92720" y="4363920"/>
              <a:ext cx="546120" cy="357120"/>
            </a:xfrm>
            <a:prstGeom prst="round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05680" y="4819680"/>
              <a:ext cx="130320" cy="12708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91440" y="4819680"/>
              <a:ext cx="131760" cy="12708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86560" y="4819680"/>
              <a:ext cx="128520" cy="12708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05680" y="5227560"/>
              <a:ext cx="130320" cy="11736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91440" y="5227560"/>
              <a:ext cx="131760" cy="11736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86560" y="5227560"/>
              <a:ext cx="128520" cy="11736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05680" y="5029200"/>
              <a:ext cx="130320" cy="12708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05680" y="5423040"/>
              <a:ext cx="130320" cy="12240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91440" y="5029200"/>
              <a:ext cx="131760" cy="12708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91440" y="5423040"/>
              <a:ext cx="131760" cy="12240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86560" y="5423040"/>
              <a:ext cx="128520" cy="12240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86560" y="5029200"/>
              <a:ext cx="128520" cy="12708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515280" y="5611680"/>
              <a:ext cx="200160" cy="12240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05680" y="5611680"/>
              <a:ext cx="206280" cy="127080"/>
            </a:xfrm>
            <a:prstGeom prst="roundRect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6207120" y="4815000"/>
              <a:ext cx="1144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1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6394320" y="4815000"/>
              <a:ext cx="1144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2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6581880" y="4821120"/>
              <a:ext cx="1144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3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6197760" y="5035680"/>
              <a:ext cx="1144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4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6392880" y="5035680"/>
              <a:ext cx="1144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5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6581880" y="5024520"/>
              <a:ext cx="1144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6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6202440" y="5234040"/>
              <a:ext cx="1144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7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6378480" y="5234040"/>
              <a:ext cx="1144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8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6581880" y="5234040"/>
              <a:ext cx="1144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9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6384960" y="5413320"/>
              <a:ext cx="1144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0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6202440" y="5442120"/>
              <a:ext cx="10476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*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6593040" y="5423040"/>
              <a:ext cx="1144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#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6172200" y="5618160"/>
              <a:ext cx="1936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SND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6486480" y="5600520"/>
              <a:ext cx="193680" cy="1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76767"/>
                  </a:solidFill>
                  <a:latin typeface="Arial"/>
                  <a:ea typeface="Arial"/>
                </a:rPr>
                <a:t>END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6626160" y="3016080"/>
              <a:ext cx="0" cy="939960"/>
              <a:chOff x="6626160" y="3016080"/>
              <a:chExt cx="0" cy="939960"/>
            </a:xfrm>
          </p:grpSpPr>
          <p:sp>
            <p:nvSpPr>
              <p:cNvPr id="433" name=""/>
              <p:cNvSpPr/>
              <p:nvPr/>
            </p:nvSpPr>
            <p:spPr>
              <a:xfrm>
                <a:off x="6626160" y="3016080"/>
                <a:ext cx="0" cy="60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626160" y="3322800"/>
                <a:ext cx="0" cy="48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626160" y="3548160"/>
                <a:ext cx="0" cy="40788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 flipH="1">
              <a:off x="6159600" y="3959280"/>
              <a:ext cx="81000" cy="112680"/>
            </a:xfrm>
            <a:prstGeom prst="line">
              <a:avLst/>
            </a:prstGeom>
            <a:ln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6191280" y="4003560"/>
              <a:ext cx="23760" cy="34920"/>
            </a:xfrm>
            <a:prstGeom prst="line">
              <a:avLst/>
            </a:prstGeom>
            <a:ln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6738840" y="5767560"/>
              <a:ext cx="84240" cy="109440"/>
            </a:xfrm>
            <a:prstGeom prst="line">
              <a:avLst/>
            </a:prstGeom>
            <a:ln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6767640" y="5799240"/>
              <a:ext cx="25200" cy="34920"/>
            </a:xfrm>
            <a:prstGeom prst="line">
              <a:avLst/>
            </a:prstGeom>
            <a:ln w="12600">
              <a:solidFill>
                <a:srgbClr val="fde3b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22280" y="3994200"/>
              <a:ext cx="77400" cy="101160"/>
            </a:xfrm>
            <a:custGeom>
              <a:avLst/>
              <a:gdLst/>
              <a:ahLst/>
              <a:rect l="0" t="0" r="r" b="b"/>
              <a:pathLst>
                <a:path fill="none" w="215" h="281">
                  <a:moveTo>
                    <a:pt x="215" y="281"/>
                  </a:moveTo>
                  <a:lnTo>
                    <a:pt x="215" y="281"/>
                  </a:lnTo>
                  <a:lnTo>
                    <a:pt x="215" y="281"/>
                  </a:lnTo>
                  <a:cubicBezTo>
                    <a:pt x="215" y="232"/>
                    <a:pt x="205" y="183"/>
                    <a:pt x="186" y="140"/>
                  </a:cubicBezTo>
                  <a:cubicBezTo>
                    <a:pt x="167" y="98"/>
                    <a:pt x="140" y="62"/>
                    <a:pt x="107" y="38"/>
                  </a:cubicBezTo>
                  <a:cubicBezTo>
                    <a:pt x="75" y="13"/>
                    <a:pt x="38" y="0"/>
                    <a:pt x="0" y="0"/>
                  </a:cubicBezTo>
                </a:path>
              </a:pathLst>
            </a:custGeom>
            <a:ln w="12600">
              <a:solidFill>
                <a:srgbClr val="676767"/>
              </a:solidFill>
              <a:round/>
            </a:ln>
          </p:spPr>
          <p:txBody>
            <a:bodyPr lIns="96120" rIns="96120" tIns="50040" bIns="50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53960" y="3976560"/>
              <a:ext cx="48960" cy="63720"/>
            </a:xfrm>
            <a:custGeom>
              <a:avLst/>
              <a:gdLst/>
              <a:ahLst/>
              <a:rect l="0" t="0" r="r" b="b"/>
              <a:pathLst>
                <a:path fill="none" w="136" h="177">
                  <a:moveTo>
                    <a:pt x="136" y="177"/>
                  </a:moveTo>
                  <a:lnTo>
                    <a:pt x="136" y="177"/>
                  </a:lnTo>
                  <a:lnTo>
                    <a:pt x="136" y="177"/>
                  </a:lnTo>
                  <a:cubicBezTo>
                    <a:pt x="136" y="146"/>
                    <a:pt x="130" y="115"/>
                    <a:pt x="118" y="88"/>
                  </a:cubicBezTo>
                  <a:cubicBezTo>
                    <a:pt x="106" y="62"/>
                    <a:pt x="89" y="39"/>
                    <a:pt x="68" y="24"/>
                  </a:cubicBezTo>
                  <a:cubicBezTo>
                    <a:pt x="47" y="8"/>
                    <a:pt x="24" y="0"/>
                    <a:pt x="0" y="0"/>
                  </a:cubicBezTo>
                </a:path>
              </a:pathLst>
            </a:custGeom>
            <a:ln w="12600">
              <a:solidFill>
                <a:srgbClr val="676767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 txBox="1"/>
          <p:nvPr/>
        </p:nvSpPr>
        <p:spPr>
          <a:xfrm>
            <a:off x="468360" y="366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API Supports: Mobile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6784920" y="1971720"/>
            <a:ext cx="1629000" cy="853920"/>
            <a:chOff x="6784920" y="1971720"/>
            <a:chExt cx="1629000" cy="853920"/>
          </a:xfrm>
        </p:grpSpPr>
        <p:sp>
          <p:nvSpPr>
            <p:cNvPr id="444" name=""/>
            <p:cNvSpPr/>
            <p:nvPr/>
          </p:nvSpPr>
          <p:spPr>
            <a:xfrm flipV="1">
              <a:off x="6784920" y="2139840"/>
              <a:ext cx="822240" cy="685800"/>
            </a:xfrm>
            <a:prstGeom prst="line">
              <a:avLst/>
            </a:prstGeom>
            <a:ln w="1260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591320" y="2139840"/>
              <a:ext cx="15840" cy="425520"/>
            </a:xfrm>
            <a:prstGeom prst="line">
              <a:avLst/>
            </a:prstGeom>
            <a:ln w="1260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575480" y="1971720"/>
              <a:ext cx="838440" cy="593640"/>
            </a:xfrm>
            <a:prstGeom prst="line">
              <a:avLst/>
            </a:prstGeom>
            <a:ln w="1260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027080" y="1614600"/>
            <a:ext cx="6759720" cy="3287880"/>
          </a:xfrm>
          <a:prstGeom prst="rect">
            <a:avLst/>
          </a:prstGeom>
          <a:solidFill>
            <a:srgbClr val="00279f"/>
          </a:solidFill>
          <a:ln w="25560">
            <a:solidFill>
              <a:srgbClr val="063de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129520" y="6564240"/>
            <a:ext cx="170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430880" y="6613560"/>
            <a:ext cx="2657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1160" y="73080"/>
            <a:ext cx="980136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Hayes AT   TAPI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Service Provider Archite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181320" y="4111560"/>
            <a:ext cx="2417760" cy="75564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2529000" y="3349800"/>
            <a:ext cx="3672000" cy="57636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API 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191040" y="4992840"/>
            <a:ext cx="24112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5275440" y="6173640"/>
            <a:ext cx="892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430880" y="5235480"/>
            <a:ext cx="0" cy="137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065480" y="4992840"/>
            <a:ext cx="730080" cy="568080"/>
            <a:chOff x="4065480" y="4992840"/>
            <a:chExt cx="730080" cy="568080"/>
          </a:xfrm>
        </p:grpSpPr>
        <p:sp>
          <p:nvSpPr>
            <p:cNvPr id="457" name=""/>
            <p:cNvSpPr/>
            <p:nvPr/>
          </p:nvSpPr>
          <p:spPr>
            <a:xfrm>
              <a:off x="4065480" y="4992840"/>
              <a:ext cx="730080" cy="1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57800" y="5397480"/>
              <a:ext cx="146160" cy="16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38560" y="4992840"/>
              <a:ext cx="584280" cy="487440"/>
            </a:xfrm>
            <a:prstGeom prst="round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974960" y="1808280"/>
            <a:ext cx="4905360" cy="1301760"/>
            <a:chOff x="1974960" y="1808280"/>
            <a:chExt cx="4905360" cy="1301760"/>
          </a:xfrm>
        </p:grpSpPr>
        <p:pic>
          <p:nvPicPr>
            <p:cNvPr id="461" name="" descr=""/>
            <p:cNvPicPr/>
            <p:nvPr/>
          </p:nvPicPr>
          <p:blipFill>
            <a:blip r:embed="rId1"/>
            <a:stretch/>
          </p:blipFill>
          <p:spPr>
            <a:xfrm>
              <a:off x="1974960" y="1820880"/>
              <a:ext cx="150336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2166840" y="1825560"/>
              <a:ext cx="1098720" cy="70020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 txBox="1"/>
            <p:nvPr/>
          </p:nvSpPr>
          <p:spPr>
            <a:xfrm>
              <a:off x="2109960" y="2023920"/>
              <a:ext cx="1317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64" name="" descr=""/>
            <p:cNvPicPr/>
            <p:nvPr/>
          </p:nvPicPr>
          <p:blipFill>
            <a:blip r:embed="rId2"/>
            <a:stretch/>
          </p:blipFill>
          <p:spPr>
            <a:xfrm>
              <a:off x="3692520" y="1820880"/>
              <a:ext cx="148104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3881520" y="1825560"/>
              <a:ext cx="1082520" cy="7034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 txBox="1"/>
            <p:nvPr/>
          </p:nvSpPr>
          <p:spPr>
            <a:xfrm>
              <a:off x="3819600" y="2025720"/>
              <a:ext cx="1317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67" name="" descr=""/>
            <p:cNvPicPr/>
            <p:nvPr/>
          </p:nvPicPr>
          <p:blipFill>
            <a:blip r:embed="rId3"/>
            <a:stretch/>
          </p:blipFill>
          <p:spPr>
            <a:xfrm>
              <a:off x="5381640" y="1808280"/>
              <a:ext cx="149868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5586480" y="1812960"/>
              <a:ext cx="1100160" cy="70956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5527800" y="2008080"/>
              <a:ext cx="1317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 flipV="1">
            <a:off x="2479680" y="5011560"/>
            <a:ext cx="615960" cy="2271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137280" y="4457880"/>
            <a:ext cx="153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ent 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085760" y="3154320"/>
            <a:ext cx="1393920" cy="1008000"/>
            <a:chOff x="1085760" y="3154320"/>
            <a:chExt cx="1393920" cy="1008000"/>
          </a:xfrm>
        </p:grpSpPr>
        <p:sp>
          <p:nvSpPr>
            <p:cNvPr id="473" name=""/>
            <p:cNvSpPr/>
            <p:nvPr/>
          </p:nvSpPr>
          <p:spPr>
            <a:xfrm>
              <a:off x="1943280" y="3924360"/>
              <a:ext cx="5364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33560" y="3343320"/>
              <a:ext cx="5382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1106640" y="3705120"/>
              <a:ext cx="903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S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1085760" y="3154320"/>
              <a:ext cx="981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 txBox="1"/>
          <p:nvPr/>
        </p:nvSpPr>
        <p:spPr>
          <a:xfrm>
            <a:off x="990720" y="5076720"/>
            <a:ext cx="1758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yes AT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Extend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4"/>
          <a:stretch/>
        </p:blipFill>
        <p:spPr>
          <a:xfrm>
            <a:off x="6535800" y="5788080"/>
            <a:ext cx="1898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 flipV="1">
            <a:off x="4319640" y="2104920"/>
            <a:ext cx="2822400" cy="595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728720" y="3441600"/>
            <a:ext cx="4871880" cy="3489480"/>
          </a:xfrm>
          <a:prstGeom prst="rect">
            <a:avLst/>
          </a:prstGeom>
          <a:gradFill rotWithShape="0">
            <a:gsLst>
              <a:gs pos="0">
                <a:srgbClr val="000b2f"/>
              </a:gs>
              <a:gs pos="50000">
                <a:srgbClr val="00279f"/>
              </a:gs>
              <a:gs pos="100000">
                <a:srgbClr val="000b2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342680" y="3029040"/>
            <a:ext cx="1390320" cy="2085480"/>
          </a:xfrm>
          <a:custGeom>
            <a:avLst/>
            <a:gdLst/>
            <a:ahLst/>
            <a:rect l="0" t="0" r="r" b="b"/>
            <a:pathLst>
              <a:path fill="none" w="3862" h="5793">
                <a:moveTo>
                  <a:pt x="3862" y="5793"/>
                </a:moveTo>
                <a:lnTo>
                  <a:pt x="3862" y="5793"/>
                </a:lnTo>
                <a:lnTo>
                  <a:pt x="3862" y="5793"/>
                </a:lnTo>
                <a:cubicBezTo>
                  <a:pt x="3862" y="4776"/>
                  <a:pt x="3684" y="3777"/>
                  <a:pt x="3345" y="2896"/>
                </a:cubicBezTo>
                <a:cubicBezTo>
                  <a:pt x="3006" y="2016"/>
                  <a:pt x="2518" y="1285"/>
                  <a:pt x="1931" y="776"/>
                </a:cubicBezTo>
                <a:cubicBezTo>
                  <a:pt x="1344" y="268"/>
                  <a:pt x="678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6400" y="73080"/>
            <a:ext cx="87980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API Supports: </a:t>
            </a:r>
            <a:br>
              <a:rPr sz="5100"/>
            </a:b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PC add-in Board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031840" y="4157640"/>
            <a:ext cx="2739960" cy="23828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3111480" y="3338640"/>
            <a:ext cx="655920" cy="562320"/>
          </a:xfrm>
          <a:custGeom>
            <a:avLst/>
            <a:gdLst/>
            <a:ahLst/>
            <a:rect l="0" t="0" r="r" b="b"/>
            <a:pathLst>
              <a:path w="1822" h="1562">
                <a:moveTo>
                  <a:pt x="447" y="0"/>
                </a:moveTo>
                <a:lnTo>
                  <a:pt x="447" y="602"/>
                </a:lnTo>
                <a:lnTo>
                  <a:pt x="0" y="455"/>
                </a:lnTo>
                <a:lnTo>
                  <a:pt x="908" y="1562"/>
                </a:lnTo>
                <a:lnTo>
                  <a:pt x="1822" y="460"/>
                </a:lnTo>
                <a:lnTo>
                  <a:pt x="1365" y="602"/>
                </a:lnTo>
                <a:lnTo>
                  <a:pt x="1365" y="0"/>
                </a:lnTo>
                <a:lnTo>
                  <a:pt x="447" y="0"/>
                </a:lnTo>
                <a:close/>
              </a:path>
            </a:pathLst>
          </a:cu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5011560" y="5087880"/>
            <a:ext cx="1365120" cy="861840"/>
          </a:xfrm>
          <a:prstGeom prst="rect">
            <a:avLst/>
          </a:prstGeom>
          <a:ln w="0">
            <a:noFill/>
          </a:ln>
        </p:spPr>
      </p:pic>
      <p:grpSp>
        <p:nvGrpSpPr>
          <p:cNvPr id="486" name=""/>
          <p:cNvGrpSpPr/>
          <p:nvPr/>
        </p:nvGrpSpPr>
        <p:grpSpPr>
          <a:xfrm>
            <a:off x="7077240" y="1787400"/>
            <a:ext cx="2152440" cy="2154240"/>
            <a:chOff x="7077240" y="1787400"/>
            <a:chExt cx="2152440" cy="2154240"/>
          </a:xfrm>
        </p:grpSpPr>
        <p:pic>
          <p:nvPicPr>
            <p:cNvPr id="487" name="" descr=""/>
            <p:cNvPicPr/>
            <p:nvPr/>
          </p:nvPicPr>
          <p:blipFill>
            <a:blip r:embed="rId3"/>
            <a:stretch/>
          </p:blipFill>
          <p:spPr>
            <a:xfrm>
              <a:off x="7077240" y="1787400"/>
              <a:ext cx="1198440" cy="19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" descr=""/>
            <p:cNvPicPr/>
            <p:nvPr/>
          </p:nvPicPr>
          <p:blipFill>
            <a:blip r:embed="rId4"/>
            <a:stretch/>
          </p:blipFill>
          <p:spPr>
            <a:xfrm>
              <a:off x="7381800" y="2725560"/>
              <a:ext cx="184788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 txBox="1"/>
            <p:nvPr/>
          </p:nvSpPr>
          <p:spPr>
            <a:xfrm>
              <a:off x="7816680" y="3106800"/>
              <a:ext cx="1166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"/>
          <p:cNvSpPr txBox="1"/>
          <p:nvPr/>
        </p:nvSpPr>
        <p:spPr>
          <a:xfrm>
            <a:off x="1308240" y="1733400"/>
            <a:ext cx="2419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-in board or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ther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313000" y="2549520"/>
            <a:ext cx="2079720" cy="681120"/>
            <a:chOff x="2313000" y="2549520"/>
            <a:chExt cx="2079720" cy="681120"/>
          </a:xfrm>
        </p:grpSpPr>
        <p:grpSp>
          <p:nvGrpSpPr>
            <p:cNvPr id="492" name=""/>
            <p:cNvGrpSpPr/>
            <p:nvPr/>
          </p:nvGrpSpPr>
          <p:grpSpPr>
            <a:xfrm>
              <a:off x="2313000" y="2549520"/>
              <a:ext cx="2036880" cy="604800"/>
              <a:chOff x="2313000" y="2549520"/>
              <a:chExt cx="2036880" cy="604800"/>
            </a:xfrm>
          </p:grpSpPr>
          <p:sp>
            <p:nvSpPr>
              <p:cNvPr id="493" name=""/>
              <p:cNvSpPr/>
              <p:nvPr/>
            </p:nvSpPr>
            <p:spPr>
              <a:xfrm>
                <a:off x="2313000" y="2549520"/>
                <a:ext cx="2023920" cy="593640"/>
              </a:xfrm>
              <a:prstGeom prst="rect">
                <a:avLst/>
              </a:prstGeom>
              <a:gradFill rotWithShape="0">
                <a:gsLst>
                  <a:gs pos="0">
                    <a:srgbClr val="5a8333"/>
                  </a:gs>
                  <a:gs pos="100000">
                    <a:srgbClr val="316501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313000" y="2549520"/>
                <a:ext cx="2036880" cy="604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2374920" y="2625840"/>
              <a:ext cx="565200" cy="279360"/>
              <a:chOff x="2374920" y="2625840"/>
              <a:chExt cx="565200" cy="279360"/>
            </a:xfrm>
          </p:grpSpPr>
          <p:sp>
            <p:nvSpPr>
              <p:cNvPr id="496" name=""/>
              <p:cNvSpPr/>
              <p:nvPr/>
            </p:nvSpPr>
            <p:spPr>
              <a:xfrm>
                <a:off x="2374920" y="2625840"/>
                <a:ext cx="554040" cy="26676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374920" y="2625840"/>
                <a:ext cx="565200" cy="27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363760" y="2949480"/>
              <a:ext cx="865080" cy="152280"/>
              <a:chOff x="2363760" y="2949480"/>
              <a:chExt cx="865080" cy="152280"/>
            </a:xfrm>
          </p:grpSpPr>
          <p:sp>
            <p:nvSpPr>
              <p:cNvPr id="499" name=""/>
              <p:cNvSpPr/>
              <p:nvPr/>
            </p:nvSpPr>
            <p:spPr>
              <a:xfrm>
                <a:off x="2363760" y="2949480"/>
                <a:ext cx="851040" cy="14112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63760" y="2949480"/>
                <a:ext cx="8650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2995560" y="2664000"/>
              <a:ext cx="398520" cy="241200"/>
              <a:chOff x="2995560" y="2664000"/>
              <a:chExt cx="398520" cy="241200"/>
            </a:xfrm>
          </p:grpSpPr>
          <p:sp>
            <p:nvSpPr>
              <p:cNvPr id="502" name=""/>
              <p:cNvSpPr/>
              <p:nvPr/>
            </p:nvSpPr>
            <p:spPr>
              <a:xfrm>
                <a:off x="2995560" y="2664000"/>
                <a:ext cx="385920" cy="22860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995560" y="2664000"/>
                <a:ext cx="398520" cy="24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3519360" y="2733840"/>
              <a:ext cx="344520" cy="109440"/>
              <a:chOff x="3519360" y="2733840"/>
              <a:chExt cx="344520" cy="109440"/>
            </a:xfrm>
          </p:grpSpPr>
          <p:sp>
            <p:nvSpPr>
              <p:cNvPr id="505" name=""/>
              <p:cNvSpPr/>
              <p:nvPr/>
            </p:nvSpPr>
            <p:spPr>
              <a:xfrm>
                <a:off x="3519360" y="2733840"/>
                <a:ext cx="333360" cy="9684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519360" y="2733840"/>
                <a:ext cx="3445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519360" y="2859120"/>
              <a:ext cx="344520" cy="109440"/>
              <a:chOff x="3519360" y="2859120"/>
              <a:chExt cx="344520" cy="109440"/>
            </a:xfrm>
          </p:grpSpPr>
          <p:sp>
            <p:nvSpPr>
              <p:cNvPr id="508" name=""/>
              <p:cNvSpPr/>
              <p:nvPr/>
            </p:nvSpPr>
            <p:spPr>
              <a:xfrm>
                <a:off x="3519360" y="2859120"/>
                <a:ext cx="333360" cy="9828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519360" y="2859120"/>
                <a:ext cx="3445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519360" y="2986200"/>
              <a:ext cx="344520" cy="109440"/>
              <a:chOff x="3519360" y="2986200"/>
              <a:chExt cx="344520" cy="109440"/>
            </a:xfrm>
          </p:grpSpPr>
          <p:sp>
            <p:nvSpPr>
              <p:cNvPr id="511" name=""/>
              <p:cNvSpPr/>
              <p:nvPr/>
            </p:nvSpPr>
            <p:spPr>
              <a:xfrm>
                <a:off x="3519360" y="2986200"/>
                <a:ext cx="333360" cy="9684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519360" y="2986200"/>
                <a:ext cx="3445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3444840" y="2571840"/>
              <a:ext cx="833400" cy="130320"/>
              <a:chOff x="3444840" y="2571840"/>
              <a:chExt cx="833400" cy="130320"/>
            </a:xfrm>
          </p:grpSpPr>
          <p:sp>
            <p:nvSpPr>
              <p:cNvPr id="514" name=""/>
              <p:cNvSpPr/>
              <p:nvPr/>
            </p:nvSpPr>
            <p:spPr>
              <a:xfrm>
                <a:off x="3444840" y="2571840"/>
                <a:ext cx="824040" cy="11916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444840" y="2571840"/>
                <a:ext cx="833400" cy="130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3916440" y="2733840"/>
              <a:ext cx="358920" cy="109440"/>
              <a:chOff x="3916440" y="2733840"/>
              <a:chExt cx="358920" cy="109440"/>
            </a:xfrm>
          </p:grpSpPr>
          <p:sp>
            <p:nvSpPr>
              <p:cNvPr id="517" name=""/>
              <p:cNvSpPr/>
              <p:nvPr/>
            </p:nvSpPr>
            <p:spPr>
              <a:xfrm>
                <a:off x="3916440" y="2733840"/>
                <a:ext cx="347760" cy="9684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916440" y="2733840"/>
                <a:ext cx="3589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3916440" y="2987640"/>
              <a:ext cx="361800" cy="108000"/>
              <a:chOff x="3916440" y="2987640"/>
              <a:chExt cx="361800" cy="108000"/>
            </a:xfrm>
          </p:grpSpPr>
          <p:sp>
            <p:nvSpPr>
              <p:cNvPr id="520" name=""/>
              <p:cNvSpPr/>
              <p:nvPr/>
            </p:nvSpPr>
            <p:spPr>
              <a:xfrm>
                <a:off x="3916440" y="2987640"/>
                <a:ext cx="352440" cy="9540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916440" y="2987640"/>
                <a:ext cx="361800" cy="108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3916440" y="2859120"/>
              <a:ext cx="358920" cy="109440"/>
              <a:chOff x="3916440" y="2859120"/>
              <a:chExt cx="358920" cy="109440"/>
            </a:xfrm>
          </p:grpSpPr>
          <p:sp>
            <p:nvSpPr>
              <p:cNvPr id="523" name=""/>
              <p:cNvSpPr/>
              <p:nvPr/>
            </p:nvSpPr>
            <p:spPr>
              <a:xfrm>
                <a:off x="3916440" y="2859120"/>
                <a:ext cx="347760" cy="9828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916440" y="2859120"/>
                <a:ext cx="3589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959200" y="3154320"/>
              <a:ext cx="1262160" cy="61920"/>
              <a:chOff x="2959200" y="3154320"/>
              <a:chExt cx="1262160" cy="61920"/>
            </a:xfrm>
          </p:grpSpPr>
          <p:sp>
            <p:nvSpPr>
              <p:cNvPr id="526" name=""/>
              <p:cNvSpPr/>
              <p:nvPr/>
            </p:nvSpPr>
            <p:spPr>
              <a:xfrm>
                <a:off x="2959200" y="3154320"/>
                <a:ext cx="1247760" cy="50760"/>
              </a:xfrm>
              <a:prstGeom prst="rect">
                <a:avLst/>
              </a:prstGeom>
              <a:gradFill rotWithShape="0">
                <a:gsLst>
                  <a:gs pos="0">
                    <a:srgbClr val="5a8333"/>
                  </a:gs>
                  <a:gs pos="100000">
                    <a:srgbClr val="316501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959200" y="3154320"/>
                <a:ext cx="1262160" cy="6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2976480" y="3130560"/>
              <a:ext cx="1217520" cy="42840"/>
            </a:xfrm>
            <a:prstGeom prst="rect">
              <a:avLst/>
            </a:prstGeom>
            <a:gradFill rotWithShape="0">
              <a:gsLst>
                <a:gs pos="0">
                  <a:srgbClr val="5a8333"/>
                </a:gs>
                <a:gs pos="100000">
                  <a:srgbClr val="316501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7720" y="2766960"/>
              <a:ext cx="135000" cy="47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57720" y="2583000"/>
              <a:ext cx="135000" cy="27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257720" y="2654280"/>
              <a:ext cx="135000" cy="28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99556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4308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9564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4496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9248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4324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9076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34332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9264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44016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49092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8764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3552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98628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03560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8636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3532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8608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3844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9100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63996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68784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3860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78792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38680" y="31622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57720" y="2895480"/>
              <a:ext cx="135000" cy="44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57720" y="3021120"/>
              <a:ext cx="135000" cy="46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039680" y="1655640"/>
            <a:ext cx="6510240" cy="4888080"/>
          </a:xfrm>
          <a:prstGeom prst="rect">
            <a:avLst/>
          </a:prstGeom>
          <a:solidFill>
            <a:srgbClr val="00279f"/>
          </a:solidFill>
          <a:ln w="25560">
            <a:solidFill>
              <a:srgbClr val="063de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405400" y="5452200"/>
            <a:ext cx="2891160" cy="596520"/>
          </a:xfrm>
          <a:custGeom>
            <a:avLst/>
            <a:gdLst/>
            <a:ahLst/>
            <a:rect l="0" t="0" r="r" b="b"/>
            <a:pathLst>
              <a:path fill="none" w="8031" h="1657">
                <a:moveTo>
                  <a:pt x="0" y="1657"/>
                </a:moveTo>
                <a:lnTo>
                  <a:pt x="0" y="1657"/>
                </a:lnTo>
                <a:cubicBezTo>
                  <a:pt x="1410" y="1657"/>
                  <a:pt x="2795" y="1580"/>
                  <a:pt x="4016" y="1435"/>
                </a:cubicBezTo>
                <a:cubicBezTo>
                  <a:pt x="5236" y="1290"/>
                  <a:pt x="6250" y="1080"/>
                  <a:pt x="6955" y="828"/>
                </a:cubicBezTo>
                <a:cubicBezTo>
                  <a:pt x="7660" y="577"/>
                  <a:pt x="8031" y="291"/>
                  <a:pt x="8031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160800" y="4187880"/>
            <a:ext cx="2408400" cy="163188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29160" y="6280200"/>
            <a:ext cx="4407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7834320" y="4691160"/>
            <a:ext cx="1365120" cy="8618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 txBox="1"/>
          <p:nvPr/>
        </p:nvSpPr>
        <p:spPr>
          <a:xfrm>
            <a:off x="1122480" y="6089760"/>
            <a:ext cx="153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ent 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2529000" y="3451320"/>
            <a:ext cx="3672000" cy="57636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API 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974960" y="1909800"/>
            <a:ext cx="4905360" cy="1301760"/>
            <a:chOff x="1974960" y="1909800"/>
            <a:chExt cx="4905360" cy="1301760"/>
          </a:xfrm>
        </p:grpSpPr>
        <p:pic>
          <p:nvPicPr>
            <p:cNvPr id="567" name="" descr=""/>
            <p:cNvPicPr/>
            <p:nvPr/>
          </p:nvPicPr>
          <p:blipFill>
            <a:blip r:embed="rId2"/>
            <a:stretch/>
          </p:blipFill>
          <p:spPr>
            <a:xfrm>
              <a:off x="1974960" y="1922400"/>
              <a:ext cx="150336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2166840" y="1927080"/>
              <a:ext cx="1098720" cy="70020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2109960" y="2125800"/>
              <a:ext cx="1317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0" name="" descr=""/>
            <p:cNvPicPr/>
            <p:nvPr/>
          </p:nvPicPr>
          <p:blipFill>
            <a:blip r:embed="rId3"/>
            <a:stretch/>
          </p:blipFill>
          <p:spPr>
            <a:xfrm>
              <a:off x="3692520" y="1922400"/>
              <a:ext cx="148104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3881520" y="1927080"/>
              <a:ext cx="1082520" cy="7034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 txBox="1"/>
            <p:nvPr/>
          </p:nvSpPr>
          <p:spPr>
            <a:xfrm>
              <a:off x="3819600" y="2127240"/>
              <a:ext cx="1317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3" name="" descr=""/>
            <p:cNvPicPr/>
            <p:nvPr/>
          </p:nvPicPr>
          <p:blipFill>
            <a:blip r:embed="rId4"/>
            <a:stretch/>
          </p:blipFill>
          <p:spPr>
            <a:xfrm>
              <a:off x="5381640" y="1909800"/>
              <a:ext cx="149868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5586480" y="1914480"/>
              <a:ext cx="1100160" cy="70956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5527800" y="2109960"/>
              <a:ext cx="1317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1085760" y="3255840"/>
            <a:ext cx="1393920" cy="1008360"/>
            <a:chOff x="1085760" y="3255840"/>
            <a:chExt cx="1393920" cy="1008360"/>
          </a:xfrm>
        </p:grpSpPr>
        <p:sp>
          <p:nvSpPr>
            <p:cNvPr id="577" name=""/>
            <p:cNvSpPr/>
            <p:nvPr/>
          </p:nvSpPr>
          <p:spPr>
            <a:xfrm>
              <a:off x="1943280" y="4025880"/>
              <a:ext cx="5364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933560" y="3444840"/>
              <a:ext cx="5382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 txBox="1"/>
            <p:nvPr/>
          </p:nvSpPr>
          <p:spPr>
            <a:xfrm>
              <a:off x="1106640" y="3807000"/>
              <a:ext cx="903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S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 txBox="1"/>
            <p:nvPr/>
          </p:nvSpPr>
          <p:spPr>
            <a:xfrm>
              <a:off x="1085760" y="3255840"/>
              <a:ext cx="981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"/>
          <p:cNvSpPr txBox="1"/>
          <p:nvPr/>
        </p:nvSpPr>
        <p:spPr>
          <a:xfrm>
            <a:off x="182520" y="-9360"/>
            <a:ext cx="944100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  <a:ea typeface="Arial"/>
              </a:rPr>
              <a:t>Add-in Board TAPI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Arial"/>
                <a:ea typeface="Arial"/>
              </a:rPr>
              <a:t>Service Provide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284640" y="5749920"/>
            <a:ext cx="2079720" cy="681120"/>
            <a:chOff x="3284640" y="5749920"/>
            <a:chExt cx="2079720" cy="681120"/>
          </a:xfrm>
        </p:grpSpPr>
        <p:grpSp>
          <p:nvGrpSpPr>
            <p:cNvPr id="583" name=""/>
            <p:cNvGrpSpPr/>
            <p:nvPr/>
          </p:nvGrpSpPr>
          <p:grpSpPr>
            <a:xfrm>
              <a:off x="3284640" y="5749920"/>
              <a:ext cx="2036880" cy="604800"/>
              <a:chOff x="3284640" y="5749920"/>
              <a:chExt cx="2036880" cy="604800"/>
            </a:xfrm>
          </p:grpSpPr>
          <p:sp>
            <p:nvSpPr>
              <p:cNvPr id="584" name=""/>
              <p:cNvSpPr/>
              <p:nvPr/>
            </p:nvSpPr>
            <p:spPr>
              <a:xfrm>
                <a:off x="3284640" y="5749920"/>
                <a:ext cx="2023920" cy="593640"/>
              </a:xfrm>
              <a:prstGeom prst="rect">
                <a:avLst/>
              </a:prstGeom>
              <a:gradFill rotWithShape="0">
                <a:gsLst>
                  <a:gs pos="0">
                    <a:srgbClr val="5a8333"/>
                  </a:gs>
                  <a:gs pos="100000">
                    <a:srgbClr val="316501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284640" y="5749920"/>
                <a:ext cx="2036880" cy="604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3346560" y="5826240"/>
              <a:ext cx="565200" cy="279360"/>
              <a:chOff x="3346560" y="5826240"/>
              <a:chExt cx="565200" cy="279360"/>
            </a:xfrm>
          </p:grpSpPr>
          <p:sp>
            <p:nvSpPr>
              <p:cNvPr id="587" name=""/>
              <p:cNvSpPr/>
              <p:nvPr/>
            </p:nvSpPr>
            <p:spPr>
              <a:xfrm>
                <a:off x="3346560" y="5826240"/>
                <a:ext cx="554040" cy="26676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346560" y="5826240"/>
                <a:ext cx="565200" cy="27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3335400" y="6149880"/>
              <a:ext cx="865080" cy="152280"/>
              <a:chOff x="3335400" y="6149880"/>
              <a:chExt cx="865080" cy="152280"/>
            </a:xfrm>
          </p:grpSpPr>
          <p:sp>
            <p:nvSpPr>
              <p:cNvPr id="590" name=""/>
              <p:cNvSpPr/>
              <p:nvPr/>
            </p:nvSpPr>
            <p:spPr>
              <a:xfrm>
                <a:off x="3335400" y="6149880"/>
                <a:ext cx="851040" cy="14112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35400" y="6149880"/>
                <a:ext cx="8650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3967200" y="5864400"/>
              <a:ext cx="398520" cy="241200"/>
              <a:chOff x="3967200" y="5864400"/>
              <a:chExt cx="398520" cy="241200"/>
            </a:xfrm>
          </p:grpSpPr>
          <p:sp>
            <p:nvSpPr>
              <p:cNvPr id="593" name=""/>
              <p:cNvSpPr/>
              <p:nvPr/>
            </p:nvSpPr>
            <p:spPr>
              <a:xfrm>
                <a:off x="3967200" y="5864400"/>
                <a:ext cx="385920" cy="22860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967200" y="5864400"/>
                <a:ext cx="398520" cy="24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491000" y="5934240"/>
              <a:ext cx="344520" cy="109440"/>
              <a:chOff x="4491000" y="5934240"/>
              <a:chExt cx="344520" cy="109440"/>
            </a:xfrm>
          </p:grpSpPr>
          <p:sp>
            <p:nvSpPr>
              <p:cNvPr id="596" name=""/>
              <p:cNvSpPr/>
              <p:nvPr/>
            </p:nvSpPr>
            <p:spPr>
              <a:xfrm>
                <a:off x="4491000" y="5934240"/>
                <a:ext cx="333360" cy="9684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491000" y="5934240"/>
                <a:ext cx="3445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4491000" y="6059520"/>
              <a:ext cx="344520" cy="109440"/>
              <a:chOff x="4491000" y="6059520"/>
              <a:chExt cx="344520" cy="109440"/>
            </a:xfrm>
          </p:grpSpPr>
          <p:sp>
            <p:nvSpPr>
              <p:cNvPr id="599" name=""/>
              <p:cNvSpPr/>
              <p:nvPr/>
            </p:nvSpPr>
            <p:spPr>
              <a:xfrm>
                <a:off x="4491000" y="6059520"/>
                <a:ext cx="333360" cy="9828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91000" y="6059520"/>
                <a:ext cx="3445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4491000" y="6186600"/>
              <a:ext cx="344520" cy="109440"/>
              <a:chOff x="4491000" y="6186600"/>
              <a:chExt cx="344520" cy="109440"/>
            </a:xfrm>
          </p:grpSpPr>
          <p:sp>
            <p:nvSpPr>
              <p:cNvPr id="602" name=""/>
              <p:cNvSpPr/>
              <p:nvPr/>
            </p:nvSpPr>
            <p:spPr>
              <a:xfrm>
                <a:off x="4491000" y="6186600"/>
                <a:ext cx="333360" cy="9684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491000" y="6186600"/>
                <a:ext cx="3445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4416480" y="5772240"/>
              <a:ext cx="833400" cy="130320"/>
              <a:chOff x="4416480" y="5772240"/>
              <a:chExt cx="833400" cy="130320"/>
            </a:xfrm>
          </p:grpSpPr>
          <p:sp>
            <p:nvSpPr>
              <p:cNvPr id="605" name=""/>
              <p:cNvSpPr/>
              <p:nvPr/>
            </p:nvSpPr>
            <p:spPr>
              <a:xfrm>
                <a:off x="4416480" y="5772240"/>
                <a:ext cx="824040" cy="11916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416480" y="5772240"/>
                <a:ext cx="833400" cy="130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4888080" y="5934240"/>
              <a:ext cx="358920" cy="109440"/>
              <a:chOff x="4888080" y="5934240"/>
              <a:chExt cx="358920" cy="109440"/>
            </a:xfrm>
          </p:grpSpPr>
          <p:sp>
            <p:nvSpPr>
              <p:cNvPr id="608" name=""/>
              <p:cNvSpPr/>
              <p:nvPr/>
            </p:nvSpPr>
            <p:spPr>
              <a:xfrm>
                <a:off x="4888080" y="5934240"/>
                <a:ext cx="347760" cy="9684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888080" y="5934240"/>
                <a:ext cx="3589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4888080" y="6188040"/>
              <a:ext cx="361800" cy="108000"/>
              <a:chOff x="4888080" y="6188040"/>
              <a:chExt cx="361800" cy="108000"/>
            </a:xfrm>
          </p:grpSpPr>
          <p:sp>
            <p:nvSpPr>
              <p:cNvPr id="611" name=""/>
              <p:cNvSpPr/>
              <p:nvPr/>
            </p:nvSpPr>
            <p:spPr>
              <a:xfrm>
                <a:off x="4888080" y="6188040"/>
                <a:ext cx="352440" cy="9540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888080" y="6188040"/>
                <a:ext cx="361800" cy="108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4888080" y="6059520"/>
              <a:ext cx="358920" cy="109440"/>
              <a:chOff x="4888080" y="6059520"/>
              <a:chExt cx="358920" cy="109440"/>
            </a:xfrm>
          </p:grpSpPr>
          <p:sp>
            <p:nvSpPr>
              <p:cNvPr id="614" name=""/>
              <p:cNvSpPr/>
              <p:nvPr/>
            </p:nvSpPr>
            <p:spPr>
              <a:xfrm>
                <a:off x="4888080" y="6059520"/>
                <a:ext cx="347760" cy="9828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888080" y="6059520"/>
                <a:ext cx="3589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3930480" y="6354720"/>
              <a:ext cx="1262160" cy="61920"/>
              <a:chOff x="3930480" y="6354720"/>
              <a:chExt cx="1262160" cy="61920"/>
            </a:xfrm>
          </p:grpSpPr>
          <p:sp>
            <p:nvSpPr>
              <p:cNvPr id="617" name=""/>
              <p:cNvSpPr/>
              <p:nvPr/>
            </p:nvSpPr>
            <p:spPr>
              <a:xfrm>
                <a:off x="3930480" y="6354720"/>
                <a:ext cx="1247760" cy="50760"/>
              </a:xfrm>
              <a:prstGeom prst="rect">
                <a:avLst/>
              </a:prstGeom>
              <a:gradFill rotWithShape="0">
                <a:gsLst>
                  <a:gs pos="0">
                    <a:srgbClr val="5a8333"/>
                  </a:gs>
                  <a:gs pos="100000">
                    <a:srgbClr val="316501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30480" y="6354720"/>
                <a:ext cx="1262160" cy="6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3948120" y="6330960"/>
              <a:ext cx="1217520" cy="42840"/>
            </a:xfrm>
            <a:prstGeom prst="rect">
              <a:avLst/>
            </a:prstGeom>
            <a:gradFill rotWithShape="0">
              <a:gsLst>
                <a:gs pos="0">
                  <a:srgbClr val="5a8333"/>
                </a:gs>
                <a:gs pos="100000">
                  <a:srgbClr val="316501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229360" y="5967360"/>
              <a:ext cx="135000" cy="47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29360" y="5783400"/>
              <a:ext cx="135000" cy="27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29360" y="5854680"/>
              <a:ext cx="135000" cy="28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6720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01472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06728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11624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6412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21488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26240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1496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36392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1180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6256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85928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90680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95792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0688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5764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10696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5772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1008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6264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1160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5948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1024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75920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09960" y="6362640"/>
              <a:ext cx="0" cy="6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29360" y="6095880"/>
              <a:ext cx="135000" cy="44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29360" y="6221520"/>
              <a:ext cx="135000" cy="46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 flipV="1">
            <a:off x="5114880" y="2822400"/>
            <a:ext cx="2038320" cy="1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5800" bIns="-55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08320" y="5442120"/>
            <a:ext cx="2965320" cy="1701720"/>
          </a:xfrm>
          <a:prstGeom prst="rect">
            <a:avLst/>
          </a:prstGeom>
          <a:gradFill rotWithShape="0">
            <a:gsLst>
              <a:gs pos="0">
                <a:srgbClr val="000b2f"/>
              </a:gs>
              <a:gs pos="50000">
                <a:srgbClr val="00279f"/>
              </a:gs>
              <a:gs pos="100000">
                <a:srgbClr val="000b2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216240" y="3651120"/>
            <a:ext cx="2955960" cy="1689120"/>
          </a:xfrm>
          <a:prstGeom prst="rect">
            <a:avLst/>
          </a:prstGeom>
          <a:gradFill rotWithShape="0">
            <a:gsLst>
              <a:gs pos="0">
                <a:srgbClr val="000b2f"/>
              </a:gs>
              <a:gs pos="50000">
                <a:srgbClr val="00279f"/>
              </a:gs>
              <a:gs pos="100000">
                <a:srgbClr val="000b2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440080" y="2714760"/>
            <a:ext cx="9777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5972040" y="3294000"/>
            <a:ext cx="1285920" cy="1333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325600" y="4522680"/>
            <a:ext cx="1231920" cy="263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6080" y="82440"/>
            <a:ext cx="9780480" cy="14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API Supports: Client-Server 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  <a:ea typeface="Arial"/>
              </a:rPr>
              <a:t>with Switch-to-Host Lin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3279600" y="3787920"/>
            <a:ext cx="1573200" cy="136692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4995720" y="4468680"/>
            <a:ext cx="1022400" cy="60948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3"/>
          <a:stretch/>
        </p:blipFill>
        <p:spPr>
          <a:xfrm>
            <a:off x="3340080" y="1347840"/>
            <a:ext cx="836640" cy="168444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4"/>
          <a:stretch/>
        </p:blipFill>
        <p:spPr>
          <a:xfrm>
            <a:off x="3513240" y="2249640"/>
            <a:ext cx="1685880" cy="112536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3925800" y="252720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239840" y="2176560"/>
            <a:ext cx="1240200" cy="4497840"/>
          </a:xfrm>
          <a:custGeom>
            <a:avLst/>
            <a:gdLst/>
            <a:ahLst/>
            <a:rect l="0" t="0" r="r" b="b"/>
            <a:pathLst>
              <a:path fill="none" w="3445" h="12494">
                <a:moveTo>
                  <a:pt x="0" y="12494"/>
                </a:moveTo>
                <a:lnTo>
                  <a:pt x="0" y="12494"/>
                </a:lnTo>
                <a:cubicBezTo>
                  <a:pt x="605" y="12494"/>
                  <a:pt x="1199" y="11917"/>
                  <a:pt x="1723" y="10820"/>
                </a:cubicBezTo>
                <a:cubicBezTo>
                  <a:pt x="2246" y="9724"/>
                  <a:pt x="2681" y="8146"/>
                  <a:pt x="2983" y="6247"/>
                </a:cubicBezTo>
                <a:cubicBezTo>
                  <a:pt x="3286" y="4348"/>
                  <a:pt x="3445" y="2193"/>
                  <a:pt x="3445" y="0"/>
                </a:cubicBezTo>
              </a:path>
            </a:pathLst>
          </a:custGeom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436760" y="2449440"/>
            <a:ext cx="81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7042320" y="1312920"/>
            <a:ext cx="2152440" cy="2154240"/>
            <a:chOff x="7042320" y="1312920"/>
            <a:chExt cx="2152440" cy="2154240"/>
          </a:xfrm>
        </p:grpSpPr>
        <p:pic>
          <p:nvPicPr>
            <p:cNvPr id="665" name="" descr=""/>
            <p:cNvPicPr/>
            <p:nvPr/>
          </p:nvPicPr>
          <p:blipFill>
            <a:blip r:embed="rId5"/>
            <a:stretch/>
          </p:blipFill>
          <p:spPr>
            <a:xfrm>
              <a:off x="7042320" y="1312920"/>
              <a:ext cx="1198440" cy="19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" descr=""/>
            <p:cNvPicPr/>
            <p:nvPr/>
          </p:nvPicPr>
          <p:blipFill>
            <a:blip r:embed="rId6"/>
            <a:stretch/>
          </p:blipFill>
          <p:spPr>
            <a:xfrm>
              <a:off x="7346880" y="2251080"/>
              <a:ext cx="184788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 txBox="1"/>
            <p:nvPr/>
          </p:nvSpPr>
          <p:spPr>
            <a:xfrm>
              <a:off x="7781760" y="2631960"/>
              <a:ext cx="1166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 flipV="1">
            <a:off x="5918040" y="3282840"/>
            <a:ext cx="1505160" cy="30038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063880" y="5629320"/>
            <a:ext cx="1531800" cy="9716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7"/>
          <a:stretch/>
        </p:blipFill>
        <p:spPr>
          <a:xfrm>
            <a:off x="3317760" y="5600520"/>
            <a:ext cx="1573200" cy="13669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8"/>
          <a:stretch/>
        </p:blipFill>
        <p:spPr>
          <a:xfrm>
            <a:off x="5033880" y="6283440"/>
            <a:ext cx="1022400" cy="6094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 txBox="1"/>
          <p:nvPr/>
        </p:nvSpPr>
        <p:spPr>
          <a:xfrm>
            <a:off x="5761080" y="2389320"/>
            <a:ext cx="70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5038560" y="2744640"/>
            <a:ext cx="2129040" cy="195480"/>
            <a:chOff x="5038560" y="2744640"/>
            <a:chExt cx="2129040" cy="195480"/>
          </a:xfrm>
        </p:grpSpPr>
        <p:sp>
          <p:nvSpPr>
            <p:cNvPr id="674" name=""/>
            <p:cNvSpPr/>
            <p:nvPr/>
          </p:nvSpPr>
          <p:spPr>
            <a:xfrm flipV="1">
              <a:off x="5111640" y="2846520"/>
              <a:ext cx="2038320" cy="1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6160" bIns="-56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038560" y="2744640"/>
              <a:ext cx="2124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5129280" y="2938320"/>
              <a:ext cx="2038320" cy="18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3208320" y="5442120"/>
            <a:ext cx="2965320" cy="1701720"/>
          </a:xfrm>
          <a:prstGeom prst="rect">
            <a:avLst/>
          </a:prstGeom>
          <a:gradFill rotWithShape="0">
            <a:gsLst>
              <a:gs pos="0">
                <a:srgbClr val="000b2f"/>
              </a:gs>
              <a:gs pos="50000">
                <a:srgbClr val="00279f"/>
              </a:gs>
              <a:gs pos="100000">
                <a:srgbClr val="000b2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16240" y="3651120"/>
            <a:ext cx="2955960" cy="1689120"/>
          </a:xfrm>
          <a:prstGeom prst="rect">
            <a:avLst/>
          </a:prstGeom>
          <a:gradFill rotWithShape="0">
            <a:gsLst>
              <a:gs pos="0">
                <a:srgbClr val="000b2f"/>
              </a:gs>
              <a:gs pos="50000">
                <a:srgbClr val="00279f"/>
              </a:gs>
              <a:gs pos="100000">
                <a:srgbClr val="000b2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440080" y="2714760"/>
            <a:ext cx="9777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5972040" y="3294000"/>
            <a:ext cx="1285920" cy="1333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325600" y="4522680"/>
            <a:ext cx="1231920" cy="263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271440" y="49320"/>
            <a:ext cx="9256680" cy="14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API Supports: Client-Server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ith 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  <a:ea typeface="Arial"/>
              </a:rPr>
              <a:t>Voice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3279600" y="3787920"/>
            <a:ext cx="1573200" cy="136692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4995720" y="4468680"/>
            <a:ext cx="1022400" cy="60948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3"/>
          <a:stretch/>
        </p:blipFill>
        <p:spPr>
          <a:xfrm>
            <a:off x="3340080" y="1347840"/>
            <a:ext cx="836640" cy="168444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4"/>
          <a:stretch/>
        </p:blipFill>
        <p:spPr>
          <a:xfrm>
            <a:off x="3513240" y="2249640"/>
            <a:ext cx="1685880" cy="112536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 txBox="1"/>
          <p:nvPr/>
        </p:nvSpPr>
        <p:spPr>
          <a:xfrm>
            <a:off x="3944880" y="2394000"/>
            <a:ext cx="11336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39840" y="2176560"/>
            <a:ext cx="1240200" cy="4497840"/>
          </a:xfrm>
          <a:custGeom>
            <a:avLst/>
            <a:gdLst/>
            <a:ahLst/>
            <a:rect l="0" t="0" r="r" b="b"/>
            <a:pathLst>
              <a:path fill="none" w="3445" h="12494">
                <a:moveTo>
                  <a:pt x="0" y="12494"/>
                </a:moveTo>
                <a:lnTo>
                  <a:pt x="0" y="12494"/>
                </a:lnTo>
                <a:cubicBezTo>
                  <a:pt x="605" y="12494"/>
                  <a:pt x="1199" y="11917"/>
                  <a:pt x="1723" y="10820"/>
                </a:cubicBezTo>
                <a:cubicBezTo>
                  <a:pt x="2246" y="9724"/>
                  <a:pt x="2681" y="8146"/>
                  <a:pt x="2983" y="6247"/>
                </a:cubicBezTo>
                <a:cubicBezTo>
                  <a:pt x="3286" y="4348"/>
                  <a:pt x="3445" y="2193"/>
                  <a:pt x="3445" y="0"/>
                </a:cubicBezTo>
              </a:path>
            </a:pathLst>
          </a:custGeom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436760" y="2449440"/>
            <a:ext cx="81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7042320" y="1312920"/>
            <a:ext cx="2152440" cy="2154240"/>
            <a:chOff x="7042320" y="1312920"/>
            <a:chExt cx="2152440" cy="2154240"/>
          </a:xfrm>
        </p:grpSpPr>
        <p:pic>
          <p:nvPicPr>
            <p:cNvPr id="691" name="" descr=""/>
            <p:cNvPicPr/>
            <p:nvPr/>
          </p:nvPicPr>
          <p:blipFill>
            <a:blip r:embed="rId5"/>
            <a:stretch/>
          </p:blipFill>
          <p:spPr>
            <a:xfrm>
              <a:off x="7042320" y="1312920"/>
              <a:ext cx="1198440" cy="19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" descr=""/>
            <p:cNvPicPr/>
            <p:nvPr/>
          </p:nvPicPr>
          <p:blipFill>
            <a:blip r:embed="rId6"/>
            <a:stretch/>
          </p:blipFill>
          <p:spPr>
            <a:xfrm>
              <a:off x="7346880" y="2251080"/>
              <a:ext cx="184788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 txBox="1"/>
            <p:nvPr/>
          </p:nvSpPr>
          <p:spPr>
            <a:xfrm>
              <a:off x="7781760" y="2631960"/>
              <a:ext cx="1166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4" name=""/>
          <p:cNvSpPr/>
          <p:nvPr/>
        </p:nvSpPr>
        <p:spPr>
          <a:xfrm flipV="1">
            <a:off x="5918040" y="3282840"/>
            <a:ext cx="1505160" cy="30038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063880" y="5629320"/>
            <a:ext cx="1531800" cy="9716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7"/>
          <a:stretch/>
        </p:blipFill>
        <p:spPr>
          <a:xfrm>
            <a:off x="3317760" y="5600520"/>
            <a:ext cx="1573200" cy="136692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8"/>
          <a:stretch/>
        </p:blipFill>
        <p:spPr>
          <a:xfrm>
            <a:off x="5033880" y="6283440"/>
            <a:ext cx="1022400" cy="6094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 txBox="1"/>
          <p:nvPr/>
        </p:nvSpPr>
        <p:spPr>
          <a:xfrm>
            <a:off x="5424480" y="2363760"/>
            <a:ext cx="1595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 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3197160" y="4803840"/>
            <a:ext cx="4191120" cy="2066760"/>
          </a:xfrm>
          <a:prstGeom prst="rect">
            <a:avLst/>
          </a:prstGeom>
          <a:solidFill>
            <a:srgbClr val="00279f"/>
          </a:solidFill>
          <a:ln w="25560">
            <a:solidFill>
              <a:srgbClr val="063de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93040" y="6424560"/>
            <a:ext cx="3243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271440" y="23760"/>
            <a:ext cx="932652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  <a:ea typeface="Arial"/>
              </a:rPr>
              <a:t>Client-server TAPI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Arial"/>
                <a:ea typeface="Arial"/>
              </a:rPr>
              <a:t>Service Provide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961920" y="1495440"/>
            <a:ext cx="4006800" cy="2687760"/>
          </a:xfrm>
          <a:prstGeom prst="rect">
            <a:avLst/>
          </a:prstGeom>
          <a:solidFill>
            <a:srgbClr val="00279f"/>
          </a:solidFill>
          <a:ln w="25560">
            <a:solidFill>
              <a:srgbClr val="063de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623960" y="3162240"/>
            <a:ext cx="3142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967040" y="2736720"/>
            <a:ext cx="2139840" cy="42552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TAPI 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540400" y="1486080"/>
            <a:ext cx="4005360" cy="2689200"/>
          </a:xfrm>
          <a:prstGeom prst="rect">
            <a:avLst/>
          </a:prstGeom>
          <a:solidFill>
            <a:srgbClr val="00279f"/>
          </a:solidFill>
          <a:ln w="25560">
            <a:solidFill>
              <a:srgbClr val="063de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202440" y="3152880"/>
            <a:ext cx="31284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545160" y="2727360"/>
            <a:ext cx="2139840" cy="42552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TAPI 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195960" y="2722680"/>
            <a:ext cx="3160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3133800" y="642312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934920" y="3824280"/>
            <a:ext cx="1312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lient P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5524560" y="3801960"/>
            <a:ext cx="1312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lient P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1619280" y="1676520"/>
            <a:ext cx="2894040" cy="1054080"/>
            <a:chOff x="1619280" y="1676520"/>
            <a:chExt cx="2894040" cy="1054080"/>
          </a:xfrm>
        </p:grpSpPr>
        <p:pic>
          <p:nvPicPr>
            <p:cNvPr id="713" name="" descr=""/>
            <p:cNvPicPr/>
            <p:nvPr/>
          </p:nvPicPr>
          <p:blipFill>
            <a:blip r:embed="rId1"/>
            <a:stretch/>
          </p:blipFill>
          <p:spPr>
            <a:xfrm>
              <a:off x="1643040" y="1685880"/>
              <a:ext cx="8794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1755720" y="1689120"/>
              <a:ext cx="642960" cy="47484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 txBox="1"/>
            <p:nvPr/>
          </p:nvSpPr>
          <p:spPr>
            <a:xfrm>
              <a:off x="1803240" y="1785960"/>
              <a:ext cx="5889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6" name="" descr=""/>
            <p:cNvPicPr/>
            <p:nvPr/>
          </p:nvPicPr>
          <p:blipFill>
            <a:blip r:embed="rId2"/>
            <a:stretch/>
          </p:blipFill>
          <p:spPr>
            <a:xfrm>
              <a:off x="2647800" y="1685880"/>
              <a:ext cx="866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2760840" y="1689120"/>
              <a:ext cx="630360" cy="47628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3"/>
            <a:stretch/>
          </p:blipFill>
          <p:spPr>
            <a:xfrm>
              <a:off x="3637080" y="1676520"/>
              <a:ext cx="8762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3755880" y="1679400"/>
              <a:ext cx="642960" cy="48096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19280" y="2730600"/>
              <a:ext cx="314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 txBox="1"/>
            <p:nvPr/>
          </p:nvSpPr>
          <p:spPr>
            <a:xfrm>
              <a:off x="2805120" y="1779480"/>
              <a:ext cx="5889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 txBox="1"/>
            <p:nvPr/>
          </p:nvSpPr>
          <p:spPr>
            <a:xfrm>
              <a:off x="3807000" y="1771560"/>
              <a:ext cx="5889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6197760" y="1657440"/>
            <a:ext cx="2895480" cy="1055520"/>
            <a:chOff x="6197760" y="1657440"/>
            <a:chExt cx="2895480" cy="1055520"/>
          </a:xfrm>
        </p:grpSpPr>
        <p:pic>
          <p:nvPicPr>
            <p:cNvPr id="724" name="" descr=""/>
            <p:cNvPicPr/>
            <p:nvPr/>
          </p:nvPicPr>
          <p:blipFill>
            <a:blip r:embed="rId4"/>
            <a:stretch/>
          </p:blipFill>
          <p:spPr>
            <a:xfrm>
              <a:off x="6222960" y="1666800"/>
              <a:ext cx="8794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6334200" y="1670040"/>
              <a:ext cx="642960" cy="47484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 txBox="1"/>
            <p:nvPr/>
          </p:nvSpPr>
          <p:spPr>
            <a:xfrm>
              <a:off x="6383160" y="1766880"/>
              <a:ext cx="5889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27" name="" descr=""/>
            <p:cNvPicPr/>
            <p:nvPr/>
          </p:nvPicPr>
          <p:blipFill>
            <a:blip r:embed="rId5"/>
            <a:stretch/>
          </p:blipFill>
          <p:spPr>
            <a:xfrm>
              <a:off x="7227720" y="1666800"/>
              <a:ext cx="866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7338960" y="1670040"/>
              <a:ext cx="631800" cy="47628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6"/>
            <a:stretch/>
          </p:blipFill>
          <p:spPr>
            <a:xfrm>
              <a:off x="8217000" y="1657440"/>
              <a:ext cx="8762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8334360" y="1660680"/>
              <a:ext cx="642960" cy="48096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197760" y="2712960"/>
              <a:ext cx="314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>
              <a:off x="7383600" y="1760400"/>
              <a:ext cx="5889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 txBox="1"/>
            <p:nvPr/>
          </p:nvSpPr>
          <p:spPr>
            <a:xfrm>
              <a:off x="8385120" y="1754280"/>
              <a:ext cx="5889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1068480" y="2550960"/>
            <a:ext cx="595440" cy="813240"/>
            <a:chOff x="1068480" y="2550960"/>
            <a:chExt cx="595440" cy="813240"/>
          </a:xfrm>
        </p:grpSpPr>
        <p:sp>
          <p:nvSpPr>
            <p:cNvPr id="735" name=""/>
            <p:cNvSpPr txBox="1"/>
            <p:nvPr/>
          </p:nvSpPr>
          <p:spPr>
            <a:xfrm>
              <a:off x="1084320" y="2997360"/>
              <a:ext cx="552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 txBox="1"/>
            <p:nvPr/>
          </p:nvSpPr>
          <p:spPr>
            <a:xfrm>
              <a:off x="1068480" y="2550960"/>
              <a:ext cx="595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5626080" y="2556000"/>
            <a:ext cx="593640" cy="812880"/>
            <a:chOff x="5626080" y="2556000"/>
            <a:chExt cx="593640" cy="812880"/>
          </a:xfrm>
        </p:grpSpPr>
        <p:sp>
          <p:nvSpPr>
            <p:cNvPr id="738" name=""/>
            <p:cNvSpPr txBox="1"/>
            <p:nvPr/>
          </p:nvSpPr>
          <p:spPr>
            <a:xfrm>
              <a:off x="5640480" y="3002040"/>
              <a:ext cx="552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 txBox="1"/>
            <p:nvPr/>
          </p:nvSpPr>
          <p:spPr>
            <a:xfrm>
              <a:off x="5626080" y="2556000"/>
              <a:ext cx="5936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0" name=""/>
          <p:cNvSpPr txBox="1"/>
          <p:nvPr/>
        </p:nvSpPr>
        <p:spPr>
          <a:xfrm>
            <a:off x="8220240" y="6022800"/>
            <a:ext cx="150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2303640" y="3311640"/>
            <a:ext cx="1474920" cy="52632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6881760" y="3303720"/>
            <a:ext cx="1474920" cy="52632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3743280" y="5025960"/>
            <a:ext cx="3005280" cy="114444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rvice Provid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erver P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959200" y="4398840"/>
            <a:ext cx="4665600" cy="14400"/>
          </a:xfrm>
          <a:prstGeom prst="line">
            <a:avLst/>
          </a:prstGeom>
          <a:ln w="20304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-132120" bIns="-13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009960" y="3843360"/>
            <a:ext cx="0" cy="569880"/>
          </a:xfrm>
          <a:prstGeom prst="line">
            <a:avLst/>
          </a:prstGeom>
          <a:ln w="20304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623000" y="3836880"/>
            <a:ext cx="0" cy="594000"/>
          </a:xfrm>
          <a:prstGeom prst="line">
            <a:avLst/>
          </a:prstGeom>
          <a:ln w="20304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257800" y="4356000"/>
            <a:ext cx="0" cy="668520"/>
          </a:xfrm>
          <a:prstGeom prst="line">
            <a:avLst/>
          </a:prstGeom>
          <a:ln w="20304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2301840" y="4441680"/>
            <a:ext cx="81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4530600" y="6093000"/>
            <a:ext cx="2079720" cy="680760"/>
            <a:chOff x="4530600" y="6093000"/>
            <a:chExt cx="2079720" cy="680760"/>
          </a:xfrm>
        </p:grpSpPr>
        <p:grpSp>
          <p:nvGrpSpPr>
            <p:cNvPr id="750" name=""/>
            <p:cNvGrpSpPr/>
            <p:nvPr/>
          </p:nvGrpSpPr>
          <p:grpSpPr>
            <a:xfrm>
              <a:off x="4530600" y="6093000"/>
              <a:ext cx="2036880" cy="604800"/>
              <a:chOff x="4530600" y="6093000"/>
              <a:chExt cx="2036880" cy="604800"/>
            </a:xfrm>
          </p:grpSpPr>
          <p:sp>
            <p:nvSpPr>
              <p:cNvPr id="751" name=""/>
              <p:cNvSpPr/>
              <p:nvPr/>
            </p:nvSpPr>
            <p:spPr>
              <a:xfrm>
                <a:off x="4530600" y="6093000"/>
                <a:ext cx="2023920" cy="593640"/>
              </a:xfrm>
              <a:prstGeom prst="rect">
                <a:avLst/>
              </a:prstGeom>
              <a:gradFill rotWithShape="0">
                <a:gsLst>
                  <a:gs pos="0">
                    <a:srgbClr val="5a8333"/>
                  </a:gs>
                  <a:gs pos="100000">
                    <a:srgbClr val="316501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530600" y="6093000"/>
                <a:ext cx="2036880" cy="604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4592520" y="6168960"/>
              <a:ext cx="565200" cy="279360"/>
              <a:chOff x="4592520" y="6168960"/>
              <a:chExt cx="565200" cy="279360"/>
            </a:xfrm>
          </p:grpSpPr>
          <p:sp>
            <p:nvSpPr>
              <p:cNvPr id="754" name=""/>
              <p:cNvSpPr/>
              <p:nvPr/>
            </p:nvSpPr>
            <p:spPr>
              <a:xfrm>
                <a:off x="4592520" y="6168960"/>
                <a:ext cx="554040" cy="26676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592520" y="6168960"/>
                <a:ext cx="565200" cy="27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4581360" y="6492960"/>
              <a:ext cx="865080" cy="152280"/>
              <a:chOff x="4581360" y="6492960"/>
              <a:chExt cx="865080" cy="152280"/>
            </a:xfrm>
          </p:grpSpPr>
          <p:sp>
            <p:nvSpPr>
              <p:cNvPr id="757" name=""/>
              <p:cNvSpPr/>
              <p:nvPr/>
            </p:nvSpPr>
            <p:spPr>
              <a:xfrm>
                <a:off x="4581360" y="6492960"/>
                <a:ext cx="851040" cy="14112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581360" y="6492960"/>
                <a:ext cx="8650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5213520" y="6207120"/>
              <a:ext cx="398520" cy="241200"/>
              <a:chOff x="5213520" y="6207120"/>
              <a:chExt cx="398520" cy="241200"/>
            </a:xfrm>
          </p:grpSpPr>
          <p:sp>
            <p:nvSpPr>
              <p:cNvPr id="760" name=""/>
              <p:cNvSpPr/>
              <p:nvPr/>
            </p:nvSpPr>
            <p:spPr>
              <a:xfrm>
                <a:off x="5213520" y="6207120"/>
                <a:ext cx="385920" cy="22860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213520" y="6207120"/>
                <a:ext cx="398520" cy="24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5737320" y="6276960"/>
              <a:ext cx="344520" cy="109440"/>
              <a:chOff x="5737320" y="6276960"/>
              <a:chExt cx="344520" cy="109440"/>
            </a:xfrm>
          </p:grpSpPr>
          <p:sp>
            <p:nvSpPr>
              <p:cNvPr id="763" name=""/>
              <p:cNvSpPr/>
              <p:nvPr/>
            </p:nvSpPr>
            <p:spPr>
              <a:xfrm>
                <a:off x="5737320" y="6276960"/>
                <a:ext cx="333360" cy="9684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737320" y="6276960"/>
                <a:ext cx="3445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5737320" y="6402240"/>
              <a:ext cx="344520" cy="109440"/>
              <a:chOff x="5737320" y="6402240"/>
              <a:chExt cx="344520" cy="109440"/>
            </a:xfrm>
          </p:grpSpPr>
          <p:sp>
            <p:nvSpPr>
              <p:cNvPr id="766" name=""/>
              <p:cNvSpPr/>
              <p:nvPr/>
            </p:nvSpPr>
            <p:spPr>
              <a:xfrm>
                <a:off x="5737320" y="6402240"/>
                <a:ext cx="333360" cy="9828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737320" y="6402240"/>
                <a:ext cx="3445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5737320" y="6529320"/>
              <a:ext cx="344520" cy="109440"/>
              <a:chOff x="5737320" y="6529320"/>
              <a:chExt cx="344520" cy="109440"/>
            </a:xfrm>
          </p:grpSpPr>
          <p:sp>
            <p:nvSpPr>
              <p:cNvPr id="769" name=""/>
              <p:cNvSpPr/>
              <p:nvPr/>
            </p:nvSpPr>
            <p:spPr>
              <a:xfrm>
                <a:off x="5737320" y="6529320"/>
                <a:ext cx="333360" cy="9684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737320" y="6529320"/>
                <a:ext cx="3445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5662440" y="6114960"/>
              <a:ext cx="833400" cy="130320"/>
              <a:chOff x="5662440" y="6114960"/>
              <a:chExt cx="833400" cy="130320"/>
            </a:xfrm>
          </p:grpSpPr>
          <p:sp>
            <p:nvSpPr>
              <p:cNvPr id="772" name=""/>
              <p:cNvSpPr/>
              <p:nvPr/>
            </p:nvSpPr>
            <p:spPr>
              <a:xfrm>
                <a:off x="5662440" y="6114960"/>
                <a:ext cx="824040" cy="11916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662440" y="6114960"/>
                <a:ext cx="833400" cy="130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134040" y="6276960"/>
              <a:ext cx="358920" cy="109440"/>
              <a:chOff x="6134040" y="6276960"/>
              <a:chExt cx="358920" cy="109440"/>
            </a:xfrm>
          </p:grpSpPr>
          <p:sp>
            <p:nvSpPr>
              <p:cNvPr id="775" name=""/>
              <p:cNvSpPr/>
              <p:nvPr/>
            </p:nvSpPr>
            <p:spPr>
              <a:xfrm>
                <a:off x="6134040" y="6276960"/>
                <a:ext cx="347760" cy="9684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134040" y="6276960"/>
                <a:ext cx="3589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6134040" y="6531120"/>
              <a:ext cx="361800" cy="108000"/>
              <a:chOff x="6134040" y="6531120"/>
              <a:chExt cx="361800" cy="108000"/>
            </a:xfrm>
          </p:grpSpPr>
          <p:sp>
            <p:nvSpPr>
              <p:cNvPr id="778" name=""/>
              <p:cNvSpPr/>
              <p:nvPr/>
            </p:nvSpPr>
            <p:spPr>
              <a:xfrm>
                <a:off x="6134040" y="6531120"/>
                <a:ext cx="352440" cy="9540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134040" y="6531120"/>
                <a:ext cx="361800" cy="108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6134040" y="6402240"/>
              <a:ext cx="358920" cy="109440"/>
              <a:chOff x="6134040" y="6402240"/>
              <a:chExt cx="358920" cy="109440"/>
            </a:xfrm>
          </p:grpSpPr>
          <p:sp>
            <p:nvSpPr>
              <p:cNvPr id="781" name=""/>
              <p:cNvSpPr/>
              <p:nvPr/>
            </p:nvSpPr>
            <p:spPr>
              <a:xfrm>
                <a:off x="6134040" y="6402240"/>
                <a:ext cx="347760" cy="98280"/>
              </a:xfrm>
              <a:prstGeom prst="rect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134040" y="6402240"/>
                <a:ext cx="358920" cy="10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5176800" y="6697800"/>
              <a:ext cx="1262160" cy="61920"/>
              <a:chOff x="5176800" y="6697800"/>
              <a:chExt cx="1262160" cy="61920"/>
            </a:xfrm>
          </p:grpSpPr>
          <p:sp>
            <p:nvSpPr>
              <p:cNvPr id="784" name=""/>
              <p:cNvSpPr/>
              <p:nvPr/>
            </p:nvSpPr>
            <p:spPr>
              <a:xfrm>
                <a:off x="5176800" y="6697800"/>
                <a:ext cx="1247760" cy="50760"/>
              </a:xfrm>
              <a:prstGeom prst="rect">
                <a:avLst/>
              </a:prstGeom>
              <a:gradFill rotWithShape="0">
                <a:gsLst>
                  <a:gs pos="0">
                    <a:srgbClr val="5a8333"/>
                  </a:gs>
                  <a:gs pos="100000">
                    <a:srgbClr val="316501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176800" y="6697800"/>
                <a:ext cx="1262160" cy="6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>
              <a:off x="5194440" y="6673680"/>
              <a:ext cx="1217520" cy="42840"/>
            </a:xfrm>
            <a:prstGeom prst="rect">
              <a:avLst/>
            </a:prstGeom>
            <a:gradFill rotWithShape="0">
              <a:gsLst>
                <a:gs pos="0">
                  <a:srgbClr val="5a8333"/>
                </a:gs>
                <a:gs pos="100000">
                  <a:srgbClr val="316501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475320" y="6310440"/>
              <a:ext cx="135000" cy="47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75320" y="6126120"/>
              <a:ext cx="135000" cy="27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475320" y="6197760"/>
              <a:ext cx="135000" cy="28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1352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26104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1324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36256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41008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6084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50872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6092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1024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65776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0852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0560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15312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20388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25320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30396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5328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40404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75640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80860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85792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90544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95620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00552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056280" y="6705720"/>
              <a:ext cx="0" cy="680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475320" y="6438960"/>
              <a:ext cx="135000" cy="44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475320" y="6564240"/>
              <a:ext cx="135000" cy="46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0" y="314280"/>
            <a:ext cx="9836280" cy="628560"/>
          </a:xfrm>
          <a:prstGeom prst="rect">
            <a:avLst/>
          </a:prstGeom>
          <a:gradFill rotWithShape="0">
            <a:gsLst>
              <a:gs pos="0">
                <a:srgbClr val="e20024"/>
              </a:gs>
              <a:gs pos="50000">
                <a:srgbClr val="fc0128"/>
              </a:gs>
              <a:gs pos="100000">
                <a:srgbClr val="e20024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485640" y="2700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onten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1217520" y="1284120"/>
            <a:ext cx="770904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TAP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Lines, Addresses,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Basic TAPI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edia Streams o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ulti-application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Develop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 txBox="1"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Function Categorie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066680" y="1849320"/>
            <a:ext cx="7715160" cy="92232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1069920" y="2011320"/>
            <a:ext cx="77090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7fff00"/>
                </a:solidFill>
                <a:latin typeface="Arial"/>
                <a:ea typeface="Arial"/>
              </a:rPr>
              <a:t>Assisted</a:t>
            </a:r>
            <a:r>
              <a:rPr b="1" i="1" lang="en-US" sz="3400" spc="-1" strike="noStrike">
                <a:solidFill>
                  <a:srgbClr val="7fff00"/>
                </a:solidFill>
                <a:latin typeface="Arial"/>
                <a:ea typeface="Arial"/>
              </a:rPr>
              <a:t> Telephon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077840" y="3116160"/>
            <a:ext cx="7693200" cy="2309760"/>
          </a:xfrm>
          <a:prstGeom prst="rect">
            <a:avLst/>
          </a:prstGeom>
          <a:gradFill rotWithShape="0">
            <a:gsLst>
              <a:gs pos="0">
                <a:srgbClr val="600010"/>
              </a:gs>
              <a:gs pos="100000">
                <a:srgbClr val="79001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411360" y="3201840"/>
            <a:ext cx="3419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7fff00"/>
                </a:solidFill>
                <a:latin typeface="Arial"/>
                <a:ea typeface="Arial"/>
              </a:rPr>
              <a:t>Full Teleph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590840" y="4697280"/>
            <a:ext cx="6667560" cy="728640"/>
          </a:xfrm>
          <a:prstGeom prst="rect">
            <a:avLst/>
          </a:prstGeom>
          <a:gradFill rotWithShape="0">
            <a:gsLst>
              <a:gs pos="0">
                <a:srgbClr val="bc3700"/>
              </a:gs>
              <a:gs pos="100000">
                <a:srgbClr val="962c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590840" y="3967200"/>
            <a:ext cx="6667560" cy="730080"/>
          </a:xfrm>
          <a:prstGeom prst="rect">
            <a:avLst/>
          </a:prstGeom>
          <a:gradFill rotWithShape="0">
            <a:gsLst>
              <a:gs pos="0">
                <a:srgbClr val="f76681"/>
              </a:gs>
              <a:gs pos="100000">
                <a:srgbClr val="c5516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590840" y="5425920"/>
            <a:ext cx="6667560" cy="7300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e051a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3510000" y="4035600"/>
            <a:ext cx="324324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Basic Servic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571840" y="4735440"/>
            <a:ext cx="521028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Supplementary Servic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3119400" y="5475240"/>
            <a:ext cx="403380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Extended Servic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 txBox="1"/>
          <p:nvPr/>
        </p:nvSpPr>
        <p:spPr>
          <a:xfrm>
            <a:off x="376200" y="27468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Assisted TAPI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77720" y="1039680"/>
            <a:ext cx="8647200" cy="59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Many apps just want to place a cal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apiRequestMakeCall(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rivial to use, even from a mac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Use to telephony-enable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xisting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apps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Other apps just want to place a call, then process media (voice, fax, data...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apiRequestMediaCall(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Get back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API_REPLY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tatus message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apiRequestDrop(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ote: use of tapiRequestMediaCall() is discouraged as this function will not be supported in future versions of TAP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314280"/>
            <a:ext cx="9836280" cy="628560"/>
          </a:xfrm>
          <a:prstGeom prst="rect">
            <a:avLst/>
          </a:prstGeom>
          <a:gradFill rotWithShape="0">
            <a:gsLst>
              <a:gs pos="0">
                <a:srgbClr val="e20024"/>
              </a:gs>
              <a:gs pos="50000">
                <a:srgbClr val="fc0128"/>
              </a:gs>
              <a:gs pos="100000">
                <a:srgbClr val="e20024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85640" y="2700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onten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217520" y="1284120"/>
            <a:ext cx="770904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Lines, Addresses,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Basic TAPI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edia Streams o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ulti-application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Develop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501480" y="17136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Assisted TAPI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434880" y="1058760"/>
            <a:ext cx="89535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it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all Manager registers with TAPI as “Assisted TAPI Request Recipie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sisted TAPI App passes phone# to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DLL passes request to Call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l Manager uses full TAPI to make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ndles details of call progres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387600" y="6307200"/>
            <a:ext cx="4803840" cy="5936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1909800" y="6062760"/>
            <a:ext cx="1374840" cy="579600"/>
            <a:chOff x="1909800" y="6062760"/>
            <a:chExt cx="1374840" cy="579600"/>
          </a:xfrm>
        </p:grpSpPr>
        <p:sp>
          <p:nvSpPr>
            <p:cNvPr id="837" name=""/>
            <p:cNvSpPr/>
            <p:nvPr/>
          </p:nvSpPr>
          <p:spPr>
            <a:xfrm>
              <a:off x="2882880" y="6316560"/>
              <a:ext cx="401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 txBox="1"/>
            <p:nvPr/>
          </p:nvSpPr>
          <p:spPr>
            <a:xfrm>
              <a:off x="1909800" y="6062760"/>
              <a:ext cx="94284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ffffff"/>
                  </a:solidFill>
                  <a:latin typeface="Arial Narrow"/>
                  <a:ea typeface="Arial Narrow"/>
                </a:rPr>
                <a:t>TAP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2857680" y="4618080"/>
            <a:ext cx="1550880" cy="1346040"/>
            <a:chOff x="2857680" y="4618080"/>
            <a:chExt cx="1550880" cy="1346040"/>
          </a:xfrm>
        </p:grpSpPr>
        <p:pic>
          <p:nvPicPr>
            <p:cNvPr id="840" name="" descr=""/>
            <p:cNvPicPr/>
            <p:nvPr/>
          </p:nvPicPr>
          <p:blipFill>
            <a:blip r:embed="rId1"/>
            <a:stretch/>
          </p:blipFill>
          <p:spPr>
            <a:xfrm>
              <a:off x="2857680" y="4653000"/>
              <a:ext cx="15508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>
              <a:off x="3032280" y="4695840"/>
              <a:ext cx="1181160" cy="67644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 txBox="1"/>
            <p:nvPr/>
          </p:nvSpPr>
          <p:spPr>
            <a:xfrm>
              <a:off x="2916360" y="4618080"/>
              <a:ext cx="14065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Word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ocess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4865760" y="4581360"/>
            <a:ext cx="1525680" cy="1341360"/>
            <a:chOff x="4865760" y="4581360"/>
            <a:chExt cx="1525680" cy="1341360"/>
          </a:xfrm>
        </p:grpSpPr>
        <p:pic>
          <p:nvPicPr>
            <p:cNvPr id="844" name="" descr=""/>
            <p:cNvPicPr/>
            <p:nvPr/>
          </p:nvPicPr>
          <p:blipFill>
            <a:blip r:embed="rId2"/>
            <a:stretch/>
          </p:blipFill>
          <p:spPr>
            <a:xfrm>
              <a:off x="4865760" y="4603680"/>
              <a:ext cx="152568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"/>
            <p:cNvSpPr/>
            <p:nvPr/>
          </p:nvSpPr>
          <p:spPr>
            <a:xfrm>
              <a:off x="5037120" y="4646520"/>
              <a:ext cx="1162080" cy="67932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 txBox="1"/>
            <p:nvPr/>
          </p:nvSpPr>
          <p:spPr>
            <a:xfrm>
              <a:off x="5021280" y="4581360"/>
              <a:ext cx="121140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al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Manag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859200" y="5958000"/>
            <a:ext cx="0" cy="65232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859200" y="6599160"/>
            <a:ext cx="1565280" cy="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5424480" y="5958000"/>
            <a:ext cx="0" cy="61884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962680" y="5958000"/>
            <a:ext cx="0" cy="82368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739800" y="4514760"/>
            <a:ext cx="2041560" cy="1052640"/>
          </a:xfrm>
          <a:prstGeom prst="rect">
            <a:avLst/>
          </a:prstGeom>
          <a:solidFill>
            <a:srgbClr val="fc0128"/>
          </a:solidFill>
          <a:ln w="255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afd00"/>
                </a:solidFill>
                <a:latin typeface="Arial Narrow"/>
                <a:ea typeface="Arial Narrow"/>
              </a:rPr>
              <a:t>Assisted TAPI</a:t>
            </a:r>
            <a:br>
              <a:rPr sz="2400"/>
            </a:br>
            <a:r>
              <a:rPr b="1" i="1" lang="en-US" sz="2400" spc="-1" strike="noStrike">
                <a:solidFill>
                  <a:srgbClr val="fafd00"/>
                </a:solidFill>
                <a:latin typeface="Arial Narrow"/>
                <a:ea typeface="Arial Narrow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6477120" y="4541760"/>
            <a:ext cx="2327400" cy="1052640"/>
          </a:xfrm>
          <a:prstGeom prst="rect">
            <a:avLst/>
          </a:prstGeom>
          <a:solidFill>
            <a:srgbClr val="fc0128"/>
          </a:solidFill>
          <a:ln w="255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afd00"/>
                </a:solidFill>
                <a:latin typeface="Arial Narrow"/>
                <a:ea typeface="Arial Narrow"/>
              </a:rPr>
              <a:t>Assisted TAPI</a:t>
            </a:r>
            <a:br>
              <a:rPr sz="2400"/>
            </a:br>
            <a:r>
              <a:rPr b="1" i="1" lang="en-US" sz="2400" spc="-1" strike="noStrike">
                <a:solidFill>
                  <a:srgbClr val="fafd00"/>
                </a:solidFill>
                <a:latin typeface="Arial Narrow"/>
                <a:ea typeface="Arial Narrow"/>
              </a:rPr>
              <a:t>Request Recip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6124680" y="6367320"/>
            <a:ext cx="1495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TAPI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 txBox="1"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Assisted TAPI Example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511200" y="1247760"/>
            <a:ext cx="904392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ord for Windows ma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ritten in “Visual Basic for Application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be bound to menu, key, but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ce a call to selected phone nu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is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o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acr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203040" y="3946680"/>
            <a:ext cx="9522000" cy="29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are Function tapiRequestMakeCall Lib "TAPI.DLL"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Address$, AppName$, CalledParty$, Comment$) As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b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Result = tapiRequestMakeCall(Selection$(), "", "", "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lResult &lt;&gt; 0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sgBox "Sorry, Call Manager unavailabl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0" y="314280"/>
            <a:ext cx="9836280" cy="628560"/>
          </a:xfrm>
          <a:prstGeom prst="rect">
            <a:avLst/>
          </a:prstGeom>
          <a:gradFill rotWithShape="0">
            <a:gsLst>
              <a:gs pos="0">
                <a:srgbClr val="e20024"/>
              </a:gs>
              <a:gs pos="50000">
                <a:srgbClr val="fc0128"/>
              </a:gs>
              <a:gs pos="100000">
                <a:srgbClr val="e20024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85640" y="2700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onten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1217520" y="1284120"/>
            <a:ext cx="770904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TAP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s, Addresses,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Basic TAPI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edia Streams o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ulti-application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Develop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 txBox="1"/>
          <p:nvPr/>
        </p:nvSpPr>
        <p:spPr>
          <a:xfrm>
            <a:off x="527040" y="33336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Line Device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51000" y="1322280"/>
            <a:ext cx="9202680" cy="56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Physical and logical resources providing connection to telephone network</a:t>
            </a:r>
            <a:br>
              <a:rPr sz="3400"/>
            </a:br>
            <a:r>
              <a:rPr b="1" i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Example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1st-party telephone line (wir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et of channels, e.g., ISDN B-channels can be modeled as single line or multiple l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3rd-party stations in a call center can be modeled as one line per station or single line with multiple addresses or combin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Service Provider decides how to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pps “see” telephony as set of </a:t>
            </a:r>
            <a:r>
              <a:rPr b="1" i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line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 dev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534960" y="27468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Address (Phone Number)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714240" y="1141560"/>
            <a:ext cx="8497800" cy="61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Remote: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 destination phone# of a cal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Local: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 &lt;line, address&gt; pair identifies origination point of a cal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upports 3rd-party call set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use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dwAddressI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nstead of  phone#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ddress assignment to lines can b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riv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bridged-exclus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bridged-ne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ha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moni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488880" y="17928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all (Telephone Call)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336600" y="1427040"/>
            <a:ext cx="9193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rresponds to a telephone call associated with a particular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i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line, addres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&gt; endpoi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mes into existence dynamicall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all Stat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ialtone, Dialing, Proceeding, Busy, Ringback, Connected, OnHold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Bulk of TAPI interface operates on call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ial, Drop, Hold, Transfer, Conference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ll progress reporting, DTMF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 txBox="1"/>
          <p:nvPr/>
        </p:nvSpPr>
        <p:spPr>
          <a:xfrm>
            <a:off x="606600" y="264960"/>
            <a:ext cx="87980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Lines, Addresses, Calls</a:t>
            </a:r>
            <a:br>
              <a:rPr sz="5100"/>
            </a:b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Relationship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946080" y="2624040"/>
            <a:ext cx="8305920" cy="32004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553080" y="2909880"/>
            <a:ext cx="304920" cy="304920"/>
          </a:xfrm>
          <a:prstGeom prst="rect">
            <a:avLst/>
          </a:prstGeom>
          <a:solidFill>
            <a:srgbClr val="dbffb8"/>
          </a:solidFill>
          <a:ln w="76320">
            <a:solidFill>
              <a:srgbClr val="a3f25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324480" y="5043600"/>
            <a:ext cx="304920" cy="304920"/>
          </a:xfrm>
          <a:prstGeom prst="rect">
            <a:avLst/>
          </a:prstGeom>
          <a:solidFill>
            <a:srgbClr val="dbffb8"/>
          </a:solidFill>
          <a:ln w="76320">
            <a:solidFill>
              <a:srgbClr val="a3f25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5043600"/>
            <a:ext cx="304920" cy="304920"/>
          </a:xfrm>
          <a:prstGeom prst="rect">
            <a:avLst/>
          </a:prstGeom>
          <a:solidFill>
            <a:srgbClr val="dbffb8"/>
          </a:solidFill>
          <a:ln w="76320">
            <a:solidFill>
              <a:srgbClr val="a3f25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3976560"/>
            <a:ext cx="304920" cy="304920"/>
          </a:xfrm>
          <a:prstGeom prst="rect">
            <a:avLst/>
          </a:prstGeom>
          <a:solidFill>
            <a:srgbClr val="dbffb8"/>
          </a:solidFill>
          <a:ln w="76320">
            <a:solidFill>
              <a:srgbClr val="a3f25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05720" y="3214800"/>
            <a:ext cx="0" cy="761760"/>
          </a:xfrm>
          <a:prstGeom prst="line">
            <a:avLst/>
          </a:prstGeom>
          <a:ln w="76320">
            <a:solidFill>
              <a:srgbClr val="a3f2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6477120" y="4281480"/>
            <a:ext cx="152280" cy="762120"/>
          </a:xfrm>
          <a:prstGeom prst="line">
            <a:avLst/>
          </a:prstGeom>
          <a:ln w="76320">
            <a:solidFill>
              <a:srgbClr val="a3f2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81680" y="4281480"/>
            <a:ext cx="152640" cy="762120"/>
          </a:xfrm>
          <a:prstGeom prst="line">
            <a:avLst/>
          </a:prstGeom>
          <a:ln w="76320">
            <a:solidFill>
              <a:srgbClr val="a3f2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8077320" y="2909880"/>
            <a:ext cx="304920" cy="304920"/>
          </a:xfrm>
          <a:prstGeom prst="rect">
            <a:avLst/>
          </a:prstGeom>
          <a:solidFill>
            <a:srgbClr val="f39fd1"/>
          </a:solidFill>
          <a:ln w="76320">
            <a:solidFill>
              <a:srgbClr val="f95ab7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848720" y="3976560"/>
            <a:ext cx="304920" cy="304920"/>
          </a:xfrm>
          <a:prstGeom prst="rect">
            <a:avLst/>
          </a:prstGeom>
          <a:solidFill>
            <a:srgbClr val="f39fd1"/>
          </a:solidFill>
          <a:ln w="76320">
            <a:solidFill>
              <a:srgbClr val="f95ab7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8305920" y="3976560"/>
            <a:ext cx="304920" cy="304920"/>
          </a:xfrm>
          <a:prstGeom prst="rect">
            <a:avLst/>
          </a:prstGeom>
          <a:solidFill>
            <a:srgbClr val="f39fd1"/>
          </a:solidFill>
          <a:ln w="76320">
            <a:solidFill>
              <a:srgbClr val="f95ab7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848720" y="5043600"/>
            <a:ext cx="304920" cy="304920"/>
          </a:xfrm>
          <a:prstGeom prst="rect">
            <a:avLst/>
          </a:prstGeom>
          <a:solidFill>
            <a:srgbClr val="f39fd1"/>
          </a:solidFill>
          <a:ln w="76320">
            <a:solidFill>
              <a:srgbClr val="f95ab7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305920" y="5043600"/>
            <a:ext cx="304920" cy="304920"/>
          </a:xfrm>
          <a:prstGeom prst="rect">
            <a:avLst/>
          </a:prstGeom>
          <a:solidFill>
            <a:srgbClr val="f39fd1"/>
          </a:solidFill>
          <a:ln w="76320">
            <a:solidFill>
              <a:srgbClr val="f95ab7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305920" y="3214800"/>
            <a:ext cx="152280" cy="761760"/>
          </a:xfrm>
          <a:prstGeom prst="line">
            <a:avLst/>
          </a:prstGeom>
          <a:ln w="76320">
            <a:solidFill>
              <a:srgbClr val="f95a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8001000" y="3214800"/>
            <a:ext cx="152280" cy="761760"/>
          </a:xfrm>
          <a:prstGeom prst="line">
            <a:avLst/>
          </a:prstGeom>
          <a:ln w="76320">
            <a:solidFill>
              <a:srgbClr val="f95a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8001000" y="4281480"/>
            <a:ext cx="0" cy="762120"/>
          </a:xfrm>
          <a:prstGeom prst="line">
            <a:avLst/>
          </a:prstGeom>
          <a:ln w="76320">
            <a:solidFill>
              <a:srgbClr val="f95a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8458200" y="4281480"/>
            <a:ext cx="0" cy="762120"/>
          </a:xfrm>
          <a:prstGeom prst="line">
            <a:avLst/>
          </a:prstGeom>
          <a:ln w="76320">
            <a:solidFill>
              <a:srgbClr val="f95a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257800" y="2909880"/>
            <a:ext cx="304920" cy="304920"/>
          </a:xfrm>
          <a:prstGeom prst="rect">
            <a:avLst/>
          </a:prstGeom>
          <a:solidFill>
            <a:srgbClr val="f76681"/>
          </a:solidFill>
          <a:ln w="76320">
            <a:solidFill>
              <a:srgbClr val="bc37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257800" y="3976560"/>
            <a:ext cx="304920" cy="304920"/>
          </a:xfrm>
          <a:prstGeom prst="rect">
            <a:avLst/>
          </a:prstGeom>
          <a:solidFill>
            <a:srgbClr val="f76681"/>
          </a:solidFill>
          <a:ln w="76320">
            <a:solidFill>
              <a:srgbClr val="bc37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257800" y="5043600"/>
            <a:ext cx="304920" cy="304920"/>
          </a:xfrm>
          <a:prstGeom prst="rect">
            <a:avLst/>
          </a:prstGeom>
          <a:solidFill>
            <a:srgbClr val="f76681"/>
          </a:solidFill>
          <a:ln w="76320">
            <a:solidFill>
              <a:srgbClr val="bc37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410080" y="3214800"/>
            <a:ext cx="0" cy="761760"/>
          </a:xfrm>
          <a:prstGeom prst="line">
            <a:avLst/>
          </a:prstGeom>
          <a:ln w="76320">
            <a:solidFill>
              <a:srgbClr val="bc37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410080" y="4281480"/>
            <a:ext cx="0" cy="762120"/>
          </a:xfrm>
          <a:prstGeom prst="line">
            <a:avLst/>
          </a:prstGeom>
          <a:ln w="76320">
            <a:solidFill>
              <a:srgbClr val="bc37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505320" y="2909880"/>
            <a:ext cx="304920" cy="304920"/>
          </a:xfrm>
          <a:prstGeom prst="rect">
            <a:avLst/>
          </a:prstGeom>
          <a:solidFill>
            <a:srgbClr val="3365fb"/>
          </a:solidFill>
          <a:ln w="76320">
            <a:solidFill>
              <a:srgbClr val="063de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895480" y="3976560"/>
            <a:ext cx="304920" cy="304920"/>
          </a:xfrm>
          <a:prstGeom prst="rect">
            <a:avLst/>
          </a:prstGeom>
          <a:solidFill>
            <a:srgbClr val="3365fb"/>
          </a:solidFill>
          <a:ln w="76320">
            <a:solidFill>
              <a:srgbClr val="063de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611280" y="2787480"/>
            <a:ext cx="2189160" cy="2664000"/>
            <a:chOff x="611280" y="2787480"/>
            <a:chExt cx="2189160" cy="2664000"/>
          </a:xfrm>
        </p:grpSpPr>
        <p:sp>
          <p:nvSpPr>
            <p:cNvPr id="892" name=""/>
            <p:cNvSpPr txBox="1"/>
            <p:nvPr/>
          </p:nvSpPr>
          <p:spPr>
            <a:xfrm>
              <a:off x="611280" y="2787480"/>
              <a:ext cx="1108080" cy="53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i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ne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 txBox="1"/>
            <p:nvPr/>
          </p:nvSpPr>
          <p:spPr>
            <a:xfrm>
              <a:off x="611280" y="3854520"/>
              <a:ext cx="2189160" cy="53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i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resse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611280" y="4921200"/>
              <a:ext cx="1085760" cy="53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i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ll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2341440" y="5043600"/>
            <a:ext cx="304920" cy="304920"/>
          </a:xfrm>
          <a:prstGeom prst="rect">
            <a:avLst/>
          </a:prstGeom>
          <a:solidFill>
            <a:srgbClr val="3365fb"/>
          </a:solidFill>
          <a:ln w="76320">
            <a:solidFill>
              <a:srgbClr val="063de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895480" y="5043600"/>
            <a:ext cx="304920" cy="304920"/>
          </a:xfrm>
          <a:prstGeom prst="rect">
            <a:avLst/>
          </a:prstGeom>
          <a:solidFill>
            <a:srgbClr val="3365fb"/>
          </a:solidFill>
          <a:ln w="76320">
            <a:solidFill>
              <a:srgbClr val="063de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429000" y="5043600"/>
            <a:ext cx="304920" cy="304920"/>
          </a:xfrm>
          <a:prstGeom prst="rect">
            <a:avLst/>
          </a:prstGeom>
          <a:solidFill>
            <a:srgbClr val="3365fb"/>
          </a:solidFill>
          <a:ln w="76320">
            <a:solidFill>
              <a:srgbClr val="063de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419720" y="5043600"/>
            <a:ext cx="304920" cy="304920"/>
          </a:xfrm>
          <a:prstGeom prst="rect">
            <a:avLst/>
          </a:prstGeom>
          <a:solidFill>
            <a:srgbClr val="3365fb"/>
          </a:solidFill>
          <a:ln w="76320">
            <a:solidFill>
              <a:srgbClr val="063de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114800" y="3976560"/>
            <a:ext cx="304920" cy="304920"/>
          </a:xfrm>
          <a:prstGeom prst="rect">
            <a:avLst/>
          </a:prstGeom>
          <a:solidFill>
            <a:srgbClr val="3365fb"/>
          </a:solidFill>
          <a:ln w="76320">
            <a:solidFill>
              <a:srgbClr val="063de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124080" y="3214800"/>
            <a:ext cx="457200" cy="761760"/>
          </a:xfrm>
          <a:prstGeom prst="line">
            <a:avLst/>
          </a:prstGeom>
          <a:ln w="7632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733920" y="3214800"/>
            <a:ext cx="457200" cy="761760"/>
          </a:xfrm>
          <a:prstGeom prst="line">
            <a:avLst/>
          </a:prstGeom>
          <a:ln w="7632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2590920" y="4281480"/>
            <a:ext cx="380880" cy="762120"/>
          </a:xfrm>
          <a:prstGeom prst="line">
            <a:avLst/>
          </a:prstGeom>
          <a:ln w="7632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048120" y="4281480"/>
            <a:ext cx="0" cy="762120"/>
          </a:xfrm>
          <a:prstGeom prst="line">
            <a:avLst/>
          </a:prstGeom>
          <a:ln w="7632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4281480"/>
            <a:ext cx="457200" cy="762120"/>
          </a:xfrm>
          <a:prstGeom prst="line">
            <a:avLst/>
          </a:prstGeom>
          <a:ln w="7632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343400" y="4281480"/>
            <a:ext cx="228600" cy="762120"/>
          </a:xfrm>
          <a:prstGeom prst="line">
            <a:avLst/>
          </a:prstGeom>
          <a:ln w="7632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886200" y="5043600"/>
            <a:ext cx="304920" cy="304920"/>
          </a:xfrm>
          <a:prstGeom prst="rect">
            <a:avLst/>
          </a:prstGeom>
          <a:solidFill>
            <a:srgbClr val="3365fb"/>
          </a:solidFill>
          <a:ln w="76320">
            <a:solidFill>
              <a:srgbClr val="063de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4038480" y="4281480"/>
            <a:ext cx="152640" cy="762120"/>
          </a:xfrm>
          <a:prstGeom prst="line">
            <a:avLst/>
          </a:prstGeom>
          <a:ln w="7632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070080" y="5432400"/>
            <a:ext cx="14526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923000" y="5479920"/>
            <a:ext cx="1154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6278400" y="5442120"/>
            <a:ext cx="141300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7800840" y="5489640"/>
            <a:ext cx="1415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BX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66600" y="128520"/>
            <a:ext cx="97045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Lines, Address, Calls:</a:t>
            </a:r>
            <a:br>
              <a:rPr sz="5100"/>
            </a:b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Object Handle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262080" y="5110200"/>
            <a:ext cx="1390680" cy="579600"/>
            <a:chOff x="262080" y="5110200"/>
            <a:chExt cx="1390680" cy="579600"/>
          </a:xfrm>
        </p:grpSpPr>
        <p:sp>
          <p:nvSpPr>
            <p:cNvPr id="914" name=""/>
            <p:cNvSpPr/>
            <p:nvPr/>
          </p:nvSpPr>
          <p:spPr>
            <a:xfrm>
              <a:off x="1231920" y="5410080"/>
              <a:ext cx="420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 txBox="1"/>
            <p:nvPr/>
          </p:nvSpPr>
          <p:spPr>
            <a:xfrm>
              <a:off x="262080" y="5110200"/>
              <a:ext cx="9255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ffffff"/>
                  </a:solidFill>
                  <a:latin typeface="Arial Narrow"/>
                  <a:ea typeface="Arial Narrow"/>
                </a:rPr>
                <a:t>TSP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1917720" y="3498840"/>
            <a:ext cx="6264360" cy="17733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95120" y="3178080"/>
            <a:ext cx="1374840" cy="579600"/>
            <a:chOff x="195120" y="3178080"/>
            <a:chExt cx="1374840" cy="579600"/>
          </a:xfrm>
        </p:grpSpPr>
        <p:sp>
          <p:nvSpPr>
            <p:cNvPr id="918" name=""/>
            <p:cNvSpPr/>
            <p:nvPr/>
          </p:nvSpPr>
          <p:spPr>
            <a:xfrm>
              <a:off x="1168560" y="3432240"/>
              <a:ext cx="4014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 txBox="1"/>
            <p:nvPr/>
          </p:nvSpPr>
          <p:spPr>
            <a:xfrm>
              <a:off x="195120" y="3178080"/>
              <a:ext cx="94284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ffffff"/>
                  </a:solidFill>
                  <a:latin typeface="Arial Narrow"/>
                  <a:ea typeface="Arial Narrow"/>
                </a:rPr>
                <a:t>TAP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1917720" y="3360600"/>
            <a:ext cx="62881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922400" y="5433840"/>
            <a:ext cx="62881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860480" y="1841400"/>
            <a:ext cx="2685960" cy="1268280"/>
          </a:xfrm>
          <a:prstGeom prst="rect">
            <a:avLst/>
          </a:prstGeom>
          <a:solidFill>
            <a:srgbClr val="f7668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210280" y="1868400"/>
            <a:ext cx="2963880" cy="1268280"/>
          </a:xfrm>
          <a:prstGeom prst="rect">
            <a:avLst/>
          </a:prstGeom>
          <a:solidFill>
            <a:srgbClr val="f7668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214720" y="5867280"/>
            <a:ext cx="5499000" cy="126828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711600" y="3786120"/>
            <a:ext cx="949320" cy="35388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809960" y="3787920"/>
            <a:ext cx="919080" cy="35388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089240" y="4344840"/>
            <a:ext cx="2470320" cy="709560"/>
          </a:xfrm>
          <a:prstGeom prst="rect">
            <a:avLst/>
          </a:prstGeom>
          <a:solidFill>
            <a:srgbClr val="f57b4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386240" y="6316560"/>
            <a:ext cx="1909800" cy="681120"/>
          </a:xfrm>
          <a:prstGeom prst="rect">
            <a:avLst/>
          </a:prstGeom>
          <a:solidFill>
            <a:srgbClr val="28004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792760" y="4826160"/>
            <a:ext cx="0" cy="145080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5286240" y="4446720"/>
            <a:ext cx="111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d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1916280" y="1922400"/>
            <a:ext cx="94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5235480" y="1890720"/>
            <a:ext cx="94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974960" y="3741840"/>
            <a:ext cx="130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437000" y="647712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t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4809960" y="5087880"/>
            <a:ext cx="0" cy="142884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203720" y="3967200"/>
            <a:ext cx="309600" cy="38880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H="1" flipV="1">
            <a:off x="4079880" y="4118040"/>
            <a:ext cx="353880" cy="37764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5214960" y="4035600"/>
            <a:ext cx="65160" cy="36828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971960" y="4083120"/>
            <a:ext cx="79560" cy="41112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535120" y="2367000"/>
            <a:ext cx="1886040" cy="584280"/>
          </a:xfrm>
          <a:prstGeom prst="rect">
            <a:avLst/>
          </a:prstGeom>
          <a:solidFill>
            <a:srgbClr val="e5405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2546280" y="2378160"/>
            <a:ext cx="10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Call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174840" y="2790720"/>
            <a:ext cx="811440" cy="94932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580000" y="2438280"/>
            <a:ext cx="1886040" cy="584280"/>
          </a:xfrm>
          <a:prstGeom prst="rect">
            <a:avLst/>
          </a:prstGeom>
          <a:solidFill>
            <a:srgbClr val="e5405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6437160" y="2471760"/>
            <a:ext cx="10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Call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5370480" y="2881440"/>
            <a:ext cx="1336680" cy="88092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2273400" y="5927760"/>
            <a:ext cx="14209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1989000" y="4202280"/>
            <a:ext cx="155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PI D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0" y="314280"/>
            <a:ext cx="9836280" cy="628560"/>
          </a:xfrm>
          <a:prstGeom prst="rect">
            <a:avLst/>
          </a:prstGeom>
          <a:gradFill rotWithShape="0">
            <a:gsLst>
              <a:gs pos="0">
                <a:srgbClr val="e20024"/>
              </a:gs>
              <a:gs pos="50000">
                <a:srgbClr val="fc0128"/>
              </a:gs>
              <a:gs pos="100000">
                <a:srgbClr val="e20024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485640" y="2700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onten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1217520" y="1284120"/>
            <a:ext cx="770904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TAP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Lines, Addresses,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ic TAPI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edia Streams o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ulti-application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Develop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 txBox="1"/>
          <p:nvPr/>
        </p:nvSpPr>
        <p:spPr>
          <a:xfrm>
            <a:off x="534960" y="41112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Basic Service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828720" y="1982880"/>
            <a:ext cx="7709040" cy="28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Making and answering call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Dropping call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Status query (line, address, calls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all sharing across apps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(discussed later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189000"/>
            <a:ext cx="87980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API: “Front-end” Interface for Applications 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41560" y="3870360"/>
            <a:ext cx="3557520" cy="571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82920" y="3879720"/>
            <a:ext cx="4014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09840" y="3625920"/>
            <a:ext cx="9428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ffffff"/>
                </a:solidFill>
                <a:latin typeface="Arial Narrow"/>
                <a:ea typeface="Arial Narrow"/>
              </a:rPr>
              <a:t>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53880" y="2101680"/>
            <a:ext cx="1550880" cy="1311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28480" y="2144880"/>
            <a:ext cx="1181160" cy="67644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44400" y="2125800"/>
            <a:ext cx="1006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PI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Rolod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201760" y="2101680"/>
            <a:ext cx="1525680" cy="1319040"/>
            <a:chOff x="2201760" y="2101680"/>
            <a:chExt cx="1525680" cy="1319040"/>
          </a:xfrm>
        </p:grpSpPr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2201760" y="2101680"/>
              <a:ext cx="152568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373480" y="2144880"/>
              <a:ext cx="1162080" cy="67932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2292480" y="2319480"/>
              <a:ext cx="13636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all Contro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021200" y="2087640"/>
            <a:ext cx="1542960" cy="1336680"/>
            <a:chOff x="4021200" y="2087640"/>
            <a:chExt cx="1542960" cy="1336680"/>
          </a:xfrm>
        </p:grpSpPr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4021200" y="2087640"/>
              <a:ext cx="1542960" cy="13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4206960" y="2131920"/>
              <a:ext cx="1182600" cy="68580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4173480" y="2127240"/>
              <a:ext cx="126036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ntegrate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Messag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834160" y="2085840"/>
            <a:ext cx="1550880" cy="1311120"/>
            <a:chOff x="5834160" y="2085840"/>
            <a:chExt cx="1550880" cy="1311120"/>
          </a:xfrm>
        </p:grpSpPr>
        <p:pic>
          <p:nvPicPr>
            <p:cNvPr id="257" name="" descr=""/>
            <p:cNvPicPr/>
            <p:nvPr/>
          </p:nvPicPr>
          <p:blipFill>
            <a:blip r:embed="rId4"/>
            <a:stretch/>
          </p:blipFill>
          <p:spPr>
            <a:xfrm>
              <a:off x="5834160" y="2085840"/>
              <a:ext cx="15508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6008760" y="2128680"/>
              <a:ext cx="1181160" cy="67644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5910120" y="2106720"/>
              <a:ext cx="13302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sktop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nfere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7682040" y="2085840"/>
            <a:ext cx="1525680" cy="13190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853400" y="2128680"/>
            <a:ext cx="1162080" cy="679320"/>
          </a:xfrm>
          <a:prstGeom prst="rect">
            <a:avLst/>
          </a:prstGeom>
          <a:solidFill>
            <a:srgbClr val="ffc5c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829640" y="2303640"/>
            <a:ext cx="1317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95440" y="4502160"/>
            <a:ext cx="8605800" cy="26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lication developers need only know about TAPI’s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 hides specifics of telephone network and connection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query TAPI to determine the capabilities that are actually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 txBox="1"/>
          <p:nvPr/>
        </p:nvSpPr>
        <p:spPr>
          <a:xfrm>
            <a:off x="582480" y="12708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Basic Services: Function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873000" y="944640"/>
            <a:ext cx="3378240" cy="63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ConfigDia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Deallocate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Di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AddressC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Addre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Address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CallInf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Call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DevC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DevConf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Ic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LineDev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New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4878360" y="944640"/>
            <a:ext cx="4073400" cy="63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NumR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Status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TranslateC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Hando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Initial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Make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NegotiateAPI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AppSpec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CallPrivile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Current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DevConf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NumR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Status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Toll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hut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TranslateAddres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Basic Services: Message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1479600" y="1265400"/>
            <a:ext cx="3546360" cy="22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ADDRESS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CALL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CALL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LINEDEV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RE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 txBox="1"/>
          <p:nvPr/>
        </p:nvSpPr>
        <p:spPr>
          <a:xfrm>
            <a:off x="79200" y="262080"/>
            <a:ext cx="96105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Dealing with Differing Network/Device Capabilities 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28680" y="2038320"/>
            <a:ext cx="935676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apabilities of network, HW, SPs can differ widely (e.g., POTS .. PBX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pp cannot blindly assume that certain functions are availab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pp must query capabilit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GetDevCaps() lineGetAddressCaps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assed on to SP, who returns inf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pp can adapt its GUI and behav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355680" y="41400"/>
            <a:ext cx="918828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Place Outbound Call</a:t>
            </a:r>
            <a:br>
              <a:rPr sz="5100"/>
            </a:b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Address Translation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338040" y="1538280"/>
            <a:ext cx="933120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anonical Address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s “portable” format -- store in address book and never changes: 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+1 (206) 882-80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Dialable Address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s number actually dialed for current localtion and telephone setup: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9,882-80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ncept of “User Location” and Transl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elect/configure via Control Pan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ffects translation using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TranslateAddress(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447840" y="31896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Place an Outbound Call 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372960" y="1184400"/>
            <a:ext cx="945828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On an open line -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Open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MakeCall(), lineDial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Optionally include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riginating address</a:t>
            </a:r>
            <a:br>
              <a:rPr sz="18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(3rd party call contro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stination address now or in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Dial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synchronous operation - remaining parts of the activity will be event-driv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On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_REPLY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, sync part is “done”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_CALLSTATE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  to track call progr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When “connected”, information can flow over the cal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136440" y="109440"/>
            <a:ext cx="961056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Asynchronous Events 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431640" y="1089000"/>
            <a:ext cx="8840880" cy="57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Most TAPI functions are asynchronou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witch-related functions return quickly, proceed in backgrou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n take seconds to complete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ASYNC_COMPLETION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(SPI) and  </a:t>
            </a:r>
            <a:br>
              <a:rPr sz="30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_REPLY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(API) message on comple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questID  ties reply to original requ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Spontaneous, unsolicited even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or call progress, inbound calls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_ </a:t>
            </a: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xxx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messages sent to callback procedure; parameters provide specif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538200" y="3078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Hang up a Call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466560" y="1469880"/>
            <a:ext cx="917568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f app disconnects fir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Drop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f remote end disconnects fir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_CALLSTATE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“disconnected” messa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Drop()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to disconnect locall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On 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_RE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ll typically transitions to “idle” st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ll handle still exists, for status que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lean up via: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DeallocateCall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 txBox="1"/>
          <p:nvPr/>
        </p:nvSpPr>
        <p:spPr>
          <a:xfrm>
            <a:off x="168120" y="306360"/>
            <a:ext cx="950436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Inbound Call Handling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415800" y="1860480"/>
            <a:ext cx="91504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Select line device(s) on which to receive calls via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Open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Register interest in notification for inbound  call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rivilege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ne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: just make outbound ca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rivilege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onitor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: monitor (log) all ca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rivilege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wner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: make outbound calls and be notified of inbound calls of given med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 txBox="1"/>
          <p:nvPr/>
        </p:nvSpPr>
        <p:spPr>
          <a:xfrm>
            <a:off x="549360" y="2192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Answer a Call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625320" y="1157400"/>
            <a:ext cx="8771040" cy="61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_CALLSTATE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 signals new call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rovides call hand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GetCallInfo(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o get at caller-ID, called-ID, UUI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Answer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Track status via 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_CALL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hen “connected”, information can flow over the c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heck media mode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_MEDIA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andoff if it is not the desired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More on this la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0" y="314280"/>
            <a:ext cx="9836280" cy="628560"/>
          </a:xfrm>
          <a:prstGeom prst="rect">
            <a:avLst/>
          </a:prstGeom>
          <a:gradFill rotWithShape="0">
            <a:gsLst>
              <a:gs pos="0">
                <a:srgbClr val="e20024"/>
              </a:gs>
              <a:gs pos="50000">
                <a:srgbClr val="fc0128"/>
              </a:gs>
              <a:gs pos="100000">
                <a:srgbClr val="e20024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485640" y="2700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onten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1217520" y="1284120"/>
            <a:ext cx="770904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TAP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Lines, Addresses,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Basic TAPI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dia Streams o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ulti-application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Develop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3280" y="108000"/>
            <a:ext cx="87980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SPI: “Back-end” Interface for Service Providers 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67080" y="4416480"/>
            <a:ext cx="4204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496880" y="4116240"/>
            <a:ext cx="925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ffffff"/>
                </a:solidFill>
                <a:latin typeface="Arial Narrow"/>
                <a:ea typeface="Arial Narrow"/>
              </a:rPr>
              <a:t>TS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41560" y="3870360"/>
            <a:ext cx="3557520" cy="571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79360" y="4846680"/>
            <a:ext cx="9283680" cy="1955880"/>
            <a:chOff x="279360" y="4846680"/>
            <a:chExt cx="9283680" cy="1955880"/>
          </a:xfrm>
        </p:grpSpPr>
        <p:sp>
          <p:nvSpPr>
            <p:cNvPr id="270" name=""/>
            <p:cNvSpPr/>
            <p:nvPr/>
          </p:nvSpPr>
          <p:spPr>
            <a:xfrm>
              <a:off x="8674200" y="5557680"/>
              <a:ext cx="0" cy="800280"/>
            </a:xfrm>
            <a:prstGeom prst="line">
              <a:avLst/>
            </a:prstGeom>
            <a:ln w="152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9360" y="4886280"/>
              <a:ext cx="1606680" cy="11793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357120" y="4951440"/>
              <a:ext cx="73512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46040" y="4987800"/>
              <a:ext cx="544680" cy="3063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500040" y="5003640"/>
              <a:ext cx="784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1003320" y="5653080"/>
              <a:ext cx="8618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ST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39840" y="4873680"/>
              <a:ext cx="1763640" cy="1189080"/>
            </a:xfrm>
            <a:prstGeom prst="rect">
              <a:avLst/>
            </a:pr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2247840" y="4903920"/>
              <a:ext cx="72720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341440" y="4941720"/>
              <a:ext cx="563400" cy="309600"/>
            </a:xfrm>
            <a:prstGeom prst="rect">
              <a:avLst/>
            </a:pr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2400480" y="4959360"/>
              <a:ext cx="784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3022560" y="5675400"/>
              <a:ext cx="8618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BX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92480" y="4873680"/>
              <a:ext cx="1693800" cy="1174680"/>
            </a:xfrm>
            <a:prstGeom prst="rect">
              <a:avLst/>
            </a:prstGeom>
            <a:solidFill>
              <a:srgbClr val="f57b4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2" name="" descr=""/>
            <p:cNvPicPr/>
            <p:nvPr/>
          </p:nvPicPr>
          <p:blipFill>
            <a:blip r:embed="rId3"/>
            <a:stretch/>
          </p:blipFill>
          <p:spPr>
            <a:xfrm>
              <a:off x="4202280" y="4905360"/>
              <a:ext cx="72720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4294080" y="4941720"/>
              <a:ext cx="563400" cy="309600"/>
            </a:xfrm>
            <a:prstGeom prst="rect">
              <a:avLst/>
            </a:prstGeom>
            <a:solidFill>
              <a:srgbClr val="f35b1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4354560" y="4959360"/>
              <a:ext cx="784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4976640" y="564192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D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70600" y="4857840"/>
              <a:ext cx="1606680" cy="11793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4"/>
            <a:stretch/>
          </p:blipFill>
          <p:spPr>
            <a:xfrm>
              <a:off x="6048360" y="4923000"/>
              <a:ext cx="73512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137280" y="4959360"/>
              <a:ext cx="544680" cy="3063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6191280" y="4975200"/>
              <a:ext cx="784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6453360" y="5614920"/>
              <a:ext cx="1116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llul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38920" y="4846680"/>
              <a:ext cx="1763640" cy="801720"/>
            </a:xfrm>
            <a:prstGeom prst="rect">
              <a:avLst/>
            </a:pr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2" name="" descr=""/>
            <p:cNvPicPr/>
            <p:nvPr/>
          </p:nvPicPr>
          <p:blipFill>
            <a:blip r:embed="rId5"/>
            <a:stretch/>
          </p:blipFill>
          <p:spPr>
            <a:xfrm>
              <a:off x="7846920" y="4876920"/>
              <a:ext cx="72720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7940520" y="4915080"/>
              <a:ext cx="563400" cy="309600"/>
            </a:xfrm>
            <a:prstGeom prst="rect">
              <a:avLst/>
            </a:pr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7999560" y="4932360"/>
              <a:ext cx="784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8577360" y="5100480"/>
              <a:ext cx="8888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7772400" y="6116760"/>
              <a:ext cx="1758960" cy="685800"/>
            </a:xfrm>
            <a:prstGeom prst="rect">
              <a:avLst/>
            </a:prstGeom>
            <a:solidFill>
              <a:srgbClr val="00968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8856720" y="5705640"/>
              <a:ext cx="7063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210960" y="1569960"/>
            <a:ext cx="921852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ependent telephony/hardware vendors only care about TAPI’s SPI (TSP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 eliminates multi-app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ponsible for modeling its telephone hardware as TAPI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 txBox="1"/>
          <p:nvPr/>
        </p:nvSpPr>
        <p:spPr>
          <a:xfrm>
            <a:off x="433440" y="130320"/>
            <a:ext cx="87980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PC-Telephony Integration:</a:t>
            </a:r>
            <a:br>
              <a:rPr sz="5100"/>
            </a:b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wo “Processings”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281160" y="1763640"/>
            <a:ext cx="92059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all Process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ll setup and teardow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old, Transfer, Conference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TMF, Tones, Monitoring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Media Process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ccess to a call’s content (e.g., voice pa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cord / playback sound over a c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end / Receive all kinds of media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1335240" y="6391440"/>
            <a:ext cx="714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asis for Multimedia Integ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615960" y="26208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Media Streams on Call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592200" y="1376280"/>
            <a:ext cx="900108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Use the right API for the job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Use TAPI to manage the conn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Use media stream-specific Windows API to manage information stream on ca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indows Wave API to access voice on calls and ph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Other media-specific APIs to access their media strea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One media type, one API”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No need for TAPI to reinvent these AP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 txBox="1"/>
          <p:nvPr/>
        </p:nvSpPr>
        <p:spPr>
          <a:xfrm>
            <a:off x="536400" y="19512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Media Streams on Call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554040" y="1246320"/>
            <a:ext cx="8840880" cy="57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TAPI provides call/media device ma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llows app to view the “call” device as a “media” dev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GetID(hCall, "wave/out"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pecifies the call and media device cla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turns the “wave” device ID corresponding to that c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P maintains this correspond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Use retrieved ID to open that specific device by ID using wave AP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waveOutOpen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 txBox="1"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Media Streams on Call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744480" y="1100160"/>
            <a:ext cx="861228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API to find the correct medi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n open the device through the media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743040" y="1047600"/>
            <a:ext cx="492120" cy="48744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500" spc="-1" strike="noStrike">
                <a:solidFill>
                  <a:srgbClr val="fafd00"/>
                </a:solidFill>
                <a:latin typeface="Arial Narrow"/>
                <a:ea typeface="Arial Narrow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744480" y="1685880"/>
            <a:ext cx="493560" cy="48564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500" spc="-1" strike="noStrike">
                <a:solidFill>
                  <a:srgbClr val="fafd00"/>
                </a:solidFill>
                <a:latin typeface="Arial Narrow"/>
                <a:ea typeface="Arial Narrow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5330880" y="4307040"/>
            <a:ext cx="2638440" cy="68580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MMSYSTEM.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147680" y="4983120"/>
            <a:ext cx="3286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379440" y="4768920"/>
            <a:ext cx="7588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S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1512720" y="4272120"/>
            <a:ext cx="3025800" cy="70632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TAPI.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133640" y="4238640"/>
            <a:ext cx="3142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38040" y="4037040"/>
            <a:ext cx="771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A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538280" y="5430960"/>
            <a:ext cx="6894720" cy="1379880"/>
          </a:xfrm>
          <a:custGeom>
            <a:avLst/>
            <a:gdLst/>
            <a:ahLst/>
            <a:rect l="0" t="0" r="r" b="b"/>
            <a:pathLst>
              <a:path w="19152" h="3833">
                <a:moveTo>
                  <a:pt x="0" y="0"/>
                </a:moveTo>
                <a:lnTo>
                  <a:pt x="0" y="3833"/>
                </a:lnTo>
                <a:lnTo>
                  <a:pt x="19152" y="3833"/>
                </a:lnTo>
                <a:lnTo>
                  <a:pt x="19152" y="0"/>
                </a:lnTo>
                <a:lnTo>
                  <a:pt x="10488" y="0"/>
                </a:lnTo>
                <a:lnTo>
                  <a:pt x="10488" y="718"/>
                </a:lnTo>
                <a:lnTo>
                  <a:pt x="8435" y="718"/>
                </a:lnTo>
                <a:lnTo>
                  <a:pt x="8435" y="0"/>
                </a:lnTo>
                <a:lnTo>
                  <a:pt x="0" y="0"/>
                </a:lnTo>
                <a:close/>
              </a:path>
            </a:pathLst>
          </a:cu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1490760" y="5803920"/>
            <a:ext cx="219852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rvice Provi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p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API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5850000" y="6404040"/>
            <a:ext cx="20988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.. and mciW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098880" y="3728880"/>
            <a:ext cx="655920" cy="2675160"/>
          </a:xfrm>
          <a:custGeom>
            <a:avLst/>
            <a:gdLst/>
            <a:ahLst/>
            <a:rect l="0" t="0" r="r" b="b"/>
            <a:pathLst>
              <a:path fill="none" w="1822" h="7431">
                <a:moveTo>
                  <a:pt x="0" y="0"/>
                </a:moveTo>
                <a:lnTo>
                  <a:pt x="0" y="5630"/>
                </a:lnTo>
                <a:lnTo>
                  <a:pt x="1822" y="7431"/>
                </a:lnTo>
              </a:path>
            </a:pathLst>
          </a:custGeom>
          <a:ln w="76320">
            <a:solidFill>
              <a:srgbClr val="fc0128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422520" y="6323040"/>
            <a:ext cx="2050920" cy="811080"/>
          </a:xfrm>
          <a:prstGeom prst="rect">
            <a:avLst/>
          </a:prstGeom>
          <a:solidFill>
            <a:srgbClr val="081d58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Arial Narrow"/>
              </a:rPr>
              <a:t>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998960" y="3672000"/>
            <a:ext cx="655920" cy="2675160"/>
          </a:xfrm>
          <a:custGeom>
            <a:avLst/>
            <a:gdLst/>
            <a:ahLst/>
            <a:rect l="0" t="0" r="r" b="b"/>
            <a:pathLst>
              <a:path fill="none" w="1822" h="7431">
                <a:moveTo>
                  <a:pt x="1822" y="0"/>
                </a:moveTo>
                <a:lnTo>
                  <a:pt x="1822" y="5630"/>
                </a:lnTo>
                <a:lnTo>
                  <a:pt x="0" y="7431"/>
                </a:lnTo>
              </a:path>
            </a:pathLst>
          </a:custGeom>
          <a:ln w="76320">
            <a:solidFill>
              <a:srgbClr val="fc0128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8445600" y="4718160"/>
            <a:ext cx="125244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ave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river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8381880" y="4079880"/>
            <a:ext cx="13510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ave A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8040600" y="4294080"/>
            <a:ext cx="3142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8035920" y="5030640"/>
            <a:ext cx="3142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195720" y="2187720"/>
            <a:ext cx="2325600" cy="1801800"/>
            <a:chOff x="3195720" y="2187720"/>
            <a:chExt cx="2325600" cy="1801800"/>
          </a:xfrm>
        </p:grpSpPr>
        <p:pic>
          <p:nvPicPr>
            <p:cNvPr id="1003" name="" descr=""/>
            <p:cNvPicPr/>
            <p:nvPr/>
          </p:nvPicPr>
          <p:blipFill>
            <a:blip r:embed="rId1"/>
            <a:stretch/>
          </p:blipFill>
          <p:spPr>
            <a:xfrm>
              <a:off x="3195720" y="2187720"/>
              <a:ext cx="2325600" cy="18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3456000" y="2244600"/>
              <a:ext cx="1773360" cy="92880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 txBox="1"/>
            <p:nvPr/>
          </p:nvSpPr>
          <p:spPr>
            <a:xfrm>
              <a:off x="3519360" y="2400480"/>
              <a:ext cx="16891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API and Wav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6" name=""/>
          <p:cNvSpPr txBox="1"/>
          <p:nvPr/>
        </p:nvSpPr>
        <p:spPr>
          <a:xfrm>
            <a:off x="2852640" y="3486240"/>
            <a:ext cx="492120" cy="48564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5396040" y="3486240"/>
            <a:ext cx="492120" cy="48564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345280" y="3824280"/>
            <a:ext cx="2034000" cy="2664360"/>
          </a:xfrm>
          <a:custGeom>
            <a:avLst/>
            <a:gdLst/>
            <a:ahLst/>
            <a:rect l="0" t="0" r="r" b="b"/>
            <a:pathLst>
              <a:path fill="none" w="5650" h="7401">
                <a:moveTo>
                  <a:pt x="5650" y="0"/>
                </a:moveTo>
                <a:lnTo>
                  <a:pt x="5650" y="5607"/>
                </a:lnTo>
                <a:lnTo>
                  <a:pt x="0" y="7401"/>
                </a:lnTo>
              </a:path>
            </a:pathLst>
          </a:custGeom>
          <a:ln w="76320">
            <a:solidFill>
              <a:srgbClr val="fc0128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6389640" y="2544840"/>
            <a:ext cx="1542960" cy="1336680"/>
            <a:chOff x="6389640" y="2544840"/>
            <a:chExt cx="1542960" cy="1336680"/>
          </a:xfrm>
        </p:grpSpPr>
        <p:pic>
          <p:nvPicPr>
            <p:cNvPr id="1010" name="" descr=""/>
            <p:cNvPicPr/>
            <p:nvPr/>
          </p:nvPicPr>
          <p:blipFill>
            <a:blip r:embed="rId2"/>
            <a:stretch/>
          </p:blipFill>
          <p:spPr>
            <a:xfrm>
              <a:off x="6389640" y="2544840"/>
              <a:ext cx="1542960" cy="13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"/>
            <p:cNvSpPr/>
            <p:nvPr/>
          </p:nvSpPr>
          <p:spPr>
            <a:xfrm>
              <a:off x="6575400" y="2589120"/>
              <a:ext cx="1182600" cy="68580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 txBox="1"/>
            <p:nvPr/>
          </p:nvSpPr>
          <p:spPr>
            <a:xfrm>
              <a:off x="6513480" y="2584440"/>
              <a:ext cx="13176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ny Wave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0" y="314280"/>
            <a:ext cx="9836280" cy="628560"/>
          </a:xfrm>
          <a:prstGeom prst="rect">
            <a:avLst/>
          </a:prstGeom>
          <a:gradFill rotWithShape="0">
            <a:gsLst>
              <a:gs pos="0">
                <a:srgbClr val="e20024"/>
              </a:gs>
              <a:gs pos="50000">
                <a:srgbClr val="fc0128"/>
              </a:gs>
              <a:gs pos="100000">
                <a:srgbClr val="e20024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85640" y="2700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onten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1217520" y="1284120"/>
            <a:ext cx="770904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TAP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Lines, Addresses,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Basic TAPI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edia Streams o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ulti-application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Develop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 txBox="1"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Multi-Application Feature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363600" y="1346040"/>
            <a:ext cx="942984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Lines and Phones are Sharable Devic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pps can make outbound calls while others listen for inbound ca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operative Sharing of Calls across App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tart voice call in one app, receive fax over same call using other ap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ll handoff, grabbing a c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Routing inbound calls to “right” ap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Based on media type (voice, data, fax..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Multi-application toll saver (num ring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503280" y="5382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Inbound Call Example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11440" y="4403880"/>
            <a:ext cx="4204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741240" y="4148280"/>
            <a:ext cx="831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TS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185920" y="3549600"/>
            <a:ext cx="6073920" cy="9129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57440" y="3638520"/>
            <a:ext cx="4014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744480" y="3405240"/>
            <a:ext cx="847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T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5226120" y="1609560"/>
            <a:ext cx="1550880" cy="1333440"/>
            <a:chOff x="5226120" y="1609560"/>
            <a:chExt cx="1550880" cy="1333440"/>
          </a:xfrm>
        </p:grpSpPr>
        <p:pic>
          <p:nvPicPr>
            <p:cNvPr id="1026" name="" descr=""/>
            <p:cNvPicPr/>
            <p:nvPr/>
          </p:nvPicPr>
          <p:blipFill>
            <a:blip r:embed="rId1"/>
            <a:stretch/>
          </p:blipFill>
          <p:spPr>
            <a:xfrm>
              <a:off x="5226120" y="1631880"/>
              <a:ext cx="15508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"/>
            <p:cNvSpPr/>
            <p:nvPr/>
          </p:nvSpPr>
          <p:spPr>
            <a:xfrm>
              <a:off x="5400720" y="1674720"/>
              <a:ext cx="1181160" cy="67644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 txBox="1"/>
            <p:nvPr/>
          </p:nvSpPr>
          <p:spPr>
            <a:xfrm>
              <a:off x="5489640" y="1609560"/>
              <a:ext cx="105876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Mode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2378160" y="1689120"/>
            <a:ext cx="1525680" cy="1319040"/>
            <a:chOff x="2378160" y="1689120"/>
            <a:chExt cx="1525680" cy="1319040"/>
          </a:xfrm>
        </p:grpSpPr>
        <p:pic>
          <p:nvPicPr>
            <p:cNvPr id="1030" name="" descr=""/>
            <p:cNvPicPr/>
            <p:nvPr/>
          </p:nvPicPr>
          <p:blipFill>
            <a:blip r:embed="rId2"/>
            <a:stretch/>
          </p:blipFill>
          <p:spPr>
            <a:xfrm>
              <a:off x="2378160" y="1689120"/>
              <a:ext cx="152568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"/>
            <p:cNvSpPr/>
            <p:nvPr/>
          </p:nvSpPr>
          <p:spPr>
            <a:xfrm>
              <a:off x="2549520" y="1731960"/>
              <a:ext cx="1162080" cy="67932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 txBox="1"/>
            <p:nvPr/>
          </p:nvSpPr>
          <p:spPr>
            <a:xfrm>
              <a:off x="2433600" y="1758960"/>
              <a:ext cx="1433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all Contro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(UNKNOWN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7405560" y="1611360"/>
            <a:ext cx="1542960" cy="1343160"/>
            <a:chOff x="7405560" y="1611360"/>
            <a:chExt cx="1542960" cy="1343160"/>
          </a:xfrm>
        </p:grpSpPr>
        <p:pic>
          <p:nvPicPr>
            <p:cNvPr id="1034" name="" descr=""/>
            <p:cNvPicPr/>
            <p:nvPr/>
          </p:nvPicPr>
          <p:blipFill>
            <a:blip r:embed="rId3"/>
            <a:stretch/>
          </p:blipFill>
          <p:spPr>
            <a:xfrm>
              <a:off x="7405560" y="1617840"/>
              <a:ext cx="1542960" cy="13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5" name=""/>
            <p:cNvSpPr/>
            <p:nvPr/>
          </p:nvSpPr>
          <p:spPr>
            <a:xfrm>
              <a:off x="7591320" y="1662120"/>
              <a:ext cx="1182600" cy="68580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 txBox="1"/>
            <p:nvPr/>
          </p:nvSpPr>
          <p:spPr>
            <a:xfrm>
              <a:off x="7853400" y="1611360"/>
              <a:ext cx="66996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Fa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1714680" y="4660920"/>
            <a:ext cx="5802480" cy="170352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3170160" y="5281560"/>
            <a:ext cx="255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nkn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voice, modem, fa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2976480" y="3787920"/>
            <a:ext cx="255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kn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voice, modem, fa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6443640" y="3833640"/>
            <a:ext cx="1773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kn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modem, fa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 flipV="1">
            <a:off x="2719440" y="4376880"/>
            <a:ext cx="109440" cy="211608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2498760" y="6469200"/>
            <a:ext cx="665280" cy="6080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 Narrow"/>
                <a:ea typeface="Arial Narrow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3263760" y="6708600"/>
            <a:ext cx="2766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 Narrow"/>
                <a:ea typeface="Arial Narrow"/>
              </a:rPr>
              <a:t>Incoming Modem 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2436840" y="5257800"/>
            <a:ext cx="665280" cy="6080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 Narrow"/>
                <a:ea typeface="Arial Narrow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2340000" y="3741840"/>
            <a:ext cx="665280" cy="6080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 Narrow"/>
                <a:ea typeface="Arial Narrow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2671920" y="3048120"/>
            <a:ext cx="284040" cy="65088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3121200" y="2603520"/>
            <a:ext cx="665280" cy="6080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 Narrow"/>
                <a:ea typeface="Arial Narrow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760920" y="3133800"/>
            <a:ext cx="1974600" cy="73980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3457440" y="3097080"/>
            <a:ext cx="1281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 Narrow"/>
                <a:ea typeface="Arial Narrow"/>
              </a:rPr>
              <a:t>not v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5834160" y="3635280"/>
            <a:ext cx="665280" cy="6080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 Narrow"/>
                <a:ea typeface="Arial Narrow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H="1" flipV="1">
            <a:off x="6081840" y="3130560"/>
            <a:ext cx="115920" cy="58248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5641920" y="2506680"/>
            <a:ext cx="665280" cy="6080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 Narrow"/>
                <a:ea typeface="Arial Narrow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6192720" y="3008160"/>
            <a:ext cx="1433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 Narrow"/>
                <a:ea typeface="Arial Narrow"/>
              </a:rPr>
              <a:t>is mode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 txBox="1"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Media Type Determination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608040" y="1839960"/>
            <a:ext cx="865980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Based on out-of-band inform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.g., ISDN signal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istinctive ring, caller-ID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Based on inband inform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may require signal processing, probing, heurist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Based on local address assignmen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ifferent address for each medi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0" y="314280"/>
            <a:ext cx="9836280" cy="628560"/>
          </a:xfrm>
          <a:prstGeom prst="rect">
            <a:avLst/>
          </a:prstGeom>
          <a:gradFill rotWithShape="0">
            <a:gsLst>
              <a:gs pos="0">
                <a:srgbClr val="e20024"/>
              </a:gs>
              <a:gs pos="50000">
                <a:srgbClr val="fc0128"/>
              </a:gs>
              <a:gs pos="100000">
                <a:srgbClr val="e20024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85640" y="2700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onten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1217520" y="1284120"/>
            <a:ext cx="770904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TAP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Lines, Addresses,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Basic TAPI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edia Streams o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ulti-application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Develop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 txBox="1"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Supplementary Service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474840" y="1684440"/>
            <a:ext cx="9104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dvanced” features associated with PBXs, KTS, Centrex, ISD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ference, Transfer, Forward, Hold, Park, Pickup, Redirect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UserUserInfo, Cellular, call parame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DTMF/tones generation and detec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Media monitoring and contr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Phone device contr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41280" y="155520"/>
            <a:ext cx="92343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API DLL </a:t>
            </a:r>
            <a:br>
              <a:rPr sz="5100"/>
            </a:b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Runtime Code “in Between”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67080" y="4416480"/>
            <a:ext cx="4204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96880" y="4116240"/>
            <a:ext cx="925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ffffff"/>
                </a:solidFill>
                <a:latin typeface="Arial Narrow"/>
                <a:ea typeface="Arial Narrow"/>
              </a:rPr>
              <a:t>TS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941560" y="3870360"/>
            <a:ext cx="3557520" cy="5716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API 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82920" y="3879720"/>
            <a:ext cx="4014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09840" y="3625920"/>
            <a:ext cx="9428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ffffff"/>
                </a:solidFill>
                <a:latin typeface="Arial Narrow"/>
                <a:ea typeface="Arial Narrow"/>
              </a:rPr>
              <a:t>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53880" y="2101680"/>
            <a:ext cx="1550880" cy="13111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8480" y="2144880"/>
            <a:ext cx="1181160" cy="67644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44400" y="2125800"/>
            <a:ext cx="1006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PI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Rolod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201760" y="2101680"/>
            <a:ext cx="1525680" cy="1319040"/>
            <a:chOff x="2201760" y="2101680"/>
            <a:chExt cx="1525680" cy="1319040"/>
          </a:xfrm>
        </p:grpSpPr>
        <p:pic>
          <p:nvPicPr>
            <p:cNvPr id="310" name="" descr=""/>
            <p:cNvPicPr/>
            <p:nvPr/>
          </p:nvPicPr>
          <p:blipFill>
            <a:blip r:embed="rId2"/>
            <a:stretch/>
          </p:blipFill>
          <p:spPr>
            <a:xfrm>
              <a:off x="2201760" y="2101680"/>
              <a:ext cx="152568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2373480" y="2144880"/>
              <a:ext cx="1162080" cy="67932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2292480" y="2319480"/>
              <a:ext cx="13636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all Contro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4021200" y="2087640"/>
            <a:ext cx="1542960" cy="13366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4206960" y="2131920"/>
            <a:ext cx="1182600" cy="685800"/>
          </a:xfrm>
          <a:prstGeom prst="rect">
            <a:avLst/>
          </a:prstGeom>
          <a:solidFill>
            <a:srgbClr val="c1ce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173480" y="2127240"/>
            <a:ext cx="12603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eg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Mess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834160" y="2085840"/>
            <a:ext cx="1550880" cy="1311120"/>
            <a:chOff x="5834160" y="2085840"/>
            <a:chExt cx="1550880" cy="1311120"/>
          </a:xfrm>
        </p:grpSpPr>
        <p:pic>
          <p:nvPicPr>
            <p:cNvPr id="317" name="" descr=""/>
            <p:cNvPicPr/>
            <p:nvPr/>
          </p:nvPicPr>
          <p:blipFill>
            <a:blip r:embed="rId4"/>
            <a:stretch/>
          </p:blipFill>
          <p:spPr>
            <a:xfrm>
              <a:off x="5834160" y="2085840"/>
              <a:ext cx="15508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6008760" y="2128680"/>
              <a:ext cx="1181160" cy="67644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5910120" y="2106720"/>
              <a:ext cx="13302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sktop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nfere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7682040" y="2085840"/>
            <a:ext cx="1525680" cy="13190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853400" y="2128680"/>
            <a:ext cx="1162080" cy="679320"/>
          </a:xfrm>
          <a:prstGeom prst="rect">
            <a:avLst/>
          </a:prstGeom>
          <a:solidFill>
            <a:srgbClr val="ffc5c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829640" y="2303640"/>
            <a:ext cx="1317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79360" y="4846680"/>
            <a:ext cx="9283680" cy="1955880"/>
            <a:chOff x="279360" y="4846680"/>
            <a:chExt cx="9283680" cy="1955880"/>
          </a:xfrm>
        </p:grpSpPr>
        <p:sp>
          <p:nvSpPr>
            <p:cNvPr id="324" name=""/>
            <p:cNvSpPr/>
            <p:nvPr/>
          </p:nvSpPr>
          <p:spPr>
            <a:xfrm>
              <a:off x="8674200" y="5557680"/>
              <a:ext cx="0" cy="800280"/>
            </a:xfrm>
            <a:prstGeom prst="line">
              <a:avLst/>
            </a:prstGeom>
            <a:ln w="152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9360" y="4886280"/>
              <a:ext cx="1606680" cy="11793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6"/>
            <a:stretch/>
          </p:blipFill>
          <p:spPr>
            <a:xfrm>
              <a:off x="357120" y="4951440"/>
              <a:ext cx="73512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446040" y="4987800"/>
              <a:ext cx="544680" cy="3063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500040" y="5003640"/>
              <a:ext cx="784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1003320" y="5653080"/>
              <a:ext cx="8618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ST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39840" y="4873680"/>
              <a:ext cx="1763640" cy="1189080"/>
            </a:xfrm>
            <a:prstGeom prst="rect">
              <a:avLst/>
            </a:pr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7"/>
            <a:stretch/>
          </p:blipFill>
          <p:spPr>
            <a:xfrm>
              <a:off x="2247840" y="4903920"/>
              <a:ext cx="72720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2341440" y="4941720"/>
              <a:ext cx="563400" cy="309600"/>
            </a:xfrm>
            <a:prstGeom prst="rect">
              <a:avLst/>
            </a:pr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2400480" y="4959360"/>
              <a:ext cx="784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3022560" y="5675400"/>
              <a:ext cx="8618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BX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92480" y="4873680"/>
              <a:ext cx="1693800" cy="1174680"/>
            </a:xfrm>
            <a:prstGeom prst="rect">
              <a:avLst/>
            </a:prstGeom>
            <a:solidFill>
              <a:srgbClr val="f57b4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" descr=""/>
            <p:cNvPicPr/>
            <p:nvPr/>
          </p:nvPicPr>
          <p:blipFill>
            <a:blip r:embed="rId8"/>
            <a:stretch/>
          </p:blipFill>
          <p:spPr>
            <a:xfrm>
              <a:off x="4202280" y="4905360"/>
              <a:ext cx="72720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4294080" y="4941720"/>
              <a:ext cx="563400" cy="309600"/>
            </a:xfrm>
            <a:prstGeom prst="rect">
              <a:avLst/>
            </a:prstGeom>
            <a:solidFill>
              <a:srgbClr val="f35b1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4354560" y="4959360"/>
              <a:ext cx="784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4976640" y="564192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D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970600" y="4857840"/>
              <a:ext cx="1606680" cy="11793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9"/>
            <a:stretch/>
          </p:blipFill>
          <p:spPr>
            <a:xfrm>
              <a:off x="6048360" y="4923000"/>
              <a:ext cx="73512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137280" y="4959360"/>
              <a:ext cx="544680" cy="3063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6191280" y="4975200"/>
              <a:ext cx="784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6453360" y="5614920"/>
              <a:ext cx="1116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llul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738920" y="4846680"/>
              <a:ext cx="1763640" cy="801720"/>
            </a:xfrm>
            <a:prstGeom prst="rect">
              <a:avLst/>
            </a:pr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0"/>
            <a:stretch/>
          </p:blipFill>
          <p:spPr>
            <a:xfrm>
              <a:off x="7846920" y="4876920"/>
              <a:ext cx="72720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7940520" y="4915080"/>
              <a:ext cx="563400" cy="309600"/>
            </a:xfrm>
            <a:prstGeom prst="rect">
              <a:avLst/>
            </a:pr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7999560" y="4932360"/>
              <a:ext cx="784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8577360" y="5100480"/>
              <a:ext cx="8888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7772400" y="6116760"/>
              <a:ext cx="1758960" cy="685800"/>
            </a:xfrm>
            <a:prstGeom prst="rect">
              <a:avLst/>
            </a:prstGeom>
            <a:solidFill>
              <a:srgbClr val="00968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8856720" y="5705640"/>
              <a:ext cx="7063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 txBox="1"/>
          <p:nvPr/>
        </p:nvSpPr>
        <p:spPr>
          <a:xfrm>
            <a:off x="239760" y="206280"/>
            <a:ext cx="9590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Suppl. Services: Function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477800" y="1297080"/>
            <a:ext cx="305604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946080" y="946080"/>
            <a:ext cx="3749760" cy="63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Ac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AddTo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Blind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Complete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Complete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atherDig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nerateDig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nerate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ConfRelated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GetRe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H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MonitorDig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Monitor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MonitorT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Pa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Pic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4705200" y="946080"/>
            <a:ext cx="451332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PrepareAddTo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Redi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RegisterRequestRecip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RemoveFrom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cure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ndUserUser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CallPa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Media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MediaM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Term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up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etup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wapH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Uncomplete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Unh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Unpa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 txBox="1"/>
          <p:nvPr/>
        </p:nvSpPr>
        <p:spPr>
          <a:xfrm>
            <a:off x="490680" y="4572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Suppl Services: Message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1654200" y="1643040"/>
            <a:ext cx="4073400" cy="22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GATHERDIG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GEN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MONITORDIG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MONITORMED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MONITOR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_REQUE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 txBox="1"/>
          <p:nvPr/>
        </p:nvSpPr>
        <p:spPr>
          <a:xfrm>
            <a:off x="353880" y="298440"/>
            <a:ext cx="929160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Hold, Park, Pickup, Redirec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547560" y="1479600"/>
            <a:ext cx="8961480" cy="5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Hold(), lineUnhold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or hard ho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Park(), lineUnpark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imilar to transfer, but no aler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Pickup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iverts an call alerting elsewhere to the local st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irected pickup and group pick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Redirect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iverts a locally offered call to elsewhe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 txBox="1"/>
          <p:nvPr/>
        </p:nvSpPr>
        <p:spPr>
          <a:xfrm>
            <a:off x="525600" y="1364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ransfer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360360" y="911160"/>
            <a:ext cx="9321840" cy="62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nsultation Transf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SetupTransfer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reate consultation c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laces active call on “transferhold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SwapHold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o toggle between consult and held c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CompleteTransfer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ransfers held call to consultation c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option to resolve transfer as 3-way con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Blind Transfer (single step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BlindTransfer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 txBox="1"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Forward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568440" y="1271520"/>
            <a:ext cx="882504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Not the same as transfer!!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nstructs switch to route inbound calls to alternate destination without answering the cal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Forward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busy, noanswer, busynoanser, unconditional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elective forwarding based on who’s calling -- specify as list of number pai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 txBox="1"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all Completion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693720" y="1374840"/>
            <a:ext cx="84153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Provides options when get busy or no-answer on outbound cal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CompleteCall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mpon (queues the cal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llback (return the cal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ntrude (barge-i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leave a message (predefined mes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UncompleteCall(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o canc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 txBox="1"/>
          <p:nvPr/>
        </p:nvSpPr>
        <p:spPr>
          <a:xfrm>
            <a:off x="525600" y="16992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all Conference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395280" y="1222200"/>
            <a:ext cx="9194760" cy="57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Flexible conference call setup accommodates real-world differenc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dd consult call to regular two-part c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solve transfer as 3-way confer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tart with conference call direct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ference two independent ca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 conference call consists of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ference call handle to represent the conference (bridg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One member call handle for each “other” endpoint   - 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RemoveFromConf 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 txBox="1"/>
          <p:nvPr/>
        </p:nvSpPr>
        <p:spPr>
          <a:xfrm>
            <a:off x="525600" y="28584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Phone Device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465120" y="1546200"/>
            <a:ext cx="87138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bstraction of phone set elemen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ookswitch audio I/O de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-3826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andset, speaker, headset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inger, Display, Buttons and lam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ownload are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PI provides query and manipulation of a phone’s elemen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llows local audio input and outpu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7655040" y="1987560"/>
            <a:ext cx="215280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 txBox="1"/>
          <p:nvPr/>
        </p:nvSpPr>
        <p:spPr>
          <a:xfrm>
            <a:off x="490680" y="12528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Phone Functions and Msg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658800" y="934920"/>
            <a:ext cx="4122720" cy="63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Initial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Shut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NegotiateAPI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DevC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Status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SetStatus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Button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SetButton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Dis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SetDis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Volu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SetVolu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G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4897440" y="934920"/>
            <a:ext cx="336060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SetG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La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SetLa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Hook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SetHook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Se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Get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Set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_BUT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_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_RE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_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0" y="314280"/>
            <a:ext cx="9836280" cy="628560"/>
          </a:xfrm>
          <a:prstGeom prst="rect">
            <a:avLst/>
          </a:prstGeom>
          <a:gradFill rotWithShape="0">
            <a:gsLst>
              <a:gs pos="0">
                <a:srgbClr val="e20024"/>
              </a:gs>
              <a:gs pos="50000">
                <a:srgbClr val="fc0128"/>
              </a:gs>
              <a:gs pos="100000">
                <a:srgbClr val="e20024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85640" y="2700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onten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1217520" y="1284120"/>
            <a:ext cx="770904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TAP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Lines, Addresses,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Basic TAPI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edia Streams o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ulti-application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Develop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76280" y="18432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API DLL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0120" y="1171440"/>
            <a:ext cx="88948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Maps between TAPI and TSPI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s the “plumbing” that routes requests &amp; replies between apps and S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mplements a number of TAPI functions internall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Multi-application feat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ddress translation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e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 TAPI DLL is provided as a part of Windows by Microsoft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an be distributed freely with app/SP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 txBox="1"/>
          <p:nvPr/>
        </p:nvSpPr>
        <p:spPr>
          <a:xfrm>
            <a:off x="536400" y="1602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Extending the Interface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88880" y="1035000"/>
            <a:ext cx="9155160" cy="58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TAPI provides hooks to allow equipment vendor extensio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oes not require Intel/Microsoft involve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oes not require altering TAPI run-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Key characteristic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pps format commands as da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API passes data through to provid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 way to avoid “colliding” extension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(Extension IDs, EXTIDGEN.EX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pps: use extensions with caution!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0" y="314280"/>
            <a:ext cx="9836280" cy="628560"/>
          </a:xfrm>
          <a:prstGeom prst="rect">
            <a:avLst/>
          </a:prstGeom>
          <a:gradFill rotWithShape="0">
            <a:gsLst>
              <a:gs pos="0">
                <a:srgbClr val="e20024"/>
              </a:gs>
              <a:gs pos="50000">
                <a:srgbClr val="fc0128"/>
              </a:gs>
              <a:gs pos="100000">
                <a:srgbClr val="e20024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85640" y="2700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onten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1217520" y="1284120"/>
            <a:ext cx="770904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TAP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Lines, Addresses,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Basic TAPI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edia Streams o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ulti-application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velop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 txBox="1"/>
          <p:nvPr/>
        </p:nvSpPr>
        <p:spPr>
          <a:xfrm>
            <a:off x="525600" y="17136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Developer Suppor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534960" y="1033560"/>
            <a:ext cx="9178920" cy="60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net: ftp.microsoft.c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developr\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ministrative:  tapi@microsoft.c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uServe: GO WINEXT library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icrosoft Developer Network CD-ROM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-800-759-547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dows 95 SDK/DD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dows NT SDK beta: H2'9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isc TAPI product info: GO INT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"bakeoffs": interoperability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support in future MFC --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0" y="314280"/>
            <a:ext cx="9836280" cy="628560"/>
          </a:xfrm>
          <a:prstGeom prst="rect">
            <a:avLst/>
          </a:prstGeom>
          <a:gradFill rotWithShape="0">
            <a:gsLst>
              <a:gs pos="0">
                <a:srgbClr val="e20024"/>
              </a:gs>
              <a:gs pos="50000">
                <a:srgbClr val="fc0128"/>
              </a:gs>
              <a:gs pos="100000">
                <a:srgbClr val="e20024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485640" y="270000"/>
            <a:ext cx="87980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onten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1217520" y="1284120"/>
            <a:ext cx="770904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TAP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Lines, Addresses,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Basic TAPI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edia Streams o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Multi-application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Develop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1006560" y="2709720"/>
            <a:ext cx="75754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900" spc="-1" strike="noStrike">
                <a:solidFill>
                  <a:srgbClr val="fc0128"/>
                </a:solidFill>
                <a:latin typeface="Arial Narrow"/>
                <a:ea typeface="Arial Narrow"/>
              </a:rPr>
              <a:t>Questions?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01480" y="96840"/>
            <a:ext cx="87980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API Provides</a:t>
            </a:r>
            <a:br>
              <a:rPr sz="5100"/>
            </a:b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Connection Independence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69920" y="1844640"/>
            <a:ext cx="803736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No TAPI requirements on </a:t>
            </a:r>
            <a:r>
              <a:rPr b="1" i="1" lang="en-US" sz="3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ow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 PC connects to Telephone networ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irect result of open desktop API/SPI architec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Flexibility allows users to select 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unctiona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mputing enviro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elephony enviro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9320" indent="-422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641600" y="3855960"/>
            <a:ext cx="5132520" cy="2867040"/>
          </a:xfrm>
          <a:prstGeom prst="rect">
            <a:avLst/>
          </a:prstGeom>
          <a:gradFill rotWithShape="0">
            <a:gsLst>
              <a:gs pos="0">
                <a:srgbClr val="00175f"/>
              </a:gs>
              <a:gs pos="50000">
                <a:srgbClr val="00279f"/>
              </a:gs>
              <a:gs pos="100000">
                <a:srgbClr val="00175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63400" y="-25560"/>
            <a:ext cx="87980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API Supports:</a:t>
            </a:r>
            <a:br>
              <a:rPr sz="5100"/>
            </a:b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External Add-on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031840" y="4157640"/>
            <a:ext cx="2739960" cy="23828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1297080" y="1554120"/>
            <a:ext cx="3198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ndard modem, or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prietary mo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343400" y="3029040"/>
            <a:ext cx="1576800" cy="2275200"/>
          </a:xfrm>
          <a:custGeom>
            <a:avLst/>
            <a:gdLst/>
            <a:ahLst/>
            <a:rect l="0" t="0" r="r" b="b"/>
            <a:pathLst>
              <a:path fill="none" w="4380" h="6320">
                <a:moveTo>
                  <a:pt x="4380" y="6320"/>
                </a:moveTo>
                <a:lnTo>
                  <a:pt x="4380" y="6320"/>
                </a:lnTo>
                <a:lnTo>
                  <a:pt x="4380" y="6320"/>
                </a:lnTo>
                <a:cubicBezTo>
                  <a:pt x="4380" y="5211"/>
                  <a:pt x="4178" y="4121"/>
                  <a:pt x="3793" y="3160"/>
                </a:cubicBezTo>
                <a:cubicBezTo>
                  <a:pt x="3409" y="2199"/>
                  <a:pt x="2856" y="1401"/>
                  <a:pt x="2190" y="847"/>
                </a:cubicBezTo>
                <a:cubicBezTo>
                  <a:pt x="1524" y="292"/>
                  <a:pt x="769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319640" y="2104920"/>
            <a:ext cx="2822400" cy="595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77240" y="1787400"/>
            <a:ext cx="2152440" cy="2154240"/>
            <a:chOff x="7077240" y="1787400"/>
            <a:chExt cx="2152440" cy="2154240"/>
          </a:xfrm>
        </p:grpSpPr>
        <p:pic>
          <p:nvPicPr>
            <p:cNvPr id="363" name="" descr=""/>
            <p:cNvPicPr/>
            <p:nvPr/>
          </p:nvPicPr>
          <p:blipFill>
            <a:blip r:embed="rId2"/>
            <a:stretch/>
          </p:blipFill>
          <p:spPr>
            <a:xfrm>
              <a:off x="7077240" y="1787400"/>
              <a:ext cx="1198440" cy="19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3"/>
            <a:stretch/>
          </p:blipFill>
          <p:spPr>
            <a:xfrm>
              <a:off x="7381800" y="2725560"/>
              <a:ext cx="184788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 txBox="1"/>
            <p:nvPr/>
          </p:nvSpPr>
          <p:spPr>
            <a:xfrm>
              <a:off x="7816680" y="3106800"/>
              <a:ext cx="1166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793880" y="2979720"/>
            <a:ext cx="656640" cy="2041920"/>
          </a:xfrm>
          <a:custGeom>
            <a:avLst/>
            <a:gdLst/>
            <a:ahLst/>
            <a:rect l="0" t="0" r="r" b="b"/>
            <a:pathLst>
              <a:path fill="none" w="1824" h="5672">
                <a:moveTo>
                  <a:pt x="1824" y="0"/>
                </a:moveTo>
                <a:lnTo>
                  <a:pt x="1824" y="0"/>
                </a:lnTo>
                <a:cubicBezTo>
                  <a:pt x="1504" y="0"/>
                  <a:pt x="1189" y="262"/>
                  <a:pt x="912" y="760"/>
                </a:cubicBezTo>
                <a:cubicBezTo>
                  <a:pt x="635" y="1258"/>
                  <a:pt x="404" y="1974"/>
                  <a:pt x="244" y="2836"/>
                </a:cubicBezTo>
                <a:cubicBezTo>
                  <a:pt x="84" y="3698"/>
                  <a:pt x="0" y="4676"/>
                  <a:pt x="0" y="567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93880" y="4863960"/>
            <a:ext cx="647280" cy="1037160"/>
          </a:xfrm>
          <a:custGeom>
            <a:avLst/>
            <a:gdLst/>
            <a:ahLst/>
            <a:rect l="0" t="0" r="r" b="b"/>
            <a:pathLst>
              <a:path fill="none" w="1798" h="2881">
                <a:moveTo>
                  <a:pt x="0" y="0"/>
                </a:moveTo>
                <a:lnTo>
                  <a:pt x="0" y="0"/>
                </a:lnTo>
                <a:cubicBezTo>
                  <a:pt x="0" y="506"/>
                  <a:pt x="83" y="1003"/>
                  <a:pt x="241" y="1441"/>
                </a:cubicBezTo>
                <a:cubicBezTo>
                  <a:pt x="399" y="1878"/>
                  <a:pt x="626" y="2242"/>
                  <a:pt x="899" y="2495"/>
                </a:cubicBezTo>
                <a:cubicBezTo>
                  <a:pt x="1172" y="2748"/>
                  <a:pt x="1482" y="2881"/>
                  <a:pt x="1798" y="288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90720" y="3309840"/>
            <a:ext cx="981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2406600" y="2530440"/>
            <a:ext cx="2003400" cy="6206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3137040" y="2774880"/>
            <a:ext cx="487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Wingdings"/>
                <a:ea typeface="Wingdings"/>
              </a:rPr>
              <a:t>●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51280" y="2778120"/>
            <a:ext cx="336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Wingdings"/>
                <a:ea typeface="Wingdings"/>
              </a:rPr>
              <a:t>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5286240" y="5157720"/>
            <a:ext cx="137160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784520" y="3889440"/>
            <a:ext cx="4629240" cy="2895480"/>
          </a:xfrm>
          <a:prstGeom prst="rect">
            <a:avLst/>
          </a:prstGeom>
          <a:gradFill rotWithShape="0">
            <a:gsLst>
              <a:gs pos="0">
                <a:srgbClr val="000b2f"/>
              </a:gs>
              <a:gs pos="50000">
                <a:srgbClr val="00279f"/>
              </a:gs>
              <a:gs pos="100000">
                <a:srgbClr val="000b2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6095880" y="3475080"/>
            <a:ext cx="998640" cy="1386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352760" y="5613480"/>
            <a:ext cx="1152720" cy="414720"/>
          </a:xfrm>
          <a:custGeom>
            <a:avLst/>
            <a:gdLst/>
            <a:ahLst/>
            <a:rect l="0" t="0" r="r" b="b"/>
            <a:pathLst>
              <a:path fill="none" w="3202" h="1152">
                <a:moveTo>
                  <a:pt x="0" y="1152"/>
                </a:moveTo>
                <a:lnTo>
                  <a:pt x="0" y="1152"/>
                </a:lnTo>
                <a:cubicBezTo>
                  <a:pt x="562" y="1152"/>
                  <a:pt x="1114" y="1099"/>
                  <a:pt x="1601" y="998"/>
                </a:cubicBezTo>
                <a:cubicBezTo>
                  <a:pt x="2088" y="897"/>
                  <a:pt x="2492" y="751"/>
                  <a:pt x="2773" y="576"/>
                </a:cubicBezTo>
                <a:cubicBezTo>
                  <a:pt x="3054" y="401"/>
                  <a:pt x="3202" y="202"/>
                  <a:pt x="3202" y="0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31920" y="81000"/>
            <a:ext cx="90835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TAPI Supports:</a:t>
            </a:r>
            <a:br>
              <a:rPr sz="5100"/>
            </a:br>
            <a:r>
              <a:rPr b="1" lang="en-US" sz="5100" spc="-1" strike="noStrike">
                <a:solidFill>
                  <a:srgbClr val="fafd00"/>
                </a:solidFill>
                <a:latin typeface="Arial"/>
                <a:ea typeface="Arial"/>
              </a:rPr>
              <a:t>Integrated “CTI Phone”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2031840" y="4157640"/>
            <a:ext cx="2739960" cy="23828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6191280" y="530064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cial CTI Ph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4861080" y="4848120"/>
            <a:ext cx="1365120" cy="861840"/>
          </a:xfrm>
          <a:prstGeom prst="rect">
            <a:avLst/>
          </a:prstGeom>
          <a:ln w="0">
            <a:noFill/>
          </a:ln>
        </p:spPr>
      </p:pic>
      <p:grpSp>
        <p:nvGrpSpPr>
          <p:cNvPr id="380" name=""/>
          <p:cNvGrpSpPr/>
          <p:nvPr/>
        </p:nvGrpSpPr>
        <p:grpSpPr>
          <a:xfrm>
            <a:off x="7077240" y="1787400"/>
            <a:ext cx="2152440" cy="2154240"/>
            <a:chOff x="7077240" y="1787400"/>
            <a:chExt cx="2152440" cy="2154240"/>
          </a:xfrm>
        </p:grpSpPr>
        <p:pic>
          <p:nvPicPr>
            <p:cNvPr id="381" name="" descr=""/>
            <p:cNvPicPr/>
            <p:nvPr/>
          </p:nvPicPr>
          <p:blipFill>
            <a:blip r:embed="rId3"/>
            <a:stretch/>
          </p:blipFill>
          <p:spPr>
            <a:xfrm>
              <a:off x="7077240" y="1787400"/>
              <a:ext cx="1198440" cy="19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4"/>
            <a:stretch/>
          </p:blipFill>
          <p:spPr>
            <a:xfrm>
              <a:off x="7381800" y="2725560"/>
              <a:ext cx="184788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 txBox="1"/>
            <p:nvPr/>
          </p:nvSpPr>
          <p:spPr>
            <a:xfrm>
              <a:off x="7816680" y="3106800"/>
              <a:ext cx="1166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 txBox="1"/>
          <p:nvPr/>
        </p:nvSpPr>
        <p:spPr>
          <a:xfrm>
            <a:off x="4799160" y="5965920"/>
            <a:ext cx="981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erman D'Hooge</dc:creator>
  <dc:description/>
  <dc:language>en-US</dc:language>
  <cp:lastModifiedBy>David Janson</cp:lastModifiedBy>
  <cp:revision>0</cp:revision>
  <dc:subject/>
  <dc:title>TAPI Concepts </dc:title>
</cp:coreProperties>
</file>