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30BCCE-21FB-4D8F-BA4A-7C3653A3D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record locking: support PC productivity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ing, batching, file change notification: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negotiation: evolv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eplicated virtual volumes: scalability, fault tolerance, adminsterability (relocate resources transpa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: internationalizab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file names: administrability, eas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priority order for getting specifications published that would enable third parties to implement each capability. The priorities are based on complexity and utility: More complex things takes longer to document. The more generally useful a capability is, the earlier it should be documented. Some protocols may be obsolete before they could be fully documented -- such as the WINS server-to-server protoc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lide tells where to get the latest information on CI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FS motto is “share and share alike” -- the vision tha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s on the Internet will share a rich, pervasive, ubiquitous file system. I hope that by the time this workshop is finished, you’ll agree that this is more than just a sl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believe that a rich file sharing protocol for use on the Internet is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hould it look like? It sh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n &amp; leverage installed base (to speed deploy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run existing apps (PC, MAC, and Un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(especially over slow li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able and fault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print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record 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caching, read-ahead, and write-be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change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eplicated virtual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name resolution using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Capabilit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version negot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did we pub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public specification up to date with latest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improving th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other implementation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teroperability, at latest r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feedback on Internet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ere do we want to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edundancy, trim cru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vestiges of Net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e needed info, better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tero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Interne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the Intr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file system, the CIFS spec is nearly functionally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s work to clarify, fill i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 few missing pieces (we th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services for LA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,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clients and servers will also want to be LAN clients and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the Intrane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want LAN environment spec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oday we will discuss many aspects of the LAN environmen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will be kept separate from CIFS pr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and conquer the complexit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and choose; low cost of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e going to be supers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., some replaced by Interne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iorities for Intranet sp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S clients accessing MS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, WINS, NetShareEnum client-server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S server that supports MS clie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iority: WFW, Win95,  Win NT Workstation, other cli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ve plus pass-through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lo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draft today, final by Q4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iorities for Intranet spec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/WINS server-to-server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/server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station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ll be superseded by standar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- Day 1, 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/ CI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Corporate Intran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-through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- Day 1, 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/ CI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Corporate Intran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-through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1, 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for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new in CIF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Windows: Technology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on the Internet: Working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Dinner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ental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Lunch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0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Day: Informal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ere is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35000" y="1676520"/>
            <a:ext cx="803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for the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ds.internic.net/internet-drafts/draft-heizer-cifs-v1-spec-00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/cifs/cifs.zip (Word .doc, zip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@listserv.ms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be CIFS your@email.addr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serv@listserv.msn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/c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289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1, 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for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new in CIF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Windows: Technology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on the Internet: Working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Dinner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ental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Lunch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0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Day: Informal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62120" y="990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: Welcome &amp;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289548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 J. 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, Distribu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le@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2120" y="236232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F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e and share alik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 progra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hop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mes for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&amp;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lose, Discuss,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 &amp;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is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shar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for many plat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, Windows, OS/2, VMS, 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OS Linux SOLARIS SVR4 ULTRIX OSF1 AIX BSDI NetBSD SEQUENT HP-UX IRIX FreeBSD NeXT A/UX SCO DGUX A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X/Open standard “SMB”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ed on a few machines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xtensions for Internet; need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J. Leach</dc:creator>
  <dc:description/>
  <dc:language>en-US</dc:language>
  <cp:lastModifiedBy>Paul J. Leach</cp:lastModifiedBy>
  <cp:revision>0</cp:revision>
  <dc:subject/>
  <dc:title>CIFS</dc:title>
</cp:coreProperties>
</file>