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1AB424-0599-44FC-B9AD-F6EC70395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627200" y="1447920"/>
            <a:ext cx="6678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3500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ly replace smb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6040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73424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0016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zat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ze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eged ports must be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Andrew Tridgell</cp:lastModifiedBy>
  <cp:revision>0</cp:revision>
  <dc:subject/>
  <dc:title>SMB on Unix</dc:title>
</cp:coreProperties>
</file>