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ession Setup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ny errors are encountered during the session setup process the logon request processing is terminated with the appropriat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voking Logon API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gon API are executed on the logon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llowing APIs must be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kstaUserLogon, NetWkstaUserLog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llowing APIs are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emChgPasswordUser2, NetRemoteT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are shipped to the server as TRANSACT S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ogon API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ransaction name in all cases is \pipe\lan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mote Admin Protocol (RAP) is used to marshal/unmarshal the pa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aram portion of the Transact request SMB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or of the pa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ogon A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scriptor of the response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led pa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a and param portion of the Transact response contain the results of executing the API at the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6040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ssThru Authentication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alan Sethu Raman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dows NT Development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864560" y="6153120"/>
            <a:ext cx="1206720" cy="376560"/>
            <a:chOff x="7864560" y="6153120"/>
            <a:chExt cx="1206720" cy="37656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7864560" y="618660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836200" y="6153120"/>
              <a:ext cx="2350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ssthru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 by which a server validates  a users credentials presented by a client machine with a Domain Controller (D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done at the time when the user attempts to set up a session to the server from a client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ssthru Initia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discovers the DC and sends a NEGOTIATE SMB to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GOTIATE response alongwith the session key in it is cached by the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ssthru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e SMB ( Client -- Serve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s the dialects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e SMB Response (Server -- Cli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ame session key that was obtained from the DC is returned to th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Setup And X (Client --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ssion key obtained from the server is encrypted with the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ssthru Sequence Contd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Setup And X ( Server -- DC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ncrypted key obtained from the client is passed thru to the DC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. Setup. Response ( DC -- Serve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users passwords match the session setup is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ff and X ( Server -- DC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r down the session established with the DC using the users credent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ssthru Sequence …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 Setup And X resp. ( Server -- Clien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ponse is based on the DCs response to the ser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86040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95 Domain Logon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alan Sethu Raman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dows NT Development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64560" y="6153120"/>
            <a:ext cx="1206720" cy="376560"/>
            <a:chOff x="7864560" y="6153120"/>
            <a:chExt cx="1206720" cy="37656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864560" y="618660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8836200" y="6153120"/>
              <a:ext cx="2350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ssthru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passthru sequence the server established a session with the DC, indeed NT Advanced Server will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imary problem is the discovery of the advanced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 95 Domain Lo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 by which a client prevalidates  a users credentials with a Domain Controller (D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implemented in thre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Controller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PI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C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y which a client machine locates the DC of a dom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s NETLOGON_LOGON_REQUEST message on all transports addressed to the NETBIOS group name &lt;Domain Name&gt; [1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packaged as a mailslot write SMB directed at the mailslot \mailslot\NET\NET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C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OGON_LOGON_REQUEST message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of the client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of the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of the mailslot on which the response i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oken set to 0xFF signifying Lanman V2.0 or 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C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C’s respond in one of  the following three w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_RESPONS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 account ex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_USER_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 account does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_PAUSE_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gon service has been paused. This response is ignored by the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C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_RESPON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ponse includes the name of the Logon Server to which the logon requests can be forwar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 DC responds within the given time interval (Currently 15 seconds ) the NETLOGON processing is terminated for this requ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ession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lient machine establishes a connection to the IPC$ share on the Logon Server using the client credent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urpose of this is to validate the users cred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ession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consists of the following sequence of SMB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e S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s the dialect to be used, also establishes the seed for further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Setup And X followed by Tree Connect And X ( IPC$ shar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ssion key obtained from the server is encrypted with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s Group</dc:creator>
  <dc:description/>
  <dc:language>en-US</dc:language>
  <cp:lastModifiedBy>Presentations Group</cp:lastModifiedBy>
  <cp:revision>0</cp:revision>
  <dc:subject>Template</dc:subject>
  <dc:title>Royal Blue PowerPoint Template</dc:title>
</cp:coreProperties>
</file>