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1FF6FA-F932-4A3A-96A8-3650FFE80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ccess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folder, not 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s: read, write an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- CIFS on Ma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experience with C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he end result look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6676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- Our Experience with C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Information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/Open and Old Lan Manager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nalyzer and revers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NFS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tocol stac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26676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- Our Experience with C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Implemen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Information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only implements a sub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nt to avoid what's old or NT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tell this from th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D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C 1001/1002 and WINS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Apple File System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led via Choo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s SMB protocol from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 backgroun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86080" y="5086440"/>
            <a:ext cx="3790800" cy="743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tBIOS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86080" y="4400640"/>
            <a:ext cx="2647800" cy="7621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ent SMB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86080" y="3771720"/>
            <a:ext cx="2647800" cy="7621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V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09680" y="3162240"/>
            <a:ext cx="192420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95760" y="2057400"/>
            <a:ext cx="1714680" cy="704880"/>
          </a:xfrm>
          <a:prstGeom prst="rect">
            <a:avLst/>
          </a:pr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7840" y="4210200"/>
            <a:ext cx="0" cy="1009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62080" y="2076480"/>
            <a:ext cx="1714680" cy="704880"/>
          </a:xfrm>
          <a:prstGeom prst="rect">
            <a:avLst/>
          </a:pr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o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62000" y="2781360"/>
            <a:ext cx="0" cy="1123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05240" y="2762280"/>
            <a:ext cx="0" cy="2419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38800" y="3067200"/>
            <a:ext cx="3429000" cy="11239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V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162400" y="5067360"/>
            <a:ext cx="137160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19880" y="5067360"/>
            <a:ext cx="137160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eT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48200" y="4191120"/>
            <a:ext cx="0" cy="1009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05680" y="4191120"/>
            <a:ext cx="0" cy="1009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53120" y="2076480"/>
            <a:ext cx="1714680" cy="704880"/>
          </a:xfrm>
          <a:prstGeom prst="rect">
            <a:avLst/>
          </a:pr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48440" y="278136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File Clien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00200" y="4503600"/>
            <a:ext cx="6019920" cy="1233720"/>
            <a:chOff x="1600200" y="4503600"/>
            <a:chExt cx="6019920" cy="1233720"/>
          </a:xfrm>
        </p:grpSpPr>
        <p:sp>
          <p:nvSpPr>
            <p:cNvPr id="143" name=""/>
            <p:cNvSpPr txBox="1"/>
            <p:nvPr/>
          </p:nvSpPr>
          <p:spPr>
            <a:xfrm>
              <a:off x="1600200" y="4503600"/>
              <a:ext cx="6019920" cy="57960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NetB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600200" y="5156280"/>
              <a:ext cx="2909880" cy="5810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MacTC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4710240" y="5156280"/>
              <a:ext cx="2909880" cy="5810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Open Tran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 txBox="1"/>
          <p:nvPr/>
        </p:nvSpPr>
        <p:spPr>
          <a:xfrm>
            <a:off x="1600200" y="2906640"/>
            <a:ext cx="3505320" cy="13780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Client SM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Handles File Prim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to SMB Protocol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00200" y="2181240"/>
            <a:ext cx="3505320" cy="50796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FSM “Glu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600200"/>
            <a:ext cx="6706080" cy="4572360"/>
          </a:xfrm>
          <a:custGeom>
            <a:avLst/>
            <a:gdLst/>
            <a:ahLst/>
            <a:rect l="0" t="0" r="r" b="b"/>
            <a:pathLst>
              <a:path w="18628" h="12701">
                <a:moveTo>
                  <a:pt x="11585" y="1208"/>
                </a:moveTo>
                <a:lnTo>
                  <a:pt x="11585" y="0"/>
                </a:lnTo>
                <a:lnTo>
                  <a:pt x="0" y="0"/>
                </a:lnTo>
                <a:lnTo>
                  <a:pt x="0" y="12701"/>
                </a:lnTo>
                <a:lnTo>
                  <a:pt x="18628" y="12701"/>
                </a:lnTo>
                <a:lnTo>
                  <a:pt x="18628" y="11894"/>
                </a:lnTo>
                <a:lnTo>
                  <a:pt x="1265" y="11894"/>
                </a:lnTo>
                <a:lnTo>
                  <a:pt x="1265" y="1208"/>
                </a:lnTo>
                <a:lnTo>
                  <a:pt x="11585" y="1208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01880" y="1657440"/>
            <a:ext cx="120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Ma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4120" y="1600200"/>
            <a:ext cx="2209680" cy="14479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AVE Cho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Brow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048120"/>
            <a:ext cx="0" cy="145548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105520" y="3048120"/>
            <a:ext cx="609480" cy="1044360"/>
            <a:chOff x="5105520" y="3048120"/>
            <a:chExt cx="609480" cy="1044360"/>
          </a:xfrm>
        </p:grpSpPr>
        <p:sp>
          <p:nvSpPr>
            <p:cNvPr id="153" name=""/>
            <p:cNvSpPr/>
            <p:nvPr/>
          </p:nvSpPr>
          <p:spPr>
            <a:xfrm>
              <a:off x="5715000" y="3048120"/>
              <a:ext cx="0" cy="10443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105520" y="40924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276720" y="2689200"/>
            <a:ext cx="0" cy="2174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284720"/>
            <a:ext cx="0" cy="2188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5083200"/>
            <a:ext cx="0" cy="73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5083200"/>
            <a:ext cx="0" cy="73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2035080"/>
            <a:ext cx="0" cy="1461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Choo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44520" y="1479600"/>
            <a:ext cx="66168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Client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f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lo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er window “Refres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Client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LM 0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NTFS streams for f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Apple Double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Services for Macint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Macintosh Dia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performance between 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ld be added to cross-platform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60400" y="1066680"/>
            <a:ext cx="68356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MacO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ul Nelson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V.P. Engineering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ursby Software Systems, Inc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864560" y="6153120"/>
            <a:ext cx="1206720" cy="376560"/>
            <a:chOff x="7864560" y="6153120"/>
            <a:chExt cx="1206720" cy="3765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864560" y="618660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8836200" y="6153120"/>
              <a:ext cx="2350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99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OS File Creat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OS FSpCreate Call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pecification, includes name, directory and volume referenc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or and Type - two 4 byt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checks to see if file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_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“creates” fork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/ CLOSE on data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/ CLOSE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OS File Creat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35000" y="1676520"/>
            <a:ext cx="772812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flow continu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gets “catalog”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2_FIND_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/ CLOSE on (empty)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2_FIND_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sets “catalog”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_INFORMATION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AND_CLOSE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sets d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, SET_INFORMATION, CLOSE on data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provides Macintosh users with best path to standards based file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acOS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ehensive cross-platform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on Ma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and MacO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“Hard” is it to put on the M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ut the Macintosh 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's so different about the M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experiences with CIFS on the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MacO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- DOS Leg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directory information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OS - AppleShare Leg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siz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any character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mplex direc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or an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MacO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 seman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, close, read, write, 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volum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names, dates an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Finder and direc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MacO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orien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herent, cross-platform directo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bout the Macintosh Fil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s and directories or f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- have uniqu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 database and tr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35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100 unique service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intosh Directory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 Character Case-Insensitive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 number used to select language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or and type, window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modify and backup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, directory and file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intosh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“For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 data fork,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Gb size limit per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and lock semantics same as 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31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Nelson</dc:creator>
  <dc:description/>
  <dc:language>en-US</dc:language>
  <cp:lastModifiedBy>Paul Nelson</cp:lastModifiedBy>
  <cp:revision>0</cp:revision>
  <dc:subject>DAVE</dc:subject>
  <dc:title>CIFS for Macintosh</dc:title>
</cp:coreProperties>
</file>