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01760" y="1085760"/>
            <a:ext cx="834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UNIX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 baseline="16000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Applications To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rt Kreitma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gruent Corporati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(212) 431-5100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rtk@congruen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76480" y="1413000"/>
            <a:ext cx="6792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more synchronization primitives than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, events, semaphores, critical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both with processes and as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pid() and wait() can be closely approximated by waiting on process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CHLD requires re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76480" y="1413000"/>
            <a:ext cx="67928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ile handles are abstract data structures, not low integer f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library fd’s are f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herited stdin, stdout, stderr are directly accessible in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 must be passed as arguments or i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ssing File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06680" y="1413000"/>
            <a:ext cx="5932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’t se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no wait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 on ope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’t unlink an ope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’t get inode numbers from sta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’s no C library read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, forget 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 Library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413000"/>
            <a:ext cx="71629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of the UNIX C library is really just a wrapper on system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 library attempts to duplicate many/most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try names are the same, but operate in slightly different, often undocumented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 the source, L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:/SoftLib/MSLFILES/VC20CRT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ths Often Travers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23760" y="1413000"/>
            <a:ext cx="729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plications use hard-coded well-known paths (for example, /etc/passwd, /usr/spool/mqueue, /t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rect Windows NT equival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%SystemRoot% as base for paths or use Registry entries to keep explici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mber:  No single top-level with multiple drive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8480" y="1413000"/>
            <a:ext cx="7007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C library functions (malloc,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functions give complete control over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functions allows allocations from regions (malloc uses ProcessHeap(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ack uses guard pages, don’t assume ex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IX Style I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4130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() and shm*() use fil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*() use named semaph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*() and named pipes are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2880" y="1370160"/>
            <a:ext cx="8058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have Access Control Lists (AC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/processes have Security IDs (S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 or through new APIs in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current user, groups, etc. through Network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ssues In Porting Ser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30280" y="1413000"/>
            <a:ext cx="62848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application be ported or must it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recognize difficult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write Versus 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76200" y="1413000"/>
            <a:ext cx="659124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pplications can be 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 must be re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I want to take advantage of the advanced features in Windows 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better will a rewrite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work will be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46320" y="1413000"/>
            <a:ext cx="665316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differences between UNIX and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issues in porting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, tips,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IX Weird Th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60640" y="1413000"/>
            <a:ext cx="682308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se and you know you’re in for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t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k() as a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k() that really uses proces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asy P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73360" y="1413000"/>
            <a:ext cx="5599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inet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with a fork/ex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curity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uses few UNIX weird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king Easy Ports Multithread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4320" y="1890720"/>
            <a:ext cx="69753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thread waits for connection, created new thread when it get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main() now a procedure called from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tatics declspec(th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out for stdin/out/err, security, exit and 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possible P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14680" y="1413000"/>
            <a:ext cx="57164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ssive use of fork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fork() and exit to clean up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precise semantics of UNIX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mail great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ols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6600" y="1413000"/>
            <a:ext cx="4871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tool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fil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IX Tool Assum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43160" y="1413000"/>
            <a:ext cx="64580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-based build environments assume a certain tool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, ar, cc, grep, awk, nm,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UNIX assumptions are valid only because these tools are bundled and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ird-party tools will never have enough 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piler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66920" y="1413000"/>
            <a:ext cx="64101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s are not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compilers have proven to be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CC is available for pu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out for compiler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kefile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16160" y="1413000"/>
            <a:ext cx="65134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’s “nmake” incompatible with UNIX “ma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“.obj” not “.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es “.lib” not “.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case-in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Resource Vend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8920" y="1413000"/>
            <a:ext cx="6086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: 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S: 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milton Laboratories: 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Focus:  UNIX Compatibility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ensus:  Tools; UNIX Compatibility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IX Compatibility Libr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84120" y="1413000"/>
            <a:ext cx="657684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are quit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do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you just build miss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verview Of Ser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1440" y="1413000"/>
            <a:ext cx="6261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independently of any logged on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to multiple requestors called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your client applications by some sort of IPC/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, named pipes, 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7129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arting Ser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00240" y="1413000"/>
            <a:ext cx="67453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 as “serv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by Service Control Manager at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 as “daem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as part of init scripts at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ypical Operation (UNI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9360" y="1413000"/>
            <a:ext cx="62452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on socket (inet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k() on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security to user (set uid/g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transactio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ypical Operation (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560" y="1413000"/>
            <a:ext cx="78343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on connection (named pipe, sock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thread from a pool of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u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hread to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fferences Between UNIX And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96704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library is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ies and function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ay to get an inferior port of a UNIX server is by not taking advantage of the advanced features i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30320" y="1413000"/>
            <a:ext cx="70833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 sort of == fork()/exe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rent/child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413000"/>
            <a:ext cx="716292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FPE, SIGSEGV, SIGILL, SIGINT, SIGABRT, SIGTER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the interesting UNIX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CHLD,  SIGALRM,  SIGPIPE, SIG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are not an IPC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t Kreitman</dc:creator>
  <dc:description/>
  <dc:language>en-US</dc:language>
  <cp:lastModifiedBy>shannon wheeler</cp:lastModifiedBy>
  <cp:revision>0</cp:revision>
  <dc:subject/>
  <dc:title>Porting UNIX® Server Applications To Windows NT™   Art Kreitman Congruent Corporation (212) 431-5100 artk@congruent.com</dc:title>
</cp:coreProperties>
</file>