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685800" y="895320"/>
            <a:ext cx="777240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Fundamentals Of Great Server Applications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ark Lucovsky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Ev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80880" y="1477800"/>
            <a:ext cx="83818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to signal that something occ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need to communicate that something happened, events are the appropriate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 completion notification is an example of where event objects are us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be auto clearing or manual cle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ownership.  Strictly a signaling mech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i-expensive (ring transition involv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utex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58720" y="1528920"/>
            <a:ext cx="802656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 to CriticalSection, but the mutex object is shareable betwee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expensive (ring transition involved) than Critical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ursive, ownership is tra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a thread exits while holding a mutex, the next waiter of the mutex sees this as WAIT_ABANDONED error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mapho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17520" y="1512720"/>
            <a:ext cx="85089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ounting waitable object that satisfies a wait as long as the count is greater than 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 decrements the count, ReleaseSemaphore increments the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ternally by Windows NT in critical section objects (when contention occurs), and in some queuing cases to track the number of items in a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i-expensive (ring transition involv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Building Your Own Obje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65040" y="1555920"/>
            <a:ext cx="84139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queues can be built using a semaphore combined with a mut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elaborate mechanisms can be built using named objects, shared memory, and interlocked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obal critical sections where cross-process, high-speed mutual exclusion i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Virtual Mem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14200" y="1512720"/>
            <a:ext cx="8715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ing set-based p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an set working set size (SetProcessWorkingSetSize).  Windows NT enforces the sum of the minimum working sets can not exceed the size of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page locking (VirtualLoc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ss space reservation/commi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ped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aging Polic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35000" y="1398600"/>
            <a:ext cx="8874000" cy="46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r is tuned to multitask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9852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t is, some page faulting is goo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policy is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9852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ck active pages on per-process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9852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every fault look at available memory a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1240" indent="-36504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ample, grow working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1240" indent="-36504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not enough, remove page from working set (page against the pro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9852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s to remove are kept on somewhat circular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1240" indent="-36504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s least recently page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Things To Watch Out F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049480" y="1508040"/>
            <a:ext cx="504504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run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 thread pac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 Run Tim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14200" y="1487520"/>
            <a:ext cx="8715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can not take advantage of high-performance I/O in CRT fil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do not get to control things like heap serialization (see HeapCreate with HEAP_NO_SERIALIZ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are going through another layer of code to get to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use the C run times if Win3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 not provide equivalent functionality (like strlen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ign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71680" y="1482840"/>
            <a:ext cx="80010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supports several safe and efficient IPC mechanisms -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use signals as an IPC mechanis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als are a crock.  Witness the BSD AT&amp;T diver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are using signals in your server application, you need to take a very close look at your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ustom Thread Pack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47640" y="1386000"/>
            <a:ext cx="7848720" cy="50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applications that do this do it because of their UNI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o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lready has threads.  You should not have to thread on top of our 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expensive context switches once you count in TLS switching and stack limit swi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want performance and scalability, use Windows NT, don’t just get your UNIX design to compile, link, and li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Over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68360" y="1530360"/>
            <a:ext cx="640728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-performance I/O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/thread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set of synchronization primi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lec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00040" y="1322280"/>
            <a:ext cx="814392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not suitable for high-performance server inbound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true on UNIX, and is true on Windows 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synchronous I/O on sockets with completion port notification instead of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It is scalable, efficient, and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next presentation shows you exactly how to structure the client-server I/O handling in your server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Fundamentals Of Writing A Great Server Appli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00040" y="1927080"/>
            <a:ext cx="8143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S resources to achieve great performance - not brute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 programmers don’t abuse real t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right synchronizatio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CRT for highest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don’t need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st optimization is a good 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rver-based application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5640" y="231840"/>
            <a:ext cx="8172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3200" spc="-1" strike="noStrike" baseline="50000">
                <a:solidFill>
                  <a:srgbClr val="f6bf69"/>
                </a:solidFill>
                <a:latin typeface="Times New Roman"/>
                <a:ea typeface="Times New Roman"/>
              </a:rPr>
              <a:t>™</a:t>
            </a:r>
            <a:r>
              <a:rPr b="1" lang="en-US" sz="44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 System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92280" y="4923000"/>
            <a:ext cx="3943440" cy="425520"/>
          </a:xfrm>
          <a:prstGeom prst="rect">
            <a:avLst/>
          </a:prstGeom>
          <a:solidFill>
            <a:srgbClr val="009688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35360" y="4923000"/>
            <a:ext cx="3859200" cy="425520"/>
          </a:xfrm>
          <a:prstGeom prst="rect">
            <a:avLst/>
          </a:prstGeom>
          <a:solidFill>
            <a:srgbClr val="3333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r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381400" y="5041800"/>
            <a:ext cx="4610160" cy="304920"/>
          </a:xfrm>
          <a:prstGeom prst="rect">
            <a:avLst/>
          </a:prstGeom>
          <a:solidFill>
            <a:srgbClr val="3e140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058160" y="5715000"/>
            <a:ext cx="1415880" cy="501480"/>
          </a:xfrm>
          <a:prstGeom prst="rect">
            <a:avLst/>
          </a:prstGeom>
          <a:solidFill>
            <a:srgbClr val="372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eg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832360" y="5715000"/>
            <a:ext cx="1227240" cy="501480"/>
          </a:xfrm>
          <a:prstGeom prst="rect">
            <a:avLst/>
          </a:prstGeom>
          <a:solidFill>
            <a:srgbClr val="1834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at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4360" y="5716440"/>
            <a:ext cx="966960" cy="501480"/>
          </a:xfrm>
          <a:prstGeom prst="rect">
            <a:avLst/>
          </a:prstGeom>
          <a:solidFill>
            <a:srgbClr val="3c002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655640" y="5713560"/>
            <a:ext cx="917640" cy="501480"/>
          </a:xfrm>
          <a:prstGeom prst="rect">
            <a:avLst/>
          </a:prstGeom>
          <a:solidFill>
            <a:srgbClr val="28004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77960" y="5715000"/>
            <a:ext cx="1085760" cy="5014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p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664080" y="5711760"/>
            <a:ext cx="1017720" cy="509760"/>
          </a:xfrm>
          <a:prstGeom prst="rect">
            <a:avLst/>
          </a:prstGeom>
          <a:solidFill>
            <a:srgbClr val="00353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cks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240" y="5713560"/>
            <a:ext cx="1163520" cy="501480"/>
          </a:xfrm>
          <a:prstGeom prst="rect">
            <a:avLst/>
          </a:prstGeom>
          <a:solidFill>
            <a:srgbClr val="003e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457360" y="3976560"/>
            <a:ext cx="1122480" cy="611280"/>
          </a:xfrm>
          <a:prstGeom prst="rect">
            <a:avLst/>
          </a:prstGeom>
          <a:solidFill>
            <a:srgbClr val="3a3c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746600" y="3976560"/>
            <a:ext cx="1231920" cy="611280"/>
          </a:xfrm>
          <a:prstGeom prst="rect">
            <a:avLst/>
          </a:prstGeom>
          <a:solidFill>
            <a:srgbClr val="004e4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576600" y="3976560"/>
            <a:ext cx="1177920" cy="601560"/>
          </a:xfrm>
          <a:prstGeom prst="rect">
            <a:avLst/>
          </a:prstGeom>
          <a:solidFill>
            <a:srgbClr val="0054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218360" y="3976560"/>
            <a:ext cx="1274760" cy="6015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977080" y="3976560"/>
            <a:ext cx="1238400" cy="60480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92280" y="3976560"/>
            <a:ext cx="1765440" cy="61128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30560" y="4589640"/>
            <a:ext cx="6256440" cy="3430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Object management/executive run 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92280" y="4325760"/>
            <a:ext cx="1541520" cy="59832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58800" y="1628640"/>
            <a:ext cx="1085760" cy="60660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344600" y="1871640"/>
            <a:ext cx="1085760" cy="606600"/>
          </a:xfrm>
          <a:prstGeom prst="rect">
            <a:avLst/>
          </a:prstGeom>
          <a:solidFill>
            <a:srgbClr val="316501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o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128600" y="2111400"/>
            <a:ext cx="1085760" cy="6066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11160" y="2340000"/>
            <a:ext cx="1085760" cy="606600"/>
          </a:xfrm>
          <a:prstGeom prst="rect">
            <a:avLst/>
          </a:prstGeom>
          <a:solidFill>
            <a:srgbClr val="009688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95160" y="2579760"/>
            <a:ext cx="1085760" cy="606600"/>
          </a:xfrm>
          <a:prstGeom prst="rect">
            <a:avLst/>
          </a:prstGeom>
          <a:solidFill>
            <a:srgbClr val="9234db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911160" y="1141560"/>
            <a:ext cx="138600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Daem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436920" y="1628640"/>
            <a:ext cx="1085760" cy="606600"/>
          </a:xfrm>
          <a:prstGeom prst="rect">
            <a:avLst/>
          </a:prstGeom>
          <a:solidFill>
            <a:srgbClr val="4e4f00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222720" y="1871640"/>
            <a:ext cx="1085760" cy="60660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ic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006720" y="2111400"/>
            <a:ext cx="1085760" cy="606600"/>
          </a:xfrm>
          <a:prstGeom prst="rect">
            <a:avLst/>
          </a:prstGeom>
          <a:solidFill>
            <a:srgbClr val="676767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89280" y="2340000"/>
            <a:ext cx="1085760" cy="60660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97040" y="2579760"/>
            <a:ext cx="1085760" cy="60660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789280" y="1141560"/>
            <a:ext cx="125100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45280" y="1628640"/>
            <a:ext cx="1085760" cy="60660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130720" y="1871640"/>
            <a:ext cx="1085760" cy="60660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915080" y="2111400"/>
            <a:ext cx="1085760" cy="60660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5240" y="2340000"/>
            <a:ext cx="1106640" cy="56988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W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481640" y="2579760"/>
            <a:ext cx="1085760" cy="6066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5240" y="1141560"/>
            <a:ext cx="203040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259760" y="1628640"/>
            <a:ext cx="1085760" cy="606600"/>
          </a:xfrm>
          <a:prstGeom prst="rect">
            <a:avLst/>
          </a:prstGeom>
          <a:solidFill>
            <a:srgbClr val="9234db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045200" y="1871640"/>
            <a:ext cx="1085760" cy="60660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ASE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29560" y="2111400"/>
            <a:ext cx="1085760" cy="606600"/>
          </a:xfrm>
          <a:prstGeom prst="rect">
            <a:avLst/>
          </a:prstGeom>
          <a:solidFill>
            <a:srgbClr val="333333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l </a:t>
            </a:r>
            <a:r>
              <a:rPr b="1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615000" y="1141560"/>
            <a:ext cx="18273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615000" y="2343240"/>
            <a:ext cx="1085760" cy="6066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dPerfect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419880" y="2579760"/>
            <a:ext cx="1085760" cy="60660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tus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2-3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44680" y="3186000"/>
            <a:ext cx="0" cy="35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69920" y="3186000"/>
            <a:ext cx="0" cy="35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84160" y="3227400"/>
            <a:ext cx="376200" cy="222120"/>
          </a:xfrm>
          <a:prstGeom prst="rect">
            <a:avLst/>
          </a:prstGeom>
          <a:solidFill>
            <a:srgbClr val="3333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70320" y="3193920"/>
            <a:ext cx="0" cy="35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95560" y="3193920"/>
            <a:ext cx="0" cy="35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809800" y="3235320"/>
            <a:ext cx="376200" cy="222120"/>
          </a:xfrm>
          <a:prstGeom prst="rect">
            <a:avLst/>
          </a:prstGeom>
          <a:solidFill>
            <a:srgbClr val="3333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72200" y="3186000"/>
            <a:ext cx="0" cy="35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96000" y="3186000"/>
            <a:ext cx="0" cy="35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711680" y="3227400"/>
            <a:ext cx="376200" cy="222120"/>
          </a:xfrm>
          <a:prstGeom prst="rect">
            <a:avLst/>
          </a:prstGeom>
          <a:solidFill>
            <a:srgbClr val="3333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40760" y="3193920"/>
            <a:ext cx="0" cy="35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66000" y="3193920"/>
            <a:ext cx="0" cy="35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780240" y="3235320"/>
            <a:ext cx="376200" cy="222120"/>
          </a:xfrm>
          <a:prstGeom prst="rect">
            <a:avLst/>
          </a:prstGeom>
          <a:solidFill>
            <a:srgbClr val="3333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92280" y="3552840"/>
            <a:ext cx="7804080" cy="423720"/>
          </a:xfrm>
          <a:prstGeom prst="rect">
            <a:avLst/>
          </a:prstGeom>
          <a:solidFill>
            <a:srgbClr val="333333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Execu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480" y="5361120"/>
            <a:ext cx="7801200" cy="365400"/>
          </a:xfrm>
          <a:custGeom>
            <a:avLst/>
            <a:gdLst/>
            <a:ahLst/>
            <a:rect l="0" t="0" r="r" b="b"/>
            <a:pathLst>
              <a:path w="21670" h="1015">
                <a:moveTo>
                  <a:pt x="79" y="0"/>
                </a:moveTo>
                <a:lnTo>
                  <a:pt x="21670" y="0"/>
                </a:lnTo>
                <a:lnTo>
                  <a:pt x="20498" y="485"/>
                </a:lnTo>
                <a:lnTo>
                  <a:pt x="21635" y="1015"/>
                </a:lnTo>
                <a:lnTo>
                  <a:pt x="0" y="1015"/>
                </a:lnTo>
                <a:lnTo>
                  <a:pt x="1145" y="543"/>
                </a:lnTo>
                <a:lnTo>
                  <a:pt x="79" y="0"/>
                </a:lnTo>
                <a:close/>
              </a:path>
            </a:pathLst>
          </a:custGeom>
          <a:solidFill>
            <a:srgbClr val="009688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60640" y="5405400"/>
            <a:ext cx="169560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High-Performance I/O Syst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0440" y="1492200"/>
            <a:ext cx="822312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cache integrated with VM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ility to bypass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_FLAG_NO_BUFF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_FLAG_WRITE_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ility to bypass file system by opening raw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e asynchronous I/O with multiple completion notification m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rocess/Thread Contro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90720" y="1428840"/>
            <a:ext cx="716292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ed processes run in their own address space and are protected from other applications and 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easy to debug... Applications are NOT part of the 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ive efficient threads with affinity support (SetThreadAffin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y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process-level priority classes with six thread levels per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riority Spec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3800" y="1141560"/>
            <a:ext cx="8132760" cy="2522520"/>
          </a:xfrm>
          <a:prstGeom prst="rect">
            <a:avLst/>
          </a:prstGeom>
          <a:gradFill rotWithShape="0">
            <a:gsLst>
              <a:gs pos="0">
                <a:srgbClr val="00b7a5"/>
              </a:gs>
              <a:gs pos="100000">
                <a:srgbClr val="005b52"/>
              </a:gs>
            </a:gsLst>
            <a:lin ang="81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53960" y="1335240"/>
            <a:ext cx="1322280" cy="322200"/>
          </a:xfrm>
          <a:prstGeom prst="rect">
            <a:avLst/>
          </a:prstGeom>
          <a:gradFill rotWithShape="0">
            <a:gsLst>
              <a:gs pos="0">
                <a:srgbClr val="95366d"/>
              </a:gs>
              <a:gs pos="100000">
                <a:srgbClr val="f95ab7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811600" y="1297080"/>
            <a:ext cx="2386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-time time-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093760" y="1854360"/>
            <a:ext cx="1322640" cy="1198440"/>
            <a:chOff x="2093760" y="1854360"/>
            <a:chExt cx="1322640" cy="1198440"/>
          </a:xfrm>
        </p:grpSpPr>
        <p:sp>
          <p:nvSpPr>
            <p:cNvPr id="108" name=""/>
            <p:cNvSpPr txBox="1"/>
            <p:nvPr/>
          </p:nvSpPr>
          <p:spPr>
            <a:xfrm>
              <a:off x="2093760" y="1854360"/>
              <a:ext cx="1322280" cy="1198440"/>
            </a:xfrm>
            <a:prstGeom prst="rect">
              <a:avLst/>
            </a:prstGeom>
            <a:gradFill rotWithShape="0">
              <a:gsLst>
                <a:gs pos="0">
                  <a:srgbClr val="95366d"/>
                </a:gs>
                <a:gs pos="100000">
                  <a:srgbClr val="f95ab7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12840" y="2376360"/>
              <a:ext cx="1303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12840" y="2832120"/>
              <a:ext cx="1303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12840" y="2611440"/>
              <a:ext cx="1303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93760" y="2125800"/>
              <a:ext cx="1306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 txBox="1"/>
          <p:nvPr/>
        </p:nvSpPr>
        <p:spPr>
          <a:xfrm>
            <a:off x="3622680" y="185436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-time 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57480" y="3281400"/>
            <a:ext cx="1341360" cy="253440"/>
          </a:xfrm>
          <a:prstGeom prst="rect">
            <a:avLst/>
          </a:prstGeom>
          <a:gradFill rotWithShape="0">
            <a:gsLst>
              <a:gs pos="0">
                <a:srgbClr val="95366d"/>
              </a:gs>
              <a:gs pos="100000">
                <a:srgbClr val="f95ab7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111640" y="3208320"/>
            <a:ext cx="1549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-time i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375240" y="1163520"/>
            <a:ext cx="14540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-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3800" y="3652920"/>
            <a:ext cx="8128080" cy="288144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193ca8"/>
              </a:gs>
            </a:gsLst>
            <a:lin ang="81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66640" y="3733920"/>
            <a:ext cx="15462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5-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nreal-time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ime-crit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343400" y="3841920"/>
            <a:ext cx="29844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16160" y="3662280"/>
            <a:ext cx="27874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02040" y="4392720"/>
            <a:ext cx="317520" cy="581040"/>
          </a:xfrm>
          <a:prstGeom prst="rect">
            <a:avLst/>
          </a:prstGeom>
          <a:gradFill rotWithShape="0">
            <a:gsLst>
              <a:gs pos="0">
                <a:srgbClr val="00ae00"/>
              </a:gs>
              <a:gs pos="100000">
                <a:srgbClr val="00340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99160" y="4861080"/>
            <a:ext cx="320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27480" y="4313160"/>
            <a:ext cx="29844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652920" y="4578480"/>
            <a:ext cx="1060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-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78760" y="6262560"/>
            <a:ext cx="1204920" cy="147600"/>
          </a:xfrm>
          <a:prstGeom prst="rect">
            <a:avLst/>
          </a:prstGeom>
          <a:solidFill>
            <a:srgbClr val="33333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700600" y="6093000"/>
            <a:ext cx="140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-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e th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561000" y="3681360"/>
            <a:ext cx="13525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99160" y="4737240"/>
            <a:ext cx="311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02040" y="4616280"/>
            <a:ext cx="292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08520" y="4502160"/>
            <a:ext cx="311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14720" y="3921120"/>
            <a:ext cx="318960" cy="581040"/>
          </a:xfrm>
          <a:prstGeom prst="rect">
            <a:avLst/>
          </a:prstGeom>
          <a:gradFill rotWithShape="0">
            <a:gsLst>
              <a:gs pos="0">
                <a:srgbClr val="51dc00"/>
              </a:gs>
              <a:gs pos="100000">
                <a:srgbClr val="18420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24440" y="4381560"/>
            <a:ext cx="309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25880" y="4265640"/>
            <a:ext cx="311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024440" y="4146480"/>
            <a:ext cx="298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14720" y="4032360"/>
            <a:ext cx="320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946840" y="4583160"/>
            <a:ext cx="2412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94160" y="4970520"/>
            <a:ext cx="2162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-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l back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35720" y="5051520"/>
            <a:ext cx="317520" cy="581040"/>
          </a:xfrm>
          <a:prstGeom prst="rect">
            <a:avLst/>
          </a:prstGeom>
          <a:gradFill rotWithShape="0">
            <a:gsLst>
              <a:gs pos="0">
                <a:srgbClr val="005400"/>
              </a:gs>
              <a:gs pos="100000">
                <a:srgbClr val="00190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32480" y="5519880"/>
            <a:ext cx="320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770520" y="4991040"/>
            <a:ext cx="2412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45080" y="5397480"/>
            <a:ext cx="309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35720" y="5284800"/>
            <a:ext cx="311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35720" y="5160960"/>
            <a:ext cx="318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454560" y="5364000"/>
            <a:ext cx="2919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-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 foreground/back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91480" y="5927760"/>
            <a:ext cx="1227240" cy="136440"/>
          </a:xfrm>
          <a:prstGeom prst="rect">
            <a:avLst/>
          </a:prstGeom>
          <a:solidFill>
            <a:srgbClr val="0054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881600" y="5756400"/>
            <a:ext cx="1962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7fff00"/>
                </a:solidFill>
                <a:latin typeface="Times New Roman"/>
                <a:ea typeface="Times New Roman"/>
              </a:rPr>
              <a:t>1-</a:t>
            </a:r>
            <a:r>
              <a:rPr b="1" lang="en-US" sz="1600" spc="-1" strike="noStrike">
                <a:solidFill>
                  <a:srgbClr val="7fff00"/>
                </a:solidFill>
                <a:latin typeface="Times New Roman"/>
                <a:ea typeface="Times New Roman"/>
              </a:rPr>
              <a:t>Nonreal-time/i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74760" y="3879720"/>
            <a:ext cx="1341360" cy="13644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013120" y="4129200"/>
            <a:ext cx="198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-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fore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03280" y="5861160"/>
            <a:ext cx="26114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iorities 15 and 1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o all three dynamic cla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171440" y="4076640"/>
            <a:ext cx="876600" cy="180036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02120" y="6010200"/>
            <a:ext cx="1736640" cy="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183520" y="5891040"/>
            <a:ext cx="247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8424720" y="6242040"/>
            <a:ext cx="247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03520" y="3817800"/>
            <a:ext cx="311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21400" y="4643280"/>
            <a:ext cx="317520" cy="582480"/>
          </a:xfrm>
          <a:prstGeom prst="rect">
            <a:avLst/>
          </a:prstGeom>
          <a:gradFill rotWithShape="0">
            <a:gsLst>
              <a:gs pos="0">
                <a:srgbClr val="037c03"/>
              </a:gs>
              <a:gs pos="100000">
                <a:srgbClr val="00250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22840" y="5113440"/>
            <a:ext cx="316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624640" y="4989600"/>
            <a:ext cx="314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21400" y="4878360"/>
            <a:ext cx="320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624640" y="4754520"/>
            <a:ext cx="323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000680" y="2274840"/>
            <a:ext cx="26542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levels like input, cursor, cache flushing, file sys., d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itfalls Of Real Ti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82520" y="1387440"/>
            <a:ext cx="877896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use real time unless you need it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does not make your application run fast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y high priority... It doesn’t interfere with system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 time interferes 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 flushing dirty pages to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 manager flushes and read 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network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us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other system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ynchronization Primi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30400" y="1428840"/>
            <a:ext cx="688356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ate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able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te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be named or unna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common WaitForSingleObject or WaitForMultiple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riticalSection Objec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72960" y="1587600"/>
            <a:ext cx="839772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for mutual exclusion within a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high performance when no contention exists (9 instruc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ursive, ownership is tra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interlocked operations coupled with a dynamically created semaph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 cost in terms of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k Lucovsky</dc:creator>
  <dc:description>Lucovsky show for Mon</dc:description>
  <dc:language>en-US</dc:language>
  <cp:lastModifiedBy>Tomi Poutanen</cp:lastModifiedBy>
  <cp:revision>0</cp:revision>
  <dc:subject>Server PDC</dc:subject>
  <dc:title>Fundamentals of great server applications</dc:title>
</cp:coreProperties>
</file>