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298440"/>
            <a:ext cx="7772400" cy="61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national Server Applications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. Avery Bishop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Developer Relation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ori Hoerth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national Program Manag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066680" y="2133720"/>
            <a:ext cx="67057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76440" y="1414440"/>
            <a:ext cx="7791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and language settings, user selected at setup and thru Control P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, time, sorting, str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thod of coding once, let system tables handle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 of these APIs in Windows NT 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89000" y="228600"/>
            <a:ext cx="6966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NLS AP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ocale ID (LCID) Parame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52360" y="1414440"/>
            <a:ext cx="68389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ised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rt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ly defines a lo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LangID (LANG_FRENCH,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LANG_FRENCH_CANADI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CTyp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24000" y="1414440"/>
            <a:ext cx="66960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collection of locale-specific data,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ed names (months, days, country, language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code page value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NSI and O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ting standard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ate, time, currency, number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 Calenda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tring Match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66720" y="5405400"/>
            <a:ext cx="608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eString using LCID=Standard French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NORM_IGNORECAS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NORM_IGNORENONSP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0200" y="1314360"/>
            <a:ext cx="3171960" cy="3686040"/>
          </a:xfrm>
          <a:prstGeom prst="rect">
            <a:avLst/>
          </a:prstGeom>
          <a:gradFill rotWithShape="0">
            <a:gsLst>
              <a:gs pos="0">
                <a:srgbClr val="00dfca"/>
              </a:gs>
              <a:gs pos="100000">
                <a:srgbClr val="009c8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00080" y="1743120"/>
            <a:ext cx="2600280" cy="300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00080" y="1371600"/>
            <a:ext cx="2600280" cy="39672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rver account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1720" y="1828800"/>
            <a:ext cx="2343240" cy="283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ngel Pe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rid Ångströ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ristiane Schö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isabeth Scho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érard Lau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Jörg Straß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Jørn H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José Me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Ólafur Asmund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ylvia Stra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15000" y="1243080"/>
            <a:ext cx="4043520" cy="642960"/>
          </a:xfrm>
          <a:prstGeom prst="rect">
            <a:avLst/>
          </a:prstGeom>
          <a:gradFill rotWithShape="0">
            <a:gsLst>
              <a:gs pos="0">
                <a:srgbClr val="00dfca"/>
              </a:gs>
              <a:gs pos="100000">
                <a:srgbClr val="009c8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943520" y="1386000"/>
            <a:ext cx="1357200" cy="36684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arch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15120" y="1386000"/>
            <a:ext cx="241452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396120" y="1386000"/>
            <a:ext cx="1343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2014560"/>
            <a:ext cx="3228840" cy="1042920"/>
          </a:xfrm>
          <a:prstGeom prst="rect">
            <a:avLst/>
          </a:prstGeom>
          <a:gradFill rotWithShape="0">
            <a:gsLst>
              <a:gs pos="0">
                <a:srgbClr val="00dfca"/>
              </a:gs>
              <a:gs pos="100000">
                <a:srgbClr val="009c8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729400" y="2100240"/>
            <a:ext cx="1285920" cy="36684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ou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29480" y="2100240"/>
            <a:ext cx="20001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00760" y="2171520"/>
            <a:ext cx="17146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Jörg Straß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Jørn H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29040" y="3300480"/>
            <a:ext cx="4029120" cy="714240"/>
          </a:xfrm>
          <a:prstGeom prst="rect">
            <a:avLst/>
          </a:prstGeom>
          <a:gradFill rotWithShape="0">
            <a:gsLst>
              <a:gs pos="0">
                <a:srgbClr val="00dfca"/>
              </a:gs>
              <a:gs pos="100000">
                <a:srgbClr val="009c8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43520" y="3471840"/>
            <a:ext cx="1514520" cy="36684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arch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2080" y="3467160"/>
            <a:ext cx="225756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572160" y="3471840"/>
            <a:ext cx="167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29320" y="4181400"/>
            <a:ext cx="3228840" cy="1042920"/>
          </a:xfrm>
          <a:prstGeom prst="rect">
            <a:avLst/>
          </a:prstGeom>
          <a:gradFill rotWithShape="0">
            <a:gsLst>
              <a:gs pos="0">
                <a:srgbClr val="00dfca"/>
              </a:gs>
              <a:gs pos="100000">
                <a:srgbClr val="009c8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729400" y="4324320"/>
            <a:ext cx="1285920" cy="36684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ou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29480" y="4329000"/>
            <a:ext cx="2000160" cy="79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738840" y="4338720"/>
            <a:ext cx="17146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Jörg Straß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ylvia Stra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19280" y="228600"/>
            <a:ext cx="7705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haracter Enco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42880" y="1414440"/>
            <a:ext cx="80596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stream and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32 consistently supports conversion between Unicod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local code page (ANSI or DB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application string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target:  compile-time choice between local code page (/a) and Unicode (/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code across all Win32:  use local cod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BCS Enab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04840" y="1414440"/>
            <a:ext cx="6934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your string processing algorithms (pointer movement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sLeadByteEx( ) to tell whether byte is first half of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harNext( ), CharPrev( ) when traversing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s HALFIME, 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section in International 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er Applications That Speak Unico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76120" y="1828800"/>
            <a:ext cx="85914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-independent data storage/retriev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nicely on Windows NT, alternative to local code pag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database, mail server, communications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OLE uses Unicode mess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 - some Windows NT “Cairo” APIs will require Uni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nformation available from Unicode Consort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String Handling AP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2400" y="1414440"/>
            <a:ext cx="763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tringType (ANSI, DBCS, Uni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dStringW (Unicode char combin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onversion between local code page and Uni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ByteToWideChar, WideCharToMulti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rt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CMap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ultilingual Content I/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1280" y="1414440"/>
            <a:ext cx="5583240" cy="28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mplement multilingual content you need to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 and Fo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keyboards and Input Method 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nd layout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ample Appl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74640" y="1414440"/>
            <a:ext cx="77961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IDFONT (with code page ex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nstrate enumeration and installation of code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 conversion using Win32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0360" y="228600"/>
            <a:ext cx="89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national Server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147680" y="1414440"/>
            <a:ext cx="684864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we will cov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 archite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for international lo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encoding:  server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ally changing the application’s UI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lingual content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5680" y="228600"/>
            <a:ext cx="8972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f You Want Dynamic UI Ch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27160" y="1414440"/>
            <a:ext cx="689148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what you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ranslations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to retrieve UI in give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, based on current lo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 application (user)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 for user to change language 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ultiple Resources In EX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5040" y="1414440"/>
            <a:ext cx="84139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 Win32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keyword to tag each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by Visual C++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.0 and other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al b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, based on current locale (any A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ually, using language ID (FindResource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ion via EnumResource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25400" y="228600"/>
            <a:ext cx="7693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inding A Win32 Resource By Language 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74800" y="1768320"/>
            <a:ext cx="739440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85640" indent="-4856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search in sorted direc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841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841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841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’s language search order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841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Language/Sub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841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841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841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kipped if primary language is Engli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841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822920" y="2362320"/>
            <a:ext cx="2774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Find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  <a:ea typeface="Courier New"/>
              </a:rPr>
              <a:t>uses ThreadLo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822920" y="3228840"/>
            <a:ext cx="274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6bf69"/>
                </a:solidFill>
                <a:latin typeface="Courier New"/>
                <a:ea typeface="Courier New"/>
              </a:rPr>
              <a:t>FindResource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93920" y="2695680"/>
            <a:ext cx="1643040" cy="712800"/>
          </a:xfrm>
          <a:prstGeom prst="line">
            <a:avLst/>
          </a:prstGeom>
          <a:ln w="12600">
            <a:solidFill>
              <a:srgbClr val="f6bf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236760" y="2624040"/>
            <a:ext cx="1586160" cy="3621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151080" y="2614680"/>
            <a:ext cx="1629000" cy="14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51160" y="3071880"/>
            <a:ext cx="1585800" cy="371520"/>
          </a:xfrm>
          <a:prstGeom prst="line">
            <a:avLst/>
          </a:prstGeom>
          <a:ln w="12600">
            <a:solidFill>
              <a:srgbClr val="f6bf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637080" y="3456000"/>
            <a:ext cx="1199880" cy="1440"/>
          </a:xfrm>
          <a:prstGeom prst="line">
            <a:avLst/>
          </a:prstGeom>
          <a:ln w="12600">
            <a:solidFill>
              <a:srgbClr val="f6bf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608280" y="2928960"/>
            <a:ext cx="1214640" cy="4856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41240" y="228600"/>
            <a:ext cx="7662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anguage DLL Meth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2840" y="1414440"/>
            <a:ext cx="85201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can make your UI language support extensible with DLLs containing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resource only D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a naming conventions for the D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the resource only DLLs at ru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can enumerate the accessible languages at run time and provide a UI to chang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I For Changing Lang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9880" y="1414440"/>
            <a:ext cx="800568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e supported or installed lo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System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CID_INST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CID_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ing languages in you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Resource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info on many languages from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Locale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E_SLANG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E_SCTRY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ocale Parameter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31840" y="1414440"/>
            <a:ext cx="8682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e parameterization allows application to conform transparently to local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lo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UserDefaultL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e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LocaleInfo(LOCALE_SCURREN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and ru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and when to use local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33520" y="228600"/>
            <a:ext cx="80773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ultilingual Input Handling</a:t>
            </a:r>
            <a:br>
              <a:rPr sz="4800"/>
            </a:br>
            <a:r>
              <a:rPr b="1" lang="en-US" sz="3600" spc="-1" strike="noStrike">
                <a:solidFill>
                  <a:srgbClr val="80fff0"/>
                </a:solidFill>
                <a:latin typeface="Times New Roman"/>
                <a:ea typeface="Times New Roman"/>
              </a:rPr>
              <a:t>Windows NT “Cairo” and Windows 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90680" y="1811160"/>
            <a:ext cx="816444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type:  HKL - Input Language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 word = languag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 word = layout h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M_INPUTLANGCHANGE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M_INPUTLANG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710480" y="5408640"/>
            <a:ext cx="1033920" cy="1006920"/>
          </a:xfrm>
          <a:custGeom>
            <a:avLst/>
            <a:gdLst/>
            <a:ahLst/>
            <a:rect l="0" t="0" r="r" b="b"/>
            <a:pathLst>
              <a:path w="2872" h="2797">
                <a:moveTo>
                  <a:pt x="0" y="1391"/>
                </a:moveTo>
                <a:lnTo>
                  <a:pt x="34" y="1093"/>
                </a:lnTo>
                <a:lnTo>
                  <a:pt x="129" y="830"/>
                </a:lnTo>
                <a:lnTo>
                  <a:pt x="274" y="561"/>
                </a:lnTo>
                <a:lnTo>
                  <a:pt x="478" y="346"/>
                </a:lnTo>
                <a:lnTo>
                  <a:pt x="717" y="170"/>
                </a:lnTo>
                <a:lnTo>
                  <a:pt x="992" y="63"/>
                </a:lnTo>
                <a:lnTo>
                  <a:pt x="1296" y="0"/>
                </a:lnTo>
                <a:lnTo>
                  <a:pt x="1595" y="0"/>
                </a:lnTo>
                <a:lnTo>
                  <a:pt x="1884" y="63"/>
                </a:lnTo>
                <a:lnTo>
                  <a:pt x="2155" y="170"/>
                </a:lnTo>
                <a:lnTo>
                  <a:pt x="2394" y="346"/>
                </a:lnTo>
                <a:lnTo>
                  <a:pt x="2603" y="561"/>
                </a:lnTo>
                <a:lnTo>
                  <a:pt x="2748" y="830"/>
                </a:lnTo>
                <a:lnTo>
                  <a:pt x="2842" y="1093"/>
                </a:lnTo>
                <a:lnTo>
                  <a:pt x="2872" y="1391"/>
                </a:lnTo>
                <a:lnTo>
                  <a:pt x="2842" y="1689"/>
                </a:lnTo>
                <a:lnTo>
                  <a:pt x="2748" y="1967"/>
                </a:lnTo>
                <a:lnTo>
                  <a:pt x="2603" y="2217"/>
                </a:lnTo>
                <a:lnTo>
                  <a:pt x="2394" y="2436"/>
                </a:lnTo>
                <a:lnTo>
                  <a:pt x="2155" y="2607"/>
                </a:lnTo>
                <a:lnTo>
                  <a:pt x="1884" y="2734"/>
                </a:lnTo>
                <a:lnTo>
                  <a:pt x="1595" y="2797"/>
                </a:lnTo>
                <a:lnTo>
                  <a:pt x="1296" y="2797"/>
                </a:lnTo>
                <a:lnTo>
                  <a:pt x="992" y="2734"/>
                </a:lnTo>
                <a:lnTo>
                  <a:pt x="717" y="2607"/>
                </a:lnTo>
                <a:lnTo>
                  <a:pt x="478" y="2436"/>
                </a:lnTo>
                <a:lnTo>
                  <a:pt x="274" y="2217"/>
                </a:lnTo>
                <a:lnTo>
                  <a:pt x="129" y="1967"/>
                </a:lnTo>
                <a:lnTo>
                  <a:pt x="34" y="1689"/>
                </a:lnTo>
                <a:lnTo>
                  <a:pt x="0" y="1391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40640" y="5699160"/>
            <a:ext cx="1085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3960" y="1309680"/>
            <a:ext cx="1478160" cy="108360"/>
          </a:xfrm>
          <a:custGeom>
            <a:avLst/>
            <a:gdLst/>
            <a:ahLst/>
            <a:rect l="0" t="0" r="r" b="b"/>
            <a:pathLst>
              <a:path w="4106" h="301">
                <a:moveTo>
                  <a:pt x="3786" y="0"/>
                </a:moveTo>
                <a:lnTo>
                  <a:pt x="0" y="0"/>
                </a:lnTo>
                <a:lnTo>
                  <a:pt x="319" y="301"/>
                </a:lnTo>
                <a:lnTo>
                  <a:pt x="4106" y="301"/>
                </a:lnTo>
                <a:lnTo>
                  <a:pt x="3786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3960" y="1309680"/>
            <a:ext cx="1487880" cy="117720"/>
          </a:xfrm>
          <a:custGeom>
            <a:avLst/>
            <a:gdLst/>
            <a:ahLst/>
            <a:rect l="0" t="0" r="r" b="b"/>
            <a:pathLst>
              <a:path w="4133" h="327">
                <a:moveTo>
                  <a:pt x="3812" y="0"/>
                </a:moveTo>
                <a:lnTo>
                  <a:pt x="0" y="0"/>
                </a:lnTo>
                <a:lnTo>
                  <a:pt x="321" y="327"/>
                </a:lnTo>
                <a:lnTo>
                  <a:pt x="4133" y="327"/>
                </a:lnTo>
                <a:lnTo>
                  <a:pt x="3812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5560" y="396720"/>
            <a:ext cx="106560" cy="1020960"/>
          </a:xfrm>
          <a:custGeom>
            <a:avLst/>
            <a:gdLst/>
            <a:ahLst/>
            <a:rect l="0" t="0" r="r" b="b"/>
            <a:pathLst>
              <a:path w="296" h="2836">
                <a:moveTo>
                  <a:pt x="296" y="2836"/>
                </a:moveTo>
                <a:lnTo>
                  <a:pt x="0" y="2513"/>
                </a:lnTo>
                <a:lnTo>
                  <a:pt x="0" y="0"/>
                </a:lnTo>
                <a:lnTo>
                  <a:pt x="296" y="318"/>
                </a:lnTo>
                <a:lnTo>
                  <a:pt x="296" y="2836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5560" y="396720"/>
            <a:ext cx="116280" cy="1030680"/>
          </a:xfrm>
          <a:custGeom>
            <a:avLst/>
            <a:gdLst/>
            <a:ahLst/>
            <a:rect l="0" t="0" r="r" b="b"/>
            <a:pathLst>
              <a:path w="323" h="2863">
                <a:moveTo>
                  <a:pt x="323" y="2863"/>
                </a:moveTo>
                <a:lnTo>
                  <a:pt x="0" y="2537"/>
                </a:lnTo>
                <a:lnTo>
                  <a:pt x="0" y="0"/>
                </a:lnTo>
                <a:lnTo>
                  <a:pt x="323" y="321"/>
                </a:lnTo>
                <a:lnTo>
                  <a:pt x="323" y="2863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3960" y="396720"/>
            <a:ext cx="1362600" cy="903600"/>
          </a:xfrm>
          <a:custGeom>
            <a:avLst/>
            <a:gdLst/>
            <a:ahLst/>
            <a:rect l="0" t="0" r="r" b="b"/>
            <a:pathLst>
              <a:path w="3785" h="2510">
                <a:moveTo>
                  <a:pt x="3785" y="2510"/>
                </a:moveTo>
                <a:lnTo>
                  <a:pt x="0" y="2510"/>
                </a:lnTo>
                <a:lnTo>
                  <a:pt x="0" y="0"/>
                </a:lnTo>
                <a:lnTo>
                  <a:pt x="3785" y="0"/>
                </a:lnTo>
                <a:lnTo>
                  <a:pt x="3785" y="251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3960" y="396720"/>
            <a:ext cx="1371960" cy="913320"/>
          </a:xfrm>
          <a:custGeom>
            <a:avLst/>
            <a:gdLst/>
            <a:ahLst/>
            <a:rect l="0" t="0" r="r" b="b"/>
            <a:pathLst>
              <a:path w="3811" h="2537">
                <a:moveTo>
                  <a:pt x="3811" y="2537"/>
                </a:moveTo>
                <a:lnTo>
                  <a:pt x="0" y="2537"/>
                </a:lnTo>
                <a:lnTo>
                  <a:pt x="0" y="0"/>
                </a:lnTo>
                <a:lnTo>
                  <a:pt x="3811" y="0"/>
                </a:lnTo>
                <a:lnTo>
                  <a:pt x="3811" y="2537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87440" y="584280"/>
            <a:ext cx="1287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yboard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5560" y="969840"/>
            <a:ext cx="676800" cy="101880"/>
          </a:xfrm>
          <a:custGeom>
            <a:avLst/>
            <a:gdLst/>
            <a:ahLst/>
            <a:rect l="0" t="0" r="r" b="b"/>
            <a:pathLst>
              <a:path w="1880" h="283">
                <a:moveTo>
                  <a:pt x="0" y="0"/>
                </a:moveTo>
                <a:lnTo>
                  <a:pt x="317" y="283"/>
                </a:lnTo>
                <a:lnTo>
                  <a:pt x="1880" y="283"/>
                </a:lnTo>
                <a:lnTo>
                  <a:pt x="1571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5560" y="969840"/>
            <a:ext cx="686160" cy="111600"/>
          </a:xfrm>
          <a:custGeom>
            <a:avLst/>
            <a:gdLst/>
            <a:ahLst/>
            <a:rect l="0" t="0" r="r" b="b"/>
            <a:pathLst>
              <a:path w="1906" h="310">
                <a:moveTo>
                  <a:pt x="0" y="0"/>
                </a:moveTo>
                <a:lnTo>
                  <a:pt x="321" y="310"/>
                </a:lnTo>
                <a:lnTo>
                  <a:pt x="1906" y="310"/>
                </a:lnTo>
                <a:lnTo>
                  <a:pt x="1592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98680" y="625320"/>
            <a:ext cx="219600" cy="563760"/>
          </a:xfrm>
          <a:custGeom>
            <a:avLst/>
            <a:gdLst/>
            <a:ahLst/>
            <a:rect l="0" t="0" r="r" b="b"/>
            <a:pathLst>
              <a:path w="610" h="1566">
                <a:moveTo>
                  <a:pt x="0" y="1245"/>
                </a:moveTo>
                <a:lnTo>
                  <a:pt x="301" y="1566"/>
                </a:lnTo>
                <a:lnTo>
                  <a:pt x="610" y="942"/>
                </a:lnTo>
                <a:lnTo>
                  <a:pt x="301" y="316"/>
                </a:lnTo>
                <a:lnTo>
                  <a:pt x="0" y="0"/>
                </a:lnTo>
                <a:lnTo>
                  <a:pt x="301" y="620"/>
                </a:lnTo>
                <a:lnTo>
                  <a:pt x="0" y="1245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98680" y="625320"/>
            <a:ext cx="228960" cy="573480"/>
          </a:xfrm>
          <a:custGeom>
            <a:avLst/>
            <a:gdLst/>
            <a:ahLst/>
            <a:rect l="0" t="0" r="r" b="b"/>
            <a:pathLst>
              <a:path w="636" h="1593">
                <a:moveTo>
                  <a:pt x="0" y="1267"/>
                </a:moveTo>
                <a:lnTo>
                  <a:pt x="313" y="1593"/>
                </a:lnTo>
                <a:lnTo>
                  <a:pt x="636" y="957"/>
                </a:lnTo>
                <a:lnTo>
                  <a:pt x="313" y="321"/>
                </a:lnTo>
                <a:lnTo>
                  <a:pt x="0" y="0"/>
                </a:lnTo>
                <a:lnTo>
                  <a:pt x="313" y="631"/>
                </a:lnTo>
                <a:lnTo>
                  <a:pt x="0" y="1267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1360" y="852480"/>
            <a:ext cx="115920" cy="11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14400" y="741240"/>
            <a:ext cx="1800" cy="214560"/>
          </a:xfrm>
          <a:custGeom>
            <a:avLst/>
            <a:gdLst/>
            <a:ahLst/>
            <a:rect l="0" t="0" r="r" b="b"/>
            <a:pathLst>
              <a:path w="5" h="596">
                <a:moveTo>
                  <a:pt x="0" y="596"/>
                </a:moveTo>
                <a:lnTo>
                  <a:pt x="5" y="596"/>
                </a:lnTo>
                <a:lnTo>
                  <a:pt x="5" y="0"/>
                </a:lnTo>
                <a:lnTo>
                  <a:pt x="0" y="0"/>
                </a:lnTo>
                <a:lnTo>
                  <a:pt x="0" y="596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25560" y="625320"/>
            <a:ext cx="676800" cy="446400"/>
          </a:xfrm>
          <a:custGeom>
            <a:avLst/>
            <a:gdLst/>
            <a:ahLst/>
            <a:rect l="0" t="0" r="r" b="b"/>
            <a:pathLst>
              <a:path w="1880" h="1240">
                <a:moveTo>
                  <a:pt x="0" y="937"/>
                </a:moveTo>
                <a:lnTo>
                  <a:pt x="1571" y="937"/>
                </a:lnTo>
                <a:lnTo>
                  <a:pt x="1571" y="1240"/>
                </a:lnTo>
                <a:lnTo>
                  <a:pt x="1880" y="617"/>
                </a:lnTo>
                <a:lnTo>
                  <a:pt x="1571" y="0"/>
                </a:lnTo>
                <a:lnTo>
                  <a:pt x="1571" y="315"/>
                </a:lnTo>
                <a:lnTo>
                  <a:pt x="0" y="315"/>
                </a:lnTo>
                <a:lnTo>
                  <a:pt x="0" y="937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5560" y="625320"/>
            <a:ext cx="686160" cy="456120"/>
          </a:xfrm>
          <a:custGeom>
            <a:avLst/>
            <a:gdLst/>
            <a:ahLst/>
            <a:rect l="0" t="0" r="r" b="b"/>
            <a:pathLst>
              <a:path w="1906" h="1267">
                <a:moveTo>
                  <a:pt x="0" y="958"/>
                </a:moveTo>
                <a:lnTo>
                  <a:pt x="1592" y="958"/>
                </a:lnTo>
                <a:lnTo>
                  <a:pt x="1592" y="1267"/>
                </a:lnTo>
                <a:lnTo>
                  <a:pt x="1906" y="631"/>
                </a:lnTo>
                <a:lnTo>
                  <a:pt x="1592" y="0"/>
                </a:lnTo>
                <a:lnTo>
                  <a:pt x="1592" y="322"/>
                </a:lnTo>
                <a:lnTo>
                  <a:pt x="0" y="322"/>
                </a:lnTo>
                <a:lnTo>
                  <a:pt x="0" y="958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39960" y="1309680"/>
            <a:ext cx="1478160" cy="108360"/>
          </a:xfrm>
          <a:custGeom>
            <a:avLst/>
            <a:gdLst/>
            <a:ahLst/>
            <a:rect l="0" t="0" r="r" b="b"/>
            <a:pathLst>
              <a:path w="4106" h="301">
                <a:moveTo>
                  <a:pt x="3786" y="0"/>
                </a:moveTo>
                <a:lnTo>
                  <a:pt x="0" y="0"/>
                </a:lnTo>
                <a:lnTo>
                  <a:pt x="319" y="301"/>
                </a:lnTo>
                <a:lnTo>
                  <a:pt x="4106" y="301"/>
                </a:lnTo>
                <a:lnTo>
                  <a:pt x="3786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39960" y="1309680"/>
            <a:ext cx="1487880" cy="117720"/>
          </a:xfrm>
          <a:custGeom>
            <a:avLst/>
            <a:gdLst/>
            <a:ahLst/>
            <a:rect l="0" t="0" r="r" b="b"/>
            <a:pathLst>
              <a:path w="4133" h="327">
                <a:moveTo>
                  <a:pt x="3812" y="0"/>
                </a:moveTo>
                <a:lnTo>
                  <a:pt x="0" y="0"/>
                </a:lnTo>
                <a:lnTo>
                  <a:pt x="321" y="327"/>
                </a:lnTo>
                <a:lnTo>
                  <a:pt x="4133" y="327"/>
                </a:lnTo>
                <a:lnTo>
                  <a:pt x="3812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11560" y="396720"/>
            <a:ext cx="106560" cy="1020960"/>
          </a:xfrm>
          <a:custGeom>
            <a:avLst/>
            <a:gdLst/>
            <a:ahLst/>
            <a:rect l="0" t="0" r="r" b="b"/>
            <a:pathLst>
              <a:path w="296" h="2836">
                <a:moveTo>
                  <a:pt x="296" y="2836"/>
                </a:moveTo>
                <a:lnTo>
                  <a:pt x="0" y="2513"/>
                </a:lnTo>
                <a:lnTo>
                  <a:pt x="0" y="0"/>
                </a:lnTo>
                <a:lnTo>
                  <a:pt x="296" y="318"/>
                </a:lnTo>
                <a:lnTo>
                  <a:pt x="296" y="2836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11560" y="396720"/>
            <a:ext cx="116280" cy="1030680"/>
          </a:xfrm>
          <a:custGeom>
            <a:avLst/>
            <a:gdLst/>
            <a:ahLst/>
            <a:rect l="0" t="0" r="r" b="b"/>
            <a:pathLst>
              <a:path w="323" h="2863">
                <a:moveTo>
                  <a:pt x="323" y="2863"/>
                </a:moveTo>
                <a:lnTo>
                  <a:pt x="0" y="2537"/>
                </a:lnTo>
                <a:lnTo>
                  <a:pt x="0" y="0"/>
                </a:lnTo>
                <a:lnTo>
                  <a:pt x="323" y="321"/>
                </a:lnTo>
                <a:lnTo>
                  <a:pt x="323" y="2863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39960" y="396720"/>
            <a:ext cx="1362600" cy="903600"/>
          </a:xfrm>
          <a:custGeom>
            <a:avLst/>
            <a:gdLst/>
            <a:ahLst/>
            <a:rect l="0" t="0" r="r" b="b"/>
            <a:pathLst>
              <a:path w="3785" h="2510">
                <a:moveTo>
                  <a:pt x="3785" y="2510"/>
                </a:moveTo>
                <a:lnTo>
                  <a:pt x="0" y="2510"/>
                </a:lnTo>
                <a:lnTo>
                  <a:pt x="0" y="0"/>
                </a:lnTo>
                <a:lnTo>
                  <a:pt x="3785" y="0"/>
                </a:lnTo>
                <a:lnTo>
                  <a:pt x="3785" y="251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39960" y="396720"/>
            <a:ext cx="1371960" cy="913320"/>
          </a:xfrm>
          <a:custGeom>
            <a:avLst/>
            <a:gdLst/>
            <a:ahLst/>
            <a:rect l="0" t="0" r="r" b="b"/>
            <a:pathLst>
              <a:path w="3811" h="2537">
                <a:moveTo>
                  <a:pt x="3811" y="2537"/>
                </a:moveTo>
                <a:lnTo>
                  <a:pt x="0" y="2537"/>
                </a:lnTo>
                <a:lnTo>
                  <a:pt x="0" y="0"/>
                </a:lnTo>
                <a:lnTo>
                  <a:pt x="3811" y="0"/>
                </a:lnTo>
                <a:lnTo>
                  <a:pt x="3811" y="2537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727360" y="584280"/>
            <a:ext cx="1430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aw Inpu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1560" y="625320"/>
            <a:ext cx="4221360" cy="563760"/>
          </a:xfrm>
          <a:custGeom>
            <a:avLst/>
            <a:gdLst/>
            <a:ahLst/>
            <a:rect l="0" t="0" r="r" b="b"/>
            <a:pathLst>
              <a:path w="11726" h="1566">
                <a:moveTo>
                  <a:pt x="0" y="1245"/>
                </a:moveTo>
                <a:lnTo>
                  <a:pt x="11400" y="1245"/>
                </a:lnTo>
                <a:lnTo>
                  <a:pt x="11400" y="0"/>
                </a:lnTo>
                <a:lnTo>
                  <a:pt x="11726" y="316"/>
                </a:lnTo>
                <a:lnTo>
                  <a:pt x="11726" y="1566"/>
                </a:lnTo>
                <a:lnTo>
                  <a:pt x="321" y="1566"/>
                </a:lnTo>
                <a:lnTo>
                  <a:pt x="0" y="1245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1560" y="625320"/>
            <a:ext cx="4231080" cy="573480"/>
          </a:xfrm>
          <a:custGeom>
            <a:avLst/>
            <a:gdLst/>
            <a:ahLst/>
            <a:rect l="0" t="0" r="r" b="b"/>
            <a:pathLst>
              <a:path w="11753" h="1593">
                <a:moveTo>
                  <a:pt x="0" y="1267"/>
                </a:moveTo>
                <a:lnTo>
                  <a:pt x="11427" y="1267"/>
                </a:lnTo>
                <a:lnTo>
                  <a:pt x="11427" y="0"/>
                </a:lnTo>
                <a:lnTo>
                  <a:pt x="11753" y="321"/>
                </a:lnTo>
                <a:lnTo>
                  <a:pt x="11753" y="1593"/>
                </a:lnTo>
                <a:lnTo>
                  <a:pt x="321" y="1593"/>
                </a:lnTo>
                <a:lnTo>
                  <a:pt x="0" y="1267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24920" y="1081080"/>
            <a:ext cx="117360" cy="11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1560" y="625320"/>
            <a:ext cx="4104000" cy="446400"/>
          </a:xfrm>
          <a:custGeom>
            <a:avLst/>
            <a:gdLst/>
            <a:ahLst/>
            <a:rect l="0" t="0" r="r" b="b"/>
            <a:pathLst>
              <a:path w="11400" h="1240">
                <a:moveTo>
                  <a:pt x="0" y="0"/>
                </a:moveTo>
                <a:lnTo>
                  <a:pt x="11400" y="0"/>
                </a:lnTo>
                <a:lnTo>
                  <a:pt x="11400" y="1240"/>
                </a:lnTo>
                <a:lnTo>
                  <a:pt x="0" y="124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1560" y="625320"/>
            <a:ext cx="4113720" cy="456120"/>
          </a:xfrm>
          <a:custGeom>
            <a:avLst/>
            <a:gdLst/>
            <a:ahLst/>
            <a:rect l="0" t="0" r="r" b="b"/>
            <a:pathLst>
              <a:path w="11427" h="1267">
                <a:moveTo>
                  <a:pt x="0" y="0"/>
                </a:moveTo>
                <a:lnTo>
                  <a:pt x="11427" y="0"/>
                </a:lnTo>
                <a:lnTo>
                  <a:pt x="11427" y="1267"/>
                </a:lnTo>
                <a:lnTo>
                  <a:pt x="0" y="126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060800" y="671400"/>
            <a:ext cx="4210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M_INPUTLANGCHANGE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13680" y="1081080"/>
            <a:ext cx="101880" cy="905400"/>
          </a:xfrm>
          <a:custGeom>
            <a:avLst/>
            <a:gdLst/>
            <a:ahLst/>
            <a:rect l="0" t="0" r="r" b="b"/>
            <a:pathLst>
              <a:path w="283" h="2515">
                <a:moveTo>
                  <a:pt x="0" y="0"/>
                </a:moveTo>
                <a:lnTo>
                  <a:pt x="283" y="322"/>
                </a:lnTo>
                <a:lnTo>
                  <a:pt x="283" y="2515"/>
                </a:lnTo>
                <a:lnTo>
                  <a:pt x="0" y="221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13680" y="1081080"/>
            <a:ext cx="111600" cy="914760"/>
          </a:xfrm>
          <a:custGeom>
            <a:avLst/>
            <a:gdLst/>
            <a:ahLst/>
            <a:rect l="0" t="0" r="r" b="b"/>
            <a:pathLst>
              <a:path w="310" h="2541">
                <a:moveTo>
                  <a:pt x="0" y="0"/>
                </a:moveTo>
                <a:lnTo>
                  <a:pt x="310" y="326"/>
                </a:lnTo>
                <a:lnTo>
                  <a:pt x="310" y="2541"/>
                </a:lnTo>
                <a:lnTo>
                  <a:pt x="0" y="223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67720" y="1884240"/>
            <a:ext cx="565560" cy="219600"/>
          </a:xfrm>
          <a:custGeom>
            <a:avLst/>
            <a:gdLst/>
            <a:ahLst/>
            <a:rect l="0" t="0" r="r" b="b"/>
            <a:pathLst>
              <a:path w="1571" h="610">
                <a:moveTo>
                  <a:pt x="1250" y="0"/>
                </a:moveTo>
                <a:lnTo>
                  <a:pt x="1571" y="296"/>
                </a:lnTo>
                <a:lnTo>
                  <a:pt x="946" y="610"/>
                </a:lnTo>
                <a:lnTo>
                  <a:pt x="320" y="296"/>
                </a:lnTo>
                <a:lnTo>
                  <a:pt x="0" y="0"/>
                </a:lnTo>
                <a:lnTo>
                  <a:pt x="625" y="296"/>
                </a:lnTo>
                <a:lnTo>
                  <a:pt x="125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67720" y="1884240"/>
            <a:ext cx="574920" cy="228960"/>
          </a:xfrm>
          <a:custGeom>
            <a:avLst/>
            <a:gdLst/>
            <a:ahLst/>
            <a:rect l="0" t="0" r="r" b="b"/>
            <a:pathLst>
              <a:path w="1597" h="636">
                <a:moveTo>
                  <a:pt x="1271" y="0"/>
                </a:moveTo>
                <a:lnTo>
                  <a:pt x="1597" y="308"/>
                </a:lnTo>
                <a:lnTo>
                  <a:pt x="962" y="636"/>
                </a:lnTo>
                <a:lnTo>
                  <a:pt x="326" y="308"/>
                </a:lnTo>
                <a:lnTo>
                  <a:pt x="0" y="0"/>
                </a:lnTo>
                <a:lnTo>
                  <a:pt x="635" y="308"/>
                </a:lnTo>
                <a:lnTo>
                  <a:pt x="1271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96320" y="1995480"/>
            <a:ext cx="117360" cy="11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85080" y="1071720"/>
            <a:ext cx="214200" cy="0"/>
          </a:xfrm>
          <a:custGeom>
            <a:avLst/>
            <a:gdLst/>
            <a:ahLst/>
            <a:rect l="0" t="0" r="r" b="b"/>
            <a:pathLst>
              <a:path w="595" h="0">
                <a:moveTo>
                  <a:pt x="595" y="0"/>
                </a:moveTo>
                <a:lnTo>
                  <a:pt x="595" y="0"/>
                </a:lnTo>
                <a:lnTo>
                  <a:pt x="0" y="0"/>
                </a:lnTo>
                <a:lnTo>
                  <a:pt x="0" y="0"/>
                </a:lnTo>
                <a:lnTo>
                  <a:pt x="595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67720" y="1081080"/>
            <a:ext cx="448200" cy="905400"/>
          </a:xfrm>
          <a:custGeom>
            <a:avLst/>
            <a:gdLst/>
            <a:ahLst/>
            <a:rect l="0" t="0" r="r" b="b"/>
            <a:pathLst>
              <a:path w="1245" h="2515">
                <a:moveTo>
                  <a:pt x="943" y="0"/>
                </a:moveTo>
                <a:lnTo>
                  <a:pt x="943" y="2210"/>
                </a:lnTo>
                <a:lnTo>
                  <a:pt x="1245" y="2210"/>
                </a:lnTo>
                <a:lnTo>
                  <a:pt x="622" y="2515"/>
                </a:lnTo>
                <a:lnTo>
                  <a:pt x="0" y="2210"/>
                </a:lnTo>
                <a:lnTo>
                  <a:pt x="320" y="2210"/>
                </a:lnTo>
                <a:lnTo>
                  <a:pt x="320" y="0"/>
                </a:lnTo>
                <a:lnTo>
                  <a:pt x="943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67720" y="1081080"/>
            <a:ext cx="457560" cy="914760"/>
          </a:xfrm>
          <a:custGeom>
            <a:avLst/>
            <a:gdLst/>
            <a:ahLst/>
            <a:rect l="0" t="0" r="r" b="b"/>
            <a:pathLst>
              <a:path w="1271" h="2541">
                <a:moveTo>
                  <a:pt x="962" y="0"/>
                </a:moveTo>
                <a:lnTo>
                  <a:pt x="962" y="2233"/>
                </a:lnTo>
                <a:lnTo>
                  <a:pt x="1271" y="2233"/>
                </a:lnTo>
                <a:lnTo>
                  <a:pt x="635" y="2541"/>
                </a:lnTo>
                <a:lnTo>
                  <a:pt x="0" y="2233"/>
                </a:lnTo>
                <a:lnTo>
                  <a:pt x="326" y="2233"/>
                </a:lnTo>
                <a:lnTo>
                  <a:pt x="326" y="0"/>
                </a:lnTo>
                <a:lnTo>
                  <a:pt x="962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1920" y="3138480"/>
            <a:ext cx="1591200" cy="106560"/>
          </a:xfrm>
          <a:custGeom>
            <a:avLst/>
            <a:gdLst/>
            <a:ahLst/>
            <a:rect l="0" t="0" r="r" b="b"/>
            <a:pathLst>
              <a:path w="4420" h="296">
                <a:moveTo>
                  <a:pt x="4113" y="0"/>
                </a:moveTo>
                <a:lnTo>
                  <a:pt x="0" y="0"/>
                </a:lnTo>
                <a:lnTo>
                  <a:pt x="324" y="296"/>
                </a:lnTo>
                <a:lnTo>
                  <a:pt x="4420" y="296"/>
                </a:lnTo>
                <a:lnTo>
                  <a:pt x="4113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81920" y="3138480"/>
            <a:ext cx="1600560" cy="116280"/>
          </a:xfrm>
          <a:custGeom>
            <a:avLst/>
            <a:gdLst/>
            <a:ahLst/>
            <a:rect l="0" t="0" r="r" b="b"/>
            <a:pathLst>
              <a:path w="4446" h="323">
                <a:moveTo>
                  <a:pt x="4138" y="0"/>
                </a:moveTo>
                <a:lnTo>
                  <a:pt x="0" y="0"/>
                </a:lnTo>
                <a:lnTo>
                  <a:pt x="326" y="323"/>
                </a:lnTo>
                <a:lnTo>
                  <a:pt x="4446" y="323"/>
                </a:lnTo>
                <a:lnTo>
                  <a:pt x="4138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570880" y="2224080"/>
            <a:ext cx="101880" cy="1020960"/>
          </a:xfrm>
          <a:custGeom>
            <a:avLst/>
            <a:gdLst/>
            <a:ahLst/>
            <a:rect l="0" t="0" r="r" b="b"/>
            <a:pathLst>
              <a:path w="283" h="2836">
                <a:moveTo>
                  <a:pt x="283" y="2836"/>
                </a:moveTo>
                <a:lnTo>
                  <a:pt x="0" y="2517"/>
                </a:lnTo>
                <a:lnTo>
                  <a:pt x="0" y="0"/>
                </a:lnTo>
                <a:lnTo>
                  <a:pt x="283" y="323"/>
                </a:lnTo>
                <a:lnTo>
                  <a:pt x="283" y="2836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70880" y="2224080"/>
            <a:ext cx="111600" cy="1030680"/>
          </a:xfrm>
          <a:custGeom>
            <a:avLst/>
            <a:gdLst/>
            <a:ahLst/>
            <a:rect l="0" t="0" r="r" b="b"/>
            <a:pathLst>
              <a:path w="310" h="2863">
                <a:moveTo>
                  <a:pt x="310" y="2863"/>
                </a:moveTo>
                <a:lnTo>
                  <a:pt x="0" y="2542"/>
                </a:lnTo>
                <a:lnTo>
                  <a:pt x="0" y="0"/>
                </a:lnTo>
                <a:lnTo>
                  <a:pt x="310" y="326"/>
                </a:lnTo>
                <a:lnTo>
                  <a:pt x="310" y="2863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1920" y="2224080"/>
            <a:ext cx="1479960" cy="905400"/>
          </a:xfrm>
          <a:custGeom>
            <a:avLst/>
            <a:gdLst/>
            <a:ahLst/>
            <a:rect l="0" t="0" r="r" b="b"/>
            <a:pathLst>
              <a:path w="4111" h="2515">
                <a:moveTo>
                  <a:pt x="4111" y="2515"/>
                </a:moveTo>
                <a:lnTo>
                  <a:pt x="0" y="2515"/>
                </a:lnTo>
                <a:lnTo>
                  <a:pt x="0" y="0"/>
                </a:lnTo>
                <a:lnTo>
                  <a:pt x="4111" y="0"/>
                </a:lnTo>
                <a:lnTo>
                  <a:pt x="4111" y="2515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1920" y="2224080"/>
            <a:ext cx="1489320" cy="914760"/>
          </a:xfrm>
          <a:custGeom>
            <a:avLst/>
            <a:gdLst/>
            <a:ahLst/>
            <a:rect l="0" t="0" r="r" b="b"/>
            <a:pathLst>
              <a:path w="4137" h="2541">
                <a:moveTo>
                  <a:pt x="4137" y="2541"/>
                </a:moveTo>
                <a:lnTo>
                  <a:pt x="0" y="2541"/>
                </a:lnTo>
                <a:lnTo>
                  <a:pt x="0" y="0"/>
                </a:lnTo>
                <a:lnTo>
                  <a:pt x="4137" y="0"/>
                </a:lnTo>
                <a:lnTo>
                  <a:pt x="4137" y="2541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147080" y="2500200"/>
            <a:ext cx="1352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wnd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3960" y="4737240"/>
            <a:ext cx="2849760" cy="108360"/>
          </a:xfrm>
          <a:custGeom>
            <a:avLst/>
            <a:gdLst/>
            <a:ahLst/>
            <a:rect l="0" t="0" r="r" b="b"/>
            <a:pathLst>
              <a:path w="7916" h="301">
                <a:moveTo>
                  <a:pt x="7595" y="0"/>
                </a:moveTo>
                <a:lnTo>
                  <a:pt x="0" y="0"/>
                </a:lnTo>
                <a:lnTo>
                  <a:pt x="320" y="301"/>
                </a:lnTo>
                <a:lnTo>
                  <a:pt x="7916" y="301"/>
                </a:lnTo>
                <a:lnTo>
                  <a:pt x="7595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3960" y="4737240"/>
            <a:ext cx="2859480" cy="117720"/>
          </a:xfrm>
          <a:custGeom>
            <a:avLst/>
            <a:gdLst/>
            <a:ahLst/>
            <a:rect l="0" t="0" r="r" b="b"/>
            <a:pathLst>
              <a:path w="7943" h="327">
                <a:moveTo>
                  <a:pt x="7622" y="0"/>
                </a:moveTo>
                <a:lnTo>
                  <a:pt x="0" y="0"/>
                </a:lnTo>
                <a:lnTo>
                  <a:pt x="321" y="327"/>
                </a:lnTo>
                <a:lnTo>
                  <a:pt x="7943" y="327"/>
                </a:lnTo>
                <a:lnTo>
                  <a:pt x="7622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97160" y="3824280"/>
            <a:ext cx="106560" cy="1020960"/>
          </a:xfrm>
          <a:custGeom>
            <a:avLst/>
            <a:gdLst/>
            <a:ahLst/>
            <a:rect l="0" t="0" r="r" b="b"/>
            <a:pathLst>
              <a:path w="296" h="2836">
                <a:moveTo>
                  <a:pt x="296" y="2836"/>
                </a:moveTo>
                <a:lnTo>
                  <a:pt x="0" y="2513"/>
                </a:lnTo>
                <a:lnTo>
                  <a:pt x="0" y="0"/>
                </a:lnTo>
                <a:lnTo>
                  <a:pt x="296" y="318"/>
                </a:lnTo>
                <a:lnTo>
                  <a:pt x="296" y="2836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97160" y="3824280"/>
            <a:ext cx="116280" cy="1030680"/>
          </a:xfrm>
          <a:custGeom>
            <a:avLst/>
            <a:gdLst/>
            <a:ahLst/>
            <a:rect l="0" t="0" r="r" b="b"/>
            <a:pathLst>
              <a:path w="323" h="2863">
                <a:moveTo>
                  <a:pt x="323" y="2863"/>
                </a:moveTo>
                <a:lnTo>
                  <a:pt x="0" y="2537"/>
                </a:lnTo>
                <a:lnTo>
                  <a:pt x="0" y="0"/>
                </a:lnTo>
                <a:lnTo>
                  <a:pt x="323" y="321"/>
                </a:lnTo>
                <a:lnTo>
                  <a:pt x="323" y="2863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3960" y="3824280"/>
            <a:ext cx="2734200" cy="903600"/>
          </a:xfrm>
          <a:custGeom>
            <a:avLst/>
            <a:gdLst/>
            <a:ahLst/>
            <a:rect l="0" t="0" r="r" b="b"/>
            <a:pathLst>
              <a:path w="7595" h="2510">
                <a:moveTo>
                  <a:pt x="7595" y="2510"/>
                </a:moveTo>
                <a:lnTo>
                  <a:pt x="0" y="2510"/>
                </a:lnTo>
                <a:lnTo>
                  <a:pt x="0" y="0"/>
                </a:lnTo>
                <a:lnTo>
                  <a:pt x="7595" y="0"/>
                </a:lnTo>
                <a:lnTo>
                  <a:pt x="7595" y="251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3960" y="3824280"/>
            <a:ext cx="2743560" cy="913320"/>
          </a:xfrm>
          <a:custGeom>
            <a:avLst/>
            <a:gdLst/>
            <a:ahLst/>
            <a:rect l="0" t="0" r="r" b="b"/>
            <a:pathLst>
              <a:path w="7621" h="2537">
                <a:moveTo>
                  <a:pt x="7621" y="2537"/>
                </a:moveTo>
                <a:lnTo>
                  <a:pt x="0" y="2537"/>
                </a:lnTo>
                <a:lnTo>
                  <a:pt x="0" y="0"/>
                </a:lnTo>
                <a:lnTo>
                  <a:pt x="7621" y="0"/>
                </a:lnTo>
                <a:lnTo>
                  <a:pt x="7621" y="2537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8600" y="4098960"/>
            <a:ext cx="2673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tivateKeyboard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97160" y="4052880"/>
            <a:ext cx="1935360" cy="335160"/>
          </a:xfrm>
          <a:custGeom>
            <a:avLst/>
            <a:gdLst/>
            <a:ahLst/>
            <a:rect l="0" t="0" r="r" b="b"/>
            <a:pathLst>
              <a:path w="5376" h="931">
                <a:moveTo>
                  <a:pt x="0" y="614"/>
                </a:moveTo>
                <a:lnTo>
                  <a:pt x="5051" y="614"/>
                </a:lnTo>
                <a:lnTo>
                  <a:pt x="5051" y="0"/>
                </a:lnTo>
                <a:lnTo>
                  <a:pt x="5376" y="313"/>
                </a:lnTo>
                <a:lnTo>
                  <a:pt x="5376" y="931"/>
                </a:lnTo>
                <a:lnTo>
                  <a:pt x="320" y="931"/>
                </a:lnTo>
                <a:lnTo>
                  <a:pt x="0" y="614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97160" y="4052880"/>
            <a:ext cx="1945080" cy="344880"/>
          </a:xfrm>
          <a:custGeom>
            <a:avLst/>
            <a:gdLst/>
            <a:ahLst/>
            <a:rect l="0" t="0" r="r" b="b"/>
            <a:pathLst>
              <a:path w="5403" h="958">
                <a:moveTo>
                  <a:pt x="0" y="631"/>
                </a:moveTo>
                <a:lnTo>
                  <a:pt x="5077" y="631"/>
                </a:lnTo>
                <a:lnTo>
                  <a:pt x="5077" y="0"/>
                </a:lnTo>
                <a:lnTo>
                  <a:pt x="5403" y="322"/>
                </a:lnTo>
                <a:lnTo>
                  <a:pt x="5403" y="958"/>
                </a:lnTo>
                <a:lnTo>
                  <a:pt x="321" y="958"/>
                </a:lnTo>
                <a:lnTo>
                  <a:pt x="0" y="631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24520" y="4280040"/>
            <a:ext cx="117360" cy="11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97160" y="4052880"/>
            <a:ext cx="1818000" cy="217800"/>
          </a:xfrm>
          <a:custGeom>
            <a:avLst/>
            <a:gdLst/>
            <a:ahLst/>
            <a:rect l="0" t="0" r="r" b="b"/>
            <a:pathLst>
              <a:path w="5050" h="605">
                <a:moveTo>
                  <a:pt x="0" y="0"/>
                </a:moveTo>
                <a:lnTo>
                  <a:pt x="5050" y="0"/>
                </a:lnTo>
                <a:lnTo>
                  <a:pt x="5050" y="605"/>
                </a:lnTo>
                <a:lnTo>
                  <a:pt x="0" y="60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97160" y="4052880"/>
            <a:ext cx="1827720" cy="227520"/>
          </a:xfrm>
          <a:custGeom>
            <a:avLst/>
            <a:gdLst/>
            <a:ahLst/>
            <a:rect l="0" t="0" r="r" b="b"/>
            <a:pathLst>
              <a:path w="5077" h="632">
                <a:moveTo>
                  <a:pt x="0" y="0"/>
                </a:moveTo>
                <a:lnTo>
                  <a:pt x="5077" y="0"/>
                </a:lnTo>
                <a:lnTo>
                  <a:pt x="5077" y="632"/>
                </a:lnTo>
                <a:lnTo>
                  <a:pt x="0" y="63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8880" y="4280040"/>
            <a:ext cx="103680" cy="905400"/>
          </a:xfrm>
          <a:custGeom>
            <a:avLst/>
            <a:gdLst/>
            <a:ahLst/>
            <a:rect l="0" t="0" r="r" b="b"/>
            <a:pathLst>
              <a:path w="288" h="2515">
                <a:moveTo>
                  <a:pt x="0" y="0"/>
                </a:moveTo>
                <a:lnTo>
                  <a:pt x="288" y="322"/>
                </a:lnTo>
                <a:lnTo>
                  <a:pt x="288" y="2515"/>
                </a:lnTo>
                <a:lnTo>
                  <a:pt x="0" y="221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8880" y="4280040"/>
            <a:ext cx="113040" cy="914760"/>
          </a:xfrm>
          <a:custGeom>
            <a:avLst/>
            <a:gdLst/>
            <a:ahLst/>
            <a:rect l="0" t="0" r="r" b="b"/>
            <a:pathLst>
              <a:path w="314" h="2541">
                <a:moveTo>
                  <a:pt x="0" y="0"/>
                </a:moveTo>
                <a:lnTo>
                  <a:pt x="314" y="326"/>
                </a:lnTo>
                <a:lnTo>
                  <a:pt x="314" y="2541"/>
                </a:lnTo>
                <a:lnTo>
                  <a:pt x="0" y="223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4360" y="5083200"/>
            <a:ext cx="563760" cy="219600"/>
          </a:xfrm>
          <a:custGeom>
            <a:avLst/>
            <a:gdLst/>
            <a:ahLst/>
            <a:rect l="0" t="0" r="r" b="b"/>
            <a:pathLst>
              <a:path w="1566" h="610">
                <a:moveTo>
                  <a:pt x="1249" y="0"/>
                </a:moveTo>
                <a:lnTo>
                  <a:pt x="1566" y="296"/>
                </a:lnTo>
                <a:lnTo>
                  <a:pt x="942" y="610"/>
                </a:lnTo>
                <a:lnTo>
                  <a:pt x="316" y="296"/>
                </a:lnTo>
                <a:lnTo>
                  <a:pt x="0" y="0"/>
                </a:lnTo>
                <a:lnTo>
                  <a:pt x="624" y="296"/>
                </a:lnTo>
                <a:lnTo>
                  <a:pt x="1249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4360" y="5083200"/>
            <a:ext cx="573480" cy="228960"/>
          </a:xfrm>
          <a:custGeom>
            <a:avLst/>
            <a:gdLst/>
            <a:ahLst/>
            <a:rect l="0" t="0" r="r" b="b"/>
            <a:pathLst>
              <a:path w="1593" h="636">
                <a:moveTo>
                  <a:pt x="1272" y="0"/>
                </a:moveTo>
                <a:lnTo>
                  <a:pt x="1593" y="308"/>
                </a:lnTo>
                <a:lnTo>
                  <a:pt x="957" y="636"/>
                </a:lnTo>
                <a:lnTo>
                  <a:pt x="321" y="308"/>
                </a:lnTo>
                <a:lnTo>
                  <a:pt x="0" y="0"/>
                </a:lnTo>
                <a:lnTo>
                  <a:pt x="636" y="308"/>
                </a:lnTo>
                <a:lnTo>
                  <a:pt x="1272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2960" y="5194440"/>
            <a:ext cx="115920" cy="11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70280" y="4270320"/>
            <a:ext cx="214200" cy="0"/>
          </a:xfrm>
          <a:custGeom>
            <a:avLst/>
            <a:gdLst/>
            <a:ahLst/>
            <a:rect l="0" t="0" r="r" b="b"/>
            <a:pathLst>
              <a:path w="595" h="0">
                <a:moveTo>
                  <a:pt x="595" y="0"/>
                </a:moveTo>
                <a:lnTo>
                  <a:pt x="595" y="0"/>
                </a:lnTo>
                <a:lnTo>
                  <a:pt x="0" y="0"/>
                </a:lnTo>
                <a:lnTo>
                  <a:pt x="0" y="0"/>
                </a:lnTo>
                <a:lnTo>
                  <a:pt x="595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4360" y="4280040"/>
            <a:ext cx="448200" cy="905400"/>
          </a:xfrm>
          <a:custGeom>
            <a:avLst/>
            <a:gdLst/>
            <a:ahLst/>
            <a:rect l="0" t="0" r="r" b="b"/>
            <a:pathLst>
              <a:path w="1245" h="2515">
                <a:moveTo>
                  <a:pt x="938" y="0"/>
                </a:moveTo>
                <a:lnTo>
                  <a:pt x="938" y="2210"/>
                </a:lnTo>
                <a:lnTo>
                  <a:pt x="1245" y="2210"/>
                </a:lnTo>
                <a:lnTo>
                  <a:pt x="622" y="2515"/>
                </a:lnTo>
                <a:lnTo>
                  <a:pt x="0" y="2210"/>
                </a:lnTo>
                <a:lnTo>
                  <a:pt x="316" y="2210"/>
                </a:lnTo>
                <a:lnTo>
                  <a:pt x="316" y="0"/>
                </a:lnTo>
                <a:lnTo>
                  <a:pt x="938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4360" y="4280040"/>
            <a:ext cx="457560" cy="914760"/>
          </a:xfrm>
          <a:custGeom>
            <a:avLst/>
            <a:gdLst/>
            <a:ahLst/>
            <a:rect l="0" t="0" r="r" b="b"/>
            <a:pathLst>
              <a:path w="1271" h="2541">
                <a:moveTo>
                  <a:pt x="957" y="0"/>
                </a:moveTo>
                <a:lnTo>
                  <a:pt x="957" y="2232"/>
                </a:lnTo>
                <a:lnTo>
                  <a:pt x="1271" y="2232"/>
                </a:lnTo>
                <a:lnTo>
                  <a:pt x="635" y="2541"/>
                </a:lnTo>
                <a:lnTo>
                  <a:pt x="0" y="2232"/>
                </a:lnTo>
                <a:lnTo>
                  <a:pt x="321" y="2232"/>
                </a:lnTo>
                <a:lnTo>
                  <a:pt x="321" y="0"/>
                </a:lnTo>
                <a:lnTo>
                  <a:pt x="957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4520" y="4737240"/>
            <a:ext cx="1937160" cy="108360"/>
          </a:xfrm>
          <a:custGeom>
            <a:avLst/>
            <a:gdLst/>
            <a:ahLst/>
            <a:rect l="0" t="0" r="r" b="b"/>
            <a:pathLst>
              <a:path w="5381" h="301">
                <a:moveTo>
                  <a:pt x="5057" y="0"/>
                </a:moveTo>
                <a:lnTo>
                  <a:pt x="0" y="0"/>
                </a:lnTo>
                <a:lnTo>
                  <a:pt x="324" y="301"/>
                </a:lnTo>
                <a:lnTo>
                  <a:pt x="5381" y="301"/>
                </a:lnTo>
                <a:lnTo>
                  <a:pt x="5057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4520" y="4737240"/>
            <a:ext cx="1946520" cy="117720"/>
          </a:xfrm>
          <a:custGeom>
            <a:avLst/>
            <a:gdLst/>
            <a:ahLst/>
            <a:rect l="0" t="0" r="r" b="b"/>
            <a:pathLst>
              <a:path w="5407" h="327">
                <a:moveTo>
                  <a:pt x="5081" y="0"/>
                </a:moveTo>
                <a:lnTo>
                  <a:pt x="0" y="0"/>
                </a:lnTo>
                <a:lnTo>
                  <a:pt x="326" y="327"/>
                </a:lnTo>
                <a:lnTo>
                  <a:pt x="5407" y="327"/>
                </a:lnTo>
                <a:lnTo>
                  <a:pt x="5081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3320" y="3824280"/>
            <a:ext cx="108360" cy="1020960"/>
          </a:xfrm>
          <a:custGeom>
            <a:avLst/>
            <a:gdLst/>
            <a:ahLst/>
            <a:rect l="0" t="0" r="r" b="b"/>
            <a:pathLst>
              <a:path w="301" h="2836">
                <a:moveTo>
                  <a:pt x="301" y="2836"/>
                </a:moveTo>
                <a:lnTo>
                  <a:pt x="0" y="2513"/>
                </a:lnTo>
                <a:lnTo>
                  <a:pt x="0" y="0"/>
                </a:lnTo>
                <a:lnTo>
                  <a:pt x="301" y="318"/>
                </a:lnTo>
                <a:lnTo>
                  <a:pt x="301" y="2836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3320" y="3824280"/>
            <a:ext cx="117720" cy="1030680"/>
          </a:xfrm>
          <a:custGeom>
            <a:avLst/>
            <a:gdLst/>
            <a:ahLst/>
            <a:rect l="0" t="0" r="r" b="b"/>
            <a:pathLst>
              <a:path w="327" h="2863">
                <a:moveTo>
                  <a:pt x="327" y="2863"/>
                </a:moveTo>
                <a:lnTo>
                  <a:pt x="0" y="2537"/>
                </a:lnTo>
                <a:lnTo>
                  <a:pt x="0" y="0"/>
                </a:lnTo>
                <a:lnTo>
                  <a:pt x="327" y="321"/>
                </a:lnTo>
                <a:lnTo>
                  <a:pt x="327" y="2863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4520" y="3824280"/>
            <a:ext cx="1819800" cy="903600"/>
          </a:xfrm>
          <a:custGeom>
            <a:avLst/>
            <a:gdLst/>
            <a:ahLst/>
            <a:rect l="0" t="0" r="r" b="b"/>
            <a:pathLst>
              <a:path w="5055" h="2510">
                <a:moveTo>
                  <a:pt x="5055" y="2510"/>
                </a:moveTo>
                <a:lnTo>
                  <a:pt x="0" y="2510"/>
                </a:lnTo>
                <a:lnTo>
                  <a:pt x="0" y="0"/>
                </a:lnTo>
                <a:lnTo>
                  <a:pt x="5055" y="0"/>
                </a:lnTo>
                <a:lnTo>
                  <a:pt x="5055" y="251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4520" y="3824280"/>
            <a:ext cx="1829160" cy="913320"/>
          </a:xfrm>
          <a:custGeom>
            <a:avLst/>
            <a:gdLst/>
            <a:ahLst/>
            <a:rect l="0" t="0" r="r" b="b"/>
            <a:pathLst>
              <a:path w="5081" h="2537">
                <a:moveTo>
                  <a:pt x="5081" y="2537"/>
                </a:moveTo>
                <a:lnTo>
                  <a:pt x="0" y="2537"/>
                </a:lnTo>
                <a:lnTo>
                  <a:pt x="0" y="0"/>
                </a:lnTo>
                <a:lnTo>
                  <a:pt x="5081" y="0"/>
                </a:lnTo>
                <a:lnTo>
                  <a:pt x="5081" y="2537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024520" y="4098960"/>
            <a:ext cx="1809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fWindow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42280" y="3138480"/>
            <a:ext cx="101880" cy="2046600"/>
          </a:xfrm>
          <a:custGeom>
            <a:avLst/>
            <a:gdLst/>
            <a:ahLst/>
            <a:rect l="0" t="0" r="r" b="b"/>
            <a:pathLst>
              <a:path w="283" h="5685">
                <a:moveTo>
                  <a:pt x="0" y="0"/>
                </a:moveTo>
                <a:lnTo>
                  <a:pt x="283" y="320"/>
                </a:lnTo>
                <a:lnTo>
                  <a:pt x="283" y="5685"/>
                </a:lnTo>
                <a:lnTo>
                  <a:pt x="0" y="537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42280" y="3138480"/>
            <a:ext cx="111600" cy="2056320"/>
          </a:xfrm>
          <a:custGeom>
            <a:avLst/>
            <a:gdLst/>
            <a:ahLst/>
            <a:rect l="0" t="0" r="r" b="b"/>
            <a:pathLst>
              <a:path w="310" h="5712">
                <a:moveTo>
                  <a:pt x="0" y="0"/>
                </a:moveTo>
                <a:lnTo>
                  <a:pt x="310" y="321"/>
                </a:lnTo>
                <a:lnTo>
                  <a:pt x="310" y="5712"/>
                </a:lnTo>
                <a:lnTo>
                  <a:pt x="0" y="540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96320" y="5083200"/>
            <a:ext cx="565560" cy="219600"/>
          </a:xfrm>
          <a:custGeom>
            <a:avLst/>
            <a:gdLst/>
            <a:ahLst/>
            <a:rect l="0" t="0" r="r" b="b"/>
            <a:pathLst>
              <a:path w="1571" h="610">
                <a:moveTo>
                  <a:pt x="1250" y="0"/>
                </a:moveTo>
                <a:lnTo>
                  <a:pt x="1571" y="296"/>
                </a:lnTo>
                <a:lnTo>
                  <a:pt x="946" y="610"/>
                </a:lnTo>
                <a:lnTo>
                  <a:pt x="320" y="296"/>
                </a:lnTo>
                <a:lnTo>
                  <a:pt x="0" y="0"/>
                </a:lnTo>
                <a:lnTo>
                  <a:pt x="625" y="296"/>
                </a:lnTo>
                <a:lnTo>
                  <a:pt x="125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996320" y="5083200"/>
            <a:ext cx="574920" cy="228960"/>
          </a:xfrm>
          <a:custGeom>
            <a:avLst/>
            <a:gdLst/>
            <a:ahLst/>
            <a:rect l="0" t="0" r="r" b="b"/>
            <a:pathLst>
              <a:path w="1597" h="636">
                <a:moveTo>
                  <a:pt x="1271" y="0"/>
                </a:moveTo>
                <a:lnTo>
                  <a:pt x="1597" y="308"/>
                </a:lnTo>
                <a:lnTo>
                  <a:pt x="962" y="636"/>
                </a:lnTo>
                <a:lnTo>
                  <a:pt x="326" y="308"/>
                </a:lnTo>
                <a:lnTo>
                  <a:pt x="0" y="0"/>
                </a:lnTo>
                <a:lnTo>
                  <a:pt x="635" y="308"/>
                </a:lnTo>
                <a:lnTo>
                  <a:pt x="1271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24920" y="5194440"/>
            <a:ext cx="117360" cy="11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96320" y="3138480"/>
            <a:ext cx="448200" cy="2046600"/>
          </a:xfrm>
          <a:custGeom>
            <a:avLst/>
            <a:gdLst/>
            <a:ahLst/>
            <a:rect l="0" t="0" r="r" b="b"/>
            <a:pathLst>
              <a:path w="1245" h="5685">
                <a:moveTo>
                  <a:pt x="320" y="0"/>
                </a:moveTo>
                <a:lnTo>
                  <a:pt x="943" y="0"/>
                </a:lnTo>
                <a:lnTo>
                  <a:pt x="943" y="5377"/>
                </a:lnTo>
                <a:lnTo>
                  <a:pt x="1245" y="5377"/>
                </a:lnTo>
                <a:lnTo>
                  <a:pt x="622" y="5685"/>
                </a:lnTo>
                <a:lnTo>
                  <a:pt x="0" y="5377"/>
                </a:lnTo>
                <a:lnTo>
                  <a:pt x="320" y="5377"/>
                </a:lnTo>
                <a:lnTo>
                  <a:pt x="32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96320" y="3138480"/>
            <a:ext cx="457560" cy="2056320"/>
          </a:xfrm>
          <a:custGeom>
            <a:avLst/>
            <a:gdLst/>
            <a:ahLst/>
            <a:rect l="0" t="0" r="r" b="b"/>
            <a:pathLst>
              <a:path w="1271" h="5712">
                <a:moveTo>
                  <a:pt x="326" y="0"/>
                </a:moveTo>
                <a:lnTo>
                  <a:pt x="962" y="0"/>
                </a:lnTo>
                <a:lnTo>
                  <a:pt x="962" y="5403"/>
                </a:lnTo>
                <a:lnTo>
                  <a:pt x="1271" y="5403"/>
                </a:lnTo>
                <a:lnTo>
                  <a:pt x="635" y="5712"/>
                </a:lnTo>
                <a:lnTo>
                  <a:pt x="0" y="5403"/>
                </a:lnTo>
                <a:lnTo>
                  <a:pt x="326" y="5403"/>
                </a:lnTo>
                <a:lnTo>
                  <a:pt x="326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10520" y="3940200"/>
            <a:ext cx="794160" cy="559080"/>
          </a:xfrm>
          <a:custGeom>
            <a:avLst/>
            <a:gdLst/>
            <a:ahLst/>
            <a:rect l="0" t="0" r="r" b="b"/>
            <a:pathLst>
              <a:path w="2206" h="1553">
                <a:moveTo>
                  <a:pt x="0" y="307"/>
                </a:moveTo>
                <a:lnTo>
                  <a:pt x="322" y="624"/>
                </a:lnTo>
                <a:lnTo>
                  <a:pt x="322" y="307"/>
                </a:lnTo>
                <a:lnTo>
                  <a:pt x="0" y="0"/>
                </a:lnTo>
                <a:lnTo>
                  <a:pt x="0" y="307"/>
                </a:lnTo>
                <a:lnTo>
                  <a:pt x="0" y="928"/>
                </a:lnTo>
                <a:lnTo>
                  <a:pt x="0" y="1249"/>
                </a:lnTo>
                <a:lnTo>
                  <a:pt x="322" y="1553"/>
                </a:lnTo>
                <a:lnTo>
                  <a:pt x="322" y="1249"/>
                </a:lnTo>
                <a:lnTo>
                  <a:pt x="2206" y="1249"/>
                </a:lnTo>
                <a:lnTo>
                  <a:pt x="2206" y="928"/>
                </a:lnTo>
                <a:lnTo>
                  <a:pt x="0" y="928"/>
                </a:lnTo>
                <a:lnTo>
                  <a:pt x="0" y="307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0520" y="3940200"/>
            <a:ext cx="117720" cy="228960"/>
          </a:xfrm>
          <a:custGeom>
            <a:avLst/>
            <a:gdLst/>
            <a:ahLst/>
            <a:rect l="0" t="0" r="r" b="b"/>
            <a:pathLst>
              <a:path w="327" h="636">
                <a:moveTo>
                  <a:pt x="0" y="313"/>
                </a:moveTo>
                <a:lnTo>
                  <a:pt x="327" y="636"/>
                </a:lnTo>
                <a:lnTo>
                  <a:pt x="327" y="313"/>
                </a:lnTo>
                <a:lnTo>
                  <a:pt x="0" y="0"/>
                </a:lnTo>
                <a:lnTo>
                  <a:pt x="0" y="313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10520" y="4280040"/>
            <a:ext cx="803520" cy="228960"/>
          </a:xfrm>
          <a:custGeom>
            <a:avLst/>
            <a:gdLst/>
            <a:ahLst/>
            <a:rect l="0" t="0" r="r" b="b"/>
            <a:pathLst>
              <a:path w="2232" h="636">
                <a:moveTo>
                  <a:pt x="0" y="0"/>
                </a:moveTo>
                <a:lnTo>
                  <a:pt x="0" y="327"/>
                </a:lnTo>
                <a:lnTo>
                  <a:pt x="326" y="636"/>
                </a:lnTo>
                <a:lnTo>
                  <a:pt x="326" y="327"/>
                </a:lnTo>
                <a:lnTo>
                  <a:pt x="2232" y="327"/>
                </a:lnTo>
                <a:lnTo>
                  <a:pt x="2232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10520" y="4280040"/>
            <a:ext cx="117360" cy="11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13680" y="4052880"/>
            <a:ext cx="0" cy="217440"/>
          </a:xfrm>
          <a:custGeom>
            <a:avLst/>
            <a:gdLst/>
            <a:ahLst/>
            <a:rect l="0" t="0" r="r" b="b"/>
            <a:pathLst>
              <a:path w="0" h="604">
                <a:moveTo>
                  <a:pt x="0" y="604"/>
                </a:moveTo>
                <a:lnTo>
                  <a:pt x="0" y="604"/>
                </a:lnTo>
                <a:lnTo>
                  <a:pt x="0" y="0"/>
                </a:lnTo>
                <a:lnTo>
                  <a:pt x="0" y="0"/>
                </a:lnTo>
                <a:lnTo>
                  <a:pt x="0" y="604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99280" y="3940200"/>
            <a:ext cx="905400" cy="448200"/>
          </a:xfrm>
          <a:custGeom>
            <a:avLst/>
            <a:gdLst/>
            <a:ahLst/>
            <a:rect l="0" t="0" r="r" b="b"/>
            <a:pathLst>
              <a:path w="2515" h="1245">
                <a:moveTo>
                  <a:pt x="2515" y="306"/>
                </a:moveTo>
                <a:lnTo>
                  <a:pt x="305" y="306"/>
                </a:lnTo>
                <a:lnTo>
                  <a:pt x="305" y="0"/>
                </a:lnTo>
                <a:lnTo>
                  <a:pt x="0" y="622"/>
                </a:lnTo>
                <a:lnTo>
                  <a:pt x="305" y="1245"/>
                </a:lnTo>
                <a:lnTo>
                  <a:pt x="305" y="925"/>
                </a:lnTo>
                <a:lnTo>
                  <a:pt x="2515" y="925"/>
                </a:lnTo>
                <a:lnTo>
                  <a:pt x="2515" y="306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99280" y="3940200"/>
            <a:ext cx="914760" cy="457560"/>
          </a:xfrm>
          <a:custGeom>
            <a:avLst/>
            <a:gdLst/>
            <a:ahLst/>
            <a:rect l="0" t="0" r="r" b="b"/>
            <a:pathLst>
              <a:path w="2541" h="1271">
                <a:moveTo>
                  <a:pt x="2541" y="313"/>
                </a:moveTo>
                <a:lnTo>
                  <a:pt x="308" y="313"/>
                </a:lnTo>
                <a:lnTo>
                  <a:pt x="308" y="0"/>
                </a:lnTo>
                <a:lnTo>
                  <a:pt x="0" y="635"/>
                </a:lnTo>
                <a:lnTo>
                  <a:pt x="308" y="1271"/>
                </a:lnTo>
                <a:lnTo>
                  <a:pt x="308" y="944"/>
                </a:lnTo>
                <a:lnTo>
                  <a:pt x="2541" y="944"/>
                </a:lnTo>
                <a:lnTo>
                  <a:pt x="2541" y="313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1360" y="6337440"/>
            <a:ext cx="1935360" cy="106560"/>
          </a:xfrm>
          <a:custGeom>
            <a:avLst/>
            <a:gdLst/>
            <a:ahLst/>
            <a:rect l="0" t="0" r="r" b="b"/>
            <a:pathLst>
              <a:path w="5376" h="296">
                <a:moveTo>
                  <a:pt x="5056" y="0"/>
                </a:moveTo>
                <a:lnTo>
                  <a:pt x="0" y="0"/>
                </a:lnTo>
                <a:lnTo>
                  <a:pt x="320" y="296"/>
                </a:lnTo>
                <a:lnTo>
                  <a:pt x="5376" y="296"/>
                </a:lnTo>
                <a:lnTo>
                  <a:pt x="5056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1360" y="6337440"/>
            <a:ext cx="1945080" cy="116280"/>
          </a:xfrm>
          <a:custGeom>
            <a:avLst/>
            <a:gdLst/>
            <a:ahLst/>
            <a:rect l="0" t="0" r="r" b="b"/>
            <a:pathLst>
              <a:path w="5403" h="323">
                <a:moveTo>
                  <a:pt x="5082" y="0"/>
                </a:moveTo>
                <a:lnTo>
                  <a:pt x="0" y="0"/>
                </a:lnTo>
                <a:lnTo>
                  <a:pt x="321" y="323"/>
                </a:lnTo>
                <a:lnTo>
                  <a:pt x="5403" y="323"/>
                </a:lnTo>
                <a:lnTo>
                  <a:pt x="5082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40160" y="5423040"/>
            <a:ext cx="106560" cy="1020960"/>
          </a:xfrm>
          <a:custGeom>
            <a:avLst/>
            <a:gdLst/>
            <a:ahLst/>
            <a:rect l="0" t="0" r="r" b="b"/>
            <a:pathLst>
              <a:path w="296" h="2836">
                <a:moveTo>
                  <a:pt x="296" y="2836"/>
                </a:moveTo>
                <a:lnTo>
                  <a:pt x="0" y="2517"/>
                </a:lnTo>
                <a:lnTo>
                  <a:pt x="0" y="0"/>
                </a:lnTo>
                <a:lnTo>
                  <a:pt x="296" y="323"/>
                </a:lnTo>
                <a:lnTo>
                  <a:pt x="296" y="2836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40160" y="5423040"/>
            <a:ext cx="116280" cy="1030680"/>
          </a:xfrm>
          <a:custGeom>
            <a:avLst/>
            <a:gdLst/>
            <a:ahLst/>
            <a:rect l="0" t="0" r="r" b="b"/>
            <a:pathLst>
              <a:path w="323" h="2863">
                <a:moveTo>
                  <a:pt x="323" y="2863"/>
                </a:moveTo>
                <a:lnTo>
                  <a:pt x="0" y="2542"/>
                </a:lnTo>
                <a:lnTo>
                  <a:pt x="0" y="0"/>
                </a:lnTo>
                <a:lnTo>
                  <a:pt x="323" y="326"/>
                </a:lnTo>
                <a:lnTo>
                  <a:pt x="323" y="2863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1360" y="5423040"/>
            <a:ext cx="1819800" cy="905400"/>
          </a:xfrm>
          <a:custGeom>
            <a:avLst/>
            <a:gdLst/>
            <a:ahLst/>
            <a:rect l="0" t="0" r="r" b="b"/>
            <a:pathLst>
              <a:path w="5055" h="2515">
                <a:moveTo>
                  <a:pt x="5055" y="2515"/>
                </a:moveTo>
                <a:lnTo>
                  <a:pt x="0" y="2515"/>
                </a:lnTo>
                <a:lnTo>
                  <a:pt x="0" y="0"/>
                </a:lnTo>
                <a:lnTo>
                  <a:pt x="5055" y="0"/>
                </a:lnTo>
                <a:lnTo>
                  <a:pt x="5055" y="2515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11360" y="5423040"/>
            <a:ext cx="1829160" cy="914760"/>
          </a:xfrm>
          <a:custGeom>
            <a:avLst/>
            <a:gdLst/>
            <a:ahLst/>
            <a:rect l="0" t="0" r="r" b="b"/>
            <a:pathLst>
              <a:path w="5081" h="2541">
                <a:moveTo>
                  <a:pt x="5081" y="2541"/>
                </a:moveTo>
                <a:lnTo>
                  <a:pt x="0" y="2541"/>
                </a:lnTo>
                <a:lnTo>
                  <a:pt x="0" y="0"/>
                </a:lnTo>
                <a:lnTo>
                  <a:pt x="5081" y="0"/>
                </a:lnTo>
                <a:lnTo>
                  <a:pt x="5081" y="2541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703600" y="5699160"/>
            <a:ext cx="1536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KL In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0160" y="5965920"/>
            <a:ext cx="3159360" cy="103680"/>
          </a:xfrm>
          <a:custGeom>
            <a:avLst/>
            <a:gdLst/>
            <a:ahLst/>
            <a:rect l="0" t="0" r="r" b="b"/>
            <a:pathLst>
              <a:path w="8776" h="288">
                <a:moveTo>
                  <a:pt x="0" y="0"/>
                </a:moveTo>
                <a:lnTo>
                  <a:pt x="320" y="288"/>
                </a:lnTo>
                <a:lnTo>
                  <a:pt x="8776" y="288"/>
                </a:lnTo>
                <a:lnTo>
                  <a:pt x="84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0160" y="5965920"/>
            <a:ext cx="3169080" cy="113040"/>
          </a:xfrm>
          <a:custGeom>
            <a:avLst/>
            <a:gdLst/>
            <a:ahLst/>
            <a:rect l="0" t="0" r="r" b="b"/>
            <a:pathLst>
              <a:path w="8803" h="314">
                <a:moveTo>
                  <a:pt x="0" y="0"/>
                </a:moveTo>
                <a:lnTo>
                  <a:pt x="321" y="314"/>
                </a:lnTo>
                <a:lnTo>
                  <a:pt x="8803" y="314"/>
                </a:lnTo>
                <a:lnTo>
                  <a:pt x="849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7640" y="5540400"/>
            <a:ext cx="249480" cy="675000"/>
          </a:xfrm>
          <a:custGeom>
            <a:avLst/>
            <a:gdLst/>
            <a:ahLst/>
            <a:rect l="0" t="0" r="r" b="b"/>
            <a:pathLst>
              <a:path w="693" h="1875">
                <a:moveTo>
                  <a:pt x="0" y="1557"/>
                </a:moveTo>
                <a:lnTo>
                  <a:pt x="297" y="1875"/>
                </a:lnTo>
                <a:lnTo>
                  <a:pt x="693" y="1083"/>
                </a:lnTo>
                <a:lnTo>
                  <a:pt x="297" y="304"/>
                </a:lnTo>
                <a:lnTo>
                  <a:pt x="0" y="0"/>
                </a:lnTo>
                <a:lnTo>
                  <a:pt x="379" y="778"/>
                </a:lnTo>
                <a:lnTo>
                  <a:pt x="0" y="1557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97640" y="5540400"/>
            <a:ext cx="259200" cy="684720"/>
          </a:xfrm>
          <a:custGeom>
            <a:avLst/>
            <a:gdLst/>
            <a:ahLst/>
            <a:rect l="0" t="0" r="r" b="b"/>
            <a:pathLst>
              <a:path w="720" h="1902">
                <a:moveTo>
                  <a:pt x="0" y="1580"/>
                </a:moveTo>
                <a:lnTo>
                  <a:pt x="309" y="1902"/>
                </a:lnTo>
                <a:lnTo>
                  <a:pt x="720" y="1099"/>
                </a:lnTo>
                <a:lnTo>
                  <a:pt x="309" y="308"/>
                </a:lnTo>
                <a:lnTo>
                  <a:pt x="0" y="0"/>
                </a:lnTo>
                <a:lnTo>
                  <a:pt x="393" y="790"/>
                </a:lnTo>
                <a:lnTo>
                  <a:pt x="0" y="158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39120" y="5824440"/>
            <a:ext cx="117360" cy="11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29000" y="5681520"/>
            <a:ext cx="1800" cy="275040"/>
          </a:xfrm>
          <a:custGeom>
            <a:avLst/>
            <a:gdLst/>
            <a:ahLst/>
            <a:rect l="0" t="0" r="r" b="b"/>
            <a:pathLst>
              <a:path w="5" h="764">
                <a:moveTo>
                  <a:pt x="0" y="764"/>
                </a:moveTo>
                <a:lnTo>
                  <a:pt x="5" y="764"/>
                </a:lnTo>
                <a:lnTo>
                  <a:pt x="5" y="0"/>
                </a:lnTo>
                <a:lnTo>
                  <a:pt x="0" y="0"/>
                </a:lnTo>
                <a:lnTo>
                  <a:pt x="0" y="764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0160" y="5540400"/>
            <a:ext cx="3189600" cy="559080"/>
          </a:xfrm>
          <a:custGeom>
            <a:avLst/>
            <a:gdLst/>
            <a:ahLst/>
            <a:rect l="0" t="0" r="r" b="b"/>
            <a:pathLst>
              <a:path w="8860" h="1553">
                <a:moveTo>
                  <a:pt x="0" y="1162"/>
                </a:moveTo>
                <a:lnTo>
                  <a:pt x="8468" y="1162"/>
                </a:lnTo>
                <a:lnTo>
                  <a:pt x="8468" y="1553"/>
                </a:lnTo>
                <a:lnTo>
                  <a:pt x="8860" y="777"/>
                </a:lnTo>
                <a:lnTo>
                  <a:pt x="8468" y="0"/>
                </a:lnTo>
                <a:lnTo>
                  <a:pt x="8468" y="385"/>
                </a:lnTo>
                <a:lnTo>
                  <a:pt x="0" y="385"/>
                </a:lnTo>
                <a:lnTo>
                  <a:pt x="0" y="1162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40160" y="5540400"/>
            <a:ext cx="3199320" cy="568800"/>
          </a:xfrm>
          <a:custGeom>
            <a:avLst/>
            <a:gdLst/>
            <a:ahLst/>
            <a:rect l="0" t="0" r="r" b="b"/>
            <a:pathLst>
              <a:path w="8887" h="1580">
                <a:moveTo>
                  <a:pt x="0" y="1182"/>
                </a:moveTo>
                <a:lnTo>
                  <a:pt x="8495" y="1182"/>
                </a:lnTo>
                <a:lnTo>
                  <a:pt x="8495" y="1580"/>
                </a:lnTo>
                <a:lnTo>
                  <a:pt x="8887" y="790"/>
                </a:lnTo>
                <a:lnTo>
                  <a:pt x="8495" y="0"/>
                </a:lnTo>
                <a:lnTo>
                  <a:pt x="8495" y="392"/>
                </a:lnTo>
                <a:lnTo>
                  <a:pt x="0" y="392"/>
                </a:lnTo>
                <a:lnTo>
                  <a:pt x="0" y="1182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444920" y="5637240"/>
            <a:ext cx="311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M_INPUTLANG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3960" y="3138480"/>
            <a:ext cx="1478160" cy="106560"/>
          </a:xfrm>
          <a:custGeom>
            <a:avLst/>
            <a:gdLst/>
            <a:ahLst/>
            <a:rect l="0" t="0" r="r" b="b"/>
            <a:pathLst>
              <a:path w="4106" h="296">
                <a:moveTo>
                  <a:pt x="3786" y="0"/>
                </a:moveTo>
                <a:lnTo>
                  <a:pt x="0" y="0"/>
                </a:lnTo>
                <a:lnTo>
                  <a:pt x="319" y="296"/>
                </a:lnTo>
                <a:lnTo>
                  <a:pt x="4106" y="296"/>
                </a:lnTo>
                <a:lnTo>
                  <a:pt x="3786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3960" y="3138480"/>
            <a:ext cx="1487880" cy="116280"/>
          </a:xfrm>
          <a:custGeom>
            <a:avLst/>
            <a:gdLst/>
            <a:ahLst/>
            <a:rect l="0" t="0" r="r" b="b"/>
            <a:pathLst>
              <a:path w="4133" h="323">
                <a:moveTo>
                  <a:pt x="3812" y="0"/>
                </a:moveTo>
                <a:lnTo>
                  <a:pt x="0" y="0"/>
                </a:lnTo>
                <a:lnTo>
                  <a:pt x="321" y="323"/>
                </a:lnTo>
                <a:lnTo>
                  <a:pt x="4133" y="323"/>
                </a:lnTo>
                <a:lnTo>
                  <a:pt x="3812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25560" y="2224080"/>
            <a:ext cx="106560" cy="1020960"/>
          </a:xfrm>
          <a:custGeom>
            <a:avLst/>
            <a:gdLst/>
            <a:ahLst/>
            <a:rect l="0" t="0" r="r" b="b"/>
            <a:pathLst>
              <a:path w="296" h="2836">
                <a:moveTo>
                  <a:pt x="296" y="2836"/>
                </a:moveTo>
                <a:lnTo>
                  <a:pt x="0" y="2517"/>
                </a:lnTo>
                <a:lnTo>
                  <a:pt x="0" y="0"/>
                </a:lnTo>
                <a:lnTo>
                  <a:pt x="296" y="323"/>
                </a:lnTo>
                <a:lnTo>
                  <a:pt x="296" y="2836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25560" y="2224080"/>
            <a:ext cx="116280" cy="1030680"/>
          </a:xfrm>
          <a:custGeom>
            <a:avLst/>
            <a:gdLst/>
            <a:ahLst/>
            <a:rect l="0" t="0" r="r" b="b"/>
            <a:pathLst>
              <a:path w="323" h="2863">
                <a:moveTo>
                  <a:pt x="323" y="2863"/>
                </a:moveTo>
                <a:lnTo>
                  <a:pt x="0" y="2542"/>
                </a:lnTo>
                <a:lnTo>
                  <a:pt x="0" y="0"/>
                </a:lnTo>
                <a:lnTo>
                  <a:pt x="323" y="326"/>
                </a:lnTo>
                <a:lnTo>
                  <a:pt x="323" y="2863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3960" y="2224080"/>
            <a:ext cx="1362600" cy="905400"/>
          </a:xfrm>
          <a:custGeom>
            <a:avLst/>
            <a:gdLst/>
            <a:ahLst/>
            <a:rect l="0" t="0" r="r" b="b"/>
            <a:pathLst>
              <a:path w="3785" h="2515">
                <a:moveTo>
                  <a:pt x="3785" y="2515"/>
                </a:moveTo>
                <a:lnTo>
                  <a:pt x="0" y="2515"/>
                </a:lnTo>
                <a:lnTo>
                  <a:pt x="0" y="0"/>
                </a:lnTo>
                <a:lnTo>
                  <a:pt x="3785" y="0"/>
                </a:lnTo>
                <a:lnTo>
                  <a:pt x="3785" y="2515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3960" y="2224080"/>
            <a:ext cx="1371960" cy="914760"/>
          </a:xfrm>
          <a:custGeom>
            <a:avLst/>
            <a:gdLst/>
            <a:ahLst/>
            <a:rect l="0" t="0" r="r" b="b"/>
            <a:pathLst>
              <a:path w="3811" h="2541">
                <a:moveTo>
                  <a:pt x="3811" y="2541"/>
                </a:moveTo>
                <a:lnTo>
                  <a:pt x="0" y="2541"/>
                </a:lnTo>
                <a:lnTo>
                  <a:pt x="0" y="0"/>
                </a:lnTo>
                <a:lnTo>
                  <a:pt x="3811" y="0"/>
                </a:lnTo>
                <a:lnTo>
                  <a:pt x="3811" y="2541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480" y="2362320"/>
            <a:ext cx="1104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dicator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25560" y="2879640"/>
            <a:ext cx="4988160" cy="106560"/>
          </a:xfrm>
          <a:custGeom>
            <a:avLst/>
            <a:gdLst/>
            <a:ahLst/>
            <a:rect l="0" t="0" r="r" b="b"/>
            <a:pathLst>
              <a:path w="13856" h="296">
                <a:moveTo>
                  <a:pt x="0" y="0"/>
                </a:moveTo>
                <a:lnTo>
                  <a:pt x="321" y="296"/>
                </a:lnTo>
                <a:lnTo>
                  <a:pt x="13856" y="296"/>
                </a:lnTo>
                <a:lnTo>
                  <a:pt x="1354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25560" y="2879640"/>
            <a:ext cx="4997880" cy="116280"/>
          </a:xfrm>
          <a:custGeom>
            <a:avLst/>
            <a:gdLst/>
            <a:ahLst/>
            <a:rect l="0" t="0" r="r" b="b"/>
            <a:pathLst>
              <a:path w="13883" h="323">
                <a:moveTo>
                  <a:pt x="0" y="0"/>
                </a:moveTo>
                <a:lnTo>
                  <a:pt x="321" y="323"/>
                </a:lnTo>
                <a:lnTo>
                  <a:pt x="13883" y="323"/>
                </a:lnTo>
                <a:lnTo>
                  <a:pt x="1357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11840" y="2452680"/>
            <a:ext cx="249480" cy="676800"/>
          </a:xfrm>
          <a:custGeom>
            <a:avLst/>
            <a:gdLst/>
            <a:ahLst/>
            <a:rect l="0" t="0" r="r" b="b"/>
            <a:pathLst>
              <a:path w="693" h="1880">
                <a:moveTo>
                  <a:pt x="0" y="1571"/>
                </a:moveTo>
                <a:lnTo>
                  <a:pt x="297" y="1880"/>
                </a:lnTo>
                <a:lnTo>
                  <a:pt x="693" y="1101"/>
                </a:lnTo>
                <a:lnTo>
                  <a:pt x="297" y="321"/>
                </a:lnTo>
                <a:lnTo>
                  <a:pt x="0" y="0"/>
                </a:lnTo>
                <a:lnTo>
                  <a:pt x="379" y="779"/>
                </a:lnTo>
                <a:lnTo>
                  <a:pt x="0" y="1571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11840" y="2452680"/>
            <a:ext cx="259200" cy="686160"/>
          </a:xfrm>
          <a:custGeom>
            <a:avLst/>
            <a:gdLst/>
            <a:ahLst/>
            <a:rect l="0" t="0" r="r" b="b"/>
            <a:pathLst>
              <a:path w="720" h="1906">
                <a:moveTo>
                  <a:pt x="0" y="1592"/>
                </a:moveTo>
                <a:lnTo>
                  <a:pt x="309" y="1906"/>
                </a:lnTo>
                <a:lnTo>
                  <a:pt x="720" y="1116"/>
                </a:lnTo>
                <a:lnTo>
                  <a:pt x="309" y="326"/>
                </a:lnTo>
                <a:lnTo>
                  <a:pt x="0" y="0"/>
                </a:lnTo>
                <a:lnTo>
                  <a:pt x="393" y="789"/>
                </a:lnTo>
                <a:lnTo>
                  <a:pt x="0" y="1592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3320" y="2736720"/>
            <a:ext cx="117360" cy="117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14400" y="2600280"/>
            <a:ext cx="1800" cy="270360"/>
          </a:xfrm>
          <a:custGeom>
            <a:avLst/>
            <a:gdLst/>
            <a:ahLst/>
            <a:rect l="0" t="0" r="r" b="b"/>
            <a:pathLst>
              <a:path w="5" h="751">
                <a:moveTo>
                  <a:pt x="0" y="751"/>
                </a:moveTo>
                <a:lnTo>
                  <a:pt x="5" y="751"/>
                </a:lnTo>
                <a:lnTo>
                  <a:pt x="5" y="0"/>
                </a:lnTo>
                <a:lnTo>
                  <a:pt x="0" y="0"/>
                </a:lnTo>
                <a:lnTo>
                  <a:pt x="0" y="751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25560" y="2452680"/>
            <a:ext cx="5018400" cy="563760"/>
          </a:xfrm>
          <a:custGeom>
            <a:avLst/>
            <a:gdLst/>
            <a:ahLst/>
            <a:rect l="0" t="0" r="r" b="b"/>
            <a:pathLst>
              <a:path w="13940" h="1566">
                <a:moveTo>
                  <a:pt x="0" y="1167"/>
                </a:moveTo>
                <a:lnTo>
                  <a:pt x="13548" y="1167"/>
                </a:lnTo>
                <a:lnTo>
                  <a:pt x="13548" y="1566"/>
                </a:lnTo>
                <a:lnTo>
                  <a:pt x="13940" y="776"/>
                </a:lnTo>
                <a:lnTo>
                  <a:pt x="13548" y="0"/>
                </a:lnTo>
                <a:lnTo>
                  <a:pt x="13548" y="390"/>
                </a:lnTo>
                <a:lnTo>
                  <a:pt x="0" y="390"/>
                </a:lnTo>
                <a:lnTo>
                  <a:pt x="0" y="1167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25560" y="2452680"/>
            <a:ext cx="5028120" cy="573480"/>
          </a:xfrm>
          <a:custGeom>
            <a:avLst/>
            <a:gdLst/>
            <a:ahLst/>
            <a:rect l="0" t="0" r="r" b="b"/>
            <a:pathLst>
              <a:path w="13967" h="1593">
                <a:moveTo>
                  <a:pt x="0" y="1187"/>
                </a:moveTo>
                <a:lnTo>
                  <a:pt x="13575" y="1187"/>
                </a:lnTo>
                <a:lnTo>
                  <a:pt x="13575" y="1593"/>
                </a:lnTo>
                <a:lnTo>
                  <a:pt x="13967" y="790"/>
                </a:lnTo>
                <a:lnTo>
                  <a:pt x="13575" y="0"/>
                </a:lnTo>
                <a:lnTo>
                  <a:pt x="13575" y="396"/>
                </a:lnTo>
                <a:lnTo>
                  <a:pt x="0" y="396"/>
                </a:lnTo>
                <a:lnTo>
                  <a:pt x="0" y="1187"/>
                </a:lnTo>
                <a:close/>
              </a:path>
            </a:pathLst>
          </a:cu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92480" y="2556000"/>
            <a:ext cx="4210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M_INPUTLANGCHANGE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put Language Hand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052640" y="1414440"/>
            <a:ext cx="70390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M_INPUTLANG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aram = (UINT)BaseCha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aram = new HK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M_INPUTLANGCHANGE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aram = (BOOL) bLangInSystemCha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aram = new HK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KeyboardLayout(HKL, UIN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8520" y="1066680"/>
            <a:ext cx="8348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mo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ultilingual Content Inp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r>
              <a:rPr b="1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3.5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1414440"/>
            <a:ext cx="83818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h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tch, English, Finnish, French, German, Italian, Japanese, Spanish, Swedish, Norweg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ping SDKs and Systems on MSD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ean languages share common S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r East languages each separate S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s we’re working on right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Chinese, Hangeul (Kor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90440" y="228600"/>
            <a:ext cx="8763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How To Prepare Font Handling For Multilingual I/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6560" y="2209680"/>
            <a:ext cx="821196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e EnumFontFamiliesEx() and ChooseFon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e DEFAULT_CHA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697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ault to ANSI_CHAR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697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sume given face name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e GetCharacterPlacemen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cord the charset in your document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use OEM_CHARSET in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echnical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9200" y="1414440"/>
            <a:ext cx="898668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mpiler that allows DBCS and/or Uni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systems, SDKs and samples o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 Level 2, (800) 759-5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ization Resource Kit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from global@microsof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International Handbook of Softwar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ft on MSDN, Microsoft Pres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arget Q1 ’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G Win32 International Dev Roadshow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 month:  (800) 619-768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79560" y="228600"/>
            <a:ext cx="71866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ite A Great International Application For 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erv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15880" y="2433600"/>
            <a:ext cx="811224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2800" indent="-4428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LS information for Date, Time, Sorting and String Information (even in the U.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s - implement Unicode throughout or incremen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8412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your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8412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your data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DBCS on Windows NT and Windows 9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language-specific versions of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 common-source localization strategy (Win32 .RES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2280" y="228600"/>
            <a:ext cx="88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f You’re Sharing Application Code Across Win32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ys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09560" y="2039760"/>
            <a:ext cx="7726320" cy="30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 (input method editor)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3.5,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95 IME APIs are slightly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stream handling/por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application string handling,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3.x 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36600" y="1414440"/>
            <a:ext cx="847260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hange between Windows NT 3.1 and 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IME and API alway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ght API differences between Far East (FE)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panese, Korean, Traditional Chi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for Windows NT sample: USE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:  SDK helpfiles, also International Handbook of Softwar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07800" y="228600"/>
            <a:ext cx="8529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ME APIs For Windows NT 3.5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1414440"/>
            <a:ext cx="83534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69840">
              <a:lnSpc>
                <a:spcPct val="90000"/>
              </a:lnSpc>
              <a:spcBef>
                <a:spcPts val="720"/>
              </a:spcBef>
              <a:tabLst>
                <a:tab algn="l" pos="2946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ddI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NLSPostApp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90000"/>
              </a:lnSpc>
              <a:spcBef>
                <a:spcPts val="720"/>
              </a:spcBef>
              <a:tabLst>
                <a:tab algn="l" pos="2946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DeleteI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NLSSendApp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90000"/>
              </a:lnSpc>
              <a:spcBef>
                <a:spcPts val="720"/>
              </a:spcBef>
              <a:tabLst>
                <a:tab algn="l" pos="2946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GetI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NLSSetIME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90000"/>
              </a:lnSpc>
              <a:spcBef>
                <a:spcPts val="720"/>
              </a:spcBef>
              <a:tabLst>
                <a:tab algn="l" pos="2946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QueryI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NLSGetKey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90000"/>
              </a:lnSpc>
              <a:spcBef>
                <a:spcPts val="720"/>
              </a:spcBef>
              <a:tabLst>
                <a:tab algn="l" pos="2946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SetI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NLSSetIMEH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90000"/>
              </a:lnSpc>
              <a:spcBef>
                <a:spcPts val="720"/>
              </a:spcBef>
              <a:tabLst>
                <a:tab algn="l" pos="2946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NLSEnableIME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NLSSetIMEHot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90000"/>
              </a:lnSpc>
              <a:spcBef>
                <a:spcPts val="720"/>
              </a:spcBef>
              <a:tabLst>
                <a:tab algn="l" pos="2946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NLSSendStr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NLSGetEnable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90000"/>
              </a:lnSpc>
              <a:spcBef>
                <a:spcPts val="720"/>
              </a:spcBef>
              <a:tabLst>
                <a:tab algn="l" pos="2946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NLSSetKeyState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NLSGetIMEHot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228600"/>
            <a:ext cx="91314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ndIMEMessageEx subfun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7800" y="961920"/>
            <a:ext cx="85294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19440" y="1066680"/>
            <a:ext cx="550692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69840">
              <a:lnSpc>
                <a:spcPct val="8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_DESTROYIM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8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_ENABLEDOS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6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_GETCONVERSION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6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_SETCONVERSION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6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_GETIMECAP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6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_SENDV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6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_SETCONVERSION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6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_SETCONVERSIONFON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6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_SETCONVERSION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6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_SETOPE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6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_GET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6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_WINDOWUPD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6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_GETSCREEN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6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_ENTERWORDREGISTER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6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_SETUIMOD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969840">
              <a:lnSpc>
                <a:spcPct val="6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E_GET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5440" y="228600"/>
            <a:ext cx="8494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ME For Windows NT </a:t>
            </a:r>
            <a:r>
              <a:rPr b="1" i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“Cairo” 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nd Windows 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79440" y="1676520"/>
            <a:ext cx="83851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 easily modify IME’s us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IME support in multilingu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Input Contex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mode, input mode, font, string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PI differences between FE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panese, Korean,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for Windows 95 samples:  HALFIME and FULL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:  SDK \docs\intl32.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27160" y="1109520"/>
            <a:ext cx="6891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ME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very Bishop</dc:creator>
  <dc:description/>
  <dc:language>en-US</dc:language>
  <cp:lastModifiedBy>Tomi Poutanen</cp:lastModifiedBy>
  <cp:revision>0</cp:revision>
  <dc:subject/>
  <dc:title>International Server Applications    F. Avery Bishop Microsoft Developer Relations  Lori Hoerth International Program Manager Windows NT Microsoft Corporation</dc:title>
</cp:coreProperties>
</file>