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7240" y="118908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Monitoring Of Your Application</a:t>
            </a: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za Baghai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Performanc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odctr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nlodc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8520" y="1498680"/>
            <a:ext cx="835020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isApp.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dct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i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 .INI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ApplicationName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The name of the application found under Service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SymbolFile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.H file containing symbolic offsets of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angid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subke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offset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mbolic constant defined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Must be consecutive even numbers starting with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isAppSym.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14720" y="1928880"/>
            <a:ext cx="471960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tabLst>
                <a:tab algn="l" pos="3622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egin .H fi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  <a:tabLst>
                <a:tab algn="l" pos="32036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BJECT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  <a:tabLst>
                <a:tab algn="l" pos="32036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BJ1_CT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  <a:tabLst>
                <a:tab algn="l" pos="32036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BJ1_CT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3622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nd .H fi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isAp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2960" y="1778040"/>
            <a:ext cx="786276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961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Begin .INI fil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[inf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This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fil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ThisAppSym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[languag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9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1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Other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[tex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1_009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Devic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1_009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1_011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Device name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1_011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the object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isAp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8440" y="1751040"/>
            <a:ext cx="85503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a_009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a_009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Counter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a_011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1a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a_011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Counter1a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b_009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b_009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Counter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b_011_NAME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1b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1_CTRb_011_HELP=</a:t>
            </a:r>
            <a:r>
              <a:rPr b="1" i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text for Counter1b (Other La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nd .INI fil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2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llecting Performance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4800" y="1565280"/>
            <a:ext cx="79376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should always be incremented and never be cl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64-bit counter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 data for all important operations during normal application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costly data collection (in terms of processor time or memory) - returning current IP fo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2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llecting Performance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9760" y="1515960"/>
            <a:ext cx="81280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edefined counter types defined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perf.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vailable in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y WIN32 IPC (named file mapping, RPC...) between the application and its Performanc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recording/reporting erro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5520" y="23004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ing The Performance D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23960" y="1185840"/>
            <a:ext cx="7699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the counter and object data structures (se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perf.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the performance data to the Performance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p to three extended functions for Registry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itializes performance monitoring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llect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ports perform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los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loses performance monitoring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5520" y="23004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ing The Performance D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1160" y="1728720"/>
            <a:ext cx="73245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your offset definition file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us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you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s in you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E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your three main functions (see prototypes defined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perf.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9400" y="230040"/>
            <a:ext cx="8658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ing The Performance DLL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Ope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6680" y="1846440"/>
            <a:ext cx="8083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_OPEN_PROC  OpenPerformanc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DWORD OpenPerformanceData (LPWSTR  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   lpDeviceNam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on first call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 or first call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 HKEY_PERFORMANCE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 the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ounters and help indexes from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 performance data sto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 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9400" y="230040"/>
            <a:ext cx="8658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ing The Performance DLL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llect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40" y="1876320"/>
            <a:ext cx="85755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_COLLECT_PROC  CollectPerformanc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DWORD CollectPerformanceData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PWSTR  lpwsz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PVOID  *lppDa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PDWORD  lpcbBy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PDWORD  lpcObjectTyp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on all call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ollect all requested perform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he requested obje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ystem event log for err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20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ication Performance Cou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11080" y="1928880"/>
            <a:ext cx="75247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counters/data to Performance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ne performance while developing/debugging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users better adjust configurable settings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9200" y="230040"/>
            <a:ext cx="8798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ing The Performance DLL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lose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1720" y="1928880"/>
            <a:ext cx="80834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_CLOSE_PROC  ClosePerformanc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DWORD ClosePerformanceData 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on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ose the HKEY_PERFORMANCE_DATA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all the necessary cleanup operations such as closing device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2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Your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35080" y="1533600"/>
            <a:ext cx="6877080" cy="28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your application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.in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keys and values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application’s Performance DLL file into the NT_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install your objects/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20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ication Performance Cou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1928880"/>
            <a:ext cx="88423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way to add performance objects/counters for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your performance data to Performance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unters to help you tune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unters to help users better adjust your application’s configurable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20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ow Performance Monitor Collects Your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400" y="1917720"/>
            <a:ext cx="9063000" cy="3022560"/>
            <a:chOff x="41400" y="1917720"/>
            <a:chExt cx="9063000" cy="3022560"/>
          </a:xfrm>
        </p:grpSpPr>
        <p:sp>
          <p:nvSpPr>
            <p:cNvPr id="44" name=""/>
            <p:cNvSpPr txBox="1"/>
            <p:nvPr/>
          </p:nvSpPr>
          <p:spPr>
            <a:xfrm>
              <a:off x="41400" y="3259080"/>
              <a:ext cx="8077320" cy="58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600120" indent="-60012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50920" y="1917720"/>
              <a:ext cx="3722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 under 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23840" y="2317680"/>
              <a:ext cx="2173320" cy="53964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23840" y="2819520"/>
              <a:ext cx="2173320" cy="49212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23840" y="3321000"/>
              <a:ext cx="2173320" cy="49212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23840" y="3787920"/>
              <a:ext cx="934920" cy="1152360"/>
            </a:xfrm>
            <a:prstGeom prst="rect">
              <a:avLst/>
            </a:prstGeom>
            <a:gradFill rotWithShape="0">
              <a:gsLst>
                <a:gs pos="0">
                  <a:srgbClr val="7429af"/>
                </a:gs>
                <a:gs pos="100000">
                  <a:srgbClr val="9234db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end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1017720" y="3787920"/>
              <a:ext cx="1284120" cy="1152360"/>
            </a:xfrm>
            <a:prstGeom prst="rect">
              <a:avLst/>
            </a:prstGeom>
            <a:gradFill rotWithShape="0">
              <a:gsLst>
                <a:gs pos="0">
                  <a:srgbClr val="7429af"/>
                </a:gs>
                <a:gs pos="100000">
                  <a:srgbClr val="9234db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end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asurement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2298600" y="2317680"/>
              <a:ext cx="1459080" cy="261468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ibra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763800" y="2317680"/>
              <a:ext cx="1459080" cy="261468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figur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6191280" y="2325600"/>
              <a:ext cx="1459080" cy="261468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figur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7645320" y="2325600"/>
              <a:ext cx="1459080" cy="2614680"/>
            </a:xfrm>
            <a:prstGeom prst="rect">
              <a:avLst/>
            </a:prstGeom>
            <a:gradFill rotWithShape="0">
              <a:gsLst>
                <a:gs pos="0">
                  <a:srgbClr val="4d72ca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formanc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ni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578560" y="2523960"/>
              <a:ext cx="204840" cy="1886040"/>
              <a:chOff x="5578560" y="2523960"/>
              <a:chExt cx="204840" cy="1886040"/>
            </a:xfrm>
          </p:grpSpPr>
          <p:sp>
            <p:nvSpPr>
              <p:cNvPr id="56" name=""/>
              <p:cNvSpPr/>
              <p:nvPr/>
            </p:nvSpPr>
            <p:spPr>
              <a:xfrm>
                <a:off x="5578560" y="2523960"/>
                <a:ext cx="204840" cy="476280"/>
              </a:xfrm>
              <a:prstGeom prst="rect">
                <a:avLst/>
              </a:prstGeom>
              <a:solidFill>
                <a:srgbClr val="f5b55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78560" y="2994120"/>
                <a:ext cx="204840" cy="476280"/>
              </a:xfrm>
              <a:prstGeom prst="rect">
                <a:avLst/>
              </a:prstGeom>
              <a:solidFill>
                <a:srgbClr val="f5b55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78560" y="3463920"/>
                <a:ext cx="204840" cy="476280"/>
              </a:xfrm>
              <a:prstGeom prst="rect">
                <a:avLst/>
              </a:prstGeom>
              <a:solidFill>
                <a:srgbClr val="f5b55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578560" y="3933720"/>
                <a:ext cx="204840" cy="476280"/>
              </a:xfrm>
              <a:prstGeom prst="rect">
                <a:avLst/>
              </a:prstGeom>
              <a:solidFill>
                <a:srgbClr val="f5b55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091120" y="4052880"/>
              <a:ext cx="4446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46760" y="4052880"/>
              <a:ext cx="4446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20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ding Application Performance Cou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15880" y="1928880"/>
            <a:ext cx="63165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and counte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up the Regi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ng performanc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the Performanc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ject And Counter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03160" y="1549440"/>
            <a:ext cx="7540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:  make performance data available (memory, disk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:  type of data for the counter object (PageFaults/Sec, CacheBytes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stances fo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 counts showed as rates by Performance Mon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2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4840" y="1628640"/>
            <a:ext cx="6397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n the application’s Services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edt3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uring development and debugging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.in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finishe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install your objects/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0040" y="1542960"/>
            <a:ext cx="760896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HKEY_LOCAL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0" indent="-39852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CurrentControl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1560" indent="-39852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Application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brary : </a:t>
            </a:r>
            <a:r>
              <a:rPr b="1" lang="en-US" sz="1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G_SZ 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ll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Open : </a:t>
            </a:r>
            <a:r>
              <a:rPr b="1" lang="en-US" sz="1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G_SZ 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OpenFunc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llect : </a:t>
            </a:r>
            <a:r>
              <a:rPr b="1" lang="en-US" sz="1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G_SZ 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llectFunc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lose : </a:t>
            </a:r>
            <a:r>
              <a:rPr b="1" lang="en-US" sz="1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G_SZ 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loseFunc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First Counter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First Help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ast Counter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ast Help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unter names/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35080" y="1724040"/>
            <a:ext cx="68770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spcBef>
                <a:spcPts val="155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dct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dct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ies to add/remove performance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 information maintained in data files, accessed via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c009.dat:  Counter names/value in U.S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h009.dat:  Counter help text in U.S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c???.dat and perfh???.dat for other supporte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20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ting Up The Registry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unter names/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0720"/>
            <a:ext cx="823284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50000"/>
              </a:lnSpc>
              <a:spcBef>
                <a:spcPts val="155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HKEY_LOCAL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0" indent="-39852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1560" indent="-39852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Current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Perf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Base Index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0x7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ast Counter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0x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Last Help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0x7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Version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DWORD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0x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\009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(U.S. English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cntr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help text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\???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(other supported langu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Counter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cntr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0600" indent="-417600">
              <a:lnSpc>
                <a:spcPct val="65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Help : </a:t>
            </a:r>
            <a:r>
              <a:rPr b="1" lang="en-US" sz="18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REG_MULTI_SZ </a:t>
            </a:r>
            <a:r>
              <a:rPr b="1" lang="en-US" sz="2400" spc="-1" strike="noStrike">
                <a:solidFill>
                  <a:srgbClr val="e7e751"/>
                </a:solidFill>
                <a:latin typeface="Times New Roman"/>
                <a:ea typeface="Times New Roman"/>
              </a:rPr>
              <a:t>: help text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za Baghai</dc:creator>
  <dc:description/>
  <dc:language>en-US</dc:language>
  <cp:lastModifiedBy>Tomi Poutanen</cp:lastModifiedBy>
  <cp:revision>0</cp:revision>
  <dc:subject/>
  <dc:title>Performance Monitoring Of Your Application    Reza Baghai Software Design Engineer Windows NT Performance Microsoft Corporation</dc:title>
</cp:coreProperties>
</file>