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60FBEE-DC4E-400F-A4B7-64504CB0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4828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m Payn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Network Develop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API - Advantages Over 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01720" y="2063880"/>
            <a:ext cx="75405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 of data not ex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rotected from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ing can be buil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irect - changes can be reflect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for large amount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Versio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17520" y="1762200"/>
            <a:ext cx="85089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dd info to API without changing prototype.  Makes updating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evel and downlevel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evel admin tool continues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evel admin tool can be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YourSvcGetInfo( CHAR *Server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Level, VOID *Buffer, USHORT Buf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Performanc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120" y="1952640"/>
            <a:ext cx="842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on multiple parameters of a single object with 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other handy use of info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on multiple objects with 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, adding members to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pen-Get-Set-Clo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 much 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Performanc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9200" y="1984320"/>
            <a:ext cx="79056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info levels with appropriate amount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-side sorting (store s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w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need to detect slow links and modify UPI (reduce information flow).  For example, AS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04800" y="228600"/>
            <a:ext cx="613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Administration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46320" y="1968480"/>
            <a:ext cx="48513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1482840"/>
            <a:ext cx="77090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 data in the Registry, both locally and remo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static service 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Edito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useful adjunct for your administration tool for seldom used configur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g Even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68440" y="1482840"/>
            <a:ext cx="620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 called b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for unattend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tool for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text friendly for users/administrators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text can be loc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4160" y="1482840"/>
            <a:ext cx="86360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piece of overall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oyment costs heavily weighted toward managemen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dministration is not just a goo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essful product will prompt ISVs and corporate developers to develop their own GUI.  It is difficult to foresee al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46280" y="1482840"/>
            <a:ext cx="7651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administration of Windows 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, Stop, Pause,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,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s Applet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ervice Controll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87520" y="1482840"/>
            <a:ext cx="79693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ervice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s service i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pecify account in which service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/SetServiceObjectSecurit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who can control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/ChangeServiceConfig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configur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42920" y="1482840"/>
            <a:ext cx="70581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(),ControlService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, stop, pause,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 own control codes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Stat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status of service as reported to Service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ControlService() to get latest info for runn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87280" y="228600"/>
            <a:ext cx="676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:  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3360" y="1905120"/>
            <a:ext cx="793764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your service if not already start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if it is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in parameters in StartService() - could (should - parameters passed are not persisted) use Registry 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55520" y="1482840"/>
            <a:ext cx="70326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and group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User*, NetGroup*, NetLocalGroup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Net APIs for Windows NT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ed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ocalGroupAddMember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ocalGroupRemoveMember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QueryDisplayInformatio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GetDisplayInformationInd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22520" y="1482840"/>
            <a:ext cx="58993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user and local group and add user to lo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511280" y="1482840"/>
            <a:ext cx="61214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curity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ystem securit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 Windows NT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03400" y="1482840"/>
            <a:ext cx="693720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OpenPolicy() - Open the LSA locally or remo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Query/SetInformationPolicy() - Sets information such as domain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store user/password information f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CreateSecret(), LsaOpenSecret(), LsaSetSecret(), LsaQuerySecr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840" y="1482840"/>
            <a:ext cx="857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LookupNames/Sids() - translates between account names and security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the actions a user account can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EnumerateAccountsWithUser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EnumerateAccountRight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Add/RemoveAccountRight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01720" y="1482840"/>
            <a:ext cx="754056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a great administrative programm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si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programming interface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ing your service also means administering the environment in which it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47600" y="1482840"/>
            <a:ext cx="704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I set up my service to run in an account and give the account the right to run as a ser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ture Administration Interf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9680" y="1952640"/>
            <a:ext cx="70642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, DCOM platform-independent interfaces for commonly used directory servic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- scripting from Visual Basi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ther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e A Great Remotely Manageable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15920" y="1920960"/>
            <a:ext cx="711216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admin API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PC for platform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abou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Windows NT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, Service Controller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482840"/>
            <a:ext cx="80643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ing a remote administr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ministration APIs (Service Controller, Net, LSA, Event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hoosing A Remote Administration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90840" y="2000160"/>
            <a:ext cx="59626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own IPC (over Winsock or named pi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ote 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6240" y="1482840"/>
            <a:ext cx="68515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- No API interface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store static data in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known goo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egNotifyChangeKey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Your Own (Non-RPC)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0480" y="1482840"/>
            <a:ext cx="776304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o your own security, mars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worry about transport specif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e RPC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6480" y="1177920"/>
            <a:ext cx="733104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/multipl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other OSF DC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it’s (almost free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RpcBindingSetAuth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RpcServerRegisterAuth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publish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len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Payne</dc:creator>
  <dc:description/>
  <dc:language>en-US</dc:language>
  <cp:lastModifiedBy>Tomi Poutanen</cp:lastModifiedBy>
  <cp:revision>0</cp:revision>
  <dc:subject/>
  <dc:title>Service Administration</dc:title>
</cp:coreProperties>
</file>