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154160" y="404640"/>
            <a:ext cx="68356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ving From OpenVMS To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id A. Solo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2305080" y="3103560"/>
            <a:ext cx="4533840" cy="1978200"/>
          </a:xfrm>
          <a:prstGeom prst="rect">
            <a:avLst/>
          </a:prstGeom>
          <a:solidFill>
            <a:srgbClr val="009688"/>
          </a:solidFill>
          <a:ln w="38160">
            <a:solidFill>
              <a:srgbClr val="f5b553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id Solomon Expert Sem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20 Hunters 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ashua, NH  03063-22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el. 800-492-4898 or +1-603-595-90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ax (603) 595-9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net: 71561.3603@compuserv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52280" y="5715000"/>
            <a:ext cx="8839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(c) 1995 David A. Solo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produced with permission from David Solomon.  This presentation may be viewed for informational purposes, but may not be incorporated into other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gram Development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78000" y="1692360"/>
            <a:ext cx="83883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9760" indent="-509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VMS:  compile, link, debug, and r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ke V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tools not bund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r, Librarian, and Message compiler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, come with IDE (for example, Visual C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ology differe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OLB = .LIB (standard libra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E (executable image) = .EX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E (shareable image) = .D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OPT = .DEF (module definitio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63960" y="230040"/>
            <a:ext cx="300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mpil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79320" y="1413000"/>
            <a:ext cx="7785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a compiler and selecting an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4600" y="1986120"/>
            <a:ext cx="8256600" cy="4343400"/>
          </a:xfrm>
          <a:prstGeom prst="rect">
            <a:avLst/>
          </a:prstGeom>
          <a:gradFill rotWithShape="0">
            <a:gsLst>
              <a:gs pos="0">
                <a:srgbClr val="491a6d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/C+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, Borlan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++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ymant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DEC, and S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focus, Accuco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al equival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a VA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SIC-&gt;C translator or Visual B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-3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514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urrent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979640" y="230040"/>
            <a:ext cx="5137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SDK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5680" y="1413000"/>
            <a:ext cx="843444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mponent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MS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mak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M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Compil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Compil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IAN/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IN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rocedure Call (RP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Dev.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T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D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453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if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448080" y="230040"/>
            <a:ext cx="2263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di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1260360"/>
            <a:ext cx="6191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T clone:  SEDT (share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PU clone:  nu/TP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 Soft - 603-666-66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E:  subset capabilities provided with 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-based programming edi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ckEdit - programmable editor (MicroEdge - 919-831-06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w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41320" y="1479600"/>
            <a:ext cx="7462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MS Versus Windows NT:  Feature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98560" y="1700280"/>
            <a:ext cx="734688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desktop to data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32-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, protected per-process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, multi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able base OS syste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able device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22200" y="228600"/>
            <a:ext cx="6699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MS And Windows NT:  Features In Comm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81040" y="1663560"/>
            <a:ext cx="7981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9760" indent="-50976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ystem management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920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authentication, disk management, and performance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ing third-party produ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920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user support (dumb terminal and remote execution of graphical applic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920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 and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920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920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/Motif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920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Security, Time, and Cell Directory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22200" y="228600"/>
            <a:ext cx="6699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MS And Windows NT:  Features In Comm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:  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6800" y="1413000"/>
            <a:ext cx="7612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a wider range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 multi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and object-oriented OS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operating system pers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peer-to-peer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00120" y="1413000"/>
            <a:ext cx="614376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er and mixed-case 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system managem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system-wide configura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gist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:  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49360" y="230040"/>
            <a:ext cx="6227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MS Features Mis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5360" y="1260360"/>
            <a:ext cx="815508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, load balancing, and system scalability (Digital Windows NT Clusters to address some of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 lock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subsystem (third-party products avail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less/remote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commercial sort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command shell (D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tandard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tegrated PO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tandards:  XPG3, POSIX.2, .4, and .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13160" y="228600"/>
            <a:ext cx="2319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96960" y="1413000"/>
            <a:ext cx="77500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comparison:  VM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ersus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in VMS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to Win32 System Service Equival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abilities not in OpenV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in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25400" y="1108080"/>
            <a:ext cx="769464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al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management services in bas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dtm - 2PC transaction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26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26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26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links (only available through POSIX sub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26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26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ed images with privi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33520" y="230040"/>
            <a:ext cx="6276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MS Features Mis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88840" y="230040"/>
            <a:ext cx="7350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In VMS Ter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54280" y="1087560"/>
            <a:ext cx="563724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Win32 API for VMS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and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-tim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65120" y="230040"/>
            <a:ext cx="6399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Breakd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7680" y="1312920"/>
            <a:ext cx="8499240" cy="5295960"/>
            <a:chOff x="247680" y="1312920"/>
            <a:chExt cx="8499240" cy="5295960"/>
          </a:xfrm>
        </p:grpSpPr>
        <p:sp>
          <p:nvSpPr>
            <p:cNvPr id="85" name=""/>
            <p:cNvSpPr txBox="1"/>
            <p:nvPr/>
          </p:nvSpPr>
          <p:spPr>
            <a:xfrm>
              <a:off x="4441680" y="1716120"/>
              <a:ext cx="4305240" cy="2340000"/>
            </a:xfrm>
            <a:prstGeom prst="rect">
              <a:avLst/>
            </a:prstGeom>
            <a:gradFill rotWithShape="0">
              <a:gsLst>
                <a:gs pos="0">
                  <a:srgbClr val="7429af"/>
                </a:gs>
                <a:gs pos="100000">
                  <a:srgbClr val="9234d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ssage queue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yboard/mouse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alog boxes, menus, and ic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pboard, and Drag-and-Drop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DEML (Dynamic Data Exchang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DI (Multiple Document Interfa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47680" y="4599000"/>
              <a:ext cx="3562200" cy="2009880"/>
            </a:xfrm>
            <a:prstGeom prst="rect">
              <a:avLst/>
            </a:prstGeom>
            <a:gradFill rotWithShape="0">
              <a:gsLst>
                <a:gs pos="0">
                  <a:srgbClr val="0f47e1"/>
                </a:gs>
                <a:gs pos="100000">
                  <a:srgbClr val="114ff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ordinat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tma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shes, pens, lines, and cur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nts, text, and col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ta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441680" y="1312920"/>
              <a:ext cx="3257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Management (U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47680" y="4208400"/>
              <a:ext cx="3376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s Device Interface (GD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247680" y="1716120"/>
              <a:ext cx="3270240" cy="2340000"/>
            </a:xfrm>
            <a:prstGeom prst="rect">
              <a:avLst/>
            </a:prstGeom>
            <a:gradFill rotWithShape="0">
              <a:gsLst>
                <a:gs pos="0">
                  <a:srgbClr val="008b00"/>
                </a:gs>
                <a:gs pos="100000">
                  <a:srgbClr val="00ae0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and thre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mory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process 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ception hand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47680" y="1312920"/>
              <a:ext cx="3841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 Services (BASE or KERNE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441680" y="4624560"/>
              <a:ext cx="2228760" cy="1349280"/>
            </a:xfrm>
            <a:prstGeom prst="rect">
              <a:avLst/>
            </a:prstGeom>
            <a:gradFill rotWithShape="0">
              <a:gsLst>
                <a:gs pos="0">
                  <a:srgbClr val="0f47e1"/>
                </a:gs>
                <a:gs pos="100000">
                  <a:srgbClr val="114ff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ltime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mon contr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9360" indent="-279360">
                <a:lnSpc>
                  <a:spcPct val="90000"/>
                </a:lnSpc>
                <a:spcBef>
                  <a:spcPts val="720"/>
                </a:spcBef>
                <a:buClr>
                  <a:srgbClr val="f5b553"/>
                </a:buClr>
                <a:buSzPct val="75000"/>
                <a:buFont typeface="Wingdings"/>
                <a:buChar char=""/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 compr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441680" y="4208400"/>
              <a:ext cx="996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the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4371840" y="6281640"/>
            <a:ext cx="4405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“Intro to the Win32 API” article on MSD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7520" y="228600"/>
            <a:ext cx="8510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etting Up To Speed On Win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49240" y="1184400"/>
            <a:ext cx="74455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to get up to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“Overviews” in Win32 documenta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 1 and 2 in hardcop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verview in Win32 on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Online Help reference (WIN32.HLP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excel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Lots of samples on Win32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mstools\samples - main Win32 samples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q_a\samples - additional samples; see Win32 Knowledge Base .H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Peruse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STARLET = \mstools\h\windows.h (and its descen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eneral API Differ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158840"/>
            <a:ext cx="8534520" cy="54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services that do small things versus VMS style (item lists, and function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uctures used as input/output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escri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 retur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the consistent low-bit set/clear means success/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eturn 0 fo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eturn 0 for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eturn the “answ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astError() returns per-thread extended erro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$GETMSG/$PUTMSG = FormatMess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does not list all possible error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90680" y="4425840"/>
            <a:ext cx="6738840" cy="65736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50960" y="230040"/>
            <a:ext cx="582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jects And Hand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68320" y="1260360"/>
            <a:ext cx="74088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thing i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, events, and semap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(strings, fonts, and bitmap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get hand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040" indent="-3650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$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ASSIG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object-specific Createxxx/Open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040" indent="-3650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$DASSG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ose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ifferent than VMS channe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inherited (a la Un*x) and/or du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it on them (versus event fl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81360" y="230040"/>
            <a:ext cx="5397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andle Inherit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3240" y="1395360"/>
            <a:ext cx="787716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Mark file handle as inheritable  (SECURITY_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Pass handle on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Process(...CommandLine=sprintf(“%d”,hFile)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98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heritHandles=TRU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862600" y="4603680"/>
            <a:ext cx="1676520" cy="160020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71680" y="3613320"/>
            <a:ext cx="1828800" cy="182880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8200" y="3994200"/>
            <a:ext cx="1600560" cy="609840"/>
          </a:xfrm>
          <a:custGeom>
            <a:avLst/>
            <a:gdLst/>
            <a:ahLst/>
            <a:rect l="0" t="0" r="r" b="b"/>
            <a:pathLst>
              <a:path fill="none" w="4446" h="1694">
                <a:moveTo>
                  <a:pt x="4446" y="1694"/>
                </a:moveTo>
                <a:lnTo>
                  <a:pt x="4446" y="1694"/>
                </a:lnTo>
                <a:lnTo>
                  <a:pt x="4446" y="1694"/>
                </a:lnTo>
                <a:cubicBezTo>
                  <a:pt x="4446" y="1397"/>
                  <a:pt x="4241" y="1105"/>
                  <a:pt x="3850" y="847"/>
                </a:cubicBezTo>
                <a:cubicBezTo>
                  <a:pt x="3460" y="589"/>
                  <a:pt x="2899" y="376"/>
                  <a:pt x="2223" y="227"/>
                </a:cubicBezTo>
                <a:cubicBezTo>
                  <a:pt x="1547" y="78"/>
                  <a:pt x="78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18160" y="3741840"/>
            <a:ext cx="2241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Proces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662200" y="4603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6920" y="4070520"/>
            <a:ext cx="1447920" cy="990720"/>
          </a:xfrm>
          <a:prstGeom prst="rect">
            <a:avLst/>
          </a:prstGeom>
          <a:gradFill rotWithShape="0">
            <a:gsLst>
              <a:gs pos="0">
                <a:srgbClr val="c74892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fi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30720" y="5975280"/>
            <a:ext cx="1189080" cy="609480"/>
          </a:xfrm>
          <a:prstGeom prst="rect">
            <a:avLst/>
          </a:prstGeom>
          <a:gradFill rotWithShape="0">
            <a:gsLst>
              <a:gs pos="0">
                <a:srgbClr val="c74892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85880" y="5137200"/>
            <a:ext cx="281952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89200" y="5632560"/>
            <a:ext cx="2274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s to same access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49440" y="1260360"/>
            <a:ext cx="78184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Open targe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Duplicate handle into process (or from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uplicateHandle(hCreator,hFile,TargetProcessP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hNewHand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end handle to process via some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1120" y="2011320"/>
            <a:ext cx="72262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63480" y="3508200"/>
            <a:ext cx="7832520" cy="3076920"/>
            <a:chOff x="663480" y="3508200"/>
            <a:chExt cx="7832520" cy="3076920"/>
          </a:xfrm>
        </p:grpSpPr>
        <p:sp>
          <p:nvSpPr>
            <p:cNvPr id="115" name=""/>
            <p:cNvSpPr txBox="1"/>
            <p:nvPr/>
          </p:nvSpPr>
          <p:spPr>
            <a:xfrm>
              <a:off x="5310360" y="4498920"/>
              <a:ext cx="1676520" cy="1600200"/>
            </a:xfrm>
            <a:prstGeom prst="rect">
              <a:avLst/>
            </a:prstGeom>
            <a:gradFill rotWithShape="0">
              <a:gsLst>
                <a:gs pos="0">
                  <a:srgbClr val="5780e3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719440" y="3508200"/>
              <a:ext cx="1828800" cy="1828800"/>
            </a:xfrm>
            <a:prstGeom prst="rect">
              <a:avLst/>
            </a:prstGeom>
            <a:gradFill rotWithShape="0">
              <a:gsLst>
                <a:gs pos="0">
                  <a:srgbClr val="c60074"/>
                </a:gs>
                <a:gs pos="100000">
                  <a:srgbClr val="dc008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95960" y="3889440"/>
              <a:ext cx="1600560" cy="609840"/>
            </a:xfrm>
            <a:custGeom>
              <a:avLst/>
              <a:gdLst/>
              <a:ahLst/>
              <a:rect l="0" t="0" r="r" b="b"/>
              <a:pathLst>
                <a:path fill="none" w="4446" h="1694">
                  <a:moveTo>
                    <a:pt x="4446" y="1694"/>
                  </a:moveTo>
                  <a:lnTo>
                    <a:pt x="4446" y="1694"/>
                  </a:lnTo>
                  <a:lnTo>
                    <a:pt x="4446" y="1694"/>
                  </a:lnTo>
                  <a:cubicBezTo>
                    <a:pt x="4446" y="1397"/>
                    <a:pt x="4241" y="1105"/>
                    <a:pt x="3850" y="847"/>
                  </a:cubicBezTo>
                  <a:cubicBezTo>
                    <a:pt x="3460" y="589"/>
                    <a:pt x="2899" y="376"/>
                    <a:pt x="2223" y="227"/>
                  </a:cubicBezTo>
                  <a:cubicBezTo>
                    <a:pt x="1547" y="78"/>
                    <a:pt x="780" y="0"/>
                    <a:pt x="0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294160" y="3637080"/>
              <a:ext cx="32018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OpenProcess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+ DuplicateHandl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09960" y="4498920"/>
              <a:ext cx="609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63480" y="3965400"/>
              <a:ext cx="1598760" cy="990720"/>
            </a:xfrm>
            <a:prstGeom prst="rect">
              <a:avLst/>
            </a:prstGeom>
            <a:gradFill rotWithShape="0">
              <a:gsLst>
                <a:gs pos="0">
                  <a:srgbClr val="c74892"/>
                </a:gs>
                <a:gs pos="100000">
                  <a:srgbClr val="f95ab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Hfile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Op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3938760" y="5565600"/>
              <a:ext cx="1905120" cy="457200"/>
            </a:xfrm>
            <a:prstGeom prst="rect">
              <a:avLst/>
            </a:prstGeom>
            <a:gradFill rotWithShape="0">
              <a:gsLst>
                <a:gs pos="0">
                  <a:srgbClr val="c74892"/>
                </a:gs>
                <a:gs pos="100000">
                  <a:srgbClr val="f95ab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NewH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236760" y="6218280"/>
              <a:ext cx="4775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handle value differs, but same access instan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33640" y="5032440"/>
              <a:ext cx="2057400" cy="761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1881360" y="230040"/>
            <a:ext cx="5397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andle Du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user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8880" y="1158840"/>
            <a:ext cx="76262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384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:  multiuser, on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interactiv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 (RPC, Windows Sockets, named pipes, DECmessage Q, and AC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applications  (using third-party Xlib/Motif client tool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multiuser:  coming from Citrix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ral Springs, FL - 305-755-05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user text and remote graphic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execution of Win32-based applications via 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nectSoft - 206-827-64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imes - up to four Super VGA systems off on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(Prologue - +1-33-16-69-293939 or 100144.2700@compuserve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82640" y="230040"/>
            <a:ext cx="582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413000"/>
            <a:ext cx="777240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9800" indent="-469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have no name, just a global ID (like VMS P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tion of subprocesses - all are flat and 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Windows NT, can be protected with A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Windows NT, server processes can run at system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30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them as Win32 Services (see CreateSer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3120" y="5289480"/>
            <a:ext cx="648504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CREPR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eate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DELPR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rminate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960" y="5149800"/>
            <a:ext cx="758808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peaker 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77960" y="1539720"/>
            <a:ext cx="75880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ut the 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 years in the VMS operating system development group at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ize in helping VMS customers understand Windows NT as their       long-term OS replacement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 VMS Terms” seminar series delivered to &gt; 1,000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ipient of 1993 Microsoft MVP award for MSWIN32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7680" y="1158840"/>
            <a:ext cx="8650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 application specifi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CHED_PROCESS - no access to parent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_NEW_CONSOLE - create new conso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s:  in-security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 fine-graine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 mailbox = create a thread to wait on n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PROCESS_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handles and global IDs for process and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25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 process and thread remain until all handles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immediately if not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30480" y="230040"/>
            <a:ext cx="669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 Exit Not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1360" y="1414440"/>
            <a:ext cx="826308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384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CLEXH/$CANEXH depends on application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:  process the WM_DESTROY/WM_CLOS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:  use SetConsoleCtrlHandler to trap CTRL_CLOSE_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:  process DLL_THREAD_DETACH/DLL_PROCESS_DETAC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DLL’s entry point routine (see help on DllEntry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09520" y="230040"/>
            <a:ext cx="6908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oss-Process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6840" y="1414440"/>
            <a:ext cx="841068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supported services to affect other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ebuggers, call profilers, and system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Process(..,Proces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ProcessMem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ad memor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ProcessMem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write memor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RemoteThre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execute your code in target process (like VMS special K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Context/SetThread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CONTEXT in \mstools\h\winnt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$FORCEX 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Process+CreateRemot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an ExitProcess in targe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476440" y="230040"/>
            <a:ext cx="423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41480" y="1413000"/>
            <a:ext cx="70610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debuggee (Create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s sent to debugger on process, and thread start/sto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an attach to a running process never run with the debugger (DebugActivePro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“Just-In-Time Debugg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013120" y="230040"/>
            <a:ext cx="5103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ication Cra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52600" y="1184400"/>
            <a:ext cx="8074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always exits process (unless RUN/DEB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llows a program to b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default system behavior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\Software\Microsoft\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\CurrentVersion\Ae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0120" y="4038480"/>
            <a:ext cx="2657520" cy="21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= filespec of debugger to run on app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=run abo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=ask user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65280" y="35053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31960" y="5302080"/>
            <a:ext cx="716040" cy="260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92520" y="3594240"/>
            <a:ext cx="5122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2000" y="23004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es Versus Threa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119240"/>
            <a:ext cx="5564160" cy="54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tected 2-GB address spa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ge t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curity identity (access to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t of objects open by the process (handle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r more threads of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t of attributes (default base scheduling priority, default processor affinity, process ID, quotas, and coun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thr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of execution or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ardware context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erne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445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t of attributes (base and current priority, processor affinity, access token, and exit 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72200" y="1257480"/>
            <a:ext cx="2743200" cy="5410080"/>
          </a:xfrm>
          <a:prstGeom prst="rect">
            <a:avLst/>
          </a:prstGeom>
          <a:gradFill rotWithShape="0">
            <a:gsLst>
              <a:gs pos="0">
                <a:srgbClr val="d782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0120" y="3085920"/>
            <a:ext cx="1143000" cy="846000"/>
          </a:xfrm>
          <a:prstGeom prst="rect">
            <a:avLst/>
          </a:prstGeom>
          <a:gradFill rotWithShape="0">
            <a:gsLst>
              <a:gs pos="0">
                <a:srgbClr val="571f83"/>
              </a:gs>
              <a:gs pos="100000">
                <a:srgbClr val="9234d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927600"/>
            <a:ext cx="397080" cy="1535400"/>
          </a:xfrm>
          <a:custGeom>
            <a:avLst/>
            <a:gdLst/>
            <a:ahLst/>
            <a:rect l="0" t="0" r="r" b="b"/>
            <a:pathLst>
              <a:path fill="none" w="1103" h="4265">
                <a:moveTo>
                  <a:pt x="158" y="0"/>
                </a:moveTo>
                <a:lnTo>
                  <a:pt x="227" y="16"/>
                </a:lnTo>
                <a:lnTo>
                  <a:pt x="311" y="16"/>
                </a:lnTo>
                <a:lnTo>
                  <a:pt x="375" y="39"/>
                </a:lnTo>
                <a:lnTo>
                  <a:pt x="415" y="110"/>
                </a:lnTo>
                <a:lnTo>
                  <a:pt x="479" y="205"/>
                </a:lnTo>
                <a:lnTo>
                  <a:pt x="479" y="322"/>
                </a:lnTo>
                <a:lnTo>
                  <a:pt x="479" y="414"/>
                </a:lnTo>
                <a:lnTo>
                  <a:pt x="415" y="485"/>
                </a:lnTo>
                <a:lnTo>
                  <a:pt x="331" y="485"/>
                </a:lnTo>
                <a:lnTo>
                  <a:pt x="248" y="508"/>
                </a:lnTo>
                <a:lnTo>
                  <a:pt x="124" y="557"/>
                </a:lnTo>
                <a:lnTo>
                  <a:pt x="40" y="648"/>
                </a:lnTo>
                <a:lnTo>
                  <a:pt x="20" y="720"/>
                </a:lnTo>
                <a:lnTo>
                  <a:pt x="0" y="792"/>
                </a:lnTo>
                <a:lnTo>
                  <a:pt x="0" y="932"/>
                </a:lnTo>
                <a:lnTo>
                  <a:pt x="0" y="1026"/>
                </a:lnTo>
                <a:lnTo>
                  <a:pt x="187" y="1049"/>
                </a:lnTo>
                <a:lnTo>
                  <a:pt x="291" y="1049"/>
                </a:lnTo>
                <a:lnTo>
                  <a:pt x="395" y="1049"/>
                </a:lnTo>
                <a:lnTo>
                  <a:pt x="539" y="1095"/>
                </a:lnTo>
                <a:lnTo>
                  <a:pt x="604" y="1118"/>
                </a:lnTo>
                <a:lnTo>
                  <a:pt x="687" y="1235"/>
                </a:lnTo>
                <a:lnTo>
                  <a:pt x="708" y="1307"/>
                </a:lnTo>
                <a:lnTo>
                  <a:pt x="708" y="1379"/>
                </a:lnTo>
                <a:lnTo>
                  <a:pt x="708" y="1470"/>
                </a:lnTo>
                <a:lnTo>
                  <a:pt x="708" y="1564"/>
                </a:lnTo>
                <a:lnTo>
                  <a:pt x="708" y="1636"/>
                </a:lnTo>
                <a:lnTo>
                  <a:pt x="624" y="1731"/>
                </a:lnTo>
                <a:lnTo>
                  <a:pt x="539" y="1776"/>
                </a:lnTo>
                <a:lnTo>
                  <a:pt x="352" y="1799"/>
                </a:lnTo>
                <a:lnTo>
                  <a:pt x="227" y="1799"/>
                </a:lnTo>
                <a:lnTo>
                  <a:pt x="124" y="1822"/>
                </a:lnTo>
                <a:lnTo>
                  <a:pt x="63" y="1894"/>
                </a:lnTo>
                <a:lnTo>
                  <a:pt x="40" y="2057"/>
                </a:lnTo>
                <a:lnTo>
                  <a:pt x="40" y="2128"/>
                </a:lnTo>
                <a:lnTo>
                  <a:pt x="40" y="2224"/>
                </a:lnTo>
                <a:lnTo>
                  <a:pt x="103" y="2292"/>
                </a:lnTo>
                <a:lnTo>
                  <a:pt x="271" y="2387"/>
                </a:lnTo>
                <a:lnTo>
                  <a:pt x="352" y="2410"/>
                </a:lnTo>
                <a:lnTo>
                  <a:pt x="415" y="2410"/>
                </a:lnTo>
                <a:lnTo>
                  <a:pt x="479" y="2410"/>
                </a:lnTo>
                <a:lnTo>
                  <a:pt x="583" y="2410"/>
                </a:lnTo>
                <a:lnTo>
                  <a:pt x="728" y="2481"/>
                </a:lnTo>
                <a:lnTo>
                  <a:pt x="768" y="2553"/>
                </a:lnTo>
                <a:lnTo>
                  <a:pt x="791" y="2644"/>
                </a:lnTo>
                <a:lnTo>
                  <a:pt x="791" y="2762"/>
                </a:lnTo>
                <a:lnTo>
                  <a:pt x="791" y="2834"/>
                </a:lnTo>
                <a:lnTo>
                  <a:pt x="708" y="2928"/>
                </a:lnTo>
                <a:lnTo>
                  <a:pt x="624" y="2974"/>
                </a:lnTo>
                <a:lnTo>
                  <a:pt x="499" y="3023"/>
                </a:lnTo>
                <a:lnTo>
                  <a:pt x="415" y="3023"/>
                </a:lnTo>
                <a:lnTo>
                  <a:pt x="271" y="3045"/>
                </a:lnTo>
                <a:lnTo>
                  <a:pt x="207" y="3045"/>
                </a:lnTo>
                <a:lnTo>
                  <a:pt x="144" y="3045"/>
                </a:lnTo>
                <a:lnTo>
                  <a:pt x="83" y="3163"/>
                </a:lnTo>
                <a:lnTo>
                  <a:pt x="63" y="3280"/>
                </a:lnTo>
                <a:lnTo>
                  <a:pt x="83" y="3443"/>
                </a:lnTo>
                <a:lnTo>
                  <a:pt x="227" y="3561"/>
                </a:lnTo>
                <a:lnTo>
                  <a:pt x="395" y="3678"/>
                </a:lnTo>
                <a:lnTo>
                  <a:pt x="519" y="3678"/>
                </a:lnTo>
                <a:lnTo>
                  <a:pt x="624" y="3678"/>
                </a:lnTo>
                <a:lnTo>
                  <a:pt x="687" y="3678"/>
                </a:lnTo>
                <a:lnTo>
                  <a:pt x="811" y="3678"/>
                </a:lnTo>
                <a:lnTo>
                  <a:pt x="976" y="3701"/>
                </a:lnTo>
                <a:lnTo>
                  <a:pt x="1039" y="3727"/>
                </a:lnTo>
                <a:lnTo>
                  <a:pt x="1103" y="3844"/>
                </a:lnTo>
                <a:lnTo>
                  <a:pt x="1103" y="3984"/>
                </a:lnTo>
                <a:lnTo>
                  <a:pt x="1103" y="4079"/>
                </a:lnTo>
                <a:lnTo>
                  <a:pt x="956" y="4196"/>
                </a:lnTo>
                <a:lnTo>
                  <a:pt x="872" y="4219"/>
                </a:lnTo>
                <a:lnTo>
                  <a:pt x="604" y="4242"/>
                </a:lnTo>
                <a:lnTo>
                  <a:pt x="519" y="4265"/>
                </a:lnTo>
                <a:lnTo>
                  <a:pt x="395" y="4265"/>
                </a:lnTo>
                <a:lnTo>
                  <a:pt x="331" y="426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97760" y="5075280"/>
            <a:ext cx="397080" cy="1535400"/>
          </a:xfrm>
          <a:custGeom>
            <a:avLst/>
            <a:gdLst/>
            <a:ahLst/>
            <a:rect l="0" t="0" r="r" b="b"/>
            <a:pathLst>
              <a:path fill="none" w="1103" h="4265">
                <a:moveTo>
                  <a:pt x="158" y="0"/>
                </a:moveTo>
                <a:lnTo>
                  <a:pt x="227" y="16"/>
                </a:lnTo>
                <a:lnTo>
                  <a:pt x="311" y="16"/>
                </a:lnTo>
                <a:lnTo>
                  <a:pt x="375" y="39"/>
                </a:lnTo>
                <a:lnTo>
                  <a:pt x="415" y="110"/>
                </a:lnTo>
                <a:lnTo>
                  <a:pt x="479" y="205"/>
                </a:lnTo>
                <a:lnTo>
                  <a:pt x="479" y="322"/>
                </a:lnTo>
                <a:lnTo>
                  <a:pt x="479" y="414"/>
                </a:lnTo>
                <a:lnTo>
                  <a:pt x="415" y="485"/>
                </a:lnTo>
                <a:lnTo>
                  <a:pt x="331" y="485"/>
                </a:lnTo>
                <a:lnTo>
                  <a:pt x="248" y="508"/>
                </a:lnTo>
                <a:lnTo>
                  <a:pt x="124" y="557"/>
                </a:lnTo>
                <a:lnTo>
                  <a:pt x="40" y="648"/>
                </a:lnTo>
                <a:lnTo>
                  <a:pt x="20" y="720"/>
                </a:lnTo>
                <a:lnTo>
                  <a:pt x="0" y="792"/>
                </a:lnTo>
                <a:lnTo>
                  <a:pt x="0" y="932"/>
                </a:lnTo>
                <a:lnTo>
                  <a:pt x="0" y="1026"/>
                </a:lnTo>
                <a:lnTo>
                  <a:pt x="187" y="1049"/>
                </a:lnTo>
                <a:lnTo>
                  <a:pt x="291" y="1049"/>
                </a:lnTo>
                <a:lnTo>
                  <a:pt x="395" y="1049"/>
                </a:lnTo>
                <a:lnTo>
                  <a:pt x="539" y="1095"/>
                </a:lnTo>
                <a:lnTo>
                  <a:pt x="604" y="1118"/>
                </a:lnTo>
                <a:lnTo>
                  <a:pt x="687" y="1235"/>
                </a:lnTo>
                <a:lnTo>
                  <a:pt x="708" y="1307"/>
                </a:lnTo>
                <a:lnTo>
                  <a:pt x="708" y="1379"/>
                </a:lnTo>
                <a:lnTo>
                  <a:pt x="708" y="1470"/>
                </a:lnTo>
                <a:lnTo>
                  <a:pt x="708" y="1564"/>
                </a:lnTo>
                <a:lnTo>
                  <a:pt x="708" y="1636"/>
                </a:lnTo>
                <a:lnTo>
                  <a:pt x="624" y="1731"/>
                </a:lnTo>
                <a:lnTo>
                  <a:pt x="539" y="1776"/>
                </a:lnTo>
                <a:lnTo>
                  <a:pt x="352" y="1799"/>
                </a:lnTo>
                <a:lnTo>
                  <a:pt x="227" y="1799"/>
                </a:lnTo>
                <a:lnTo>
                  <a:pt x="124" y="1822"/>
                </a:lnTo>
                <a:lnTo>
                  <a:pt x="63" y="1894"/>
                </a:lnTo>
                <a:lnTo>
                  <a:pt x="40" y="2057"/>
                </a:lnTo>
                <a:lnTo>
                  <a:pt x="40" y="2128"/>
                </a:lnTo>
                <a:lnTo>
                  <a:pt x="40" y="2224"/>
                </a:lnTo>
                <a:lnTo>
                  <a:pt x="103" y="2292"/>
                </a:lnTo>
                <a:lnTo>
                  <a:pt x="271" y="2387"/>
                </a:lnTo>
                <a:lnTo>
                  <a:pt x="352" y="2410"/>
                </a:lnTo>
                <a:lnTo>
                  <a:pt x="415" y="2410"/>
                </a:lnTo>
                <a:lnTo>
                  <a:pt x="479" y="2410"/>
                </a:lnTo>
                <a:lnTo>
                  <a:pt x="583" y="2410"/>
                </a:lnTo>
                <a:lnTo>
                  <a:pt x="728" y="2481"/>
                </a:lnTo>
                <a:lnTo>
                  <a:pt x="768" y="2553"/>
                </a:lnTo>
                <a:lnTo>
                  <a:pt x="791" y="2644"/>
                </a:lnTo>
                <a:lnTo>
                  <a:pt x="791" y="2762"/>
                </a:lnTo>
                <a:lnTo>
                  <a:pt x="791" y="2834"/>
                </a:lnTo>
                <a:lnTo>
                  <a:pt x="708" y="2928"/>
                </a:lnTo>
                <a:lnTo>
                  <a:pt x="624" y="2974"/>
                </a:lnTo>
                <a:lnTo>
                  <a:pt x="499" y="3023"/>
                </a:lnTo>
                <a:lnTo>
                  <a:pt x="415" y="3023"/>
                </a:lnTo>
                <a:lnTo>
                  <a:pt x="271" y="3045"/>
                </a:lnTo>
                <a:lnTo>
                  <a:pt x="207" y="3045"/>
                </a:lnTo>
                <a:lnTo>
                  <a:pt x="144" y="3045"/>
                </a:lnTo>
                <a:lnTo>
                  <a:pt x="83" y="3163"/>
                </a:lnTo>
                <a:lnTo>
                  <a:pt x="63" y="3280"/>
                </a:lnTo>
                <a:lnTo>
                  <a:pt x="83" y="3443"/>
                </a:lnTo>
                <a:lnTo>
                  <a:pt x="227" y="3561"/>
                </a:lnTo>
                <a:lnTo>
                  <a:pt x="395" y="3678"/>
                </a:lnTo>
                <a:lnTo>
                  <a:pt x="519" y="3678"/>
                </a:lnTo>
                <a:lnTo>
                  <a:pt x="624" y="3678"/>
                </a:lnTo>
                <a:lnTo>
                  <a:pt x="687" y="3678"/>
                </a:lnTo>
                <a:lnTo>
                  <a:pt x="811" y="3678"/>
                </a:lnTo>
                <a:lnTo>
                  <a:pt x="976" y="3701"/>
                </a:lnTo>
                <a:lnTo>
                  <a:pt x="1039" y="3727"/>
                </a:lnTo>
                <a:lnTo>
                  <a:pt x="1103" y="3844"/>
                </a:lnTo>
                <a:lnTo>
                  <a:pt x="1103" y="3984"/>
                </a:lnTo>
                <a:lnTo>
                  <a:pt x="1103" y="4079"/>
                </a:lnTo>
                <a:lnTo>
                  <a:pt x="956" y="4196"/>
                </a:lnTo>
                <a:lnTo>
                  <a:pt x="872" y="4219"/>
                </a:lnTo>
                <a:lnTo>
                  <a:pt x="604" y="4242"/>
                </a:lnTo>
                <a:lnTo>
                  <a:pt x="519" y="4265"/>
                </a:lnTo>
                <a:lnTo>
                  <a:pt x="395" y="4265"/>
                </a:lnTo>
                <a:lnTo>
                  <a:pt x="331" y="426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400800" y="2552760"/>
            <a:ext cx="1143000" cy="846000"/>
          </a:xfrm>
          <a:prstGeom prst="rect">
            <a:avLst/>
          </a:prstGeom>
          <a:gradFill rotWithShape="0">
            <a:gsLst>
              <a:gs pos="0">
                <a:srgbClr val="571f83"/>
              </a:gs>
              <a:gs pos="100000">
                <a:srgbClr val="9234d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40560" y="3398760"/>
            <a:ext cx="397080" cy="1535400"/>
          </a:xfrm>
          <a:custGeom>
            <a:avLst/>
            <a:gdLst/>
            <a:ahLst/>
            <a:rect l="0" t="0" r="r" b="b"/>
            <a:pathLst>
              <a:path fill="none" w="1103" h="4265">
                <a:moveTo>
                  <a:pt x="158" y="0"/>
                </a:moveTo>
                <a:lnTo>
                  <a:pt x="227" y="16"/>
                </a:lnTo>
                <a:lnTo>
                  <a:pt x="311" y="16"/>
                </a:lnTo>
                <a:lnTo>
                  <a:pt x="375" y="39"/>
                </a:lnTo>
                <a:lnTo>
                  <a:pt x="415" y="110"/>
                </a:lnTo>
                <a:lnTo>
                  <a:pt x="479" y="205"/>
                </a:lnTo>
                <a:lnTo>
                  <a:pt x="479" y="322"/>
                </a:lnTo>
                <a:lnTo>
                  <a:pt x="479" y="414"/>
                </a:lnTo>
                <a:lnTo>
                  <a:pt x="415" y="485"/>
                </a:lnTo>
                <a:lnTo>
                  <a:pt x="331" y="485"/>
                </a:lnTo>
                <a:lnTo>
                  <a:pt x="248" y="508"/>
                </a:lnTo>
                <a:lnTo>
                  <a:pt x="124" y="557"/>
                </a:lnTo>
                <a:lnTo>
                  <a:pt x="40" y="648"/>
                </a:lnTo>
                <a:lnTo>
                  <a:pt x="20" y="720"/>
                </a:lnTo>
                <a:lnTo>
                  <a:pt x="0" y="792"/>
                </a:lnTo>
                <a:lnTo>
                  <a:pt x="0" y="932"/>
                </a:lnTo>
                <a:lnTo>
                  <a:pt x="0" y="1026"/>
                </a:lnTo>
                <a:lnTo>
                  <a:pt x="187" y="1049"/>
                </a:lnTo>
                <a:lnTo>
                  <a:pt x="291" y="1049"/>
                </a:lnTo>
                <a:lnTo>
                  <a:pt x="395" y="1049"/>
                </a:lnTo>
                <a:lnTo>
                  <a:pt x="539" y="1095"/>
                </a:lnTo>
                <a:lnTo>
                  <a:pt x="604" y="1118"/>
                </a:lnTo>
                <a:lnTo>
                  <a:pt x="687" y="1235"/>
                </a:lnTo>
                <a:lnTo>
                  <a:pt x="708" y="1307"/>
                </a:lnTo>
                <a:lnTo>
                  <a:pt x="708" y="1379"/>
                </a:lnTo>
                <a:lnTo>
                  <a:pt x="708" y="1470"/>
                </a:lnTo>
                <a:lnTo>
                  <a:pt x="708" y="1564"/>
                </a:lnTo>
                <a:lnTo>
                  <a:pt x="708" y="1636"/>
                </a:lnTo>
                <a:lnTo>
                  <a:pt x="624" y="1731"/>
                </a:lnTo>
                <a:lnTo>
                  <a:pt x="539" y="1776"/>
                </a:lnTo>
                <a:lnTo>
                  <a:pt x="352" y="1799"/>
                </a:lnTo>
                <a:lnTo>
                  <a:pt x="227" y="1799"/>
                </a:lnTo>
                <a:lnTo>
                  <a:pt x="124" y="1822"/>
                </a:lnTo>
                <a:lnTo>
                  <a:pt x="63" y="1894"/>
                </a:lnTo>
                <a:lnTo>
                  <a:pt x="40" y="2057"/>
                </a:lnTo>
                <a:lnTo>
                  <a:pt x="40" y="2128"/>
                </a:lnTo>
                <a:lnTo>
                  <a:pt x="40" y="2224"/>
                </a:lnTo>
                <a:lnTo>
                  <a:pt x="103" y="2292"/>
                </a:lnTo>
                <a:lnTo>
                  <a:pt x="271" y="2387"/>
                </a:lnTo>
                <a:lnTo>
                  <a:pt x="352" y="2410"/>
                </a:lnTo>
                <a:lnTo>
                  <a:pt x="415" y="2410"/>
                </a:lnTo>
                <a:lnTo>
                  <a:pt x="479" y="2410"/>
                </a:lnTo>
                <a:lnTo>
                  <a:pt x="583" y="2410"/>
                </a:lnTo>
                <a:lnTo>
                  <a:pt x="728" y="2481"/>
                </a:lnTo>
                <a:lnTo>
                  <a:pt x="768" y="2553"/>
                </a:lnTo>
                <a:lnTo>
                  <a:pt x="791" y="2644"/>
                </a:lnTo>
                <a:lnTo>
                  <a:pt x="791" y="2762"/>
                </a:lnTo>
                <a:lnTo>
                  <a:pt x="791" y="2834"/>
                </a:lnTo>
                <a:lnTo>
                  <a:pt x="708" y="2928"/>
                </a:lnTo>
                <a:lnTo>
                  <a:pt x="624" y="2974"/>
                </a:lnTo>
                <a:lnTo>
                  <a:pt x="499" y="3023"/>
                </a:lnTo>
                <a:lnTo>
                  <a:pt x="415" y="3023"/>
                </a:lnTo>
                <a:lnTo>
                  <a:pt x="271" y="3045"/>
                </a:lnTo>
                <a:lnTo>
                  <a:pt x="207" y="3045"/>
                </a:lnTo>
                <a:lnTo>
                  <a:pt x="144" y="3045"/>
                </a:lnTo>
                <a:lnTo>
                  <a:pt x="83" y="3163"/>
                </a:lnTo>
                <a:lnTo>
                  <a:pt x="63" y="3280"/>
                </a:lnTo>
                <a:lnTo>
                  <a:pt x="83" y="3443"/>
                </a:lnTo>
                <a:lnTo>
                  <a:pt x="227" y="3561"/>
                </a:lnTo>
                <a:lnTo>
                  <a:pt x="395" y="3678"/>
                </a:lnTo>
                <a:lnTo>
                  <a:pt x="519" y="3678"/>
                </a:lnTo>
                <a:lnTo>
                  <a:pt x="624" y="3678"/>
                </a:lnTo>
                <a:lnTo>
                  <a:pt x="687" y="3678"/>
                </a:lnTo>
                <a:lnTo>
                  <a:pt x="811" y="3678"/>
                </a:lnTo>
                <a:lnTo>
                  <a:pt x="976" y="3701"/>
                </a:lnTo>
                <a:lnTo>
                  <a:pt x="1039" y="3727"/>
                </a:lnTo>
                <a:lnTo>
                  <a:pt x="1103" y="3844"/>
                </a:lnTo>
                <a:lnTo>
                  <a:pt x="1103" y="3984"/>
                </a:lnTo>
                <a:lnTo>
                  <a:pt x="1103" y="4079"/>
                </a:lnTo>
                <a:lnTo>
                  <a:pt x="956" y="4196"/>
                </a:lnTo>
                <a:lnTo>
                  <a:pt x="872" y="4219"/>
                </a:lnTo>
                <a:lnTo>
                  <a:pt x="604" y="4242"/>
                </a:lnTo>
                <a:lnTo>
                  <a:pt x="519" y="4265"/>
                </a:lnTo>
                <a:lnTo>
                  <a:pt x="395" y="4265"/>
                </a:lnTo>
                <a:lnTo>
                  <a:pt x="331" y="426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0" y="4228920"/>
            <a:ext cx="1143000" cy="846000"/>
          </a:xfrm>
          <a:prstGeom prst="rect">
            <a:avLst/>
          </a:prstGeom>
          <a:gradFill rotWithShape="0">
            <a:gsLst>
              <a:gs pos="0">
                <a:srgbClr val="571f83"/>
              </a:gs>
              <a:gs pos="100000">
                <a:srgbClr val="9234d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22440" y="228600"/>
            <a:ext cx="7902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threaded 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0320" y="1108080"/>
            <a:ext cx="762300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possible on VMS (either with ASTs or DEC threads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, keep in mind threads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emptively scheduled - ASTs ar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in VMS, only one AST runs at a time versus Win32 threads which time-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the unit of scheduling, no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3240" y="4199040"/>
            <a:ext cx="737388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852560" y="4300560"/>
            <a:ext cx="54054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CLAS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$SUSPN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uspend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$RESU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sum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$EXI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827360" y="6016680"/>
            <a:ext cx="5491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4520" indent="-34452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e careful not to do with active thre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35000" y="230040"/>
            <a:ext cx="70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s Versus Proce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85760" y="1413000"/>
            <a:ext cx="8772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provide concurrenc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twe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startup costs to create new address spa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way inheritance of open file handles, and current director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s of “firewalling”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ant applications can’t scribble o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ovide concurrenc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ow cost to spawn (order of magnitude l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 scheduler entry is created.  Everything else is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65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between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30480" y="230040"/>
            <a:ext cx="310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8920" y="1336680"/>
            <a:ext cx="84279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4560" indent="-5745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Win32 API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92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are given a priority class upon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, normal, high, and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92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have a relative priority within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, below normal, normal, above normal, and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 two fixed values:  “time critical” and “id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Windows NT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92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scheduled.  Processes ar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92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ies run from 0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863720" y="230040"/>
            <a:ext cx="5421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hanging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00240" y="1652760"/>
            <a:ext cx="67453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4560" indent="-57456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PR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hreadPriority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ority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ies can be adjusted without privi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5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range plus a maximum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5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ke intelligent use of 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both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nd desktop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55600" y="1413000"/>
            <a:ext cx="6832800" cy="28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peaker 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6720" y="1158840"/>
            <a:ext cx="83520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nars I deliver (all are one da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32 for OpenVMS Progr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or OpenVMS System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rna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nar topics covered by rest of the t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(including internationalization/multilingual applications)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(including Device Drivers and Internals)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 for developers,        Visual C++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FC, and 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1360" y="1635120"/>
            <a:ext cx="8798040" cy="415620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a2f96"/>
              </a:gs>
            </a:gsLst>
            <a:lin ang="5400000"/>
          </a:gradFill>
          <a:ln w="25560">
            <a:solidFill>
              <a:srgbClr val="f5b55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1520" y="228600"/>
            <a:ext cx="8940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 Versus Thread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6000" y="1535040"/>
            <a:ext cx="87472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g best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g bette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’g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i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-norm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ow-norm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084320"/>
                <a:tab algn="l" pos="2693880"/>
                <a:tab algn="l" pos="3825720"/>
                <a:tab algn="l" pos="3941640"/>
                <a:tab algn="l" pos="4630680"/>
                <a:tab algn="l" pos="4746600"/>
                <a:tab algn="l" pos="5025960"/>
                <a:tab algn="l" pos="5764320"/>
                <a:tab algn="l" pos="5878440"/>
                <a:tab algn="l" pos="7094520"/>
                <a:tab algn="l" pos="7192800"/>
                <a:tab algn="l" pos="8178840"/>
                <a:tab algn="l" pos="8292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9800" y="2041560"/>
            <a:ext cx="6162840" cy="0"/>
          </a:xfrm>
          <a:prstGeom prst="line">
            <a:avLst/>
          </a:prstGeom>
          <a:ln w="25560">
            <a:solidFill>
              <a:srgbClr val="f5b5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520" y="2911320"/>
            <a:ext cx="8790120" cy="0"/>
          </a:xfrm>
          <a:prstGeom prst="line">
            <a:avLst/>
          </a:prstGeom>
          <a:ln w="25560">
            <a:solidFill>
              <a:srgbClr val="f5b5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0040" y="1235160"/>
            <a:ext cx="81439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GETJPI[w], $PROCESS_SC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Win32 calls to get proces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:  GetPriorityClass, GetThread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:  OpenxxxToken+GetToken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PIDs for all top-level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Windows(callback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ity of process information available through “performance counters”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” into Windows NT execu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Windows NT Resource Kit volume 3 for descriptions of all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also sources to PVIEW and Performance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79480" y="230040"/>
            <a:ext cx="55706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9160" y="1413000"/>
            <a:ext cx="890604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itory for system configur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stent (on-disk) and volatile (in-memory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larg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node (“key”) has name, value(s), timestamp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not a single file (stored in \system32\conf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ccessible - basis for remote 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to walk tree and display nodes (REGEDT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Registry APIs for applicatio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file on Windows NT Resource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7600" y="230040"/>
            <a:ext cx="8290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mory Manageme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413000"/>
            <a:ext cx="853452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identical basic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and page granularit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GET_V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 RTL malloc/free 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Allo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...LMEM_FIXED|LMEM_ZEROI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FREE_V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CREATE_VM_ZO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DELETE_VM_ZO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Dest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GET_V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FREE_V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789280"/>
            <a:ext cx="82296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46120" y="230040"/>
            <a:ext cx="6237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irtual Address Sp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2840" y="344484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66760" y="4222800"/>
            <a:ext cx="1905120" cy="914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066760" y="5137200"/>
            <a:ext cx="1905120" cy="914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877000" y="2317680"/>
            <a:ext cx="1828800" cy="182880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877000" y="4222800"/>
            <a:ext cx="1828800" cy="18288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066760" y="2317680"/>
            <a:ext cx="1905120" cy="91440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066760" y="3232080"/>
            <a:ext cx="1905120" cy="91440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2840" y="253044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2840" y="443556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12840" y="527364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32160" y="164628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07080" y="1646280"/>
            <a:ext cx="2190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41800" y="300348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41800" y="490860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44520" y="228600"/>
            <a:ext cx="842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mory Manageme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8480" y="1413000"/>
            <a:ext cx="8055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23720" indent="-42372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833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evel granularity services almost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833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4128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490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d (versus committed)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4128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490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 memory service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ad/WriteProcess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RETV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Alloc(...MEM_COMMIT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ELTV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Free(...MEM_RELEASE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PR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Pro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&gt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LKWSE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ULWSE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  <a:tabLst>
                <a:tab algn="l" pos="2833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LCKPAG/$ULKPA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562200"/>
            <a:ext cx="82296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247840" y="230040"/>
            <a:ext cx="463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hared Mem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7120" y="1260360"/>
            <a:ext cx="793260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23720" indent="-4237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global sections = Win32 File Mapp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93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is optional - can access by handle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96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96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RMPS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+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9376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versus private - specify in security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9376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-file section - open file excl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9376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file section - specify -1 as file handle to CreateFile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MGBLS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FileMapping +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9376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processes can access by name or inherit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UPDSEC[w]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ViewOf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ELTV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+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GBLS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t applicab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9376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deleted when last accessor close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5720" y="2205000"/>
            <a:ext cx="79200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14360" y="1260360"/>
            <a:ext cx="75261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full equivalent to VMS $ENQ/D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ree structure (parent/child) - flat, system-wide nam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fine-grained lock modes - only 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, four basic Win32 synchronizat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</a:t>
            </a:r>
            <a:r>
              <a:rPr b="1" lang="en-US" sz="28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87400" y="228600"/>
            <a:ext cx="7354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nchronization Primi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60960" y="5321160"/>
            <a:ext cx="4470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or intra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5359320"/>
            <a:ext cx="918000" cy="868680"/>
          </a:xfrm>
          <a:custGeom>
            <a:avLst/>
            <a:gdLst/>
            <a:ahLst/>
            <a:rect l="0" t="0" r="r" b="b"/>
            <a:pathLst>
              <a:path fill="none" w="2550" h="2413">
                <a:moveTo>
                  <a:pt x="0" y="0"/>
                </a:moveTo>
                <a:lnTo>
                  <a:pt x="2550" y="0"/>
                </a:lnTo>
                <a:lnTo>
                  <a:pt x="2550" y="2413"/>
                </a:lnTo>
                <a:lnTo>
                  <a:pt x="860" y="2413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60960" y="5718240"/>
            <a:ext cx="2100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ra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300400" y="230040"/>
            <a:ext cx="45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413000"/>
            <a:ext cx="835344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3657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 are equivalent to VMS EX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343080">
              <a:lnSpc>
                <a:spcPct val="85000"/>
              </a:lnSpc>
              <a:spcBef>
                <a:spcPts val="720"/>
              </a:spcBef>
              <a:tabLst>
                <a:tab algn="l" pos="3313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ENQ:create EX lo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720" indent="-343080">
              <a:lnSpc>
                <a:spcPct val="85000"/>
              </a:lnSpc>
              <a:spcBef>
                <a:spcPts val="720"/>
              </a:spcBef>
              <a:tabLst>
                <a:tab algn="l" pos="3313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ENQ:acquire NL lo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Mutex (or inherit hand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720" indent="-343080">
              <a:lnSpc>
                <a:spcPct val="85000"/>
              </a:lnSpc>
              <a:spcBef>
                <a:spcPts val="720"/>
              </a:spcBef>
              <a:tabLst>
                <a:tab algn="l" pos="3313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ENQ:acquire EX lo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SingleObject, 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Multiple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720" indent="-343080">
              <a:lnSpc>
                <a:spcPct val="90000"/>
              </a:lnSpc>
              <a:spcAft>
                <a:spcPts val="119"/>
              </a:spcAft>
              <a:tabLst>
                <a:tab algn="l" pos="3313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EQ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3657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ter-thread synchronization within one process, use critical sections (not mute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3657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ynchronization primitive: 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3313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 ”mutex with a max accessor cou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58720" y="227160"/>
            <a:ext cx="8028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vent Flag And Wai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4520" y="1508040"/>
            <a:ext cx="80359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9800" indent="-4698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EF(efn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Event(h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quivalent of SS$_WASSET, SS$_WASC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85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query event state with WaitForSingleObject w/timeou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144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LREF(efn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etEvent(hE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Win32 wait services: wait on any object 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READE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ForSingleObject(hEfn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if status=0, clear if status=WAIT_OBJECT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WAITF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ForSingleObject(hEfn,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WFLAND/$WFL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ForMultiple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array of event handles to wai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All=FALSE for $WF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All=TRUE for $WF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840" y="1413000"/>
            <a:ext cx="850104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3267000"/>
            <a:ext cx="850104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51000" y="230040"/>
            <a:ext cx="4857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minars Off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8360" y="936720"/>
            <a:ext cx="8747280" cy="58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ARD HALE SHAW - Contributing editor to MSJ, PC Magazine, WinTech, and Windows NT Developer Journal; Windows track chair for Software Development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C++ for C Program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and MFC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Visual C++ and MFC Programming: Tips, Tricks, and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gramming with Visual C++ and MF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ntrols and OLE Automation with Visual C++ and MF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for Visual Basic</a:t>
            </a:r>
            <a:r>
              <a:rPr b="1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gram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Windows 95 Logo-Compliant Applications with Visual C++, MF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FFREY RICHTER - Author of Advanced Windows NT (Microsoft Press</a:t>
            </a:r>
            <a:r>
              <a:rPr b="1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 Win32 columnist for MS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Windows Programming with Win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Win32 Programming for Windows NT and Windows 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Technical Preview for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47840" y="230040"/>
            <a:ext cx="640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mulating Event Fla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46200" y="1260360"/>
            <a:ext cx="7613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6040" indent="-446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event for each VMS event flag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vent flags = unnam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event flags = nam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event handle returned instead of event flag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ed =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ignaled =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curity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al reset, initial stat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173400" y="3095640"/>
            <a:ext cx="5324400" cy="843120"/>
          </a:xfrm>
          <a:prstGeom prst="rect">
            <a:avLst/>
          </a:prstGeom>
          <a:gradFill rotWithShape="0">
            <a:gsLst>
              <a:gs pos="0">
                <a:srgbClr val="1d2a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hEfn1 = CreateEvent(NULL,TRUE,FALSE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us = SetEvent( hEfn1 ); /* Se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685880" y="230040"/>
            <a:ext cx="5757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mulating Common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vent Flag Clus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74800" y="1698480"/>
            <a:ext cx="7394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397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named event per event flag used within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052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nd EFN # (64-127) to clust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052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distinguish cluster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ASCEF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Event (specify grou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in security descrip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ACEF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601"/>
              </a:spcBef>
              <a:tabLst>
                <a:tab algn="l" pos="239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DLCEF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052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manent event flag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052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 disappear on last accessor (=temporary event flag 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954080" y="3301920"/>
            <a:ext cx="5459400" cy="855720"/>
          </a:xfrm>
          <a:prstGeom prst="rect">
            <a:avLst/>
          </a:prstGeom>
          <a:gradFill rotWithShape="0">
            <a:gsLst>
              <a:gs pos="0">
                <a:srgbClr val="1d2a4b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$ASCEFC(efn=65,name="SAM",prot=0,perm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hEvent=CreateEvent( NULL, ManualReset=TRU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itialState=0, "VMSEFC_SAM_65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08000" y="4373640"/>
            <a:ext cx="71280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57240" y="228600"/>
            <a:ext cx="7229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mulating Blocking A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6280" y="1413000"/>
            <a:ext cx="81406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manual reset event, initial state not sign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thread to wait on the even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“trigger” blocking AST, PulseEvent, or Set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ing threads will all star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982880" y="230040"/>
            <a:ext cx="5450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2600" y="1413000"/>
            <a:ext cx="85788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9800" indent="-469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87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ly identical, but usage is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268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549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 handlers declared by language syntax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268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549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quivalents for LIB$REVERT, LIB$MATCH_COND, LIB$SIG_TO_RET, $SETEXC, $SETSF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SIGN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STOP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Exception(..EXCEPTION_NONCONTINU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ESTABLIS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languag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/C++ is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ry...excep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UNWI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_EXECUTE_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$_CONTINU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_CONTINUE_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$_RESIGN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_CONTINUE_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20"/>
              </a:spcBef>
              <a:tabLst>
                <a:tab algn="l" pos="1878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. arra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Exception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.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3080" y="34290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4189320" y="4981680"/>
            <a:ext cx="2000520" cy="828720"/>
            <a:chOff x="4189320" y="4981680"/>
            <a:chExt cx="2000520" cy="828720"/>
          </a:xfrm>
        </p:grpSpPr>
        <p:sp>
          <p:nvSpPr>
            <p:cNvPr id="223" name=""/>
            <p:cNvSpPr/>
            <p:nvPr/>
          </p:nvSpPr>
          <p:spPr>
            <a:xfrm flipV="1">
              <a:off x="4200480" y="4981680"/>
              <a:ext cx="0" cy="828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89320" y="5802480"/>
              <a:ext cx="20005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20960" y="4071960"/>
            <a:ext cx="3200400" cy="414360"/>
            <a:chOff x="3720960" y="4071960"/>
            <a:chExt cx="3200400" cy="414360"/>
          </a:xfrm>
        </p:grpSpPr>
        <p:sp>
          <p:nvSpPr>
            <p:cNvPr id="226" name=""/>
            <p:cNvSpPr/>
            <p:nvPr/>
          </p:nvSpPr>
          <p:spPr>
            <a:xfrm flipV="1">
              <a:off x="3735360" y="4071960"/>
              <a:ext cx="0" cy="414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20960" y="4478400"/>
              <a:ext cx="32004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ception Handling Synt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16080" y="240516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und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t ( expressi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und-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41880" y="5605560"/>
            <a:ext cx="2158920" cy="3859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11720" y="2289240"/>
            <a:ext cx="1714680" cy="3859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uarded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892600" y="2473200"/>
            <a:ext cx="3200400" cy="414360"/>
            <a:chOff x="2892600" y="2473200"/>
            <a:chExt cx="3200400" cy="414360"/>
          </a:xfrm>
        </p:grpSpPr>
        <p:sp>
          <p:nvSpPr>
            <p:cNvPr id="233" name=""/>
            <p:cNvSpPr/>
            <p:nvPr/>
          </p:nvSpPr>
          <p:spPr>
            <a:xfrm>
              <a:off x="2906640" y="2473200"/>
              <a:ext cx="0" cy="414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92600" y="2481120"/>
              <a:ext cx="32004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1276200" y="1932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2520" y="28465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52520" y="54370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12720" y="1609560"/>
            <a:ext cx="1630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rmal f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24640" y="4276800"/>
            <a:ext cx="1828800" cy="3859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ception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087560" y="23004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ception Processing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0960" y="2590920"/>
            <a:ext cx="8686800" cy="2209680"/>
          </a:xfrm>
          <a:prstGeom prst="rect">
            <a:avLst/>
          </a:prstGeom>
          <a:solidFill>
            <a:srgbClr val="009688"/>
          </a:solidFill>
          <a:ln w="38160">
            <a:solidFill>
              <a:srgbClr val="618ffd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5040" y="3581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633760" y="3176640"/>
            <a:ext cx="53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2120" y="4314960"/>
            <a:ext cx="0" cy="71424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57240" y="43768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44480" y="5105520"/>
            <a:ext cx="1739880" cy="1066680"/>
          </a:xfrm>
          <a:prstGeom prst="rect">
            <a:avLst/>
          </a:prstGeom>
          <a:gradFill rotWithShape="0">
            <a:gsLst>
              <a:gs pos="0">
                <a:srgbClr val="0a2f96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 searching for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2200" y="2819520"/>
            <a:ext cx="2122560" cy="1523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92200" y="2819520"/>
            <a:ext cx="2122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7760" y="2651040"/>
            <a:ext cx="1562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57440" y="528804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44480" y="1211400"/>
            <a:ext cx="1752480" cy="990720"/>
          </a:xfrm>
          <a:prstGeom prst="rect">
            <a:avLst/>
          </a:prstGeom>
          <a:gradFill rotWithShape="0">
            <a:gsLst>
              <a:gs pos="0">
                <a:srgbClr val="0a2f96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 exception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62120" y="2238480"/>
            <a:ext cx="0" cy="58104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581280"/>
            <a:ext cx="896760" cy="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62760" y="3176640"/>
            <a:ext cx="53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07000" y="4343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081320" y="43768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94120" y="5845320"/>
            <a:ext cx="1625760" cy="54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94120" y="5845320"/>
            <a:ext cx="1625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0360" y="3048120"/>
            <a:ext cx="1828800" cy="1066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40360" y="3048120"/>
            <a:ext cx="1828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fixup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45080" y="6121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486560" y="5291280"/>
            <a:ext cx="1130400" cy="660240"/>
          </a:xfrm>
          <a:prstGeom prst="rect">
            <a:avLst/>
          </a:prstGeom>
          <a:gradFill rotWithShape="0">
            <a:gsLst>
              <a:gs pos="0">
                <a:srgbClr val="571f83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21360" y="5261040"/>
            <a:ext cx="1289160" cy="1209600"/>
          </a:xfrm>
          <a:prstGeom prst="rect">
            <a:avLst/>
          </a:prstGeom>
          <a:gradFill rotWithShape="0">
            <a:gsLst>
              <a:gs pos="0">
                <a:srgbClr val="571f83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...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557440" y="135576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dispa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102200" y="4946760"/>
            <a:ext cx="1155600" cy="317520"/>
          </a:xfrm>
          <a:prstGeom prst="rect">
            <a:avLst/>
          </a:prstGeom>
          <a:gradFill rotWithShape="0">
            <a:gsLst>
              <a:gs pos="0">
                <a:srgbClr val="0a2f96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07000" y="52624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9680" y="4114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22520" y="2819520"/>
            <a:ext cx="2521080" cy="1523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22520" y="2819520"/>
            <a:ext cx="2521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fix and conti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330200" y="228600"/>
            <a:ext cx="648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ception Cod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2320920"/>
            <a:ext cx="1353960" cy="87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192400" y="2320920"/>
            <a:ext cx="1066680" cy="87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21400" y="2320920"/>
            <a:ext cx="2895480" cy="8794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52924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196120" y="1889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836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39552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8604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7656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6672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04960" y="1889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44680" y="3200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44680" y="38098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633760" y="3565440"/>
            <a:ext cx="464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29 = 1=Customer, 0=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78000" y="32004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78000" y="44956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95320" y="4175280"/>
            <a:ext cx="23385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=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=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=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=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411360" y="2320920"/>
            <a:ext cx="2057400" cy="87948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286000" y="230040"/>
            <a:ext cx="484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ssage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6200" y="1528920"/>
            <a:ext cx="839304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19051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FAO[l]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rint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19051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GETMSG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Message for error messag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tring for string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19051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PUTMSG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+ write to stder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525840" y="230040"/>
            <a:ext cx="236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w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1120" y="1176480"/>
            <a:ext cx="44085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pens if subroutines called in try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tack frame is “unwound” (remo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 bottom to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39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at frame initiating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39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s at frame initiating un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 handlers called to allow 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398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er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286240" y="1898640"/>
            <a:ext cx="1025640" cy="38592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uba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286240" y="3092400"/>
            <a:ext cx="1025640" cy="38592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ubb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286240" y="4286160"/>
            <a:ext cx="1025640" cy="38592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ub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75480" y="2468520"/>
            <a:ext cx="0" cy="439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75480" y="3662280"/>
            <a:ext cx="0" cy="439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302520" y="2217600"/>
            <a:ext cx="91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602400" y="1776240"/>
            <a:ext cx="2131920" cy="69516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ndl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75480" y="4856040"/>
            <a:ext cx="0" cy="439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75480" y="1249200"/>
            <a:ext cx="0" cy="439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219640" y="5448240"/>
            <a:ext cx="106668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00800" y="2476440"/>
            <a:ext cx="1486440" cy="2057760"/>
          </a:xfrm>
          <a:custGeom>
            <a:avLst/>
            <a:gdLst/>
            <a:ahLst/>
            <a:rect l="0" t="0" r="r" b="b"/>
            <a:pathLst>
              <a:path fill="none" w="4129" h="5716">
                <a:moveTo>
                  <a:pt x="0" y="5716"/>
                </a:moveTo>
                <a:lnTo>
                  <a:pt x="0" y="5716"/>
                </a:lnTo>
                <a:lnTo>
                  <a:pt x="0" y="5716"/>
                </a:lnTo>
                <a:cubicBezTo>
                  <a:pt x="725" y="5716"/>
                  <a:pt x="1437" y="5452"/>
                  <a:pt x="2065" y="4950"/>
                </a:cubicBezTo>
                <a:cubicBezTo>
                  <a:pt x="2692" y="4448"/>
                  <a:pt x="3213" y="3727"/>
                  <a:pt x="3576" y="2857"/>
                </a:cubicBezTo>
                <a:cubicBezTo>
                  <a:pt x="3938" y="1989"/>
                  <a:pt x="4129" y="1003"/>
                  <a:pt x="4129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337440" y="2324160"/>
            <a:ext cx="1092240" cy="3443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7413480" y="3824280"/>
            <a:ext cx="920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631960" y="230040"/>
            <a:ext cx="4151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1120" y="1387440"/>
            <a:ext cx="6218280" cy="1006560"/>
          </a:xfrm>
          <a:prstGeom prst="rect">
            <a:avLst/>
          </a:prstGeom>
          <a:gradFill rotWithShape="0">
            <a:gsLst>
              <a:gs pos="0">
                <a:srgbClr val="8f57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 API   (Ntxx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11120" y="2851200"/>
            <a:ext cx="1646280" cy="3382920"/>
          </a:xfrm>
          <a:prstGeom prst="rect">
            <a:avLst/>
          </a:prstGeom>
          <a:gradFill rotWithShape="0">
            <a:gsLst>
              <a:gs pos="0">
                <a:srgbClr val="2346af"/>
              </a:gs>
              <a:gs pos="100000">
                <a:srgbClr val="3365f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xx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697120" y="2851200"/>
            <a:ext cx="2103480" cy="91440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697120" y="4130640"/>
            <a:ext cx="2743200" cy="91440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d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057400" y="3308400"/>
            <a:ext cx="63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057400" y="4587840"/>
            <a:ext cx="63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03680" y="2394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697120" y="5502240"/>
            <a:ext cx="2103480" cy="73188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03680" y="50450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3680" y="376560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3948120"/>
            <a:ext cx="192096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43480" y="3641760"/>
            <a:ext cx="207648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ing d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453440" y="1387440"/>
            <a:ext cx="1279440" cy="100656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1936800"/>
            <a:ext cx="824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57400" y="5869080"/>
            <a:ext cx="63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51000" y="230040"/>
            <a:ext cx="4857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minars Off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7960" y="1089000"/>
            <a:ext cx="812808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MIE HANRAHAN - Windows NT driver consultant and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5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 - Mode Device Driver Program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5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rnal Architecture  (also given by David Solom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L HALL - internationalization expe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5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Internationalization Programming for Windows NT and Windows 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MUS FREYTAG - Previously in Microsoft Developer Relations and past architect for Windows NT internati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57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Global Programs for the Win32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894040" y="230040"/>
            <a:ext cx="3625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54080" y="1133640"/>
            <a:ext cx="8836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-disk file systems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 -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cation Table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FS -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igh-performance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- Windows NT native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can vary for each par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way in-place conversion to NTF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FS (ISO 96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s - common tape format, APIs, and backup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ape format, see MTF10.ZIP (MSWIN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 defines naming conventions not NT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11240" y="228600"/>
            <a:ext cx="8923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26960" y="1163520"/>
            <a:ext cx="82915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features in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 sets, strip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:  ACLs on files and directories and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 features missing:  quotas and fil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920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file size:  64-bit file addresses ( =18 billion G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in 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(like M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(user definable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7400" indent="-4428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able - combines high performance with high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443320" y="230040"/>
            <a:ext cx="45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0120" y="1273320"/>
            <a:ext cx="7943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30859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741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byte stream access only - no concept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741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SAM, must buy third-party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30859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ning:  default is to write-back cache data (ala RMS DF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741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FILE_FLAG_WRITE_THROUGH to disable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741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calls to FlushFileBuffers when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1720" indent="-343080">
              <a:lnSpc>
                <a:spcPct val="85000"/>
              </a:lnSpc>
              <a:spcBef>
                <a:spcPts val="720"/>
              </a:spcBef>
              <a:tabLst>
                <a:tab algn="l" pos="2741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tabLst>
                <a:tab algn="l" pos="3085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OPEN, $ASSIG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 - OPEN_EXI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20"/>
              </a:spcBef>
              <a:tabLst>
                <a:tab algn="l" pos="3085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REA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 - CREATE_NE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or OPEN_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20"/>
              </a:spcBef>
              <a:tabLst>
                <a:tab algn="l" pos="3085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LOSE/$DASSG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20"/>
              </a:spcBef>
              <a:tabLst>
                <a:tab algn="l" pos="3085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GET or $QI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20"/>
              </a:spcBef>
              <a:tabLst>
                <a:tab algn="l" pos="3085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WRITE or $QI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040" y="4116240"/>
            <a:ext cx="764532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57280" y="230040"/>
            <a:ext cx="65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Through VM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89560" y="1739880"/>
            <a:ext cx="1524240" cy="1786320"/>
          </a:xfrm>
          <a:custGeom>
            <a:avLst/>
            <a:gdLst/>
            <a:ahLst/>
            <a:rect l="0" t="0" r="r" b="b"/>
            <a:pathLst>
              <a:path w="4234" h="4962">
                <a:moveTo>
                  <a:pt x="4234" y="675"/>
                </a:moveTo>
                <a:lnTo>
                  <a:pt x="4234" y="4321"/>
                </a:lnTo>
                <a:lnTo>
                  <a:pt x="4165" y="4432"/>
                </a:lnTo>
                <a:lnTo>
                  <a:pt x="4068" y="4535"/>
                </a:lnTo>
                <a:lnTo>
                  <a:pt x="3916" y="4629"/>
                </a:lnTo>
                <a:lnTo>
                  <a:pt x="3722" y="4723"/>
                </a:lnTo>
                <a:lnTo>
                  <a:pt x="3445" y="4808"/>
                </a:lnTo>
                <a:lnTo>
                  <a:pt x="3169" y="4868"/>
                </a:lnTo>
                <a:lnTo>
                  <a:pt x="2864" y="4911"/>
                </a:lnTo>
                <a:lnTo>
                  <a:pt x="2574" y="4945"/>
                </a:lnTo>
                <a:lnTo>
                  <a:pt x="2311" y="4962"/>
                </a:lnTo>
                <a:lnTo>
                  <a:pt x="2019" y="4962"/>
                </a:lnTo>
                <a:lnTo>
                  <a:pt x="1687" y="4945"/>
                </a:lnTo>
                <a:lnTo>
                  <a:pt x="1411" y="4920"/>
                </a:lnTo>
                <a:lnTo>
                  <a:pt x="1106" y="4877"/>
                </a:lnTo>
                <a:lnTo>
                  <a:pt x="816" y="4817"/>
                </a:lnTo>
                <a:lnTo>
                  <a:pt x="608" y="4757"/>
                </a:lnTo>
                <a:lnTo>
                  <a:pt x="387" y="4672"/>
                </a:lnTo>
                <a:lnTo>
                  <a:pt x="221" y="4578"/>
                </a:lnTo>
                <a:lnTo>
                  <a:pt x="138" y="4518"/>
                </a:lnTo>
                <a:lnTo>
                  <a:pt x="55" y="4424"/>
                </a:lnTo>
                <a:lnTo>
                  <a:pt x="0" y="4312"/>
                </a:lnTo>
                <a:lnTo>
                  <a:pt x="0" y="624"/>
                </a:lnTo>
                <a:lnTo>
                  <a:pt x="41" y="530"/>
                </a:lnTo>
                <a:lnTo>
                  <a:pt x="138" y="427"/>
                </a:lnTo>
                <a:lnTo>
                  <a:pt x="373" y="290"/>
                </a:lnTo>
                <a:lnTo>
                  <a:pt x="235" y="367"/>
                </a:lnTo>
                <a:lnTo>
                  <a:pt x="484" y="239"/>
                </a:lnTo>
                <a:lnTo>
                  <a:pt x="677" y="179"/>
                </a:lnTo>
                <a:lnTo>
                  <a:pt x="926" y="119"/>
                </a:lnTo>
                <a:lnTo>
                  <a:pt x="1203" y="68"/>
                </a:lnTo>
                <a:lnTo>
                  <a:pt x="1494" y="17"/>
                </a:lnTo>
                <a:lnTo>
                  <a:pt x="1839" y="0"/>
                </a:lnTo>
                <a:lnTo>
                  <a:pt x="2131" y="0"/>
                </a:lnTo>
                <a:lnTo>
                  <a:pt x="2518" y="0"/>
                </a:lnTo>
                <a:lnTo>
                  <a:pt x="2795" y="25"/>
                </a:lnTo>
                <a:lnTo>
                  <a:pt x="3044" y="68"/>
                </a:lnTo>
                <a:lnTo>
                  <a:pt x="3335" y="119"/>
                </a:lnTo>
                <a:lnTo>
                  <a:pt x="3570" y="188"/>
                </a:lnTo>
                <a:lnTo>
                  <a:pt x="3791" y="282"/>
                </a:lnTo>
                <a:lnTo>
                  <a:pt x="3957" y="359"/>
                </a:lnTo>
                <a:lnTo>
                  <a:pt x="4068" y="436"/>
                </a:lnTo>
                <a:lnTo>
                  <a:pt x="4165" y="538"/>
                </a:lnTo>
                <a:lnTo>
                  <a:pt x="4234" y="675"/>
                </a:lnTo>
                <a:close/>
              </a:path>
            </a:pathLst>
          </a:custGeom>
          <a:gradFill rotWithShape="0">
            <a:gsLst>
              <a:gs pos="0">
                <a:srgbClr val="ac8549"/>
              </a:gs>
              <a:gs pos="100000">
                <a:srgbClr val="f6bf69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489560" y="1620720"/>
            <a:ext cx="1523880" cy="714240"/>
          </a:xfrm>
          <a:prstGeom prst="rect">
            <a:avLst/>
          </a:prstGeom>
          <a:gradFill rotWithShape="0">
            <a:gsLst>
              <a:gs pos="0">
                <a:srgbClr val="ac8549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8120" y="1468440"/>
            <a:ext cx="2590920" cy="213372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8120" y="4287960"/>
            <a:ext cx="2590920" cy="213372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8920" y="1041480"/>
            <a:ext cx="311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process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8920" y="3860640"/>
            <a:ext cx="1616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38080" y="2001960"/>
            <a:ext cx="1143000" cy="5335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041640" y="2557440"/>
            <a:ext cx="1908360" cy="218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1640" y="2906640"/>
            <a:ext cx="1905120" cy="2219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950000" y="2535120"/>
            <a:ext cx="609480" cy="380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38120" y="4745160"/>
            <a:ext cx="2590920" cy="38088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ed file (vir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22800" y="3798720"/>
            <a:ext cx="4564080" cy="26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s opened are “mapp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bo I/O” - bypass IRP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s turn into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430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use mapped files for read-onl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384280" y="230040"/>
            <a:ext cx="464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0680" y="1417680"/>
            <a:ext cx="85852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ANCE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FLUS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File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range lock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File, Unlock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FI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ER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RENA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ENTER/$REMO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vailable in POS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EXTE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TRUNC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ndOf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3048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$_MODIF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Attributes, SetFileTime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7920" y="1198440"/>
            <a:ext cx="858816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612800" y="230040"/>
            <a:ext cx="6188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irectory I/O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9600" y="1630440"/>
            <a:ext cx="85964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994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DDI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urrent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9941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CREATE_DIRECT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994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PAR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direct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994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AR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Pat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FindFirstFile, FindNextFil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994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FILE_SC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ile, FindNextFil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994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FIND_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ame as abo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920" y="1413000"/>
            <a:ext cx="858816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187720" y="230040"/>
            <a:ext cx="5038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synchronous I/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14520" y="1130400"/>
            <a:ext cx="8012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6040" indent="-44604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921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eclare desire to perform async I/O at op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600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FLAG_OVERL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5000"/>
              </a:lnSpc>
              <a:spcBef>
                <a:spcPts val="1199"/>
              </a:spcBef>
              <a:tabLst>
                <a:tab algn="l" pos="2921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QIO w/ef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/WriteFile specify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handle in OVERLAPP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5000"/>
              </a:lnSpc>
              <a:spcBef>
                <a:spcPts val="720"/>
              </a:spcBef>
              <a:tabLst>
                <a:tab algn="l" pos="2921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QIO w/A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direct equival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600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 ReadFileEx/WriteFileEx take a completion routine, but it isn’t called asynchronously like an 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9376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called until you call WaitForMultipleObjectsEx or Sleep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9210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asier method is to just create a thread to do the I/O synchron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1896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2600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 thread stalls, but application does not 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7880" y="2403360"/>
            <a:ext cx="807732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synchronous I/O: 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/O Completion Po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3760" y="1706400"/>
            <a:ext cx="85564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ts the number of ready threads in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CreateIoCompletionPort (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HANDLE FileHandle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HANDLE ExistingCompletionPort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DWORD CompletionKey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er-file completion ke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DWORD NumberOfConcurrentThread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starting I/Os, wait for completion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589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GetQueuedCompletionStatus(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HANDLE CompletionPort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PDWORD lpNumberOfBytesTransferred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PDWORD lpCompletionKey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POVERLAPPED * lpOverlapped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DWORD dwMilliseconds);       // optional timeou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74720" y="230040"/>
            <a:ext cx="786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7440" y="1209600"/>
            <a:ext cx="871056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box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pipes, or rol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sk-to-tas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 of PATHWORKS</a:t>
            </a:r>
            <a:r>
              <a:rPr b="1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Event Flag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ev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al nam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direct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sec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pping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Brok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Broker, 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7440" y="1692360"/>
            <a:ext cx="86774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87480" y="23004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amed Pi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63520" y="1311120"/>
            <a:ext cx="791208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wo cooperat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reates and client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air has own communic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nel (in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specifies one or many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:  server talks with one client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:  server can talk to many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locall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 (allows tree-structured namesp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s “\\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na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pipe[\path]\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na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/receive with ReadFile/Write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908680" y="858960"/>
            <a:ext cx="2971800" cy="1828800"/>
            <a:chOff x="5908680" y="858960"/>
            <a:chExt cx="2971800" cy="1828800"/>
          </a:xfrm>
        </p:grpSpPr>
        <p:sp>
          <p:nvSpPr>
            <p:cNvPr id="359" name=""/>
            <p:cNvSpPr txBox="1"/>
            <p:nvPr/>
          </p:nvSpPr>
          <p:spPr>
            <a:xfrm>
              <a:off x="5908680" y="1316160"/>
              <a:ext cx="1447920" cy="990720"/>
            </a:xfrm>
            <a:prstGeom prst="rect">
              <a:avLst/>
            </a:prstGeom>
            <a:gradFill rotWithShape="0">
              <a:gsLst>
                <a:gs pos="0">
                  <a:srgbClr val="7429af"/>
                </a:gs>
                <a:gs pos="100000">
                  <a:srgbClr val="9234d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280280" y="1239840"/>
              <a:ext cx="685800" cy="3808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7889760" y="858960"/>
              <a:ext cx="914400" cy="762120"/>
            </a:xfrm>
            <a:prstGeom prst="rect">
              <a:avLst/>
            </a:prstGeom>
            <a:gradFill rotWithShape="0">
              <a:gsLst>
                <a:gs pos="0">
                  <a:srgbClr val="008b00"/>
                </a:gs>
                <a:gs pos="100000">
                  <a:srgbClr val="00ae0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80280" y="2001960"/>
              <a:ext cx="762120" cy="2286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7966080" y="1925640"/>
              <a:ext cx="914400" cy="762120"/>
            </a:xfrm>
            <a:prstGeom prst="rect">
              <a:avLst/>
            </a:prstGeom>
            <a:gradFill rotWithShape="0">
              <a:gsLst>
                <a:gs pos="0">
                  <a:srgbClr val="008b00"/>
                </a:gs>
                <a:gs pos="100000">
                  <a:srgbClr val="00ae0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76240" y="230040"/>
            <a:ext cx="5543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ving From VMS To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2960" y="180828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n-GUI APIs, many, many services have direct parallels on V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ew that don’t either don’t make sense or have worka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25280" y="228600"/>
            <a:ext cx="8894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MS Mailboxes As Named Pi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49480" y="1166760"/>
            <a:ext cx="68468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1800" indent="-361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message mode named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REMBX = CreateNamedPipe + ConnectNamed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tmpmbx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-only versus write-only = use PIPE_ACCESS_INBOUND/OUT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ce local:  \\.\pipe\pip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ASSIGN - = read-only versus write-only GENERIC_READ or GENERIC_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$M_NOW:  switch to byte 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$M_NORSWAIT:  switch to PIPE_NO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$M_NOW:  switch to byte 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325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ke VMS, messages not trun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338560" y="230040"/>
            <a:ext cx="4737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85640" y="1231920"/>
            <a:ext cx="81741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on Windows NT nearly identical in functionality to VMS (C2-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ology difference:  VMS identifiers called “groups” on 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IC-based protection - all identifi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rs can be referenc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ver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bjects can be protected (for example, proc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authentication and logon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security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2868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easier impersonation support for server applications (see ImpersonateNamedPipeClient, RpcImpersonateClient, DdeImpersonateCl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841320" y="230040"/>
            <a:ext cx="7732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ple Tokens Per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530520" y="4551480"/>
            <a:ext cx="1981080" cy="1523880"/>
            <a:chOff x="3530520" y="4551480"/>
            <a:chExt cx="1981080" cy="1523880"/>
          </a:xfrm>
        </p:grpSpPr>
        <p:sp>
          <p:nvSpPr>
            <p:cNvPr id="370" name=""/>
            <p:cNvSpPr txBox="1"/>
            <p:nvPr/>
          </p:nvSpPr>
          <p:spPr>
            <a:xfrm>
              <a:off x="3530520" y="455148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e2e4a6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333333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Access To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718080" y="4849920"/>
              <a:ext cx="1606680" cy="1191960"/>
              <a:chOff x="3718080" y="4849920"/>
              <a:chExt cx="1606680" cy="1191960"/>
            </a:xfrm>
          </p:grpSpPr>
          <p:sp>
            <p:nvSpPr>
              <p:cNvPr id="372" name=""/>
              <p:cNvSpPr txBox="1"/>
              <p:nvPr/>
            </p:nvSpPr>
            <p:spPr>
              <a:xfrm>
                <a:off x="3718080" y="5445000"/>
                <a:ext cx="1606680" cy="2001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Owner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3718080" y="564516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Primary Group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3718080" y="584352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Default AC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3718080" y="484992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User’s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3718080" y="504828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Group SI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3718080" y="524664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Privileg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"/>
          <p:cNvSpPr txBox="1"/>
          <p:nvPr/>
        </p:nvSpPr>
        <p:spPr>
          <a:xfrm>
            <a:off x="1092240" y="3519360"/>
            <a:ext cx="1676520" cy="68580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1720" y="2300400"/>
            <a:ext cx="0" cy="1218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01720" y="2300400"/>
            <a:ext cx="2324160" cy="1218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78040" y="2300400"/>
            <a:ext cx="4514760" cy="1218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375000" y="6164280"/>
            <a:ext cx="458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tokens supersede process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892840" y="3519360"/>
            <a:ext cx="1676520" cy="68580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606840" y="3519360"/>
            <a:ext cx="1676520" cy="68580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30920" y="4091040"/>
            <a:ext cx="0" cy="453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92880" y="4043520"/>
            <a:ext cx="0" cy="517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97280" y="1703520"/>
            <a:ext cx="655560" cy="147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862600" y="4551480"/>
            <a:ext cx="1981080" cy="1523880"/>
            <a:chOff x="5862600" y="4551480"/>
            <a:chExt cx="1981080" cy="1523880"/>
          </a:xfrm>
        </p:grpSpPr>
        <p:sp>
          <p:nvSpPr>
            <p:cNvPr id="389" name=""/>
            <p:cNvSpPr txBox="1"/>
            <p:nvPr/>
          </p:nvSpPr>
          <p:spPr>
            <a:xfrm>
              <a:off x="5862600" y="455148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e2e4a6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333333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Access To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049800" y="4849920"/>
              <a:ext cx="1606680" cy="1191960"/>
              <a:chOff x="6049800" y="4849920"/>
              <a:chExt cx="1606680" cy="1191960"/>
            </a:xfrm>
          </p:grpSpPr>
          <p:sp>
            <p:nvSpPr>
              <p:cNvPr id="391" name=""/>
              <p:cNvSpPr txBox="1"/>
              <p:nvPr/>
            </p:nvSpPr>
            <p:spPr>
              <a:xfrm>
                <a:off x="6049800" y="5445000"/>
                <a:ext cx="1606680" cy="2001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Owner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6049800" y="564516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Primary Group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6049800" y="584352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Default AC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6049800" y="484992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User’s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049800" y="504828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Group SI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 txBox="1"/>
              <p:nvPr/>
            </p:nvSpPr>
            <p:spPr>
              <a:xfrm>
                <a:off x="6049800" y="524664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Privileg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3530520" y="1157400"/>
            <a:ext cx="1981080" cy="1523880"/>
            <a:chOff x="3530520" y="1157400"/>
            <a:chExt cx="1981080" cy="1523880"/>
          </a:xfrm>
        </p:grpSpPr>
        <p:sp>
          <p:nvSpPr>
            <p:cNvPr id="398" name=""/>
            <p:cNvSpPr txBox="1"/>
            <p:nvPr/>
          </p:nvSpPr>
          <p:spPr>
            <a:xfrm>
              <a:off x="3530520" y="115740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e2e4a6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333333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Access Tok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718080" y="1455840"/>
              <a:ext cx="1606680" cy="1191960"/>
              <a:chOff x="3718080" y="1455840"/>
              <a:chExt cx="1606680" cy="1191960"/>
            </a:xfrm>
          </p:grpSpPr>
          <p:sp>
            <p:nvSpPr>
              <p:cNvPr id="400" name=""/>
              <p:cNvSpPr txBox="1"/>
              <p:nvPr/>
            </p:nvSpPr>
            <p:spPr>
              <a:xfrm>
                <a:off x="3718080" y="2050920"/>
                <a:ext cx="1606680" cy="2001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Owner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3718080" y="225108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Primary Group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3718080" y="244944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Default AC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3718080" y="145584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User’s S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3718080" y="165420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Group SI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3718080" y="1852560"/>
                <a:ext cx="1606680" cy="198360"/>
              </a:xfrm>
              <a:prstGeom prst="rect">
                <a:avLst/>
              </a:prstGeom>
              <a:solidFill>
                <a:srgbClr val="c8fec8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Privileg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"/>
          <p:cNvSpPr txBox="1"/>
          <p:nvPr/>
        </p:nvSpPr>
        <p:spPr>
          <a:xfrm>
            <a:off x="558720" y="1233360"/>
            <a:ext cx="2666880" cy="1066680"/>
          </a:xfrm>
          <a:prstGeom prst="rect">
            <a:avLst/>
          </a:prstGeom>
          <a:gradFill rotWithShape="0">
            <a:gsLst>
              <a:gs pos="0">
                <a:srgbClr val="571f83"/>
              </a:gs>
              <a:gs pos="100000">
                <a:srgbClr val="9234db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08000" y="1425600"/>
            <a:ext cx="739764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98640" y="1789200"/>
            <a:ext cx="740268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GETJPI, JPI$_xxxPRIV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...TOKEN_PRIVILE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PRV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GRANT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SetToken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REVOK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HANGE_AC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Delete/GetAce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/DeniedAce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FORMAT_AC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PARSE_AC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HECK_ACC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961"/>
              </a:spcBef>
              <a:tabLst>
                <a:tab algn="l" pos="3048120"/>
                <a:tab algn="l" pos="3505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HKPR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600" y="3013200"/>
            <a:ext cx="914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386080" y="230040"/>
            <a:ext cx="4641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54120" y="2590920"/>
            <a:ext cx="1197360" cy="838440"/>
          </a:xfrm>
          <a:custGeom>
            <a:avLst/>
            <a:gdLst/>
            <a:ahLst/>
            <a:rect l="0" t="0" r="r" b="b"/>
            <a:pathLst>
              <a:path fill="none" w="3326" h="2329">
                <a:moveTo>
                  <a:pt x="0" y="0"/>
                </a:moveTo>
                <a:lnTo>
                  <a:pt x="3326" y="0"/>
                </a:lnTo>
                <a:lnTo>
                  <a:pt x="3326" y="2329"/>
                </a:lnTo>
                <a:lnTo>
                  <a:pt x="290" y="2329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50800" y="1281240"/>
            <a:ext cx="8042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t LUID, since changes per-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only for required section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remember to disable after u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0" indent="-3589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Open token (thread or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0" indent="-3589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Get LUID for priv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0" indent="-3589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Modify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0" indent="-3589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Perform privilege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0" indent="-3589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Restore original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0" indent="-3589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 Close handle to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941480" y="230040"/>
            <a:ext cx="5530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nabling Privile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79520" y="228600"/>
            <a:ext cx="8186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ake Up And Timer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3720" y="1249200"/>
            <a:ext cx="82980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HIB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SingleObject (on an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WAK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CHDW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mer+Suspend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6504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530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ction routine, Resum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ANW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rect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65040">
              <a:lnSpc>
                <a:spcPct val="8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530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llTimer works, but you must have the timer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IM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mer; KillTimer in action routin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 timeSetEvent for better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CANT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llTimer or timeKill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GETT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SETI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ystem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NUMT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TimeToSystem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076400" y="227160"/>
            <a:ext cx="699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TL Routine Equival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4040" y="1413000"/>
            <a:ext cx="7497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have equival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TL string handl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5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549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also Win32 string handl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TH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TL math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G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xact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5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549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console API, C RTL graphics routines, and curse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L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1897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X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Win32 LZxxx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622440" y="1413000"/>
            <a:ext cx="7899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218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T$/TPU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218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$/FDL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 (no 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218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BR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5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835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BR$HELP = Win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218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(messaging applic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interf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218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S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NLS and str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5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835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CMapStringW, CompareStringW, FoldString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5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  <a:tabLst>
                <a:tab algn="l" pos="1835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\mstools\h\winnls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20"/>
              </a:spcBef>
              <a:tabLst>
                <a:tab algn="l" pos="218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RT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o equivalent&gt; (no callable s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76400" y="227160"/>
            <a:ext cx="699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TL Routine Equival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170160" y="227160"/>
            <a:ext cx="2805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152360" y="1347840"/>
            <a:ext cx="6838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4560" indent="-5745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comparable base OS functionality to V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“base” VMS system services map to Win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obstacles will b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09800" indent="-4334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9800" indent="-4334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2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to client-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9800" indent="-4334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to Windows-bas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vent-driven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22600" y="230040"/>
            <a:ext cx="5716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jor Porting Iss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7680" y="1333440"/>
            <a:ext cx="86504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620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facilities (RMS and logical na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third-party libraries not available on Windows 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user versus client-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746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VMS applications designed assuming multiuser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72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to break into UI (client) and back end (ser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72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hoices for client-server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71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ockets, DECmessageQ, ObjectBroker, and SQ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746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remember, Windows NT is a multiuser system at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72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un server applications at boot time (Win32 serv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728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impersonate varying remote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to Windows-based programming paradig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746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versus proced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746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ng whether to go with a class library or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11160" y="230040"/>
            <a:ext cx="730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The User Interf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63400" y="1090440"/>
            <a:ext cx="8016840" cy="5583240"/>
            <a:chOff x="563400" y="1090440"/>
            <a:chExt cx="8016840" cy="5583240"/>
          </a:xfrm>
        </p:grpSpPr>
        <p:sp>
          <p:nvSpPr>
            <p:cNvPr id="57" name=""/>
            <p:cNvSpPr txBox="1"/>
            <p:nvPr/>
          </p:nvSpPr>
          <p:spPr>
            <a:xfrm>
              <a:off x="563400" y="1090440"/>
              <a:ext cx="8016840" cy="558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buClr>
                  <a:srgbClr val="f6bf69"/>
                </a:buClr>
                <a:buSzPct val="75000"/>
                <a:buFont typeface="Wingdings"/>
                <a:buChar char=""/>
                <a:tabLst>
                  <a:tab algn="l" pos="32511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 interface porting alternati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tabLst>
                  <a:tab algn="l" pos="325116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M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tabLst>
                  <a:tab algn="l" pos="3251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aracter cell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32 Console Mode AP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tabLst>
                  <a:tab algn="l" pos="3251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windows Motif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ird-party Xlib/Motif toolkit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C, and Hummingbird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tabLst>
                  <a:tab algn="l" pos="3251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M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no direct equivalent&gt;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Curses may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buClr>
                  <a:srgbClr val="f6bf69"/>
                </a:buClr>
                <a:buSzPct val="75000"/>
                <a:buFont typeface="Wingdings"/>
                <a:buChar char=""/>
                <a:tabLst>
                  <a:tab algn="l" pos="32511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ve to a C++ class library (for example, Microsoft Visual C++ MFC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60440" indent="-460440">
                <a:lnSpc>
                  <a:spcPct val="90000"/>
                </a:lnSpc>
                <a:spcBef>
                  <a:spcPts val="601"/>
                </a:spcBef>
                <a:buClr>
                  <a:srgbClr val="f6bf69"/>
                </a:buClr>
                <a:buSzPct val="75000"/>
                <a:buFont typeface="Wingdings"/>
                <a:buChar char=""/>
                <a:tabLst>
                  <a:tab algn="l" pos="32511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, use a cross-platform GUI toolk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20800" indent="-358920">
                <a:lnSpc>
                  <a:spcPct val="90000"/>
                </a:lnSpc>
                <a:spcBef>
                  <a:spcPts val="601"/>
                </a:spcBef>
                <a:buClr>
                  <a:srgbClr val="f6bf69"/>
                </a:buClr>
                <a:buSzPct val="75000"/>
                <a:buFont typeface="Wingdings"/>
                <a:buChar char=""/>
                <a:tabLst>
                  <a:tab algn="l" pos="28908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VT (by XV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20800" indent="-358920">
                <a:lnSpc>
                  <a:spcPct val="90000"/>
                </a:lnSpc>
                <a:spcBef>
                  <a:spcPts val="601"/>
                </a:spcBef>
                <a:buClr>
                  <a:srgbClr val="f6bf69"/>
                </a:buClr>
                <a:buSzPct val="75000"/>
                <a:buFont typeface="Wingdings"/>
                <a:buChar char=""/>
                <a:tabLst>
                  <a:tab algn="l" pos="28908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pen Interface (by Neuron Dat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20800" indent="-358920">
                <a:lnSpc>
                  <a:spcPct val="90000"/>
                </a:lnSpc>
                <a:spcBef>
                  <a:spcPts val="601"/>
                </a:spcBef>
                <a:buClr>
                  <a:srgbClr val="f6bf69"/>
                </a:buClr>
                <a:buSzPct val="75000"/>
                <a:buFont typeface="Wingdings"/>
                <a:buChar char=""/>
                <a:tabLst>
                  <a:tab algn="l" pos="28908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alaxy (by Visi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39680" y="2048040"/>
              <a:ext cx="7521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A. Solomon</dc:creator>
  <dc:description/>
  <dc:language>en-US</dc:language>
  <cp:lastModifiedBy>Brian K. Moran</cp:lastModifiedBy>
  <cp:revision>0</cp:revision>
  <dc:subject/>
  <dc:title>Moving from OpenVMS to Windows NT   David A. Solomon</dc:title>
</cp:coreProperties>
</file>