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CEC7D3-A2C0-414F-AC78-B08413ECD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25400" y="148752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Analysis Tool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za Baghai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Performance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33240" y="192888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API Profiler (WAP)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all Attributed Profiler (CA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800" y="1685880"/>
            <a:ext cx="84456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sampling prof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picture of how time is spent in your application at the function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call tree for each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s functions within one or more EXEs and/or D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recompile of C /C++ code (manual changes needed for ASM fun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symbol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22200" y="230040"/>
            <a:ext cx="8578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87960" y="1554120"/>
            <a:ext cx="1019160" cy="825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7960" y="1554120"/>
            <a:ext cx="10191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81560" y="4900680"/>
            <a:ext cx="1017720" cy="826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81560" y="4900680"/>
            <a:ext cx="101772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74800" y="3014640"/>
            <a:ext cx="1017720" cy="826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674800" y="3014640"/>
            <a:ext cx="101772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b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9800" y="4879800"/>
            <a:ext cx="1019160" cy="826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09800" y="4879800"/>
            <a:ext cx="101916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05520" y="3059280"/>
            <a:ext cx="1019160" cy="824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05520" y="3059280"/>
            <a:ext cx="10191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15120" y="4879800"/>
            <a:ext cx="1019160" cy="826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215120" y="4879800"/>
            <a:ext cx="101916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f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481560" y="2273400"/>
            <a:ext cx="933120" cy="847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484360" y="3800520"/>
            <a:ext cx="403200" cy="1100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0" y="3821040"/>
            <a:ext cx="528840" cy="1079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37200" y="2316240"/>
            <a:ext cx="1060560" cy="847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4760" y="3800520"/>
            <a:ext cx="701640" cy="1120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13320" y="5027760"/>
            <a:ext cx="100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65160" y="5027760"/>
            <a:ext cx="99864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684600" y="1158840"/>
            <a:ext cx="10717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,225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013520" y="3184560"/>
            <a:ext cx="10000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975040" y="2300400"/>
            <a:ext cx="12081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57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256520" y="3946680"/>
            <a:ext cx="100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7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606840" y="3989520"/>
            <a:ext cx="100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580000" y="2216160"/>
            <a:ext cx="100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34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035080" y="4011480"/>
            <a:ext cx="100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9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097600" y="1293840"/>
            <a:ext cx="7192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19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111640" y="3367080"/>
            <a:ext cx="8128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12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410600" y="5732640"/>
            <a:ext cx="7192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12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46520" y="3240000"/>
            <a:ext cx="57960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031840" y="5756400"/>
            <a:ext cx="88884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3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654360" y="5729400"/>
            <a:ext cx="7192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19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81280" y="2995560"/>
            <a:ext cx="942840" cy="5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89080" y="230040"/>
            <a:ext cx="8645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How does it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92120" y="1638360"/>
            <a:ext cx="823896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pile your application with -Gh, -Z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with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.LI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h inserts a call to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penter()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beginning of each function c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 patches calls into DLLs to go through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penter()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penter()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defined in CAP.LIB to handle function tim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all to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penter()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 to be manually inserted for ASM fun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3880" y="230040"/>
            <a:ext cx="8515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AP.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60440" y="1754280"/>
            <a:ext cx="4702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EXE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APP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ATCH IMPOR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APP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APP.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ATCH CALLER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NAME LENGTH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78000" y="230040"/>
            <a:ext cx="8467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apdump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50800" y="1928880"/>
            <a:ext cx="8121600" cy="35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 dump fac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p prof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profiling data and restart prof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p profiling and dump the data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CAP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/dump can also be done from your appl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30120" y="230040"/>
            <a:ext cx="85629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AP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427040" y="1749600"/>
            <a:ext cx="636912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/DLL name:  routin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outine + callees)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/c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outine - callees)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/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74600" y="230040"/>
            <a:ext cx="887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apView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32040" y="1928880"/>
            <a:ext cx="7359480" cy="24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visual form of 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for viewing data specially when there are 100s-1000s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function time data summary and percentage of tot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39560" y="1928880"/>
            <a:ext cx="8344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in32 API lo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42880" y="1928880"/>
            <a:ext cx="81374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 every single Win32 API and its parameters/return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WAP technology (Same Win32 DLLs except CRTDLL.DL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used to install logger D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collected as API calls are made (very disk intens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2560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30480" y="1289160"/>
            <a:ext cx="676260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beyond understanding static structure of your application; learn about its dynamic behav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Profiler (W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Attributed Profiler (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Lo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I/O and Synchronization Win32 API Prof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’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Mo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File I/O and Synchronization Prof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12920" y="1976400"/>
            <a:ext cx="83977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s File I/O and Synchronization APIs in KERNEL32.DLL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ia FERNEL32.D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WAP technology; application gets converted to call FERNEL32.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s API calls and collects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, mutex, and semaphor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ernel32 MYAPP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955800" y="1928880"/>
            <a:ext cx="73119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ile I/O And Synchronization Profiler 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Debugger</a:t>
            </a: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wt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Com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03160" y="1928880"/>
            <a:ext cx="761688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es calls in your program; shows number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s call trace similar to CAP without timing info; slower but no recomp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8564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Mon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0440" y="1976400"/>
            <a:ext cx="830268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use console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s % CPU, CPU time, and memory information on each runn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shows memory usage for the file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d every five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4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Mon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9640" y="1574640"/>
            <a:ext cx="81439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Mem Usage:</a:t>
            </a:r>
            <a:r>
              <a:rPr b="1" lang="en-US" sz="28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set of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Mem Diff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to your working set (+/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Page Fault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page faults taken by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Flts Diff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faults taken during the last sampling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Commit Charg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ze of committed memory used by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Usage NonP/Pag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unt of kernel memory your application being charg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Pri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priority of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Thd Cnt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threads in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33240" y="197640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Mon Utility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orking Set Tuner (WS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66640" y="1976400"/>
            <a:ext cx="8089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s linker rearrange functions’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number of code pages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%-50% savings on cod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very good/realistic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works similar to CAP; requires recompile of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How does it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1733400"/>
            <a:ext cx="857556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 DLL called every time a function is call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it is set for every function called during the specified time interval (1000 ms defaul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s a history of function references over scenario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s which functions are used concurrently in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packing list for the linker to pack functions optimally into p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Function Reference Pat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16160" y="1749600"/>
            <a:ext cx="659124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ntu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1:  00111110000000111000000000011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2:  000000000000000000000000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3:  000111000011000000000000001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4:  0000110000110000000000000000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5:  000000000000000000111111111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u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1:  00111110000000111000000000011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3:  000111000011000011000000001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4:  0000110000110000000000000000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5:  000000000000000000111111111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2:  000000000000000000000000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609560" y="1976400"/>
            <a:ext cx="6004080" cy="35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exist in c:\wst direc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EXE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APP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ATCH IMPORT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used - leave 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TIME INTERV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ST.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2560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040" y="1542960"/>
            <a:ext cx="8223120" cy="25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RAM requirement; improve application load time; even improve sp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Set Tuner (WST)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Address Dump (vadump)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er dump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90680" y="1976400"/>
            <a:ext cx="82422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pile your application with -Gh, -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wi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.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h inserts a call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penter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beginning of each function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up WST.INI in c:\w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your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dump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lear/dump WST data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33440" y="230040"/>
            <a:ext cx="8356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sing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sing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70000" y="1793880"/>
            <a:ext cx="868356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c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tility to concatenate multiple data files (if multiple scenarios are r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cat  Module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un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ty to create the packing list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eName.pr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une  /o  ModuleName.w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build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pile with -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with -order@ModuleName.p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33240" y="197640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vadump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76240" y="1976400"/>
            <a:ext cx="74707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s the nature of each page inside your working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s working set of your application as i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tool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vadump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69960" y="1976400"/>
            <a:ext cx="7883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vadump -p pid -wo -m</a:t>
            </a:r>
            <a:r>
              <a:rPr b="1" i="1" lang="en-US" sz="32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tatically watch the working set of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 pid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your application process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o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watch working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display symbols within the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 by page dump of the contents of your working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vadump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25680" y="1771560"/>
            <a:ext cx="617220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21c1000 WINFILE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119) WinMain@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119) ResizeControls@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53c) InitPopupMenus@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bf9) FrameWndProc@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21c2000 WINFILE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bf9) FrameWndProc@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38c) InitMenus@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16c) LoadBitmaps@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5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5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StaticCode And Dat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405      1620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Dynamic Data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72        288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Page Table Pages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11          44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Working Set                    488      1952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vadump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87520" y="1797120"/>
            <a:ext cx="804852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vadump -p pid -w -c -r</a:t>
            </a:r>
            <a:r>
              <a:rPr b="1" i="1" lang="en-US" sz="32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ynamically watch the working set of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 pid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your application process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watch working set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show code faults faulting in new code (static code/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show working set (silent otherw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ctrl&gt;c terminates vadump and creates a histogram showing most page fa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vadump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11200" y="169560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dump -p 142 -w -c -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50000"/>
              </a:lnSpc>
              <a:spcBef>
                <a:spcPts val="24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ToCharA@8+16 : 0x02205b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ToCharA@8+16 : 0x77d84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Shell_NotifyIcon@8+6 : Shell_NotifyIcon@8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_forcdecpt+45 : _forcdecpt+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GetDateFormatW@24 : GetDateFormatW@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lInitUnicodeString@8+1b : 0x002634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Calendar@8+66 : 0x0026d3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50000"/>
              </a:lnSpc>
              <a:spcBef>
                <a:spcPts val="24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, OemToCharA@8+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_forcdecpt+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GetCalendar@8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GetDateFormatW@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Shell_NotifyIcon@8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GetCalendar@8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link -d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06520" y="1976400"/>
            <a:ext cx="821052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link -dump -sum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a summary of the sizes of different pieces of your EXE/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text</a:t>
            </a:r>
            <a:r>
              <a:rPr b="1" i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od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bs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ize of zero initialized static data                  ( int MyArray[512]  ;  adds 2048 bytes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bs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dat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ize of initialized static data                        ( int i = 10  ;  adds 4 bytes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dat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link -dump -map</a:t>
            </a:r>
            <a:r>
              <a:rPr b="1" i="1" lang="en-US" sz="32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more detailed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2560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Analysis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3680" y="1533600"/>
            <a:ext cx="829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erformance Monitor for bottleneck detection and monitoring of your own application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rofilers/Logger to better understand dynamic behavior of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orking Set Tuner to reduce your RAM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vadump to better understand nature of each page in your application working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erformance Mon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2920" y="1711440"/>
            <a:ext cx="83977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bottleneck detecti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monitor your own application counters (more detailed information in tomorrow’s Performance Monitoring 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it before using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erformance Mon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65320" y="1928880"/>
            <a:ext cx="68929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by getting the broad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 total processo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 user, % kernel, and % idl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queu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/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 physical disk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 Server total bytes/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in32 API Profiler (WA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36680" y="1670040"/>
            <a:ext cx="835020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cepts the calls from the application to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compil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s the six main Win32 D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.DLL (ZERNEL32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.DLL (ZSER32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.DLL (ZDI32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PI32.DLL (ZDVAPI32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TDLL.DLL (ZRTDLL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32.DLL (ZLE32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disable chksum checking to run 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2560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API Profiler (WAP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927080"/>
            <a:ext cx="6080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343240" y="2287440"/>
            <a:ext cx="164628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09680" y="3328920"/>
            <a:ext cx="54000" cy="354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714840" y="2278080"/>
            <a:ext cx="523800" cy="655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4894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4920" y="2297160"/>
            <a:ext cx="485640" cy="560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1280" y="3476520"/>
            <a:ext cx="4680" cy="3333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24600" y="2286000"/>
            <a:ext cx="1104840" cy="476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447920" y="2116080"/>
            <a:ext cx="2458800" cy="246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61800" y="3289320"/>
            <a:ext cx="919080" cy="56520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td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26120" y="3668760"/>
            <a:ext cx="1419120" cy="56052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pi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95320" y="2890800"/>
            <a:ext cx="34920" cy="385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05440" y="3281400"/>
            <a:ext cx="14400" cy="376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787400" y="3740040"/>
            <a:ext cx="919080" cy="64836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11600" y="3778200"/>
            <a:ext cx="1181160" cy="64836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25960" y="3790800"/>
            <a:ext cx="920880" cy="56520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3760" y="231300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rtd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639800" y="2782800"/>
            <a:ext cx="12924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ser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44880" y="294336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i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11600" y="290196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nel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046920" y="2725560"/>
            <a:ext cx="12906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vapi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710160" y="1771560"/>
            <a:ext cx="1542960" cy="648360"/>
          </a:xfrm>
          <a:prstGeom prst="rect">
            <a:avLst/>
          </a:prstGeom>
          <a:gradFill rotWithShape="0">
            <a:gsLst>
              <a:gs pos="0">
                <a:srgbClr val="0b37af"/>
              </a:gs>
              <a:gs pos="100000">
                <a:srgbClr val="114f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96080" y="3021120"/>
            <a:ext cx="1104840" cy="54144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76880" y="2190600"/>
            <a:ext cx="2095560" cy="133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361280" y="2154240"/>
            <a:ext cx="12906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le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77320" y="2685960"/>
            <a:ext cx="0" cy="343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API Profiler (WAP)</a:t>
            </a:r>
            <a:br>
              <a:rPr sz="1800"/>
            </a:br>
            <a:r>
              <a:rPr b="1" lang="en-US" sz="36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rofil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03280" y="1928880"/>
            <a:ext cx="641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ASCII data files for each DLL prof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API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time per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cal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um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s reported in micro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API Profiler (WAP)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t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08000" y="1546200"/>
            <a:ext cx="7207200" cy="50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ares applications for profiling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win32  MYAPP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nel32  MYAPP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undo  MYAPP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MYAPP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d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and/or dump data at any time          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WAP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dumped upon application exit        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EN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za Baghai</dc:creator>
  <dc:description/>
  <dc:language>en-US</dc:language>
  <cp:lastModifiedBy>Tomi Poutanen</cp:lastModifiedBy>
  <cp:revision>0</cp:revision>
  <dc:subject/>
  <dc:title>Performance Analysis Tools   Reza Baghai Software Design Engineer Windows NT Performance Microsoft Corporation</dc:title>
</cp:coreProperties>
</file>