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604280" y="6605640"/>
            <a:ext cx="1432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© Microsoft Corporation 19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709120" y="0"/>
            <a:ext cx="285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5A91072-4BAB-4921-AB1B-AE53664E6523}" type="slidenum">
              <a:rPr b="0" lang="en-US" sz="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28600" y="15228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lobal Full Text Retriev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file contains 5 addtional Slides from the presentation that were not printed in the seminar hand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tch the presentation layout print as Handouts 2 slides per page and select black and wh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600" y="15228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 of Valid Charac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SystemLoc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toul to convert from hex string to 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SystemCode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ocal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Pages in a Lo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P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Char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Ch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 Byte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B_ERR_INVALID_CHAR to find inval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" y="15228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Character Proper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tringType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_TYPE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nctuation, Space, Digit,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_TYPE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e Number, Europe Sepa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abic Number, Common Sepa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_TYPE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3_Lexical -- Letter Imbeds/Tra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15228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rt Key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880" y="106668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Weights -- Words (Script, Ch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critic Weights -- B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Weights -- B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Weights -- DWords (Position, B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 Weights (Ka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o on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or (0x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or (0x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 Weight (0x0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15228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rt Key Ord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, Diacritic, Case, Special, Extra,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Base Weight Or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5.6: Truncated on Le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6.1: Truncated on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critic Or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Left to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to Left for French Lo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ce , Belgium , Canada, Luxemburg, Sw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15228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ying the Operating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etVersion() &gt;&gt; 30) &amp; 0x0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OS_N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OS_WIN32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OS_WIN9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n Murray and Richard Katz</dc:creator>
  <dc:description>Additional Slides for this presentation</dc:description>
  <dc:language>en-US</dc:language>
  <cp:lastModifiedBy>Asmus Freytag</cp:lastModifiedBy>
  <cp:revision>0</cp:revision>
  <dc:subject/>
  <dc:title>Global Full Text Retrieval</dc:title>
</cp:coreProperties>
</file>