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66560" y="20016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rogramming for the UNIX</a:t>
            </a:r>
            <a:r>
              <a:rPr b="1" lang="en-US" sz="4800" spc="-1" strike="noStrike" baseline="30000">
                <a:solidFill>
                  <a:srgbClr val="e2b4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354024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, Technical Evang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95280" y="55728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4360" y="209556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43160" y="200160"/>
            <a:ext cx="63817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reas for Attention When Porting to Windows NT and Unix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0920" y="2209680"/>
            <a:ext cx="50418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rting Hints: In Gen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504800"/>
            <a:ext cx="71629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-time FIRST to determine if your functionality is supported!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similar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“section 2” AP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-line C run-tim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e.g. Signals, File descriptor inheritanc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ecurity based on SID and A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 time” priorit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5048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 pause()&amp; waitpid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85880" y="1305000"/>
            <a:ext cx="5772240" cy="4651200"/>
          </a:xfrm>
          <a:prstGeom prst="rect">
            <a:avLst/>
          </a:prstGeom>
          <a:gradFill rotWithShape="0">
            <a:gsLst>
              <a:gs pos="0">
                <a:srgbClr val="154f75"/>
              </a:gs>
              <a:gs pos="100000">
                <a:srgbClr val="1f71a8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305000" y="7308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9040" y="1457280"/>
            <a:ext cx="8305920" cy="4981680"/>
          </a:xfrm>
          <a:prstGeom prst="rect">
            <a:avLst/>
          </a:prstGeom>
          <a:gradFill rotWithShape="0">
            <a:gsLst>
              <a:gs pos="0">
                <a:srgbClr val="154f75"/>
              </a:gs>
              <a:gs pos="100000">
                <a:srgbClr val="1f71a8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28680" y="7308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0600" y="1568520"/>
            <a:ext cx="8362800" cy="4513320"/>
          </a:xfrm>
          <a:prstGeom prst="rect">
            <a:avLst/>
          </a:prstGeom>
          <a:gradFill rotWithShape="0">
            <a:gsLst>
              <a:gs pos="0">
                <a:srgbClr val="154f75"/>
              </a:gs>
              <a:gs pos="100000">
                <a:srgbClr val="1f71a8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2240" y="1371600"/>
            <a:ext cx="87598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(e.g. SIGCH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as IPC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5048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-time (fopen, fread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 bit file access - SetFilePoint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 mapped files, or LockFile()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 - Porting Tradeoff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52400" y="1733400"/>
            <a:ext cx="76392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for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3257640"/>
            <a:ext cx="662940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76240" y="10857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76280" y="1085760"/>
            <a:ext cx="81532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 8.3 file names, drive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Use POSIX subsystem to perform ln(), if you need it -- only supported on NTF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5048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(e.g. “a:\; c:\fubar;d:\NTFS_file_dire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5048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not the model for Windows NT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 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will have “dumb” terminal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5048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5048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current user, groups, etc. through Network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0160" y="933480"/>
            <a:ext cx="861048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Pipes, named pipes, named shared memory, semaphores, mutexes,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0440" y="1066680"/>
            <a:ext cx="8534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ties available via internet and Compuserve (source for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other TCP/IP services available from Sun, FTP Software, NetManage, Frontier, Beam and Whites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 oriented RPC available in the box. ONC RPC available from third pa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00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Sockets 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65744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available from vax.ft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underlying TCP/IP, IPX/SPX, or Appletal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provide Windows messages for network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200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Sockets 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SAStartup() and WSACleanup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AsyncSelect() for non-blocking network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 are not fi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s are wa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0640" y="1733400"/>
            <a:ext cx="5562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ol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GUI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9680" y="1143000"/>
            <a:ext cx="83250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heap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gram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2600" y="1989000"/>
            <a:ext cx="8039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 in separate text files; registry maintained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85640" y="200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I - Programming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71468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shell - Hamilton, M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- FTP, Su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tools - Congruent, Hamilton, M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UC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d - buil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200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anguages/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5048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DEC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pplic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33480" y="142884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your environment depend 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vendors from technical publishing, EDA, CAD/CAM, OLTP, etc. working on their Windows 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960" y="125748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MSWIN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comp.os.ms-windows.programmer.win32, comp.os.ms-windows.nt.setup, comp.os.ms-windows.nt.m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, ftp.cica.indiana.edu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5048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characteristics required to support technical workstation and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moving to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09760" y="1733400"/>
            <a:ext cx="63244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90520" y="1733400"/>
            <a:ext cx="67626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9760" y="2076480"/>
            <a:ext cx="6324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1733400"/>
            <a:ext cx="70866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server available from NCD, DEC, Hummingbird,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04920" y="173340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24080" y="1962000"/>
            <a:ext cx="64962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