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991120" y="0"/>
            <a:ext cx="28684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nix Winter 1994 Brian Moran 1/94 </a:t>
            </a:r>
            <a:fld id="{4D598C11-DCE9-4E96-BCBE-B035FA51DB53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6620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indows NT Client/Server Programm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990720" y="2305080"/>
            <a:ext cx="71629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an Mor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Relations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685800" y="4991040"/>
            <a:ext cx="7715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right ©1993, 1994 by Microsoft Cor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314360" y="228600"/>
            <a:ext cx="6515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X Server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71640" y="1733400"/>
            <a:ext cx="708660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server available from NCD, DEC, Hummingbird, oth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 terminal on the Windows desk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X Application Pro &amp; C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8760" y="1028880"/>
            <a:ext cx="8305920" cy="49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efi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ource code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compil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back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doesn’t run on local mach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may have different look and fe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an’t take advantage of features like OLE and D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is not a Microsof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dow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295280" y="557280"/>
            <a:ext cx="6553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in32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314360" y="2095560"/>
            <a:ext cx="65152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feature-rich programming interface for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bine with ANSI C, C run-time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or GUI applications, or a hybrid of bo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343160" y="200160"/>
            <a:ext cx="638172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Areas for Attention When Porting to Windows NT and Unix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050920" y="2209680"/>
            <a:ext cx="50418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l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/I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Porting Hints: In Gener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1504800"/>
            <a:ext cx="716292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the C run-time FIRST to determine if your functionality is supported!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applications move easily since C run times similar;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“section 2” APIs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nhlp32.exe, msc.hlp contains on-line C run-time re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for side effects: e.g. Signals, File descriptor inheritance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3686040"/>
            <a:ext cx="628668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Process Mod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150480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 Process and Thread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Process(...) almost == fork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ecurity based on SID and AC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ground” processes are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 control includes “real time” priority cl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Process Model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90720" y="1504800"/>
            <a:ext cx="716292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ForObject() can be used for  pause()&amp; waitpid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44360" y="228600"/>
            <a:ext cx="8854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Example - UNIX Fork And Exe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685880" y="1305000"/>
            <a:ext cx="5772240" cy="4651200"/>
          </a:xfrm>
          <a:prstGeom prst="rect">
            <a:avLst/>
          </a:prstGeom>
          <a:gradFill rotWithShape="0">
            <a:gsLst>
              <a:gs pos="0">
                <a:srgbClr val="380066"/>
              </a:gs>
              <a:gs pos="100000">
                <a:srgbClr val="500093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rudimentary fork example for Unix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 pid; /* process id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d = fork(); /* new  process created here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pid&gt;0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((int *)0); printf("Completed\n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t(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 if  (0==pid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l("/bin/ls","ls","-l",(char *)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ror("execl failed!\n");exit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fork didn't work \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305000" y="73080"/>
            <a:ext cx="6534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Example - Windows NT CreatePro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19040" y="1457280"/>
            <a:ext cx="8305920" cy="4981680"/>
          </a:xfrm>
          <a:prstGeom prst="rect">
            <a:avLst/>
          </a:prstGeom>
          <a:gradFill rotWithShape="0">
            <a:gsLst>
              <a:gs pos="0">
                <a:srgbClr val="380066"/>
              </a:gs>
              <a:gs pos="100000">
                <a:srgbClr val="500093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include &lt;windows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MAXNAMELE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CMDLIN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/c di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IMAGENAM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\\nt\\bin\\cmd.ex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WINTITL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CreateProcess DEMO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(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Success,fEx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OR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ExitCode,d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UPINFO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_INFORMATIO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rocess,hThrea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.cb =sizeof(STARTUPINFO); SI.lpReserved = NULL;SI.lpDesktop=NUL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.lpTitle="CreateProcess DEMO";SI.cbReserved2=0;SI.lpReserved2=NUL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228680" y="73080"/>
            <a:ext cx="6686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Example - Windows NT CreatePro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90600" y="1568520"/>
            <a:ext cx="8362800" cy="4513320"/>
          </a:xfrm>
          <a:prstGeom prst="rect">
            <a:avLst/>
          </a:prstGeom>
          <a:gradFill rotWithShape="0">
            <a:gsLst>
              <a:gs pos="0">
                <a:srgbClr val="380066"/>
              </a:gs>
              <a:gs pos="100000">
                <a:srgbClr val="500093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Success = CreateProcess((LPTSTR)IMAGENAME, (LPTSTR)CMDLI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SECURITY_ATTRIBUTES)NU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SECURITY_ATTRIBUTES)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OOL)TRUE,(DWORD)0,NULL,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STARTUPINFO)&amp;SI,(LPPROCESS_INFORMATION)&amp;pi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fSuccess) {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rocess = pi.hProcess;    hThread = pi.hThrea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Process Id = %d\nThread Id = %d\n",pi.dwProcessId,pi.dwThreadI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 = WaitForSingleObject(hProcess, INFINITE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dw != 0xFFFFFFFF) { /* if we saw success ...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pick up an exit code for the proces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xit = GetExitCodeProcess(hProcess, &amp;dwExitCode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close the process and thread object handle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Handle(hThread) ;    CloseHandle(hProcess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COMPLETED!\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Failed to CreateProcess\n")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Agenda</a:t>
            </a: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880" y="1238400"/>
            <a:ext cx="8325000" cy="36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view of Windows NT from a networking perspecti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for the Unix famili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OS resources for client/server compu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operations: NetBIOS, Named Pipes, Mailslots, Sockets, RPC, O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Sign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92240" y="1371600"/>
            <a:ext cx="875988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n signal types supported:  SIGFPE, SIGILL, SIGSEGV, SIGINT, SIGBREAK,  SIGABRT, SIGTE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ABRT and SIGTERM signalled by raise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ed on thread that caused sig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other functionality, use asynchronous I/O structures (callbacks), or wait on handles (e.g. SIGCHL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tructured 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not be used as IPC mech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File Op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720" y="1504800"/>
            <a:ext cx="716292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use standard C run-time (fopen, fread,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provides 64 bit file access - SetFilePointer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use non-blocking file I/O, use Win32 APIs CreateFile(), ReadFile(), WriteFile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concurrent access, consider using memory mapped files, or LockFile()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File Operations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76240" y="1085760"/>
            <a:ext cx="716292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make assumptions about file names (see File System inform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Run Times will do “right thing” with ‘/’ file separ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descriptors 0, 1, 2 correspond to stdin, stdout, stderr (no number guarante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make inode assum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.st_ino is z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File Sys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76280" y="1085760"/>
            <a:ext cx="815328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-  accommodates different file system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T, HPFS, NTFS, network redirector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ode may have to  deal with case insensitivity,  8.3 file names, drive let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links in Win32, no mounts (Hint: Use POSIX subsystem to perform ln(), if you need it -- only supported on NTFS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File Systems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1504800"/>
            <a:ext cx="71629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has concept of “drive volumes” and current directory on each drive (e.g. “a:\; c:\fubar;d:\NTFS_file_directo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GetVolumeInformation() to find out about file systems/redire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Terminal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1733400"/>
            <a:ext cx="7162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general, not the model for Windows NT program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Console functions, in general, to move character applications quick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ses functionality available on Compuserve and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 parties will have “dumb” terminal cap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173340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objects in Windows NT have security access control lists (AC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and processes have security IDs (SI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threads/processes execute at minimum level of perm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ID” accomplished through imperso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Security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90720" y="1733400"/>
            <a:ext cx="716292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 about current network user, groups, etc. through Network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Networking/IP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00160" y="876240"/>
            <a:ext cx="8610480" cy="56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rovides multiple redirector (file system)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: Pipes, named pipes, named shared memory, semaphores, mutexes,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 can be na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icateHandle “gives away” access to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 exposed through WINSOCK API; moving socket code generally ea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S used internally for protocol st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Networking/IPC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90440" y="914400"/>
            <a:ext cx="853452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Client utilities provided in Windows NT prod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TCP/IP server utilties available via internet and Compuserve (source form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, other TCP/IP services available from Sun, FTP Software, NetManage, Frontier, Beam and Whiteside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connection oriented RPC available in the box. ONC RPC available from third par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End Not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90720" y="1504800"/>
            <a:ext cx="716292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 relevant manpages and sample source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 to API32WH.HLP and other help files for more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09680" y="914400"/>
            <a:ext cx="83250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brk or sbrk - use standard memory management functions (malloc, free, etc.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y your code by using virtual and heap allocation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rve vs. 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map and shm* functionality - see CreateFileMapping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make assumptions about stack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Miscellaneous</a:t>
            </a:r>
            <a:br>
              <a:rPr sz="4800"/>
            </a:br>
            <a:r>
              <a:rPr b="1" lang="en-US" sz="32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Programming Techn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52600" y="1989000"/>
            <a:ext cx="80391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information in Registry vs in separate text files; registry maintained remo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ultiple threads - multiprocessing will be ubiquit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nhelp in your application - easy, very good for 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85640" y="20016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Part II - Programming 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720" y="171468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shell - Hamilton, M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 - FTP, Su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iar tools - Congruent, Hamilton, M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UC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d - built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85640" y="20016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Languages/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90720" y="1504800"/>
            <a:ext cx="71629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, C++ - Watcom, Borland, Zortech, Silicon Valley Software, Microsoft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TRAN - Microsoft, Silicon Valley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cal - Silicon Valley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E environments, specialty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Resour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23960" y="1257480"/>
            <a:ext cx="75628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 Forum: MSWIN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newsgroups: comp.os.ms-windows.programmer.win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s: Compuserve, Internet site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.microsoft.com, ftp.cica.indiana.edu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85640" y="190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90720" y="1504800"/>
            <a:ext cx="71629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s NOT Unix, but has the characteristics required to support technical workstation and 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Unix-familiar utilities, resources moving to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else do you requi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885960" y="1701720"/>
            <a:ext cx="7372440" cy="27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indows NT Programming for the UNIX</a:t>
            </a:r>
            <a:r>
              <a:rPr b="1" lang="en-US" sz="4800" spc="-1" strike="noStrike" baseline="30000">
                <a:solidFill>
                  <a:srgbClr val="e2b4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 Familiar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038240" y="228600"/>
            <a:ext cx="7067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Part I - Porting Tradeoffs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57360" y="1276200"/>
            <a:ext cx="763920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 for programmer vs. utility for u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and complexity of applicatio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81160" y="2952720"/>
            <a:ext cx="6629400" cy="15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 scri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49120" y="228600"/>
            <a:ext cx="8645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Potential Porting Metho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790640" y="1733400"/>
            <a:ext cx="556272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Server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sole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GUI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038240" y="228600"/>
            <a:ext cx="7067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POSIX On Windows 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409760" y="1733400"/>
            <a:ext cx="63244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PS 151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interaction with Windows NT advanced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indows NT POSIX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90520" y="1733400"/>
            <a:ext cx="676260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ck way to move POSIX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es POSIX source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tisfies government requirements for delivery platfor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552680" y="228600"/>
            <a:ext cx="6039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indows NT POSIX Limit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09760" y="2076480"/>
            <a:ext cx="63244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PS 151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Win32 graphical API u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advanced feature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screen control/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