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58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70.xml" ContentType="application/vnd.openxmlformats-officedocument.presentationml.slide+xml"/>
  <Override PartName="/ppt/slides/slide115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78.xml" ContentType="application/vnd.openxmlformats-officedocument.presentationml.slide+xml"/>
  <Override PartName="/ppt/slides/slide98.xml" ContentType="application/vnd.openxmlformats-officedocument.presentationml.slide+xml"/>
  <Override PartName="/ppt/slides/slide106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5991120" y="0"/>
            <a:ext cx="286848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nix Winter 1994 Brian Moran 1/94 </a:t>
            </a:r>
            <a:fld id="{C0DE0E21-1B43-4CD0-A34A-289414A23BED}" type="slidenum"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485640" y="1346040"/>
            <a:ext cx="8172360" cy="20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Windows N</a:t>
            </a:r>
            <a:r>
              <a:rPr b="0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T</a:t>
            </a:r>
            <a:br>
              <a:rPr sz="1800"/>
            </a:b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 OS Resources for Client Server Comput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990720" y="1733400"/>
            <a:ext cx="7162920" cy="25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Installing Servic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990720" y="1733400"/>
            <a:ext cx="7162920" cy="49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Service(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o add service to registr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talling process must have Administrator privileges to do this (see service security information in end not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specify username and password to run service in specific security contex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e Service.13 page in end no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487440" y="228600"/>
            <a:ext cx="81709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Client Main Progra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990720" y="1728720"/>
            <a:ext cx="7162920" cy="4544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596880" indent="-596880">
              <a:lnSpc>
                <a:spcPct val="90000"/>
              </a:lnSpc>
              <a:spcBef>
                <a:spcPts val="720"/>
              </a:spcBef>
            </a:pPr>
            <a:r>
              <a:rPr b="1" lang="en-US" sz="19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#include &lt;stdio.h&gt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596880" indent="-596880">
              <a:lnSpc>
                <a:spcPct val="90000"/>
              </a:lnSpc>
              <a:spcBef>
                <a:spcPts val="720"/>
              </a:spcBef>
            </a:pPr>
            <a:r>
              <a:rPr b="1" lang="en-US" sz="19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#include &lt;time.h&gt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596880" indent="-596880">
              <a:lnSpc>
                <a:spcPct val="90000"/>
              </a:lnSpc>
              <a:spcBef>
                <a:spcPts val="720"/>
              </a:spcBef>
            </a:pPr>
            <a:r>
              <a:rPr b="1" lang="en-US" sz="19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#include &lt;rpc.h&gt;</a:t>
            </a:r>
            <a:r>
              <a:rPr b="1" lang="en-US" sz="19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19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RPC data,API prototypes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596880" indent="-596880">
              <a:lnSpc>
                <a:spcPct val="90000"/>
              </a:lnSpc>
              <a:spcBef>
                <a:spcPts val="720"/>
              </a:spcBef>
            </a:pPr>
            <a:r>
              <a:rPr b="1" lang="en-US" sz="19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#include “auto.h”</a:t>
            </a:r>
            <a:r>
              <a:rPr b="1" lang="en-US" sz="19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19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MIDL-generated header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596880" indent="-596880">
              <a:lnSpc>
                <a:spcPct val="90000"/>
              </a:lnSpc>
              <a:spcBef>
                <a:spcPts val="720"/>
              </a:spcBef>
            </a:pPr>
            <a:r>
              <a:rPr b="1" lang="en-US" sz="19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void main(void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596880" indent="-596880">
              <a:lnSpc>
                <a:spcPct val="90000"/>
              </a:lnSpc>
              <a:spcBef>
                <a:spcPts val="720"/>
              </a:spcBef>
            </a:pPr>
            <a:r>
              <a:rPr b="1" lang="en-US" sz="19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{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596880" indent="-596880">
              <a:lnSpc>
                <a:spcPct val="90000"/>
              </a:lnSpc>
              <a:spcBef>
                <a:spcPts val="720"/>
              </a:spcBef>
            </a:pPr>
            <a:r>
              <a:rPr b="1" lang="en-US" sz="19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   </a:t>
            </a:r>
            <a:r>
              <a:rPr b="1" lang="en-US" sz="19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time_t t1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596880" indent="-596880">
              <a:lnSpc>
                <a:spcPct val="90000"/>
              </a:lnSpc>
              <a:spcBef>
                <a:spcPts val="720"/>
              </a:spcBef>
            </a:pPr>
            <a:r>
              <a:rPr b="1" lang="en-US" sz="19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   </a:t>
            </a:r>
            <a:r>
              <a:rPr b="1" lang="en-US" sz="19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char * pszTime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596880" indent="-596880">
              <a:lnSpc>
                <a:spcPct val="90000"/>
              </a:lnSpc>
              <a:spcBef>
                <a:spcPts val="720"/>
              </a:spcBef>
            </a:pPr>
            <a:r>
              <a:rPr b="1" lang="en-US" sz="19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   </a:t>
            </a:r>
            <a:r>
              <a:rPr b="1" lang="en-US" sz="19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GetTime(&amp;t1);</a:t>
            </a:r>
            <a:r>
              <a:rPr b="1" lang="en-US" sz="19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19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this is the remote call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596880" indent="-596880">
              <a:lnSpc>
                <a:spcPct val="90000"/>
              </a:lnSpc>
              <a:spcBef>
                <a:spcPts val="720"/>
              </a:spcBef>
            </a:pPr>
            <a:r>
              <a:rPr b="1" lang="en-US" sz="19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   </a:t>
            </a:r>
            <a:r>
              <a:rPr b="1" lang="en-US" sz="19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pszTime = ctime(&amp;t1);// convert to string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596880" indent="-596880">
              <a:lnSpc>
                <a:spcPct val="90000"/>
              </a:lnSpc>
              <a:spcBef>
                <a:spcPts val="720"/>
              </a:spcBef>
            </a:pPr>
            <a:r>
              <a:rPr b="1" lang="en-US" sz="19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   </a:t>
            </a:r>
            <a:r>
              <a:rPr b="1" lang="en-US" sz="19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printf(“time = %s\n”, pszTime)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596880" indent="-596880">
              <a:lnSpc>
                <a:spcPct val="90000"/>
              </a:lnSpc>
              <a:spcBef>
                <a:spcPts val="720"/>
              </a:spcBef>
            </a:pPr>
            <a:r>
              <a:rPr b="1" lang="en-US" sz="19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}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487440" y="228600"/>
            <a:ext cx="81709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Auto Handle:  Remote Proc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990720" y="1728720"/>
            <a:ext cx="7162920" cy="4088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596880" indent="-596880">
              <a:lnSpc>
                <a:spcPct val="90000"/>
              </a:lnSpc>
              <a:spcBef>
                <a:spcPts val="720"/>
              </a:spcBef>
            </a:pP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#include &lt;stdio.h&gt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96880" indent="-596880">
              <a:lnSpc>
                <a:spcPct val="90000"/>
              </a:lnSpc>
              <a:spcBef>
                <a:spcPts val="720"/>
              </a:spcBef>
            </a:pP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#include &lt;time.h&gt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96880" indent="-596880">
              <a:lnSpc>
                <a:spcPct val="90000"/>
              </a:lnSpc>
              <a:spcBef>
                <a:spcPts val="720"/>
              </a:spcBef>
            </a:pP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#include &lt;rpc.h&gt;</a:t>
            </a: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RPC header fil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96880" indent="-596880">
              <a:lnSpc>
                <a:spcPct val="90000"/>
              </a:lnSpc>
              <a:spcBef>
                <a:spcPts val="720"/>
              </a:spcBef>
            </a:pP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#include “auto.h”</a:t>
            </a: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MIDL-generated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96880" indent="-596880">
              <a:lnSpc>
                <a:spcPct val="90000"/>
              </a:lnSpc>
              <a:spcBef>
                <a:spcPts val="720"/>
              </a:spcBef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96880" indent="-596880">
              <a:lnSpc>
                <a:spcPct val="90000"/>
              </a:lnSpc>
              <a:spcBef>
                <a:spcPts val="720"/>
              </a:spcBef>
            </a:pP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void GetTime(time_t * pTime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96880" indent="-596880">
              <a:lnSpc>
                <a:spcPct val="90000"/>
              </a:lnSpc>
              <a:spcBef>
                <a:spcPts val="720"/>
              </a:spcBef>
            </a:pP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{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96880" indent="-596880">
              <a:lnSpc>
                <a:spcPct val="90000"/>
              </a:lnSpc>
              <a:spcBef>
                <a:spcPts val="720"/>
              </a:spcBef>
            </a:pP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   </a:t>
            </a: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time (pTime);</a:t>
            </a: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obtain a time stamp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96880" indent="-596880">
              <a:lnSpc>
                <a:spcPct val="90000"/>
              </a:lnSpc>
              <a:spcBef>
                <a:spcPts val="720"/>
              </a:spcBef>
            </a:pP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   </a:t>
            </a: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return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96880" indent="-596880">
              <a:lnSpc>
                <a:spcPct val="90000"/>
              </a:lnSpc>
              <a:spcBef>
                <a:spcPts val="720"/>
              </a:spcBef>
            </a:pP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}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Auto Handle:  Server API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1951200" y="1557360"/>
            <a:ext cx="5241960" cy="40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ServerUseAllProtseq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ServerRegister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ServerInqBindin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NsBindingEx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ServerList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NsBindingUnex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BindingVectorFr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487440" y="228600"/>
            <a:ext cx="81709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Auto Handle:  Server API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990720" y="1728720"/>
            <a:ext cx="7162920" cy="405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596880" indent="-596880">
              <a:lnSpc>
                <a:spcPct val="90000"/>
              </a:lnSpc>
              <a:spcBef>
                <a:spcPts val="720"/>
              </a:spcBef>
            </a:pP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RPC_STATUS status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96880" indent="-596880">
              <a:lnSpc>
                <a:spcPct val="90000"/>
              </a:lnSpc>
              <a:spcBef>
                <a:spcPts val="720"/>
              </a:spcBef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96880" indent="-596880">
              <a:lnSpc>
                <a:spcPct val="90000"/>
              </a:lnSpc>
              <a:spcBef>
                <a:spcPts val="720"/>
              </a:spcBef>
            </a:pP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status = RpcServerUseAllProtseqs(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974880" indent="-244440">
              <a:lnSpc>
                <a:spcPct val="90000"/>
              </a:lnSpc>
              <a:spcBef>
                <a:spcPts val="720"/>
              </a:spcBef>
            </a:pP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1,</a:t>
            </a: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max calls - not used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974880" indent="-244440">
              <a:lnSpc>
                <a:spcPct val="90000"/>
              </a:lnSpc>
              <a:spcBef>
                <a:spcPts val="720"/>
              </a:spcBef>
            </a:pP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NULL);</a:t>
            </a: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optional security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974880" indent="-244440">
              <a:lnSpc>
                <a:spcPct val="90000"/>
              </a:lnSpc>
              <a:spcBef>
                <a:spcPts val="720"/>
              </a:spcBef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596880" indent="-596880">
              <a:lnSpc>
                <a:spcPct val="90000"/>
              </a:lnSpc>
              <a:spcBef>
                <a:spcPts val="720"/>
              </a:spcBef>
            </a:pP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status = RpcServerRegisterIf(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974880" indent="-244440">
              <a:lnSpc>
                <a:spcPct val="90000"/>
              </a:lnSpc>
              <a:spcBef>
                <a:spcPts val="720"/>
              </a:spcBef>
            </a:pP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auto_ServerIfHandle, // interfac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974880" indent="-244440">
              <a:lnSpc>
                <a:spcPct val="90000"/>
              </a:lnSpc>
              <a:spcBef>
                <a:spcPts val="720"/>
              </a:spcBef>
            </a:pP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NULL,</a:t>
            </a: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type UUID; nil typ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974880" indent="-244440">
              <a:lnSpc>
                <a:spcPct val="90000"/>
              </a:lnSpc>
              <a:spcBef>
                <a:spcPts val="720"/>
              </a:spcBef>
            </a:pP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NULL);</a:t>
            </a: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mgr epv; defaul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487440" y="228600"/>
            <a:ext cx="81709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Auto Handle:  Server API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990720" y="1728720"/>
            <a:ext cx="7162920" cy="45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596880" indent="-596880">
              <a:lnSpc>
                <a:spcPct val="90000"/>
              </a:lnSpc>
              <a:spcBef>
                <a:spcPts val="720"/>
              </a:spcBef>
              <a:tabLst>
                <a:tab algn="l" pos="47304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RPC_BINDING_VECTOR * pBindingVector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96880" indent="-596880">
              <a:lnSpc>
                <a:spcPct val="90000"/>
              </a:lnSpc>
              <a:spcBef>
                <a:spcPts val="720"/>
              </a:spcBef>
              <a:tabLst>
                <a:tab algn="l" pos="47304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96880" indent="-596880">
              <a:lnSpc>
                <a:spcPct val="90000"/>
              </a:lnSpc>
              <a:spcBef>
                <a:spcPts val="720"/>
              </a:spcBef>
              <a:tabLst>
                <a:tab algn="l" pos="47304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status = RpcServerInqBindings(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974880" indent="-376200">
              <a:lnSpc>
                <a:spcPct val="90000"/>
              </a:lnSpc>
              <a:spcBef>
                <a:spcPts val="720"/>
              </a:spcBef>
              <a:tabLst>
                <a:tab algn="l" pos="95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&amp;pBindingVector);</a:t>
            </a: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used in next call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974880" indent="-376200">
              <a:lnSpc>
                <a:spcPct val="90000"/>
              </a:lnSpc>
              <a:spcBef>
                <a:spcPts val="720"/>
              </a:spcBef>
              <a:tabLst>
                <a:tab algn="l" pos="95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96880" indent="-596880">
              <a:lnSpc>
                <a:spcPct val="90000"/>
              </a:lnSpc>
              <a:spcBef>
                <a:spcPts val="720"/>
              </a:spcBef>
              <a:tabLst>
                <a:tab algn="l" pos="47304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status = RpcNsBindingExport(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974880" indent="-376200">
              <a:lnSpc>
                <a:spcPct val="90000"/>
              </a:lnSpc>
              <a:spcBef>
                <a:spcPts val="720"/>
              </a:spcBef>
              <a:tabLst>
                <a:tab algn="l" pos="95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RPC_C_NS_SYNTAX_DEFAULT,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974880" indent="-376200">
              <a:lnSpc>
                <a:spcPct val="90000"/>
              </a:lnSpc>
              <a:spcBef>
                <a:spcPts val="720"/>
              </a:spcBef>
              <a:tabLst>
                <a:tab algn="l" pos="95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"/.:/autohandle_sample", // entry nam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974880" indent="-376200">
              <a:lnSpc>
                <a:spcPct val="90000"/>
              </a:lnSpc>
              <a:spcBef>
                <a:spcPts val="720"/>
              </a:spcBef>
              <a:tabLst>
                <a:tab algn="l" pos="95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auto_ServerIfHandle,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974880" indent="-376200">
              <a:lnSpc>
                <a:spcPct val="90000"/>
              </a:lnSpc>
              <a:spcBef>
                <a:spcPts val="720"/>
              </a:spcBef>
              <a:tabLst>
                <a:tab algn="l" pos="95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pBindingVector,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974880" indent="-376200">
              <a:lnSpc>
                <a:spcPct val="90000"/>
              </a:lnSpc>
              <a:spcBef>
                <a:spcPts val="720"/>
              </a:spcBef>
              <a:tabLst>
                <a:tab algn="l" pos="95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NULL); </a:t>
            </a: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UUID </a:t>
            </a:r>
            <a:r>
              <a:rPr b="1" lang="en-US" sz="23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vector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Auto Handle:  Server API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26880" y="1682640"/>
            <a:ext cx="849168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pcServerList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ls server to start accepting client reques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es not return until another server thread calls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MgmtStopServerListening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487440" y="228600"/>
            <a:ext cx="81709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Auto Handle:  Server API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990720" y="1728720"/>
            <a:ext cx="7162920" cy="3665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RPC_STATUS status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status = RpcServerListen(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971640" indent="-417600">
              <a:lnSpc>
                <a:spcPct val="90000"/>
              </a:lnSpc>
              <a:spcBef>
                <a:spcPts val="720"/>
              </a:spcBef>
            </a:pP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1,</a:t>
            </a: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min number of call thread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971640" indent="-417600">
              <a:lnSpc>
                <a:spcPct val="90000"/>
              </a:lnSpc>
              <a:spcBef>
                <a:spcPts val="720"/>
              </a:spcBef>
            </a:pP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MAX_CALLS,</a:t>
            </a: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max concurrent call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971640" indent="-417600">
              <a:lnSpc>
                <a:spcPct val="90000"/>
              </a:lnSpc>
              <a:spcBef>
                <a:spcPts val="720"/>
              </a:spcBef>
            </a:pP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FALSE);</a:t>
            </a: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wait until server shutdown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487440" y="228600"/>
            <a:ext cx="81709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Auto Handle:  Server API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990720" y="1728720"/>
            <a:ext cx="7162920" cy="340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status = RpcNsBindingUnexport(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971640" indent="-417600">
              <a:lnSpc>
                <a:spcPct val="90000"/>
              </a:lnSpc>
              <a:spcBef>
                <a:spcPts val="720"/>
              </a:spcBef>
            </a:pP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RPC_C_NS_SYNTAX_DEFAULT,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971640" indent="-417600">
              <a:lnSpc>
                <a:spcPct val="90000"/>
              </a:lnSpc>
              <a:spcBef>
                <a:spcPts val="720"/>
              </a:spcBef>
            </a:pP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"/.:/autohandle_sample", // entry nam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971640" indent="-417600">
              <a:lnSpc>
                <a:spcPct val="90000"/>
              </a:lnSpc>
              <a:spcBef>
                <a:spcPts val="720"/>
              </a:spcBef>
            </a:pP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auto_ServerIfHandle,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971640" indent="-417600">
              <a:lnSpc>
                <a:spcPct val="90000"/>
              </a:lnSpc>
              <a:spcBef>
                <a:spcPts val="720"/>
              </a:spcBef>
            </a:pP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NULL)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971640" indent="-417600">
              <a:lnSpc>
                <a:spcPct val="90000"/>
              </a:lnSpc>
              <a:spcBef>
                <a:spcPts val="720"/>
              </a:spcBef>
            </a:pP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RpcBindingVectorFree(&amp;pBindingVector</a:t>
            </a: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Binding:  How Clients Choose Which Server To U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1135080" y="1944720"/>
            <a:ext cx="6875640" cy="454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00040" indent="-500040">
              <a:lnSpc>
                <a:spcPct val="90000"/>
              </a:lnSpc>
              <a:spcBef>
                <a:spcPts val="479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-hand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36640" indent="-334800">
              <a:lnSpc>
                <a:spcPct val="90000"/>
              </a:lnSpc>
              <a:spcBef>
                <a:spcPts val="479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y matching interf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36640" indent="-334800">
              <a:lnSpc>
                <a:spcPct val="90000"/>
              </a:lnSpc>
              <a:spcBef>
                <a:spcPts val="479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ke using yellow pages to get phone num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00040" indent="-500040">
              <a:lnSpc>
                <a:spcPct val="90000"/>
              </a:lnSpc>
              <a:spcBef>
                <a:spcPts val="479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d11a"/>
                </a:solidFill>
                <a:latin typeface="Times New Roman"/>
                <a:ea typeface="Times New Roman"/>
              </a:rPr>
              <a:t>Name serv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36640" indent="-334800">
              <a:lnSpc>
                <a:spcPct val="90000"/>
              </a:lnSpc>
              <a:spcBef>
                <a:spcPts val="479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d11a"/>
                </a:solidFill>
                <a:latin typeface="Times New Roman"/>
                <a:ea typeface="Times New Roman"/>
              </a:rPr>
              <a:t>By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36640" indent="-334800">
              <a:lnSpc>
                <a:spcPct val="90000"/>
              </a:lnSpc>
              <a:spcBef>
                <a:spcPts val="479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d11a"/>
                </a:solidFill>
                <a:latin typeface="Times New Roman"/>
                <a:ea typeface="Times New Roman"/>
              </a:rPr>
              <a:t>Like using white pages to get phone num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00040" indent="-500040">
              <a:lnSpc>
                <a:spcPct val="90000"/>
              </a:lnSpc>
              <a:spcBef>
                <a:spcPts val="479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st/machine na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36640" indent="-334800">
              <a:lnSpc>
                <a:spcPct val="90000"/>
              </a:lnSpc>
              <a:spcBef>
                <a:spcPts val="479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recommended:  location-depend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36640" indent="-334800">
              <a:lnSpc>
                <a:spcPct val="90000"/>
              </a:lnSpc>
              <a:spcBef>
                <a:spcPts val="479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safe if “phone number” chan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00040" indent="-500040">
              <a:lnSpc>
                <a:spcPct val="90000"/>
              </a:lnSpc>
              <a:spcBef>
                <a:spcPts val="479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-written serv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487440" y="228600"/>
            <a:ext cx="81709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Name Service:  Phone.id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990720" y="1728720"/>
            <a:ext cx="7162920" cy="5475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[ uuid(B19DD540-9B1F-1067-89D6-00DD010F2F1C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version(1.0) ] interface phone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short lookup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[in]</a:t>
            </a:r>
            <a:r>
              <a:rPr b="1" lang="en-US" sz="1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andle_t h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[in, string]    </a:t>
            </a:r>
            <a:r>
              <a:rPr b="1" lang="en-US" sz="1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unsigned char * name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[in]</a:t>
            </a:r>
            <a:r>
              <a:rPr b="1" lang="en-US" sz="1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short nmax,</a:t>
            </a:r>
            <a:r>
              <a:rPr b="1" lang="en-US" sz="1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[out, string, max_is(nmax)] </a:t>
            </a:r>
            <a:r>
              <a:rPr b="1" lang="en-US" sz="1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unsigned char * number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short add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[in]</a:t>
            </a:r>
            <a:r>
              <a:rPr b="1" lang="en-US" sz="1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andle_t h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[in, string] </a:t>
            </a:r>
            <a:r>
              <a:rPr b="1" lang="en-US" sz="1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unsigned char * name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[in, string] </a:t>
            </a:r>
            <a:r>
              <a:rPr b="1" lang="en-US" sz="1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unsigned char * number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short delete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[in]</a:t>
            </a:r>
            <a:r>
              <a:rPr b="1" lang="en-US" sz="1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andle_t h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[in, string] </a:t>
            </a:r>
            <a:r>
              <a:rPr b="1" lang="en-US" sz="1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unsigned char * name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Deleting Servic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990720" y="1733400"/>
            <a:ext cx="7162920" cy="30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leteService(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all to remove ser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st have Administrator privileges to remove a serv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e example in end notes page Service.1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Name Service:  Client API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1812960" y="1728720"/>
            <a:ext cx="551988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NsBindingImportBeg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NsBindingImportNex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NsBindingImportE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BindingFr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487440" y="228600"/>
            <a:ext cx="81709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Name Service:  Client API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546120" y="1400040"/>
            <a:ext cx="8053560" cy="5362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596880" indent="-596880">
              <a:lnSpc>
                <a:spcPct val="90000"/>
              </a:lnSpc>
              <a:spcBef>
                <a:spcPts val="479"/>
              </a:spcBef>
            </a:pP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#include &lt;stdio.h&gt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96880" indent="-596880">
              <a:lnSpc>
                <a:spcPct val="90000"/>
              </a:lnSpc>
              <a:spcBef>
                <a:spcPts val="479"/>
              </a:spcBef>
            </a:pP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#include &lt;rpc.h&gt;</a:t>
            </a: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RPC data, API prototyp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96880" indent="-596880">
              <a:lnSpc>
                <a:spcPct val="90000"/>
              </a:lnSpc>
              <a:spcBef>
                <a:spcPts val="479"/>
              </a:spcBef>
            </a:pP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#include “phone.h”</a:t>
            </a: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MIDL-generated header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96880" indent="-596880">
              <a:lnSpc>
                <a:spcPct val="90000"/>
              </a:lnSpc>
              <a:spcBef>
                <a:spcPts val="479"/>
              </a:spcBef>
            </a:pP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void main(int argc, char **argv) {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96880" indent="-596880">
              <a:lnSpc>
                <a:spcPct val="90000"/>
              </a:lnSpc>
              <a:spcBef>
                <a:spcPts val="479"/>
              </a:spcBef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96880" indent="-596880">
              <a:lnSpc>
                <a:spcPct val="90000"/>
              </a:lnSpc>
              <a:spcBef>
                <a:spcPts val="479"/>
              </a:spcBef>
            </a:pP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RPC_STATUS status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96880" indent="-596880">
              <a:lnSpc>
                <a:spcPct val="90000"/>
              </a:lnSpc>
              <a:spcBef>
                <a:spcPts val="479"/>
              </a:spcBef>
            </a:pP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RPC_NS_HANDLE nsHandle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96880" indent="-596880">
              <a:lnSpc>
                <a:spcPct val="90000"/>
              </a:lnSpc>
              <a:spcBef>
                <a:spcPts val="479"/>
              </a:spcBef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96880" indent="-596880">
              <a:lnSpc>
                <a:spcPct val="90000"/>
              </a:lnSpc>
              <a:spcBef>
                <a:spcPts val="479"/>
              </a:spcBef>
            </a:pP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status = RpcNsBindingImportBegin(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974880" indent="-244440">
              <a:lnSpc>
                <a:spcPct val="90000"/>
              </a:lnSpc>
              <a:spcBef>
                <a:spcPts val="479"/>
              </a:spcBef>
            </a:pP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RPC_C_NS_DEFAULT_SYNTAX,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974880" indent="-244440">
              <a:lnSpc>
                <a:spcPct val="90000"/>
              </a:lnSpc>
              <a:spcBef>
                <a:spcPts val="479"/>
              </a:spcBef>
            </a:pP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“</a:t>
            </a: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.:/phone_sample”,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974880" indent="-244440">
              <a:lnSpc>
                <a:spcPct val="90000"/>
              </a:lnSpc>
              <a:spcBef>
                <a:spcPts val="479"/>
              </a:spcBef>
            </a:pP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phone_ClientIfHandle,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974880" indent="-244440">
              <a:lnSpc>
                <a:spcPct val="90000"/>
              </a:lnSpc>
              <a:spcBef>
                <a:spcPts val="479"/>
              </a:spcBef>
            </a:pP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NULL,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974880" indent="-244440">
              <a:lnSpc>
                <a:spcPct val="90000"/>
              </a:lnSpc>
              <a:spcBef>
                <a:spcPts val="479"/>
              </a:spcBef>
            </a:pP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&amp;nsHandle)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487440" y="228600"/>
            <a:ext cx="81709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Name Service:  Client API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990720" y="1671480"/>
            <a:ext cx="7162920" cy="5133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596880" indent="-596880">
              <a:lnSpc>
                <a:spcPct val="90000"/>
              </a:lnSpc>
              <a:spcBef>
                <a:spcPts val="720"/>
              </a:spcBef>
              <a:tabLst>
                <a:tab algn="l" pos="47304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RPC_BINDING_HANDLE hBind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596880" indent="-596880">
              <a:lnSpc>
                <a:spcPct val="90000"/>
              </a:lnSpc>
              <a:spcBef>
                <a:spcPts val="720"/>
              </a:spcBef>
              <a:tabLst>
                <a:tab algn="l" pos="47304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char number[NUMLEN]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596880" indent="-596880">
              <a:lnSpc>
                <a:spcPct val="90000"/>
              </a:lnSpc>
              <a:spcBef>
                <a:spcPts val="720"/>
              </a:spcBef>
              <a:tabLst>
                <a:tab algn="l" pos="47304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while (Continue == TRUE)  {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596880" indent="-596880">
              <a:lnSpc>
                <a:spcPct val="90000"/>
              </a:lnSpc>
              <a:spcBef>
                <a:spcPts val="720"/>
              </a:spcBef>
              <a:tabLst>
                <a:tab algn="l" pos="47304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   </a:t>
            </a:r>
            <a:r>
              <a:rPr b="1" lang="en-US" sz="19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status = RpcNsBindingImportNext(nsHandle,     </a:t>
            </a:r>
            <a:r>
              <a:rPr b="1" lang="en-US" sz="19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19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19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          hBind)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596880" indent="-596880">
              <a:lnSpc>
                <a:spcPct val="90000"/>
              </a:lnSpc>
              <a:spcBef>
                <a:spcPts val="720"/>
              </a:spcBef>
              <a:tabLst>
                <a:tab algn="l" pos="47304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   </a:t>
            </a:r>
            <a:r>
              <a:rPr b="1" lang="en-US" sz="19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RpcTryExcept {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974880" indent="-376200">
              <a:lnSpc>
                <a:spcPct val="90000"/>
              </a:lnSpc>
              <a:spcBef>
                <a:spcPts val="720"/>
              </a:spcBef>
              <a:tabLst>
                <a:tab algn="l" pos="95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call the remote procedure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596880" indent="-596880">
              <a:lnSpc>
                <a:spcPct val="90000"/>
              </a:lnSpc>
              <a:spcBef>
                <a:spcPts val="720"/>
              </a:spcBef>
              <a:tabLst>
                <a:tab algn="l" pos="47304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   </a:t>
            </a:r>
            <a:r>
              <a:rPr b="1" lang="en-US" sz="19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lookup(hBind, argv[1], NUMLEN, number);                             Continue = FALSE;  // exit if successful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596880" indent="-596880">
              <a:lnSpc>
                <a:spcPct val="90000"/>
              </a:lnSpc>
              <a:spcBef>
                <a:spcPts val="720"/>
              </a:spcBef>
              <a:tabLst>
                <a:tab algn="l" pos="47304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   </a:t>
            </a:r>
            <a:r>
              <a:rPr b="1" lang="en-US" sz="19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}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596880" indent="-596880">
              <a:lnSpc>
                <a:spcPct val="90000"/>
              </a:lnSpc>
              <a:spcBef>
                <a:spcPts val="720"/>
              </a:spcBef>
              <a:tabLst>
                <a:tab algn="l" pos="47304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   </a:t>
            </a:r>
            <a:r>
              <a:rPr b="1" lang="en-US" sz="19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RpcExcept()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596880" indent="-596880">
              <a:lnSpc>
                <a:spcPct val="90000"/>
              </a:lnSpc>
              <a:spcBef>
                <a:spcPts val="720"/>
              </a:spcBef>
              <a:tabLst>
                <a:tab algn="l" pos="47304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      </a:t>
            </a:r>
            <a:r>
              <a:rPr b="1" lang="en-US" sz="19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{Continue = TRUE;} // keep looking    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596880" indent="-596880">
              <a:lnSpc>
                <a:spcPct val="90000"/>
              </a:lnSpc>
              <a:spcBef>
                <a:spcPts val="720"/>
              </a:spcBef>
              <a:tabLst>
                <a:tab algn="l" pos="47304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   </a:t>
            </a:r>
            <a:r>
              <a:rPr b="1" lang="en-US" sz="19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RpcEndExcept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596880" indent="-596880">
              <a:lnSpc>
                <a:spcPct val="90000"/>
              </a:lnSpc>
              <a:spcBef>
                <a:spcPts val="720"/>
              </a:spcBef>
              <a:tabLst>
                <a:tab algn="l" pos="47304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} // end while loop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487440" y="228600"/>
            <a:ext cx="81709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Name Service:  Client API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990720" y="1728720"/>
            <a:ext cx="7162920" cy="4088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596880" indent="-596880">
              <a:lnSpc>
                <a:spcPct val="90000"/>
              </a:lnSpc>
              <a:spcBef>
                <a:spcPts val="720"/>
              </a:spcBef>
              <a:tabLst>
                <a:tab algn="l" pos="47304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printf(“Name: %s\nNumber: %s\n”,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96880" indent="-596880">
              <a:lnSpc>
                <a:spcPct val="90000"/>
              </a:lnSpc>
              <a:spcBef>
                <a:spcPts val="720"/>
              </a:spcBef>
              <a:tabLst>
                <a:tab algn="l" pos="47304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   </a:t>
            </a: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argv[1], number)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96880" indent="-596880">
              <a:lnSpc>
                <a:spcPct val="90000"/>
              </a:lnSpc>
              <a:spcBef>
                <a:spcPts val="720"/>
              </a:spcBef>
              <a:tabLst>
                <a:tab algn="l" pos="47304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96880" indent="-596880">
              <a:lnSpc>
                <a:spcPct val="90000"/>
              </a:lnSpc>
              <a:spcBef>
                <a:spcPts val="720"/>
              </a:spcBef>
              <a:tabLst>
                <a:tab algn="l" pos="47304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status = RpcNsBindingImportDone(nsHandle)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96880" indent="-596880">
              <a:lnSpc>
                <a:spcPct val="90000"/>
              </a:lnSpc>
              <a:spcBef>
                <a:spcPts val="720"/>
              </a:spcBef>
              <a:tabLst>
                <a:tab algn="l" pos="47304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96880" indent="-596880">
              <a:lnSpc>
                <a:spcPct val="90000"/>
              </a:lnSpc>
              <a:spcBef>
                <a:spcPts val="720"/>
              </a:spcBef>
              <a:tabLst>
                <a:tab algn="l" pos="47304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status = RpcBindingFree(hBind)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96880" indent="-596880">
              <a:lnSpc>
                <a:spcPct val="90000"/>
              </a:lnSpc>
              <a:spcBef>
                <a:spcPts val="720"/>
              </a:spcBef>
              <a:tabLst>
                <a:tab algn="l" pos="47304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96880" indent="-596880">
              <a:lnSpc>
                <a:spcPct val="90000"/>
              </a:lnSpc>
              <a:spcBef>
                <a:spcPts val="720"/>
              </a:spcBef>
              <a:tabLst>
                <a:tab algn="l" pos="47304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exit(0)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96880" indent="-596880">
              <a:lnSpc>
                <a:spcPct val="90000"/>
              </a:lnSpc>
              <a:spcBef>
                <a:spcPts val="720"/>
              </a:spcBef>
              <a:tabLst>
                <a:tab algn="l" pos="47304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96880" indent="-596880">
              <a:lnSpc>
                <a:spcPct val="90000"/>
              </a:lnSpc>
              <a:spcBef>
                <a:spcPts val="720"/>
              </a:spcBef>
              <a:tabLst>
                <a:tab algn="l" pos="47304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}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Name Service:  Server API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873000" y="2268360"/>
            <a:ext cx="7397640" cy="69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e as auto handle example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Reliabilit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1684440" y="1728720"/>
            <a:ext cx="5776920" cy="31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replicated serv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t them in an NS gro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 comm failure, try next 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try failed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BindingReset( )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t might have restar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1092240" y="228600"/>
            <a:ext cx="695952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MS RPC - </a:t>
            </a:r>
            <a:br>
              <a:rPr sz="4800"/>
            </a:b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Windows NT </a:t>
            </a:r>
            <a:r>
              <a:rPr b="1" i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“Daytona”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1547640" y="1933560"/>
            <a:ext cx="6048360" cy="32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henticated RP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nection-less RPC protoc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DP/IP, IPX transport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al interpreted stu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ch smaller stu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cintosh</a:t>
            </a:r>
            <a:r>
              <a:rPr b="1" lang="en-US" sz="27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lient suppor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Summar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990720" y="1504800"/>
            <a:ext cx="716292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de variety of communications mechanisms available on Windows 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application may use multiple methods of communication (e.g. named pipes, sockets) simultaneous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me methods more secure, easier to use than oth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Controlling Servic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990720" y="1733400"/>
            <a:ext cx="7162920" cy="46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ngeServiceConfig(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o change service attribu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ryServiceConfig(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o get information on serv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rtService(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o start a serv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ryServiceStatus(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an get the status of the serv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e end notes pages Service.15 through Service.1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Service Exampl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990720" y="1733400"/>
            <a:ext cx="7162920" cy="33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ice Example code provided in end notes, and in SD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mple of code to: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install/remove servic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provider servic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create named pipes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manipulate security descript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Registr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990720" y="1654200"/>
            <a:ext cx="7162920" cy="520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for system configuration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to store application config or initialization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tely manage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 attributes for database ent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wer overhead than small text fi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n’t put LARGE amounts of information in the regist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Registry- Where to put i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80880" y="1752480"/>
            <a:ext cx="8381880" cy="27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t Application-specfic information in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KEY_LOCAL_MACHINE\Software\CompanyName\ProductName\Version\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t User-specific information in KEY_CURRENT_USER\Software\CompanyName\ProductName\Version\..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495360" y="1752480"/>
            <a:ext cx="815328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86200" indent="-388620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_BINAR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nary data in any for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86200" indent="-388620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_DWORD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32-bit number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86200" indent="-388620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_DWORD_LITTLE_ENDIAN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32-bit number in little-endian format (same as REG_DWOR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86200" indent="-388620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_DWORD_BIG_ENDIAN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32-bit number in big-endian format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86200" indent="-388620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_EXPAND_SZ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null-terminated string that contains unexpanded references to environment variables (for example, "%PATH%"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86200" indent="-388620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_LINK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Unicode symbolic link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86200" indent="-388620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_MULTI_SZ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array of null-terminated strings, terminated by two null character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86200" indent="-388620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_NONE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defined value type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86200" indent="-388620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_RESOURCE_LIST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device-driver resource list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86200" indent="-388620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_SZ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null-terminated string. It will be a UNICODE or ANSI string depending on whether you use the UNICODE or ANSI function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Registry - Data Typ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304920" y="1066680"/>
            <a:ext cx="85345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y data may be in the following format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Registry - Adding Informa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90720" y="1581120"/>
            <a:ext cx="71629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CreateKeyEx(...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or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OpenKeyEx(...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o create/open registry key and get hand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SetValueEx(...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o create/set the value(s) of the k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CloseKey(...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o close registry; RegFlushKey(...) actually writes to dis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DeleteKey(...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will delete a k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Registry - Exampl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990720" y="1733400"/>
            <a:ext cx="7162920" cy="9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d notes give example of reading registry information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egistry.2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Event Logg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990720" y="1733400"/>
            <a:ext cx="7162920" cy="46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entralized location for hardware and software ev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for tracing, but rather to store information, warnings, and err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tely readable, write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rations are atomic, record orien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ilt in event-viewer can be used to view the lo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Agenda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990720" y="971640"/>
            <a:ext cx="7162920" cy="520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nt Logg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es &amp; Threa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nchroniz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ynamic Link Libra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mory manag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 I/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Event Logging Opera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380880" y="1371600"/>
            <a:ext cx="8381880" cy="33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ckup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ckupEventLog(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ear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earEventLog(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ry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OldestEventLogRecord(),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NumberOfEventLogRecords(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d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dEventLog(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e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portEvent(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Simple Event Logg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990720" y="1733400"/>
            <a:ext cx="7162920" cy="18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application name for Event Source, events show up under Applications category; use array of merge strings to report the ev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Better Event Logg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228600" y="990720"/>
            <a:ext cx="8686800" cy="50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fine language specific messages in a message 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ile these messages into a .D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tall this DLL into the Registry under HKEY_LOCAL_MACHINE\ System\CurrentControlSet\     Services\EventLog\Application\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OURAP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portEvent(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with insertion strings, specify message ID for string resour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mple in the end notes (eventlog.1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Securit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219320"/>
            <a:ext cx="8229600" cy="40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ch different from Unix - concept of Security ID, and access control lis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named objects, some unnamed objects may have ACLs attach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gon process attaches primary security token to process (see end notes for information in the toke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 accesses incur security chec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SI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990720" y="1733400"/>
            <a:ext cx="7162920" cy="30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 Identifiers are variable length, identify user or gro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SIDs besides logon SID are uniq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 end notes provide gory detai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Security Check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990720" y="1733400"/>
            <a:ext cx="7162920" cy="25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87280" y="1576440"/>
            <a:ext cx="856944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Security - Programming Implica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990720" y="1733400"/>
            <a:ext cx="7162920" cy="49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logon process creates primary security token, attaches to logged-in 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alidation of security from non-Windows domain is difficul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Setuid -- Impersonation is used to assume a different security contex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s are created with default ACLs - see endnotes for ru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Security - using ACLs</a:t>
            </a: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	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990720" y="1733400"/>
            <a:ext cx="7162920" cy="33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empty ACL (vs non-existent) denies all access to an object (see endnotes Security.30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grant access, Us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okupAccountName(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o explicitly get SID to add to objects ACL  (see endnotes Security.32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0" y="135000"/>
            <a:ext cx="91440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Security - Using Impersona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90720" y="1733400"/>
            <a:ext cx="716292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impersonate from named pipe client, or from DDE Window on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accepts connection, does impersonate, accomplishes work, then does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vertToSelf(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mple: Us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UserName(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fter Imperson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485640" y="-10008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Security - Practical Considera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990720" y="1733400"/>
            <a:ext cx="716292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e a service that “owns” a resour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just ACL on resource to only allow access by entities that qualif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service, impersonation  to arbitrate who has access to the resour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Servic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990720" y="1733400"/>
            <a:ext cx="716292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quivalent to daemon in Uni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y way to survive logout by a us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tely administr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run under specific security contex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be Win32 binary or device dri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ad dependencies can be specifi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Processes and Thread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990720" y="1733400"/>
            <a:ext cx="7162920" cy="30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designed for SMP from begin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multiple threads is a good way to take advantage of SM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ngle process can have multiple threa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process hierarch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Prioriti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33520" y="1066680"/>
            <a:ext cx="8077320" cy="433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s belong to priority classes, threads are based on that priority class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ee process.43-44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 priorities: </a:t>
            </a: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LE_PRIORITY_CLASS, NORMAL_PRIORITY_CLASS, HIGH_PRIORITY_CLASS, REALTIME_PRIORITY_CL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 priorities:</a:t>
            </a: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_PRIORITY_IDLE, THREAD_PRIORITY_LOWEST, THREAD_PRIORITY_BELOW_NORMAL, THREAD_PRIORITY_NORMAL, THREAD_PRIORITY_ABOVE_NORMAL, THREAD_PRIORITY_HIGHEST, THREAD_PRIORITY_TIME_CRITICA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Controlling Process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90720" y="1733400"/>
            <a:ext cx="716292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Process()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starts a new process and thread with provided environment, security descriptors, I/O handles, etc. (returns handles, IDs)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process.3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ild processes are not stopped when parent exi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itProcess()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 Used to stop current process gracefully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process.36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Process Hin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990720" y="1276200"/>
            <a:ext cx="7162920" cy="53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es can inherit handles, priorities, control-c hand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ke sure you close all handles created by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Process(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open handles to an exited process consume a resour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Process(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o do interesting things with other process’ memory, threads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process.37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itForObject()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detect when processes 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Exampl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733400"/>
            <a:ext cx="7162920" cy="25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ing proces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pturing Child process I/O -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.16, Process.2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Thread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990720" y="1733400"/>
            <a:ext cx="7162920" cy="30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allest application unit of execu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ically a program counter and sta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zed for use on multiple process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Controlling Thread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95360" y="1295280"/>
            <a:ext cx="8153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Thread()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tarts thread with given address, security descriptor, etc.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process.45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RemoteThread(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Creates thread in the context of another 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spendThread(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,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umeThread(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used to pause and restart a thre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itThread(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Terminates thread, performs cleanup, causes thread to become signalled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process.48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Using Thread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" y="838080"/>
            <a:ext cx="8686800" cy="53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 start address may point to any memory addres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 events are queued on thread that created the wind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fferent threads in a process may be executing in different user contex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gnals or exceptions are raised on threads that caused th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synchronization to control access to resources between thread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Thread Local Storage (TLS) to store thread-specific informatio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ample in end notes - Process.2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Using Thread Local Storag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990720" y="1733400"/>
            <a:ext cx="7162920" cy="39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LS provides mechanism for thread-specific value to be sto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od strategy: dynamically allocate a block of memory for each thread, put this address in the TLS value slo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om for up to 64 different values per thread guarante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e TLS functions in endnotes (process.56-64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Exampl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990720" y="1733400"/>
            <a:ext cx="7162920" cy="25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ing multiple threads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process.10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thread local storage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process.60) (DLL.20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Starting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990720" y="1733400"/>
            <a:ext cx="7162920" cy="199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rted on demand, at boot time, or manual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ice must be started through the Service Control Manager (SCM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Synchroniza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990720" y="1733400"/>
            <a:ext cx="716292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nchronization required when multiple processes or threads need access to a resour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thin a process: memory objects, handles, files, pipes, code sections, etc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ween processes: any resour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Synchronization: Objec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990720" y="1733400"/>
            <a:ext cx="716292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nts, mutexes, semaphores, processes, threads can be used for explicit interprocess synchroniz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, pipes, standard handles can also be used when asynchronous I/O is us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nts, mutexes, semaphores can be nam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itical Sections used for intra-process synchronization on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Sharing Objec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80880" y="1295280"/>
            <a:ext cx="83818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s can be shared two wa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herited from parent - set inherit attribute on object, or specify inherit flag in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Process(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child may use passed value in handle t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uplicateHandle()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the handle value, as well as the creating process ID, must be communicated to the process/threa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mple in endnotes (synchronization.13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Waiting for Objec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990720" y="1733400"/>
            <a:ext cx="7162920" cy="26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versal mechanism for synchroniz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turns when object(s) signalled or timeout elap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mple: waiting for multiple objects (synchronization.15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Critical Sec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228600" y="1143000"/>
            <a:ext cx="8686800" cy="520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Intra-process synchronization on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re efficient than mutex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 must allocate storage for object using CRITICAL_S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acket code with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erCriticalSection(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nd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aveCriticalSection(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s owing a critical section may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erCriticalSection(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s many times as necess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mple: synchronization.2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Mutex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990720" y="1352520"/>
            <a:ext cx="7162920" cy="46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y be nam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d to coordinate access to resources between threads in different proces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general, surround access to resource with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itForObject(hMutex..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timeouts to avoid deadlo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mple: synchronization.2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Events</a:t>
            </a: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	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990720" y="1428840"/>
            <a:ext cx="7162920" cy="47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y be nam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e-shot or auto-res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e-shot events: when signalled, any/all threads may pa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-reset: Only one thread is allowed to pa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multiple events w/multiple threads and multiplexed wa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mple: synchronization.1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Semaphor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90720" y="1733400"/>
            <a:ext cx="7162920" cy="25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ditional synchronization 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y be nam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mple: synchronizaion.2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Dynamic Link Librari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990720" y="1733400"/>
            <a:ext cx="7162920" cy="25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ilar to shared libra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duce executable siz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licit loading, or explicit loa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ful for families of fun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DLLs With Thread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90720" y="1733400"/>
            <a:ext cx="7162920" cy="25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de executes in context of thre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mory allocated in address space of calling 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LL globals can be read/written by threa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Service Control Manag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990720" y="1733400"/>
            <a:ext cx="7162920" cy="35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tually starts the serv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intains Registry information regarding installed services (HKEY_LOCAL_MACHINE\SYSTEM\CurrentControlSet\Servic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ries services for st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ministers services remot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Using DLL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360" y="914400"/>
            <a:ext cx="8153280" cy="53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adLibrary(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o load a DLL, then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ProcAddress()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get the address (by name or ordina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llEntryPoint(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s used, it’s called wh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 attaches a D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 attaches a DLL (thread create in a proces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 detaches a DLL (except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rminateProcess()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 detaches (except with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rminateThread()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e endnotes (DLL.5, DLL.24)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eeLibrary(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when do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mple (DLL.11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Memory Mana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90720" y="1733400"/>
            <a:ext cx="7162920" cy="25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e major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ular”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lloc()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&amp;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ee(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ap allo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rtual* memor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aring mem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i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malloc()</a:t>
            </a: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 and </a:t>
            </a:r>
            <a:r>
              <a:rPr b="1" i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free(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90720" y="1733400"/>
            <a:ext cx="7162920" cy="25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lat 2GB available per 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w memory addresses allocated by user proces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pper 1/2 of 4GB space reserved for system allo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Using Heap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990720" y="1733400"/>
            <a:ext cx="7162920" cy="25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apCreate(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o allocate a new heap in process address sp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apAlloc()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get mem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apDestroy()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get rid of hea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e endnotes for details (heap.1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Heap Hin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990720" y="1733400"/>
            <a:ext cx="7162920" cy="25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ch process has a default hea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ap memory not moveable- fragmentation 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ap APIs are thread safe by defaul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ap is private to a 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i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Virtual* </a:t>
            </a: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func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990720" y="1733400"/>
            <a:ext cx="7162920" cy="264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ful for micro-managing pages of mem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arse memory allo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nging attributes of pages in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plicit basing of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mple in end notes (virtmem.3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Shared Memor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990720" y="1733400"/>
            <a:ext cx="716292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ween processes, use global DLL data (not secure)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ndnotes: DLL.16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or named shared mem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med shared memory can be allocated from system page file, or mapped from specified 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SM may be read protec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Shared Memory - Creato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990720" y="1733400"/>
            <a:ext cx="7162920" cy="31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File(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with file name, appropriate mod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FileMapping(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with file handle to create mapp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pViewOfFile(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ctually maps into address sp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MapViewOfFile()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clean 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Shared Memory - Consum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990720" y="1733400"/>
            <a:ext cx="716292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 handle to memory - Us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FileMapping(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with name of memory, or another method for hand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pViewOfFile(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o map into address sp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MapViewOfFile()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clean 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Shared Memory - Exampl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990720" y="1733400"/>
            <a:ext cx="7162920" cy="25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d notes: Sharemem.8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Writing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80880" y="990720"/>
            <a:ext cx="80773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e Entry points requi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in(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 calls th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rtServiceCtrlDispatch(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function to connect the main thread of the process to the Service Control Mana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iceMain(...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the entry point for each service that can run in the 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(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a control handler for each service that can run in the proces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File I/O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990720" y="1733400"/>
            <a:ext cx="7162920" cy="305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ular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pen(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close(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printf(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work o.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File(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dFile(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eFile()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4 bit file positio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security AP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n-blocking (overlapped) oper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Non-blocking File I/O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95360" y="1143000"/>
            <a:ext cx="8153280" cy="49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 must maintain file poin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File(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o open/create 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dFile(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or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eFile(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o do I/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dFileEx()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eFileEx()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specify a “callback” function on comple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ification of completion occurs in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itForObject()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cussion in endnotes: Files.13, Pipes.1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mple in endnotes: Pipes.17, Pipes.24, Files.1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Summar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990720" y="1733400"/>
            <a:ext cx="716292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rich functiona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eas not covered include graphical programm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Network Programming with Windows 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990720" y="1733400"/>
            <a:ext cx="7162920" cy="25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Agenda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990720" y="1733400"/>
            <a:ext cx="7162920" cy="40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 Consider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B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med Pi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ilslo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ck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Clien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990720" y="1733400"/>
            <a:ext cx="716292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oice of protocol and communications method determined by mix of clients and serv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SDOS and Windows clients are volume lead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ading mechanisms include IPX/SPX (Novell), SMB (Microsoft), TCP/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Client Considera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990720" y="1733400"/>
            <a:ext cx="716292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S/Windows clients: OS may seemingly block during network commun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clients: easiest communications method is named pi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: Sockets probably best for cross-domain (i.e. Unix)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NetBIO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990720" y="1733400"/>
            <a:ext cx="7162920" cy="25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low level -- originally used in IBM network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sion 3.0 in Windows 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d for compatibility with many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Named Pip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990720" y="1733400"/>
            <a:ext cx="7162920" cy="33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ependent of underlying protoc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 built 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yte mode or message mo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e way or two w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ngle pipe name may have multiple insta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ipes may be blocking or non-block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Named Pipes - Serv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990720" y="1200240"/>
            <a:ext cx="7162920" cy="54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NamedPipe(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o instantiate first pipe with instance cou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additional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NamedPipe(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alls to get handles to other insta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dFile(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nd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eFile(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o push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ekNamedPipe()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nondestructive re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lushFileBuffers(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on pipe handle to make sure client gets all data befor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connectNamedPipe(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Writing A Service - </a:t>
            </a:r>
            <a:r>
              <a:rPr b="1" i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main(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33520" y="1600200"/>
            <a:ext cx="807732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 up service dispatch t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l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rtServiceControlDispatch(..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turns if service e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 to page Service.1 in end no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Named Pipes - Cli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990720" y="1733400"/>
            <a:ext cx="7162920" cy="25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lNamePipe(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o open pipe, send data, receive data, and close pip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ternatively, us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File(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or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lNamedPipe(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nd file operations to read/write the pip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Named Pipes - Miscellaneou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990720" y="1733400"/>
            <a:ext cx="7162920" cy="26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NamedPipeInfo()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ll return information about buffers, insta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NamedPipeHandleState(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an change modes, timeouts, and buffe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mple: Server with multiple threads and insta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Mailslo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990720" y="1733400"/>
            <a:ext cx="7162920" cy="25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e-way, “unreliable” datagram oriented mechan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ed or broadcast (broadcast:400 bytes max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Mailslots - Creat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0" y="91440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OOL FAR PASCAL Makeslot(HWND hwnd, HDC hdc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PSTR lpszSlotName = "\\\\.\\mailslot\\sample_mailslot"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* The mailslot handle "hSlot1" is declared globally. *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Slot1 = CreateMailslot(lpszSlotName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,                         /* no maximum message size         *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ILSLOT_WAIT_FOREVER,     /* no time-out for read operations *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LPSECURITY_ATTRIBUTES) NULL); /* no security attributes      *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(hSlot1 == INVALID_HANDLE_VALUE) 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rorHandler(hwnd, "CreateMailslot"); /* local error handler *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turn FALSE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xtOut(hdc, 10, 10, "CreateMailslot successful.", 26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turn TRUE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Mailslots - Sending Data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990720" y="1733400"/>
            <a:ext cx="7162920" cy="25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File(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with \\*\mailslot\name to send to dom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eFile()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send the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Mailslots - Read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990720" y="1733400"/>
            <a:ext cx="7162920" cy="25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dFile()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get information from mailslo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MailslotInfo(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o get information on number of messages and size of next on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DD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990720" y="1733400"/>
            <a:ext cx="7162920" cy="31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iginally “hot links” between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ded to network functiona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 to window communications meth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 to DDEML information in Windows tex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Windows Socke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990720" y="1733400"/>
            <a:ext cx="7162920" cy="25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ilar to Berkeley sockets, with extensions to accommodate Windows programming mo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ed by over 30 companies w/implementations on Windows, Windows 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485640" y="5256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Windows Sockets - Supported Protocol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990720" y="1733400"/>
            <a:ext cx="716292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3.1 - TCP/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- TCP/IP, IPX/SPX, Appletalk,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Differences from Berkele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990720" y="1733400"/>
            <a:ext cx="7162920" cy="268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CKET data typ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octl(),select(),close(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ror c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cket number ran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ray of socket descrip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SA* ca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85640" y="5256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Writing A Service - </a:t>
            </a:r>
            <a:r>
              <a:rPr b="1" i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ServiceMain()</a:t>
            </a: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533520" y="1752480"/>
            <a:ext cx="8077320" cy="35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er th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(...)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n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port status to SCM through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ServiceStatus(...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st coordinate between threads of service -- suggest using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Event(...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o do synchronizat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 to page Service.3 in end no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SOCKET Data Typ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0" y="1143000"/>
            <a:ext cx="9144000" cy="53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not be used with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d(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e(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however can be used with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dFile(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nd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eFile(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octlsocket(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vs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octl(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osesocket(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vs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ose(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eck socket returned with INVALID_SOCK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E* values are prefixed with WSA (e.g. EWOULDBLOCK =&gt; WSAEWOULDBLOCK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SAGetLastError(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o get socket error co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reserved range of socke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990720" y="1276200"/>
            <a:ext cx="716292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lect(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n’t depend on underlying format of fd_set - Use FD_* macro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’t combine socket descriptor and file handles in select() call - use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itForObject*(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dFile(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eFile()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blocking or non-blocking I/O work gre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uplicateHandle(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o give sockets to child proces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SOCKET usag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WSA* call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990720" y="1733400"/>
            <a:ext cx="7162920" cy="28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d with Windows programming model to generate messages for socket ev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SAGetXbyY(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alls return thread-specific information data are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i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WSAStartup(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228600" y="914400"/>
            <a:ext cx="868680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st us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SAStartup(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o initialize socke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228600" y="1279440"/>
            <a:ext cx="868680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D wVersionRequested;      WSADATA wsaData;     int err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VersionRequested = MAKEWORD( 1, 1 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r = WSAStartup( wVersionRequested, &amp;wsaData 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( err != 0 ) 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* Tell the user that we couldn't find a useable winsock.dll*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turn;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* Confirm that the Windows Sockets DLL supports 1.1.  Note that if the D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s versions greater than 1.1 in addition to 1.1, it will still return 1.1 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Version since that is the version we requested.                                        *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( LOBYTE( wsaData.wVersion ) != 1 ||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BYTE( wsaData.wVersion ) != 1 ) 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* Tell the user that we couldn't find a useable winsock.dll.    *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SACleanup( 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turn;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Using Sockets with IPX/SPX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52280" y="1219320"/>
            <a:ext cx="8839080" cy="55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nding out SAP advertisements: Pseudoco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 a local socket (IPX protoco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nd socket to workstation addr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oose to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nect()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he datagram socket (typically for datagrams you can choose to not use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nect()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instead use the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ndto()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PI; for further info see the MSJ article on Windows Sockets.).  This is more convenient when performing multiple sends to the same endpoi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 the local node address so the SAP broadcast can use 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 up SAP broadcast...these fields are defined in Novell's IP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uter Specification as well as the book: "Novell's Guide to NetWare LAN Analysis"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oadcast the SAP every 60 secon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More Exampl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990720" y="1733400"/>
            <a:ext cx="7162920" cy="25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dnotes - Novell SAP code: sockets.2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dnotes - Multithreaded Windows Sockets application sockets.2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487440" y="228600"/>
            <a:ext cx="81709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Microsoft</a:t>
            </a:r>
            <a:r>
              <a:rPr b="1" lang="en-US" sz="4800" spc="-1" strike="noStrike" baseline="30000">
                <a:solidFill>
                  <a:srgbClr val="00eed8"/>
                </a:solidFill>
                <a:latin typeface="Times New Roman"/>
                <a:ea typeface="Times New Roman"/>
              </a:rPr>
              <a:t>®</a:t>
            </a: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 RPC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1405080" y="1130400"/>
            <a:ext cx="6335640" cy="54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gral Windows NT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ystem componen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F DCE interoper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ed on all MS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latfor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ive name service provi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nection-oriente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ple transpo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B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med pi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0" y="5049720"/>
            <a:ext cx="211788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965160" indent="-41436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65160" indent="-41436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P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181080" y="228600"/>
            <a:ext cx="87822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Microsoft RPC Server Platform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06800" y="2943360"/>
            <a:ext cx="619200" cy="1242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3973680" y="2943360"/>
            <a:ext cx="257040" cy="1242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782640" y="2943360"/>
            <a:ext cx="2532240" cy="1110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419800" y="2943360"/>
            <a:ext cx="1520640" cy="1242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932440" y="2943360"/>
            <a:ext cx="2554200" cy="1242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2616120" y="2943360"/>
            <a:ext cx="1184400" cy="1242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182520" y="4041720"/>
            <a:ext cx="1449360" cy="773280"/>
          </a:xfrm>
          <a:prstGeom prst="rect">
            <a:avLst/>
          </a:prstGeom>
          <a:gradFill rotWithShape="0">
            <a:gsLst>
              <a:gs pos="0">
                <a:srgbClr val="f95ab7"/>
              </a:gs>
              <a:gs pos="100000">
                <a:srgbClr val="4a1b36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icago”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1758960" y="4041720"/>
            <a:ext cx="1392120" cy="773280"/>
          </a:xfrm>
          <a:prstGeom prst="rect">
            <a:avLst/>
          </a:prstGeom>
          <a:gradFill rotWithShape="0">
            <a:gsLst>
              <a:gs pos="0">
                <a:srgbClr val="f95ab7"/>
              </a:gs>
              <a:gs pos="100000">
                <a:srgbClr val="4a1b36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S-DOS</a:t>
            </a:r>
            <a:r>
              <a:rPr b="1" lang="en-US" sz="21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282840" y="4041720"/>
            <a:ext cx="1353960" cy="773280"/>
          </a:xfrm>
          <a:prstGeom prst="rect">
            <a:avLst/>
          </a:prstGeom>
          <a:gradFill rotWithShape="0">
            <a:gsLst>
              <a:gs pos="0">
                <a:srgbClr val="f95ab7"/>
              </a:gs>
              <a:gs pos="100000">
                <a:srgbClr val="4a1b36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</a:t>
            </a:r>
            <a:r>
              <a:rPr b="1" lang="en-US" sz="1400" spc="-1" strike="noStrike" baseline="46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3.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735440" y="4041720"/>
            <a:ext cx="1320840" cy="773280"/>
          </a:xfrm>
          <a:prstGeom prst="rect">
            <a:avLst/>
          </a:prstGeom>
          <a:gradFill rotWithShape="0">
            <a:gsLst>
              <a:gs pos="0">
                <a:srgbClr val="f95ab7"/>
              </a:gs>
              <a:gs pos="100000">
                <a:srgbClr val="4a1b36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188040" y="4041720"/>
            <a:ext cx="1320840" cy="773280"/>
          </a:xfrm>
          <a:prstGeom prst="rect">
            <a:avLst/>
          </a:prstGeom>
          <a:gradFill rotWithShape="0">
            <a:gsLst>
              <a:gs pos="0">
                <a:srgbClr val="f95ab7"/>
              </a:gs>
              <a:gs pos="100000">
                <a:srgbClr val="4a1b36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F/1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7640640" y="4041720"/>
            <a:ext cx="1320840" cy="773280"/>
          </a:xfrm>
          <a:prstGeom prst="rect">
            <a:avLst/>
          </a:prstGeom>
          <a:gradFill rotWithShape="0">
            <a:gsLst>
              <a:gs pos="0">
                <a:srgbClr val="f95ab7"/>
              </a:gs>
              <a:gs pos="100000">
                <a:srgbClr val="4a1b36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</a:t>
            </a:r>
            <a:r>
              <a:rPr b="1" lang="en-US" sz="21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759040" y="1862280"/>
            <a:ext cx="3627360" cy="1258920"/>
          </a:xfrm>
          <a:prstGeom prst="rect">
            <a:avLst/>
          </a:prstGeom>
          <a:gradFill rotWithShape="0">
            <a:gsLst>
              <a:gs pos="0">
                <a:srgbClr val="f95ab7"/>
              </a:gs>
              <a:gs pos="100000">
                <a:srgbClr val="4a1b36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or “Chicago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992160" y="228600"/>
            <a:ext cx="770112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Run-Time Architecture:</a:t>
            </a:r>
            <a:br>
              <a:rPr sz="4800"/>
            </a:b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Transpor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1220760" y="2867040"/>
            <a:ext cx="1508040" cy="603360"/>
          </a:xfrm>
          <a:prstGeom prst="rect">
            <a:avLst/>
          </a:prstGeom>
          <a:gradFill rotWithShape="0">
            <a:gsLst>
              <a:gs pos="0">
                <a:srgbClr val="ae3f80"/>
              </a:gs>
              <a:gs pos="100000">
                <a:srgbClr val="f95ab7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Named pip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support DL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815000" y="2867040"/>
            <a:ext cx="1447920" cy="603360"/>
          </a:xfrm>
          <a:prstGeom prst="rect">
            <a:avLst/>
          </a:prstGeom>
          <a:gradFill rotWithShape="0">
            <a:gsLst>
              <a:gs pos="0">
                <a:srgbClr val="ae3f80"/>
              </a:gs>
              <a:gs pos="100000">
                <a:srgbClr val="f95ab7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Socke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support DL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6518160" y="2873520"/>
            <a:ext cx="1568520" cy="603360"/>
          </a:xfrm>
          <a:prstGeom prst="rect">
            <a:avLst/>
          </a:prstGeom>
          <a:solidFill>
            <a:srgbClr val="f95ab7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&lt;transport Y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support DL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995400" y="1925640"/>
            <a:ext cx="7037280" cy="654120"/>
          </a:xfrm>
          <a:prstGeom prst="rect">
            <a:avLst/>
          </a:prstGeom>
          <a:gradFill rotWithShape="0">
            <a:gsLst>
              <a:gs pos="0">
                <a:srgbClr val="ae3f80"/>
              </a:gs>
              <a:gs pos="100000">
                <a:srgbClr val="f95ab7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  <a:ea typeface="Arial"/>
              </a:rPr>
              <a:t>MS RPC run-time DL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1117440" y="4049640"/>
            <a:ext cx="1771560" cy="349200"/>
          </a:xfrm>
          <a:prstGeom prst="rect">
            <a:avLst/>
          </a:prstGeom>
          <a:solidFill>
            <a:srgbClr val="37006d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2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NAMPIPES.DLL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1409760" y="4697280"/>
            <a:ext cx="1003320" cy="480960"/>
          </a:xfrm>
          <a:prstGeom prst="rect">
            <a:avLst/>
          </a:prstGeom>
          <a:solidFill>
            <a:srgbClr val="37006d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2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Redi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973080" y="5487840"/>
            <a:ext cx="7224840" cy="0"/>
          </a:xfrm>
          <a:prstGeom prst="line">
            <a:avLst/>
          </a:prstGeom>
          <a:ln w="76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1397160" y="5883120"/>
            <a:ext cx="1052640" cy="372960"/>
          </a:xfrm>
          <a:prstGeom prst="rect">
            <a:avLst/>
          </a:prstGeom>
          <a:solidFill>
            <a:srgbClr val="37006d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2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NetBEUI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165640" y="5907240"/>
            <a:ext cx="1028880" cy="372960"/>
          </a:xfrm>
          <a:prstGeom prst="rect">
            <a:avLst/>
          </a:prstGeom>
          <a:solidFill>
            <a:srgbClr val="37006d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2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PX/SPX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3281400" y="5883120"/>
            <a:ext cx="884160" cy="372960"/>
          </a:xfrm>
          <a:prstGeom prst="rect">
            <a:avLst/>
          </a:prstGeom>
          <a:solidFill>
            <a:srgbClr val="37006d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2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TCP/IP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634000" y="4624560"/>
            <a:ext cx="0" cy="1222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946080" y="3822840"/>
            <a:ext cx="7197840" cy="0"/>
          </a:xfrm>
          <a:prstGeom prst="line">
            <a:avLst/>
          </a:prstGeom>
          <a:ln w="76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1916280" y="4538520"/>
            <a:ext cx="0" cy="82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31680" bIns="31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916280" y="3554280"/>
            <a:ext cx="0" cy="398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605560" y="3639960"/>
            <a:ext cx="0" cy="363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6554880" y="5896080"/>
            <a:ext cx="1592280" cy="372960"/>
          </a:xfrm>
          <a:prstGeom prst="rect">
            <a:avLst/>
          </a:prstGeom>
          <a:solidFill>
            <a:srgbClr val="f95ab7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2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&lt;transport Y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895400" y="5348160"/>
            <a:ext cx="0" cy="4827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299360" y="3632040"/>
            <a:ext cx="0" cy="22100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263680" y="5289480"/>
            <a:ext cx="1179720" cy="534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3071880" y="2867040"/>
            <a:ext cx="1447920" cy="603360"/>
          </a:xfrm>
          <a:prstGeom prst="rect">
            <a:avLst/>
          </a:prstGeom>
          <a:gradFill rotWithShape="0">
            <a:gsLst>
              <a:gs pos="0">
                <a:srgbClr val="ae3f80"/>
              </a:gs>
              <a:gs pos="100000">
                <a:srgbClr val="f95ab7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NetBIO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support DL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085920" y="4049640"/>
            <a:ext cx="1436760" cy="349200"/>
          </a:xfrm>
          <a:prstGeom prst="rect">
            <a:avLst/>
          </a:prstGeom>
          <a:solidFill>
            <a:srgbClr val="37006d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2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NETAPI.DLL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780080" y="4064040"/>
            <a:ext cx="1687680" cy="349200"/>
          </a:xfrm>
          <a:prstGeom prst="rect">
            <a:avLst/>
          </a:prstGeom>
          <a:solidFill>
            <a:srgbClr val="37006d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2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WINSOCK.DLL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765600" y="3575160"/>
            <a:ext cx="0" cy="428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2263680" y="4538520"/>
            <a:ext cx="1285920" cy="1285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765600" y="4538520"/>
            <a:ext cx="0" cy="1285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4194000" y="4538520"/>
            <a:ext cx="1285920" cy="1285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1090440" y="228600"/>
            <a:ext cx="696420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Run-Time Architecture:</a:t>
            </a:r>
            <a:br>
              <a:rPr sz="4800"/>
            </a:b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Name Servic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3075120" y="4013280"/>
            <a:ext cx="1528920" cy="960480"/>
          </a:xfrm>
          <a:prstGeom prst="rect">
            <a:avLst/>
          </a:prstGeom>
          <a:gradFill rotWithShape="0">
            <a:gsLst>
              <a:gs pos="0">
                <a:srgbClr val="f95ab7"/>
              </a:gs>
              <a:gs pos="100000">
                <a:srgbClr val="4a1b36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or “Chicago” RPC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1550880" y="4024440"/>
            <a:ext cx="1276200" cy="665280"/>
          </a:xfrm>
          <a:prstGeom prst="rect">
            <a:avLst/>
          </a:prstGeom>
          <a:gradFill rotWithShape="0">
            <a:gsLst>
              <a:gs pos="0">
                <a:srgbClr val="f95ab7"/>
              </a:gs>
              <a:gs pos="100000">
                <a:srgbClr val="4a1b36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S RPC 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1801800" y="2330280"/>
            <a:ext cx="1725480" cy="665280"/>
          </a:xfrm>
          <a:prstGeom prst="rect">
            <a:avLst/>
          </a:prstGeom>
          <a:gradFill rotWithShape="0">
            <a:gsLst>
              <a:gs pos="0">
                <a:srgbClr val="f95ab7"/>
              </a:gs>
              <a:gs pos="100000">
                <a:srgbClr val="4a1b36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S Locator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716280" y="2367000"/>
            <a:ext cx="1704960" cy="368280"/>
          </a:xfrm>
          <a:prstGeom prst="rect">
            <a:avLst/>
          </a:prstGeom>
          <a:gradFill rotWithShape="0">
            <a:gsLst>
              <a:gs pos="0">
                <a:srgbClr val="f95ab7"/>
              </a:gs>
              <a:gs pos="100000">
                <a:srgbClr val="4a1b36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CE C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5618160" y="2373480"/>
            <a:ext cx="1976400" cy="665280"/>
          </a:xfrm>
          <a:prstGeom prst="rect">
            <a:avLst/>
          </a:prstGeom>
          <a:gradFill rotWithShape="0">
            <a:gsLst>
              <a:gs pos="0">
                <a:srgbClr val="f95ab7"/>
              </a:gs>
              <a:gs pos="100000">
                <a:srgbClr val="4a1b36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ther name service provi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816440" y="4024440"/>
            <a:ext cx="1257480" cy="665280"/>
          </a:xfrm>
          <a:prstGeom prst="rect">
            <a:avLst/>
          </a:prstGeom>
          <a:gradFill rotWithShape="0">
            <a:gsLst>
              <a:gs pos="0">
                <a:srgbClr val="f95ab7"/>
              </a:gs>
              <a:gs pos="100000">
                <a:srgbClr val="4a1b36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CE RPC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6324480" y="4024440"/>
            <a:ext cx="1257480" cy="665280"/>
          </a:xfrm>
          <a:prstGeom prst="rect">
            <a:avLst/>
          </a:prstGeom>
          <a:gradFill rotWithShape="0">
            <a:gsLst>
              <a:gs pos="0">
                <a:srgbClr val="f95ab7"/>
              </a:gs>
              <a:gs pos="100000">
                <a:srgbClr val="4a1b36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CE RPC 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2146320" y="3009960"/>
            <a:ext cx="485640" cy="1035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2162160" y="2733840"/>
            <a:ext cx="2390760" cy="12794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2174760" y="3054240"/>
            <a:ext cx="4467240" cy="9590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H="1" flipV="1">
            <a:off x="2619360" y="2994120"/>
            <a:ext cx="1203480" cy="10508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V="1">
            <a:off x="3838680" y="2749680"/>
            <a:ext cx="685800" cy="12794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3807000" y="3054240"/>
            <a:ext cx="2787480" cy="990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4552920" y="2765520"/>
            <a:ext cx="870120" cy="12794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4537080" y="2749680"/>
            <a:ext cx="24256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Writing a Service - </a:t>
            </a:r>
            <a:r>
              <a:rPr b="1" i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Handler(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990720" y="1733400"/>
            <a:ext cx="7162920" cy="35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led by Service Control Dispatcher through command of SC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st handle defined control cod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st update SCM using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portStatusToSCMgr(..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 to page Service.8 in end no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463680" y="228600"/>
            <a:ext cx="82184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Run-Time Architecture:</a:t>
            </a:r>
            <a:br>
              <a:rPr sz="4800"/>
            </a:b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Securit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825480" y="2414520"/>
            <a:ext cx="7461360" cy="138744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S RPC run-time D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083280" y="4270320"/>
            <a:ext cx="2224080" cy="827640"/>
          </a:xfrm>
          <a:prstGeom prst="rect">
            <a:avLst/>
          </a:prstGeom>
          <a:solidFill>
            <a:srgbClr val="f95ab7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D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Kerber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support D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3460680" y="4270320"/>
            <a:ext cx="2224080" cy="827640"/>
          </a:xfrm>
          <a:prstGeom prst="rect">
            <a:avLst/>
          </a:prstGeom>
          <a:solidFill>
            <a:srgbClr val="f95ab7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&lt;other security mechanism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support D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825480" y="4270320"/>
            <a:ext cx="2198520" cy="816120"/>
          </a:xfrm>
          <a:prstGeom prst="rect">
            <a:avLst/>
          </a:prstGeom>
          <a:solidFill>
            <a:srgbClr val="37006d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Windows NT securit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support D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4346640" y="2257560"/>
            <a:ext cx="4705200" cy="1670040"/>
          </a:xfrm>
          <a:prstGeom prst="rect">
            <a:avLst/>
          </a:prstGeom>
          <a:gradFill rotWithShape="0">
            <a:gsLst>
              <a:gs pos="0">
                <a:srgbClr val="37006d"/>
              </a:gs>
              <a:gs pos="100000">
                <a:srgbClr val="4b197b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7240" y="2257560"/>
            <a:ext cx="1733400" cy="1650960"/>
          </a:xfrm>
          <a:prstGeom prst="rect">
            <a:avLst/>
          </a:prstGeom>
          <a:gradFill rotWithShape="0">
            <a:gsLst>
              <a:gs pos="0">
                <a:srgbClr val="37006d"/>
              </a:gs>
              <a:gs pos="100000">
                <a:srgbClr val="4b197b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955880" y="2257560"/>
            <a:ext cx="2246400" cy="1658880"/>
          </a:xfrm>
          <a:prstGeom prst="rect">
            <a:avLst/>
          </a:prstGeom>
          <a:gradFill rotWithShape="0">
            <a:gsLst>
              <a:gs pos="0">
                <a:srgbClr val="37006d"/>
              </a:gs>
              <a:gs pos="100000">
                <a:srgbClr val="4b197b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385920" y="228600"/>
            <a:ext cx="83739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MS RPC Platform Sup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680" y="1728720"/>
            <a:ext cx="9128160" cy="33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1886040"/>
                <a:tab algn="l" pos="4286160"/>
              </a:tabLst>
            </a:pPr>
            <a:r>
              <a:rPr b="1" lang="en-US" sz="33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latform</a:t>
            </a:r>
            <a:r>
              <a:rPr b="1" lang="en-US" sz="33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	</a:t>
            </a:r>
            <a:r>
              <a:rPr b="1" lang="en-US" sz="33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un time</a:t>
            </a:r>
            <a:r>
              <a:rPr b="1" lang="en-US" sz="33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	</a:t>
            </a:r>
            <a:r>
              <a:rPr b="1" lang="en-US" sz="33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ransport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1886040"/>
                <a:tab algn="l" pos="428616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S-DOS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P, NetBIOS, TCP/IP, SPX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1886040"/>
                <a:tab algn="l" pos="428616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3.x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P, NetBIOS, TCP/IP, SPX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1886040"/>
                <a:tab algn="l" pos="428616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 and server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P, NetBIOS, TCP/IP, SPX, LPC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1886040"/>
                <a:tab algn="l" pos="428616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icago”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 and server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P</a:t>
            </a: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*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NetBIOS, TCP/IP</a:t>
            </a: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*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SPX, LPC</a:t>
            </a: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*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1886040"/>
                <a:tab algn="l" pos="428616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1886040"/>
                <a:tab algn="l" pos="428616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1886040"/>
                <a:tab algn="l" pos="4286160"/>
              </a:tabLst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*</a:t>
            </a: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vailable in M6 release of “Chicago”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487440" y="228600"/>
            <a:ext cx="81709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MS RPC Development Tool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674640" y="1728720"/>
            <a:ext cx="7796160" cy="20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oftware Developer’s Kit (SDK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6-bit and 32-bit IDL compil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6-bit run times with distribution licens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 Developer’s Guide and Refer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49120" y="228600"/>
            <a:ext cx="86472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Developing An RPC Applica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92280" y="1506600"/>
            <a:ext cx="776124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fine interf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e IDL 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e client and server implement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ile IDL file with MIDL compi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ile client, server, and MIDL stu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nk, including RPC run-time libra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1855800" y="228600"/>
            <a:ext cx="54338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MIDL Compil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698400" y="1754280"/>
            <a:ext cx="7747200" cy="3368520"/>
            <a:chOff x="698400" y="1754280"/>
            <a:chExt cx="7747200" cy="3368520"/>
          </a:xfrm>
        </p:grpSpPr>
        <p:sp>
          <p:nvSpPr>
            <p:cNvPr id="288" name=""/>
            <p:cNvSpPr txBox="1"/>
            <p:nvPr/>
          </p:nvSpPr>
          <p:spPr>
            <a:xfrm>
              <a:off x="2598840" y="1787400"/>
              <a:ext cx="1087560" cy="620640"/>
            </a:xfrm>
            <a:prstGeom prst="rect">
              <a:avLst/>
            </a:prstGeom>
            <a:gradFill rotWithShape="0">
              <a:gsLst>
                <a:gs pos="0">
                  <a:srgbClr val="f95ab7"/>
                </a:gs>
                <a:gs pos="100000">
                  <a:srgbClr val="4a1b36"/>
                </a:gs>
              </a:gsLst>
              <a:lin ang="5400000"/>
            </a:gradFill>
            <a:ln w="12600">
              <a:solidFill>
                <a:srgbClr val="ffffff"/>
              </a:solidFill>
              <a:round/>
            </a:ln>
            <a:effectLst>
              <a:outerShdw dist="0" dir="0" blurRad="0" rotWithShape="0">
                <a:srgbClr val="000000"/>
              </a:outerShdw>
            </a:effectLst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.ID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 txBox="1"/>
            <p:nvPr/>
          </p:nvSpPr>
          <p:spPr>
            <a:xfrm>
              <a:off x="5232240" y="1754280"/>
              <a:ext cx="1208160" cy="620640"/>
            </a:xfrm>
            <a:prstGeom prst="rect">
              <a:avLst/>
            </a:prstGeom>
            <a:gradFill rotWithShape="0">
              <a:gsLst>
                <a:gs pos="0">
                  <a:srgbClr val="f95ab7"/>
                </a:gs>
                <a:gs pos="100000">
                  <a:srgbClr val="4a1b36"/>
                </a:gs>
              </a:gsLst>
              <a:lin ang="5400000"/>
            </a:gradFill>
            <a:ln w="12600">
              <a:solidFill>
                <a:srgbClr val="ffffff"/>
              </a:solidFill>
              <a:round/>
            </a:ln>
            <a:effectLst>
              <a:outerShdw dist="0" dir="0" blurRad="0" rotWithShape="0">
                <a:srgbClr val="000000"/>
              </a:outerShdw>
            </a:effectLst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.AC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 txBox="1"/>
            <p:nvPr/>
          </p:nvSpPr>
          <p:spPr>
            <a:xfrm>
              <a:off x="2440080" y="3056040"/>
              <a:ext cx="4278240" cy="569880"/>
            </a:xfrm>
            <a:prstGeom prst="rect">
              <a:avLst/>
            </a:prstGeom>
            <a:gradFill rotWithShape="0">
              <a:gsLst>
                <a:gs pos="0">
                  <a:srgbClr val="f95ab7"/>
                </a:gs>
                <a:gs pos="100000">
                  <a:srgbClr val="4a1b36"/>
                </a:gs>
              </a:gsLst>
              <a:lin ang="5400000"/>
            </a:gradFill>
            <a:ln w="12600">
              <a:solidFill>
                <a:srgbClr val="ffffff"/>
              </a:solidFill>
              <a:round/>
            </a:ln>
            <a:effectLst>
              <a:outerShdw dist="0" dir="0" blurRad="0" rotWithShape="0">
                <a:srgbClr val="000000"/>
              </a:outerShdw>
            </a:effectLst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MS RPC IDL Compile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 txBox="1"/>
            <p:nvPr/>
          </p:nvSpPr>
          <p:spPr>
            <a:xfrm>
              <a:off x="698400" y="4541760"/>
              <a:ext cx="2533680" cy="498600"/>
            </a:xfrm>
            <a:prstGeom prst="rect">
              <a:avLst/>
            </a:prstGeom>
            <a:gradFill rotWithShape="0">
              <a:gsLst>
                <a:gs pos="0">
                  <a:srgbClr val="114ffb"/>
                </a:gs>
                <a:gs pos="100000">
                  <a:srgbClr val="05174b"/>
                </a:gs>
              </a:gsLst>
              <a:lin ang="5400000"/>
            </a:gradFill>
            <a:ln w="12600">
              <a:solidFill>
                <a:srgbClr val="ffffff"/>
              </a:solidFill>
              <a:round/>
            </a:ln>
            <a:effectLst>
              <a:outerShdw dist="0" dir="0" blurRad="0" rotWithShape="0">
                <a:srgbClr val="000000"/>
              </a:outerShdw>
            </a:effectLst>
          </p:spPr>
          <p:txBody>
            <a:bodyPr lIns="0" rIns="0" tIns="0" bIns="0" anchor="t">
              <a:noAutofit/>
            </a:bodyPr>
            <a:p>
              <a:pPr algn="ctr">
                <a:lnSpc>
                  <a:spcPct val="102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&lt;client_stubs&gt;.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 txBox="1"/>
            <p:nvPr/>
          </p:nvSpPr>
          <p:spPr>
            <a:xfrm>
              <a:off x="4098960" y="4502160"/>
              <a:ext cx="654120" cy="620640"/>
            </a:xfrm>
            <a:prstGeom prst="rect">
              <a:avLst/>
            </a:prstGeom>
            <a:gradFill rotWithShape="0">
              <a:gsLst>
                <a:gs pos="0">
                  <a:srgbClr val="114ffb"/>
                </a:gs>
                <a:gs pos="100000">
                  <a:srgbClr val="05174b"/>
                </a:gs>
              </a:gsLst>
              <a:lin ang="5400000"/>
            </a:gradFill>
            <a:ln w="12600">
              <a:solidFill>
                <a:srgbClr val="ffffff"/>
              </a:solidFill>
              <a:round/>
            </a:ln>
            <a:effectLst>
              <a:outerShdw dist="0" dir="0" blurRad="0" rotWithShape="0">
                <a:srgbClr val="000000"/>
              </a:outerShdw>
            </a:effectLst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.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 txBox="1"/>
            <p:nvPr/>
          </p:nvSpPr>
          <p:spPr>
            <a:xfrm>
              <a:off x="5803920" y="4537080"/>
              <a:ext cx="2641680" cy="492120"/>
            </a:xfrm>
            <a:prstGeom prst="rect">
              <a:avLst/>
            </a:prstGeom>
            <a:gradFill rotWithShape="0">
              <a:gsLst>
                <a:gs pos="0">
                  <a:srgbClr val="114ffb"/>
                </a:gs>
                <a:gs pos="100000">
                  <a:srgbClr val="05174b"/>
                </a:gs>
              </a:gsLst>
              <a:lin ang="5400000"/>
            </a:gradFill>
            <a:ln w="12600">
              <a:solidFill>
                <a:srgbClr val="ffffff"/>
              </a:solidFill>
              <a:round/>
            </a:ln>
            <a:effectLst>
              <a:outerShdw dist="0" dir="0" blurRad="0" rotWithShape="0">
                <a:srgbClr val="000000"/>
              </a:outerShdw>
            </a:effectLst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&lt;server_stubs&gt;.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124080" y="2570040"/>
              <a:ext cx="0" cy="365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flipH="1">
              <a:off x="2506680" y="3822840"/>
              <a:ext cx="525600" cy="5871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427640" y="3790800"/>
              <a:ext cx="0" cy="5986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705640" y="3780000"/>
              <a:ext cx="760320" cy="5871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846760" y="2527200"/>
              <a:ext cx="0" cy="4492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1827360" y="228600"/>
            <a:ext cx="54896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Sample IDL Fil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996840" y="1962000"/>
            <a:ext cx="6575400" cy="40453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// </a:t>
            </a:r>
            <a:r>
              <a:rPr b="1" lang="en-US" sz="18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simple.id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[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   </a:t>
            </a:r>
            <a:r>
              <a:rPr b="1" i="1" lang="en-US" sz="1800" spc="-1" strike="noStrike">
                <a:solidFill>
                  <a:srgbClr val="fc0128"/>
                </a:solidFill>
                <a:latin typeface="Lucida Sans Typewriter"/>
                <a:ea typeface="Lucida Sans Typewriter"/>
              </a:rPr>
              <a:t>uuid</a:t>
            </a:r>
            <a:r>
              <a:rPr b="1" lang="en-US" sz="18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(9A50F380-8F36-1067-89D4-00DD010F2F1C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   </a:t>
            </a:r>
            <a:r>
              <a:rPr b="1" i="1" lang="en-US" sz="1800" spc="-1" strike="noStrike">
                <a:solidFill>
                  <a:srgbClr val="fc0128"/>
                </a:solidFill>
                <a:latin typeface="Lucida Sans Typewriter"/>
                <a:ea typeface="Lucida Sans Typewriter"/>
              </a:rPr>
              <a:t>version</a:t>
            </a:r>
            <a:r>
              <a:rPr b="1" lang="en-US" sz="18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(1.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fc0128"/>
                </a:solidFill>
                <a:latin typeface="Lucida Sans Typewriter"/>
                <a:ea typeface="Lucida Sans Typewriter"/>
              </a:rPr>
              <a:t>interface</a:t>
            </a:r>
            <a:r>
              <a:rPr b="1" lang="en-US" sz="18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 simp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lo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SimpleCall(</a:t>
            </a:r>
            <a:r>
              <a:rPr b="1" i="1" lang="en-US" sz="1800" spc="-1" strike="noStrike">
                <a:solidFill>
                  <a:srgbClr val="fc0128"/>
                </a:solidFill>
                <a:latin typeface="Lucida Sans Typewriter"/>
                <a:ea typeface="Lucida Sans Typewriter"/>
              </a:rPr>
              <a:t>[in]</a:t>
            </a:r>
            <a:r>
              <a:rPr b="1" lang="en-US" sz="18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 handle</a:t>
            </a:r>
            <a:r>
              <a:rPr b="1" lang="en-US" sz="1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_</a:t>
            </a:r>
            <a:r>
              <a:rPr b="1" lang="en-US" sz="18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t h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28800">
              <a:lnSpc>
                <a:spcPct val="100000"/>
              </a:lnSpc>
            </a:pPr>
            <a:r>
              <a:rPr b="1" i="1" lang="en-US" sz="1800" spc="-1" strike="noStrike">
                <a:solidFill>
                  <a:srgbClr val="fc0128"/>
                </a:solidFill>
                <a:latin typeface="Lucida Sans Typewriter"/>
                <a:ea typeface="Lucida Sans Typewriter"/>
              </a:rPr>
              <a:t>[in]</a:t>
            </a:r>
            <a:r>
              <a:rPr b="1" lang="en-US" sz="18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 long first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28800">
              <a:lnSpc>
                <a:spcPct val="100000"/>
              </a:lnSpc>
            </a:pPr>
            <a:r>
              <a:rPr b="1" i="1" lang="en-US" sz="1800" spc="-1" strike="noStrike">
                <a:solidFill>
                  <a:srgbClr val="fc0128"/>
                </a:solidFill>
                <a:latin typeface="Lucida Sans Typewriter"/>
                <a:ea typeface="Lucida Sans Typewriter"/>
              </a:rPr>
              <a:t>[out]</a:t>
            </a:r>
            <a:r>
              <a:rPr b="1" lang="en-US" sz="18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 long *second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Binding:  How Clients Choose Which Server To U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1135080" y="1981080"/>
            <a:ext cx="6875640" cy="454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00040" indent="-500040">
              <a:lnSpc>
                <a:spcPct val="90000"/>
              </a:lnSpc>
              <a:spcBef>
                <a:spcPts val="479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d11a"/>
                </a:solidFill>
                <a:latin typeface="Times New Roman"/>
                <a:ea typeface="Times New Roman"/>
              </a:rPr>
              <a:t>Auto-hand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36640" indent="-334800">
              <a:lnSpc>
                <a:spcPct val="90000"/>
              </a:lnSpc>
              <a:spcBef>
                <a:spcPts val="479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d11a"/>
                </a:solidFill>
                <a:latin typeface="Times New Roman"/>
                <a:ea typeface="Times New Roman"/>
              </a:rPr>
              <a:t>By matching interf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36640" indent="-334800">
              <a:lnSpc>
                <a:spcPct val="90000"/>
              </a:lnSpc>
              <a:spcBef>
                <a:spcPts val="479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d11a"/>
                </a:solidFill>
                <a:latin typeface="Times New Roman"/>
                <a:ea typeface="Times New Roman"/>
              </a:rPr>
              <a:t>Like using yellow pages to get phone num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00040" indent="-500040">
              <a:lnSpc>
                <a:spcPct val="90000"/>
              </a:lnSpc>
              <a:spcBef>
                <a:spcPts val="479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me serv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36640" indent="-334800">
              <a:lnSpc>
                <a:spcPct val="90000"/>
              </a:lnSpc>
              <a:spcBef>
                <a:spcPts val="479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y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36640" indent="-334800">
              <a:lnSpc>
                <a:spcPct val="90000"/>
              </a:lnSpc>
              <a:spcBef>
                <a:spcPts val="479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ke using white pages to get phone num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00040" indent="-500040">
              <a:lnSpc>
                <a:spcPct val="90000"/>
              </a:lnSpc>
              <a:spcBef>
                <a:spcPts val="479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st/machine na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36640" indent="-334800">
              <a:lnSpc>
                <a:spcPct val="90000"/>
              </a:lnSpc>
              <a:spcBef>
                <a:spcPts val="479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recommended:  location-depend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36640" indent="-334800">
              <a:lnSpc>
                <a:spcPct val="90000"/>
              </a:lnSpc>
              <a:spcBef>
                <a:spcPts val="479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safe if “phone number” chan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00040" indent="-500040">
              <a:lnSpc>
                <a:spcPct val="90000"/>
              </a:lnSpc>
              <a:spcBef>
                <a:spcPts val="479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-written serv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Auto Handle:  IDL Fil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990720" y="1728720"/>
            <a:ext cx="7162920" cy="32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596880" indent="-596880">
              <a:lnSpc>
                <a:spcPct val="90000"/>
              </a:lnSpc>
              <a:spcBef>
                <a:spcPts val="720"/>
              </a:spcBef>
            </a:pP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[uuid(12345678-1234-1234-123456789ABC),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96880" indent="-596880">
              <a:lnSpc>
                <a:spcPct val="90000"/>
              </a:lnSpc>
              <a:spcBef>
                <a:spcPts val="720"/>
              </a:spcBef>
            </a:pP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version (1.0)]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96880" indent="-596880">
              <a:lnSpc>
                <a:spcPct val="90000"/>
              </a:lnSpc>
              <a:spcBef>
                <a:spcPts val="720"/>
              </a:spcBef>
            </a:pP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interface auto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96880" indent="-596880">
              <a:lnSpc>
                <a:spcPct val="90000"/>
              </a:lnSpc>
              <a:spcBef>
                <a:spcPts val="720"/>
              </a:spcBef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96880" indent="-596880">
              <a:lnSpc>
                <a:spcPct val="90000"/>
              </a:lnSpc>
              <a:spcBef>
                <a:spcPts val="720"/>
              </a:spcBef>
            </a:pP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{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96880" indent="-596880">
              <a:lnSpc>
                <a:spcPct val="90000"/>
              </a:lnSpc>
              <a:spcBef>
                <a:spcPts val="720"/>
              </a:spcBef>
            </a:pP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typedef long time_t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96880" indent="-596880">
              <a:lnSpc>
                <a:spcPct val="90000"/>
              </a:lnSpc>
              <a:spcBef>
                <a:spcPts val="720"/>
              </a:spcBef>
            </a:pP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void GetTime([out] time_t *time)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96880" indent="-596880">
              <a:lnSpc>
                <a:spcPct val="90000"/>
              </a:lnSpc>
              <a:spcBef>
                <a:spcPts val="720"/>
              </a:spcBef>
            </a:pP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}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487440" y="228600"/>
            <a:ext cx="81691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Auto Handle:  ACF Fil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992160" y="1728720"/>
            <a:ext cx="7159680" cy="1580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596880" indent="-596880">
              <a:lnSpc>
                <a:spcPct val="90000"/>
              </a:lnSpc>
              <a:spcBef>
                <a:spcPts val="720"/>
              </a:spcBef>
            </a:pP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[auto_handle]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96880" indent="-596880">
              <a:lnSpc>
                <a:spcPct val="90000"/>
              </a:lnSpc>
              <a:spcBef>
                <a:spcPts val="720"/>
              </a:spcBef>
            </a:pP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interface auto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96880" indent="-596880">
              <a:lnSpc>
                <a:spcPct val="90000"/>
              </a:lnSpc>
              <a:spcBef>
                <a:spcPts val="720"/>
              </a:spcBef>
            </a:pP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{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96880" indent="-596880">
              <a:lnSpc>
                <a:spcPct val="90000"/>
              </a:lnSpc>
              <a:spcBef>
                <a:spcPts val="720"/>
              </a:spcBef>
            </a:pPr>
            <a:r>
              <a:rPr b="1" lang="en-US" sz="21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}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00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eed8"/>
                </a:solidFill>
                <a:latin typeface="Times New Roman"/>
                <a:ea typeface="Times New Roman"/>
              </a:rPr>
              <a:t>Auto Handles:  Client API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601560" y="1728720"/>
            <a:ext cx="7942320" cy="16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APIs to c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 stubs manage binding to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eed8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 calls the function as if it were loc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