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45280" y="6561000"/>
            <a:ext cx="1940400" cy="209880"/>
          </a:xfrm>
          <a:custGeom>
            <a:avLst/>
            <a:gdLst/>
            <a:ahLst/>
            <a:rect l="0" t="0" r="r" b="b"/>
            <a:pathLst>
              <a:path fill="none" w="5390" h="583">
                <a:moveTo>
                  <a:pt x="0" y="116"/>
                </a:moveTo>
                <a:lnTo>
                  <a:pt x="0" y="466"/>
                </a:lnTo>
                <a:lnTo>
                  <a:pt x="1077" y="466"/>
                </a:lnTo>
                <a:lnTo>
                  <a:pt x="1077" y="583"/>
                </a:lnTo>
                <a:lnTo>
                  <a:pt x="4312" y="583"/>
                </a:lnTo>
                <a:lnTo>
                  <a:pt x="4312" y="466"/>
                </a:lnTo>
                <a:lnTo>
                  <a:pt x="5390" y="466"/>
                </a:lnTo>
                <a:lnTo>
                  <a:pt x="5390" y="116"/>
                </a:lnTo>
                <a:lnTo>
                  <a:pt x="4312" y="116"/>
                </a:lnTo>
                <a:lnTo>
                  <a:pt x="4312" y="0"/>
                </a:lnTo>
                <a:lnTo>
                  <a:pt x="1077" y="0"/>
                </a:lnTo>
                <a:lnTo>
                  <a:pt x="1077" y="116"/>
                </a:lnTo>
                <a:lnTo>
                  <a:pt x="0" y="116"/>
                </a:lnTo>
              </a:path>
            </a:pathLst>
          </a:custGeom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703680" y="1522440"/>
            <a:ext cx="520704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nderstanding and Implementing O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908520" y="4400640"/>
            <a:ext cx="4640400" cy="15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ara Williams</a:t>
            </a:r>
            <a:br>
              <a:rPr sz="3600"/>
            </a:br>
            <a:r>
              <a:rPr b="1" lang="en-US" sz="36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eveloper Rel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692520" y="4173480"/>
            <a:ext cx="5070600" cy="0"/>
          </a:xfrm>
          <a:prstGeom prst="line">
            <a:avLst/>
          </a:prstGeom>
          <a:ln w="38160">
            <a:solidFill>
              <a:srgbClr val="00ee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9760" y="1395360"/>
            <a:ext cx="30258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76320" y="228600"/>
            <a:ext cx="8991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Benefits Of Uniform Data Transf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55480" y="1620720"/>
            <a:ext cx="803268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er format and stor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ET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GMEDIU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e data for specific output devices, resulting in better output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onikers to automate the connection, use </a:t>
            </a:r>
            <a:r>
              <a:rPr b="1" lang="en-US" sz="2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DataObjec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facilitate the ex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data on a variety of mediums; be able to consume data in the same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DataObjec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sole data-exchange interface for programmers to under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rag-And-Drop Fea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0840" y="1204920"/>
            <a:ext cx="83026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protocol added in OL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es user’s action from the transfer mechanism, allowing for significant code re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s a data object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thing you can describe in a data object can be exchanged via Drag-and-Drop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an use the same data object it does for the clipboard or any other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 receives a data object on a drop, identical to a clipboard data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oited in the “Chicago”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541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onik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5360" y="995400"/>
            <a:ext cx="8292960" cy="56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istent components that automate connections between data and a consu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prechaun”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lds a map to the source and instructions for following the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“binding” code to execute the instructions, through </a:t>
            </a: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Monik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erialize itself to a 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 implements File, Item, and Composite moni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can implement your own:  just make a component with </a:t>
            </a: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Moni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397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mpoun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66720" y="1104840"/>
            <a:ext cx="781056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LE 2 specifications describe a “Structured Storage Mode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 implements this model; implementation is called “Compound Fi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from the “Cairo” Object File System (OF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ile system within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ies:  storage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:  stream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for a file what the FAT file system does for a disk dr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31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File System Within A F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76400" y="1500120"/>
            <a:ext cx="5486400" cy="4572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76400" y="15001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ot storag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4280" y="25671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214280" y="25671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48200" y="25671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48200" y="25671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67120" y="25671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67120" y="25671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77000" y="25671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777000" y="25671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52920" y="195732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900080" y="1957320"/>
            <a:ext cx="457200" cy="60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634000" y="195732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57880" y="1957320"/>
            <a:ext cx="381240" cy="60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3920" y="355752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3920" y="355752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5200" y="355752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5200" y="355752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05600" y="355752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005600" y="355752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76400" y="355752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76400" y="355752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05400" y="355752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405400" y="355752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909720" y="2871720"/>
            <a:ext cx="609480" cy="68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281320" y="287172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567320" y="2871720"/>
            <a:ext cx="685800" cy="68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0320" y="2871720"/>
            <a:ext cx="380880" cy="68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167520" y="2871720"/>
            <a:ext cx="838080" cy="68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4120" y="43959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24120" y="43959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00" y="43959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7600" y="43959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386244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2880" y="3862440"/>
            <a:ext cx="106704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28880" y="43959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728880" y="43959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91000" y="386244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39120" y="43959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539120" y="43959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10320" y="43959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0320" y="43959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72280" y="3862440"/>
            <a:ext cx="22860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396120" y="3862440"/>
            <a:ext cx="99036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002280" y="5238720"/>
            <a:ext cx="2006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s can ex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no streams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6724800" y="4781520"/>
            <a:ext cx="280800" cy="528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005600" y="4776840"/>
            <a:ext cx="68580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71600" y="5443560"/>
            <a:ext cx="3657600" cy="1157400"/>
            <a:chOff x="471600" y="5443560"/>
            <a:chExt cx="3657600" cy="1157400"/>
          </a:xfrm>
        </p:grpSpPr>
        <p:sp>
          <p:nvSpPr>
            <p:cNvPr id="170" name=""/>
            <p:cNvSpPr/>
            <p:nvPr/>
          </p:nvSpPr>
          <p:spPr>
            <a:xfrm>
              <a:off x="1766880" y="6210360"/>
              <a:ext cx="187200" cy="2001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54080" y="6310440"/>
              <a:ext cx="498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33600" y="6148440"/>
              <a:ext cx="1447920" cy="30492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2433600" y="6148440"/>
              <a:ext cx="1447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rea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71760" y="5624640"/>
              <a:ext cx="1447920" cy="30492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2471760" y="5624640"/>
              <a:ext cx="1447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o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71560" y="5672160"/>
              <a:ext cx="185760" cy="2001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57320" y="5772240"/>
              <a:ext cx="50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593640" y="5576760"/>
              <a:ext cx="1022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Sto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636480" y="6134040"/>
              <a:ext cx="984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Strea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1600" y="5443560"/>
              <a:ext cx="3657600" cy="11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Benefits Of Compoun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16080" y="1373040"/>
            <a:ext cx="8512200" cy="50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ransactioning support; incremental access by defa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s accessed by name, not seek off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under low-memory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format is public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can port to any plat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with Windows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 Information” 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controls the layout of elements in file and manages unused space in th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Visual Edi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92280" y="1162080"/>
            <a:ext cx="7759800" cy="55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 intensi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places a window in the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and object menus me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controls tools in container’s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interfaces needed on both sides to handle negoti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basic embedding support on both s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ed objects appear as part of the container:  no loss of document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23720" y="1052640"/>
            <a:ext cx="8296200" cy="55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t from other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applications to expose end-user- level </a:t>
            </a: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ethod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roperti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a </a:t>
            </a: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Disp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is an Automation “serv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utomation “client” uses </a:t>
            </a: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Dispatc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rn names of methods an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ieve type information for methods/p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oke those methods or get and set those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library provides the information without having to run a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Benefits Of Auto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6800" y="1295280"/>
            <a:ext cx="76122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macro programming without writing a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demonstration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user-chosen tool can drive all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 can apply Auto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olution providers to integrate applications together to develop a custom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31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OLE 2 Technology 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562040" y="1511280"/>
            <a:ext cx="6019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linking and embed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-and-Drop fe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E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41580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733400"/>
            <a:ext cx="71629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to OLE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MFC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Look - What’s coming Nex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58720" y="271440"/>
            <a:ext cx="8655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OLE Toda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22280" y="1076400"/>
            <a:ext cx="8299440" cy="57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is </a:t>
            </a: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hi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 shipped 4/93; OLE 2.01 shipped 11/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+ applications listed in OLE Applications Cata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% of PDC attendees will implement OLE 2 in thei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is </a:t>
            </a: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ulti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:  ship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ytona”, Win32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“Chicago”, and M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b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VMS, OSF/1, AI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HP-U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unOS, and Ultri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41580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90720" y="1733400"/>
            <a:ext cx="71629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to OLE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MFC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Look - What’s coming Nex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85640" y="174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icrosoft Foundation Classes (MFC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33480" y="1890720"/>
            <a:ext cx="7777080" cy="29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frame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Windows program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s and View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and Rou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zar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ocuments And View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920" y="1320840"/>
            <a:ext cx="22669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:  stores data in efficien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959200" y="1623960"/>
            <a:ext cx="17463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: visible portion of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89680" y="1316160"/>
            <a:ext cx="3263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:  renders visible data and responds to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81160" y="1981080"/>
            <a:ext cx="0" cy="781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62680" y="1981080"/>
            <a:ext cx="0" cy="54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775480" y="5083200"/>
            <a:ext cx="2749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:  contained within frame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800760" y="4167360"/>
            <a:ext cx="0" cy="957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33520" y="2502000"/>
            <a:ext cx="7521480" cy="3917880"/>
            <a:chOff x="533520" y="2502000"/>
            <a:chExt cx="7521480" cy="3917880"/>
          </a:xfrm>
        </p:grpSpPr>
        <p:sp>
          <p:nvSpPr>
            <p:cNvPr id="206" name=""/>
            <p:cNvSpPr/>
            <p:nvPr/>
          </p:nvSpPr>
          <p:spPr>
            <a:xfrm>
              <a:off x="533520" y="2762280"/>
              <a:ext cx="3219480" cy="365760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138480" y="2819520"/>
              <a:ext cx="2709720" cy="885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162240" y="3848040"/>
              <a:ext cx="2629080" cy="946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5791320" y="2502000"/>
              <a:ext cx="2263680" cy="1663560"/>
              <a:chOff x="5791320" y="2502000"/>
              <a:chExt cx="2263680" cy="1663560"/>
            </a:xfrm>
          </p:grpSpPr>
          <p:sp>
            <p:nvSpPr>
              <p:cNvPr id="210" name=""/>
              <p:cNvSpPr/>
              <p:nvPr/>
            </p:nvSpPr>
            <p:spPr>
              <a:xfrm>
                <a:off x="5791320" y="2681280"/>
                <a:ext cx="2119320" cy="1312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908840" y="2530440"/>
                <a:ext cx="146160" cy="1635120"/>
              </a:xfrm>
              <a:prstGeom prst="rect">
                <a:avLst/>
              </a:prstGeom>
              <a:blipFill rotWithShape="0">
                <a:blip r:embed="rId1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91320" y="3994200"/>
                <a:ext cx="2117880" cy="171360"/>
              </a:xfrm>
              <a:prstGeom prst="rect">
                <a:avLst/>
              </a:pr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91320" y="2527200"/>
                <a:ext cx="2114640" cy="1522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15320" y="2679840"/>
                <a:ext cx="133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920000" y="3994200"/>
                <a:ext cx="133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>
                <a:off x="6404040" y="2502000"/>
                <a:ext cx="8701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y Document: 1</a:t>
                </a: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039000" y="2914560"/>
                <a:ext cx="133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39000" y="3048120"/>
                <a:ext cx="9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95880" y="37908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305400" y="3257640"/>
                <a:ext cx="361800" cy="304920"/>
              </a:xfrm>
              <a:prstGeom prst="ellipse">
                <a:avLst/>
              </a:prstGeom>
              <a:solidFill>
                <a:srgbClr val="3333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553080" y="3524400"/>
                <a:ext cx="361800" cy="1522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5919840" y="2536920"/>
                <a:ext cx="0" cy="133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763040" y="2527200"/>
                <a:ext cx="141120" cy="152280"/>
              </a:xfrm>
              <a:prstGeom prst="rect">
                <a:avLst/>
              </a:prstGeom>
              <a:blipFill rotWithShape="0">
                <a:blip r:embed="rId3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834160" y="2603520"/>
                <a:ext cx="47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047600" y="3143160"/>
              <a:ext cx="2286000" cy="3029040"/>
              <a:chOff x="1047600" y="3143160"/>
              <a:chExt cx="2286000" cy="3029040"/>
            </a:xfrm>
          </p:grpSpPr>
          <p:sp>
            <p:nvSpPr>
              <p:cNvPr id="226" name=""/>
              <p:cNvSpPr/>
              <p:nvPr/>
            </p:nvSpPr>
            <p:spPr>
              <a:xfrm>
                <a:off x="1047600" y="3638520"/>
                <a:ext cx="2119320" cy="1312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19320" y="3790800"/>
                <a:ext cx="133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19320" y="3924360"/>
                <a:ext cx="9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76200" y="46674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86080" y="4133880"/>
                <a:ext cx="361800" cy="304920"/>
              </a:xfrm>
              <a:prstGeom prst="ellipse">
                <a:avLst/>
              </a:prstGeom>
              <a:solidFill>
                <a:srgbClr val="3333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33400" y="4324320"/>
                <a:ext cx="361800" cy="1522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047600" y="5086440"/>
                <a:ext cx="2038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047600" y="5353200"/>
                <a:ext cx="2210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047600" y="3429000"/>
                <a:ext cx="1847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7600" y="3143160"/>
                <a:ext cx="167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47600" y="6172200"/>
                <a:ext cx="228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95560" y="5695920"/>
                <a:ext cx="609840" cy="205200"/>
              </a:xfrm>
              <a:custGeom>
                <a:avLst/>
                <a:gdLst/>
                <a:ahLst/>
                <a:rect l="0" t="0" r="r" b="b"/>
                <a:pathLst>
                  <a:path w="1694" h="570">
                    <a:moveTo>
                      <a:pt x="0" y="171"/>
                    </a:moveTo>
                    <a:lnTo>
                      <a:pt x="0" y="399"/>
                    </a:lnTo>
                    <a:lnTo>
                      <a:pt x="507" y="570"/>
                    </a:lnTo>
                    <a:lnTo>
                      <a:pt x="1186" y="570"/>
                    </a:lnTo>
                    <a:lnTo>
                      <a:pt x="1694" y="399"/>
                    </a:lnTo>
                    <a:lnTo>
                      <a:pt x="1694" y="171"/>
                    </a:lnTo>
                    <a:lnTo>
                      <a:pt x="1186" y="0"/>
                    </a:lnTo>
                    <a:lnTo>
                      <a:pt x="507" y="0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047600" y="5734080"/>
                <a:ext cx="552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"/>
          <p:cNvSpPr/>
          <p:nvPr/>
        </p:nvSpPr>
        <p:spPr>
          <a:xfrm flipH="1">
            <a:off x="2894040" y="2552760"/>
            <a:ext cx="401760" cy="108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ocuments And View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155600" y="1424160"/>
            <a:ext cx="68324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Doc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application-specific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s and saves state by overriding Serialize member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disk file, database,          non-file-based storage mech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 and IStream is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s IPersistStorage, IPersist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ocuments And View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184400" y="1263600"/>
            <a:ext cx="6777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graphical display of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View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-a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hild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change notification and enables optimized dr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(distinct) views  on a single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es the UI code from frame level gadgetry (SDI, MDI, or in-pl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mmand Rou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69920" y="1504800"/>
            <a:ext cx="70056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 class CCmdTarget coordinates routing of commands, command updates, and control not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es the bulk of your application code from dependencies on the source of the comm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OLE Auto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363920" y="3735360"/>
            <a:ext cx="895320" cy="1657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59520" y="4554360"/>
            <a:ext cx="8190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63920" y="3697200"/>
            <a:ext cx="89532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49520" y="2935440"/>
            <a:ext cx="89532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mmand Routing 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(MDI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64480" y="4313160"/>
            <a:ext cx="1554120" cy="488880"/>
          </a:xfrm>
          <a:prstGeom prst="rect">
            <a:avLst/>
          </a:prstGeom>
          <a:solidFill>
            <a:srgbClr val="37006d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82880" y="2325600"/>
            <a:ext cx="1447560" cy="4762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253120" y="4313160"/>
            <a:ext cx="876240" cy="488880"/>
          </a:xfrm>
          <a:prstGeom prst="rect">
            <a:avLst/>
          </a:prstGeom>
          <a:solidFill>
            <a:srgbClr val="37006d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338720" y="3481560"/>
            <a:ext cx="2824200" cy="488880"/>
          </a:xfrm>
          <a:prstGeom prst="rect">
            <a:avLst/>
          </a:prstGeom>
          <a:solidFill>
            <a:srgbClr val="37006d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DI Child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253120" y="5056200"/>
            <a:ext cx="1739880" cy="488880"/>
          </a:xfrm>
          <a:prstGeom prst="rect">
            <a:avLst/>
          </a:prstGeom>
          <a:solidFill>
            <a:srgbClr val="37006d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424320" y="2633760"/>
            <a:ext cx="2959200" cy="488880"/>
          </a:xfrm>
          <a:prstGeom prst="rect">
            <a:avLst/>
          </a:prstGeom>
          <a:solidFill>
            <a:srgbClr val="37006d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DI Frame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31880" y="1871640"/>
            <a:ext cx="2622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M_COMM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16360" y="3483000"/>
            <a:ext cx="895320" cy="1657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11960" y="4302000"/>
            <a:ext cx="8190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3444840"/>
            <a:ext cx="89532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5640" y="228600"/>
            <a:ext cx="817236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mmand Routing </a:t>
            </a:r>
            <a:br>
              <a:rPr sz="4800"/>
            </a:br>
            <a:r>
              <a:rPr b="1" lang="en-US" sz="40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(OLE 2.0 In-plac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316560" y="4060800"/>
            <a:ext cx="1554120" cy="488880"/>
          </a:xfrm>
          <a:prstGeom prst="rect">
            <a:avLst/>
          </a:prstGeom>
          <a:solidFill>
            <a:srgbClr val="37006d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30440" y="2511360"/>
            <a:ext cx="1238400" cy="62856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705200" y="4060800"/>
            <a:ext cx="876240" cy="488880"/>
          </a:xfrm>
          <a:prstGeom prst="rect">
            <a:avLst/>
          </a:prstGeom>
          <a:solidFill>
            <a:srgbClr val="37006d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790800" y="3228840"/>
            <a:ext cx="3297240" cy="488880"/>
          </a:xfrm>
          <a:prstGeom prst="rect">
            <a:avLst/>
          </a:prstGeom>
          <a:solidFill>
            <a:srgbClr val="37006d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place Frame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705200" y="4803840"/>
            <a:ext cx="1739880" cy="488880"/>
          </a:xfrm>
          <a:prstGeom prst="rect">
            <a:avLst/>
          </a:prstGeom>
          <a:solidFill>
            <a:srgbClr val="37006d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279440" y="2057400"/>
            <a:ext cx="2622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M_COMM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Lots Of Imple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19320" y="1343160"/>
            <a:ext cx="670572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useful default implementation of OL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20,000 lines of C++ code dedicated to 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that you don’t have to writ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us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dialo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u negot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/Control bar negoti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OLE 2.0 - What is i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733400"/>
            <a:ext cx="71629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 (C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Interoperability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ation for other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zards For O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413000" y="1461960"/>
            <a:ext cx="6319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Wiz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 (mini or fu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utomation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/server comb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Wiz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new OLE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utomation (lots of op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85640" y="903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FC OLE 2.0 Imple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90720" y="1469880"/>
            <a:ext cx="716292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FC provides reusable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mework implements the right interfaces and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reuse a lot of the standard MFC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UI code prepacka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language with MFC framework architecture and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fe migration path from 16- to 32-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OLE 2.0 Features Suppor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533600" y="1405080"/>
            <a:ext cx="607680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ransfer/Drag-and-Drop fe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uto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mponent Object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90720" y="1276200"/>
            <a:ext cx="716292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 underlying 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FC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maps for Query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of AddRef and 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override at the interfac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lassFactory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e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16080" y="228600"/>
            <a:ext cx="8512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ata Transfer/Drag-And-Drop Fea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090440" y="1933560"/>
            <a:ext cx="764064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ransfer (IDataObjec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CDataObjec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erv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CDataSourc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receiv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eServerItem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s-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ata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-and-Drop fe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COleDrop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COleDropTar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170000" y="1519200"/>
            <a:ext cx="68054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FC supports flat files or Compoun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, just implement Serialize and use CArchiv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ly, use COleStreamFile to take greater advantage of OLE 2.0 Structured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ntainer Application Cla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041480" y="1301760"/>
            <a:ext cx="706284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COleDoc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s as container for COleClient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structured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COleLinkingD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support for links to embed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COleClientI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apper for IOleObject, IDataObject, IOleInPlace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sites and sink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er Application Cla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184400" y="1301760"/>
            <a:ext cx="67770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COleServerD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In-place 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COleServerI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OLE specific glue to your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links to parts of a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COleTemplate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 implementation of class factory - tied into doc temp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684440" y="1362240"/>
            <a:ext cx="57769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COleIPFrameW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for In-place Activate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es from CFrameW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“inside-out” layout of control b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COleResize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in-place resizing user-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er Application Cla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OLE Auto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212840" y="1204920"/>
            <a:ext cx="671976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LE Automation servers - Automation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Disp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safety ad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a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ype-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LE Automation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IDisp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d like other messages/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able from any Automation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OLE 2.0 - A Collection Of Integrated Technolog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36720" y="2133720"/>
            <a:ext cx="7272360" cy="4441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10520" y="4527720"/>
            <a:ext cx="0" cy="1539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46320" y="6068880"/>
            <a:ext cx="6603840" cy="619200"/>
          </a:xfrm>
          <a:prstGeom prst="round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06720" y="5281560"/>
            <a:ext cx="1960560" cy="414360"/>
          </a:xfrm>
          <a:prstGeom prst="round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94320" y="5281560"/>
            <a:ext cx="1130400" cy="414360"/>
          </a:xfrm>
          <a:prstGeom prst="round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94600" y="4124160"/>
            <a:ext cx="1378080" cy="414360"/>
          </a:xfrm>
          <a:prstGeom prst="round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98720" y="4548240"/>
            <a:ext cx="2409840" cy="442800"/>
          </a:xfrm>
          <a:prstGeom prst="round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1320" y="2855880"/>
            <a:ext cx="2428920" cy="371520"/>
          </a:xfrm>
          <a:prstGeom prst="round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28880" y="6205680"/>
            <a:ext cx="498960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s and the Component Object 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549760" y="5311800"/>
            <a:ext cx="1019160" cy="33660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340320" y="4133880"/>
            <a:ext cx="128592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147840" y="5291280"/>
            <a:ext cx="167652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044800" y="4600440"/>
            <a:ext cx="2216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70280" y="2852640"/>
            <a:ext cx="125244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bed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440" y="2125800"/>
            <a:ext cx="0" cy="396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5600" y="2125800"/>
            <a:ext cx="0" cy="738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9360" y="3227400"/>
            <a:ext cx="0" cy="1325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45000" y="2330280"/>
            <a:ext cx="0" cy="524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64200" y="2327400"/>
            <a:ext cx="0" cy="3725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75400" y="2336760"/>
            <a:ext cx="0" cy="2935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20760" y="1700280"/>
            <a:ext cx="6673680" cy="1619280"/>
          </a:xfrm>
          <a:prstGeom prst="roundRect">
            <a:avLst/>
          </a:prstGeom>
          <a:noFill/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246720" y="2600280"/>
            <a:ext cx="13399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mpo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29080" y="5699160"/>
            <a:ext cx="0" cy="377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46440" y="5010120"/>
            <a:ext cx="0" cy="291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59520" y="5699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28920" y="3797280"/>
            <a:ext cx="2057400" cy="384120"/>
          </a:xfrm>
          <a:prstGeom prst="round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114ffb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93920" y="3794040"/>
            <a:ext cx="236844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-and-Drop fea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57720" y="4181400"/>
            <a:ext cx="0" cy="376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789200" y="3051000"/>
            <a:ext cx="488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789200" y="3984480"/>
            <a:ext cx="625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789200" y="4765680"/>
            <a:ext cx="206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63640" y="3008160"/>
            <a:ext cx="6048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3951360"/>
            <a:ext cx="6048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4280" y="4738680"/>
            <a:ext cx="60480" cy="69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789200" y="2406600"/>
            <a:ext cx="229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54280" y="2371680"/>
            <a:ext cx="6048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67320" y="3230640"/>
            <a:ext cx="0" cy="204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53360" y="4551480"/>
            <a:ext cx="0" cy="72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3760" y="3224160"/>
            <a:ext cx="0" cy="57168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3760" y="2324160"/>
            <a:ext cx="1128960" cy="1143360"/>
          </a:xfrm>
          <a:custGeom>
            <a:avLst/>
            <a:gdLst/>
            <a:ahLst/>
            <a:rect l="0" t="0" r="r" b="b"/>
            <a:pathLst>
              <a:path fill="none" w="3136" h="3176">
                <a:moveTo>
                  <a:pt x="3136" y="0"/>
                </a:moveTo>
                <a:lnTo>
                  <a:pt x="3136" y="3176"/>
                </a:lnTo>
                <a:lnTo>
                  <a:pt x="0" y="317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73520" y="3446640"/>
            <a:ext cx="6048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919191"/>
            </a:solidFill>
            <a:round/>
          </a:ln>
        </p:spPr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84560" y="2046240"/>
            <a:ext cx="2641680" cy="511200"/>
          </a:xfrm>
          <a:prstGeom prst="round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937040" y="2098800"/>
            <a:ext cx="93672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47840" y="1808280"/>
            <a:ext cx="2622600" cy="471600"/>
          </a:xfrm>
          <a:prstGeom prst="round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697040" y="1838160"/>
            <a:ext cx="191304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FC/OLE Is Extensib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069920" y="1378080"/>
            <a:ext cx="70056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override the default functionality provided by the frame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 overrides are done at the C++ virtual function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override at OLE interfac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all native OLE API when necessa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FC OLE 2.0 Cla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454040" y="905040"/>
            <a:ext cx="672624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85640" y="41580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90720" y="1733400"/>
            <a:ext cx="71629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to OLE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MFC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Look - What’s coming Nex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85640" y="41580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90720" y="1733400"/>
            <a:ext cx="71629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to OLE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MFC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Look - What’s coming Nex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85640" y="231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here We Are Go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181160" y="1262160"/>
            <a:ext cx="67816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-transparent object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for custom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document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 and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forms and supporting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components for “Cair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ll built on the Component Object Model</a:t>
            </a:r>
            <a:r>
              <a:rPr b="1" lang="en-US" sz="32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85640" y="231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xtending Reach Of O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62120" y="1123920"/>
            <a:ext cx="7620120" cy="53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can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same process (like DL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nother process (separate EX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another machine (via RP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ll cases, the code that you write is </a:t>
            </a: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code doesn’t </a:t>
            </a:r>
            <a:r>
              <a:rPr b="1" lang="en-US" sz="2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ar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ere the objec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ill get remote objects, across the network, for FRE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 handles all the hard stuff for you, behind the sc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181160" y="609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Objects Live Anywhe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28760" y="1238400"/>
            <a:ext cx="2629080" cy="374328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19680" y="1714680"/>
            <a:ext cx="2705040" cy="139068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2914560"/>
            <a:ext cx="581040" cy="561960"/>
          </a:xfrm>
          <a:prstGeom prst="roundRect">
            <a:avLst/>
          </a:prstGeom>
          <a:solidFill>
            <a:srgbClr val="37006d"/>
          </a:solidFill>
          <a:ln w="12600">
            <a:solidFill>
              <a:srgbClr val="00eed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3067200"/>
            <a:ext cx="152280" cy="152280"/>
          </a:xfrm>
          <a:prstGeom prst="ellipse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95600" y="314316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314316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14960" y="2190600"/>
            <a:ext cx="152280" cy="152280"/>
          </a:xfrm>
          <a:prstGeom prst="ellipse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24240" y="1962000"/>
            <a:ext cx="509760" cy="504720"/>
          </a:xfrm>
          <a:prstGeom prst="roundRect">
            <a:avLst/>
          </a:prstGeom>
          <a:solidFill>
            <a:srgbClr val="37006d"/>
          </a:solidFill>
          <a:ln w="12600">
            <a:solidFill>
              <a:srgbClr val="00eed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438280" y="2205000"/>
            <a:ext cx="2038320" cy="1052640"/>
          </a:xfrm>
          <a:prstGeom prst="line">
            <a:avLst/>
          </a:prstGeom>
          <a:ln w="12600">
            <a:solidFill>
              <a:srgbClr val="00eed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14640" y="1676520"/>
            <a:ext cx="609480" cy="762120"/>
          </a:xfrm>
          <a:prstGeom prst="round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81120" y="1828800"/>
            <a:ext cx="152280" cy="152280"/>
          </a:xfrm>
          <a:prstGeom prst="ellipse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47600" y="19051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52480" y="190512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4514760"/>
            <a:ext cx="2876400" cy="133344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57400" y="4019400"/>
            <a:ext cx="595440" cy="519120"/>
          </a:xfrm>
          <a:prstGeom prst="roundRect">
            <a:avLst/>
          </a:prstGeom>
          <a:solidFill>
            <a:srgbClr val="37006d"/>
          </a:solidFill>
          <a:ln w="12600">
            <a:solidFill>
              <a:srgbClr val="00eed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4172040"/>
            <a:ext cx="152280" cy="152280"/>
          </a:xfrm>
          <a:prstGeom prst="ellipse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95600" y="424800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90720" y="424800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5880" y="4686480"/>
            <a:ext cx="585720" cy="590400"/>
          </a:xfrm>
          <a:prstGeom prst="roundRect">
            <a:avLst/>
          </a:prstGeom>
          <a:solidFill>
            <a:srgbClr val="37006d"/>
          </a:solidFill>
          <a:ln w="12600">
            <a:solidFill>
              <a:srgbClr val="00eed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47800" y="6197760"/>
            <a:ext cx="3848400" cy="0"/>
          </a:xfrm>
          <a:prstGeom prst="line">
            <a:avLst/>
          </a:prstGeom>
          <a:ln w="2030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46360" y="6192720"/>
            <a:ext cx="3852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77000" y="4838760"/>
            <a:ext cx="609480" cy="762120"/>
          </a:xfrm>
          <a:prstGeom prst="round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467480" y="506736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315200" y="4991040"/>
            <a:ext cx="152280" cy="152280"/>
          </a:xfrm>
          <a:prstGeom prst="ellipse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634000" y="2038320"/>
            <a:ext cx="609480" cy="762120"/>
          </a:xfrm>
          <a:prstGeom prst="round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86320" y="226692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102120" y="6216480"/>
            <a:ext cx="2940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R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22280" y="5062680"/>
            <a:ext cx="1725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792600" y="1130400"/>
            <a:ext cx="2070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5676840" y="3956040"/>
            <a:ext cx="2386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495520" y="4267080"/>
            <a:ext cx="914760" cy="1814760"/>
          </a:xfrm>
          <a:custGeom>
            <a:avLst/>
            <a:gdLst/>
            <a:ahLst/>
            <a:rect l="0" t="0" r="r" b="b"/>
            <a:pathLst>
              <a:path fill="none" w="2541" h="5041">
                <a:moveTo>
                  <a:pt x="2541" y="5041"/>
                </a:moveTo>
                <a:lnTo>
                  <a:pt x="2541" y="5041"/>
                </a:lnTo>
                <a:lnTo>
                  <a:pt x="2541" y="5041"/>
                </a:lnTo>
                <a:cubicBezTo>
                  <a:pt x="2541" y="4156"/>
                  <a:pt x="2424" y="3287"/>
                  <a:pt x="2201" y="2520"/>
                </a:cubicBezTo>
                <a:cubicBezTo>
                  <a:pt x="1978" y="1754"/>
                  <a:pt x="1657" y="1118"/>
                  <a:pt x="1270" y="675"/>
                </a:cubicBezTo>
                <a:cubicBezTo>
                  <a:pt x="884" y="233"/>
                  <a:pt x="446" y="0"/>
                  <a:pt x="0" y="0"/>
                </a:cubicBezTo>
              </a:path>
            </a:pathLst>
          </a:custGeom>
          <a:ln w="12600">
            <a:solidFill>
              <a:srgbClr val="00eed8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24560" y="5143320"/>
            <a:ext cx="686160" cy="978120"/>
          </a:xfrm>
          <a:custGeom>
            <a:avLst/>
            <a:gdLst/>
            <a:ahLst/>
            <a:rect l="0" t="0" r="r" b="b"/>
            <a:pathLst>
              <a:path fill="none" w="1906" h="2717">
                <a:moveTo>
                  <a:pt x="1906" y="0"/>
                </a:moveTo>
                <a:lnTo>
                  <a:pt x="1906" y="0"/>
                </a:lnTo>
                <a:cubicBezTo>
                  <a:pt x="1571" y="0"/>
                  <a:pt x="1243" y="126"/>
                  <a:pt x="953" y="364"/>
                </a:cubicBezTo>
                <a:cubicBezTo>
                  <a:pt x="663" y="602"/>
                  <a:pt x="423" y="945"/>
                  <a:pt x="255" y="1359"/>
                </a:cubicBezTo>
                <a:cubicBezTo>
                  <a:pt x="88" y="1772"/>
                  <a:pt x="0" y="2240"/>
                  <a:pt x="0" y="2717"/>
                </a:cubicBezTo>
              </a:path>
            </a:pathLst>
          </a:custGeom>
          <a:ln w="12600">
            <a:solidFill>
              <a:srgbClr val="00eed8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86480" y="5067360"/>
            <a:ext cx="8287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43280" y="22669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39560" y="749160"/>
            <a:ext cx="2355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roc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0" y="228600"/>
            <a:ext cx="8893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istributed Object Infra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08120" y="1903320"/>
            <a:ext cx="77295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 plus network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COM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standard RPC for 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DL compiler supports custom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object loc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activatio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vailable on multiple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42880" y="3957480"/>
            <a:ext cx="1104840" cy="946080"/>
          </a:xfrm>
          <a:prstGeom prst="round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14240" y="228600"/>
            <a:ext cx="7715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CE:  Interoperable R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94200" y="1295280"/>
            <a:ext cx="3581280" cy="209088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00640" y="2382840"/>
            <a:ext cx="1917720" cy="3149640"/>
          </a:xfrm>
          <a:prstGeom prst="roundRect">
            <a:avLst/>
          </a:prstGeom>
          <a:noFill/>
          <a:ln w="12600">
            <a:solidFill>
              <a:srgbClr val="00eed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670720" y="4430880"/>
            <a:ext cx="1265400" cy="946080"/>
          </a:xfrm>
          <a:prstGeom prst="round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46240" y="2619360"/>
            <a:ext cx="2728800" cy="2598840"/>
          </a:xfrm>
          <a:prstGeom prst="roundRect">
            <a:avLst/>
          </a:prstGeom>
          <a:noFill/>
          <a:ln w="12600">
            <a:solidFill>
              <a:srgbClr val="00eed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138480" y="2855880"/>
            <a:ext cx="515880" cy="471600"/>
          </a:xfrm>
          <a:prstGeom prst="roundRect">
            <a:avLst/>
          </a:prstGeom>
          <a:solidFill>
            <a:srgbClr val="00004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9920" y="4361040"/>
            <a:ext cx="6811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810560" y="3327480"/>
            <a:ext cx="958680" cy="189072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19040" y="2778120"/>
            <a:ext cx="1568520" cy="536400"/>
          </a:xfrm>
          <a:prstGeom prst="rect">
            <a:avLst/>
          </a:prstGeom>
          <a:solidFill>
            <a:srgbClr val="00004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 manag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515960" y="3878280"/>
            <a:ext cx="1106640" cy="94608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shal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IFo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51040" y="4273560"/>
            <a:ext cx="149400" cy="157320"/>
          </a:xfrm>
          <a:prstGeom prst="ellipse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00080" y="4352760"/>
            <a:ext cx="58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397044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o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327400" y="3800520"/>
            <a:ext cx="0" cy="237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254320" y="3643200"/>
            <a:ext cx="147600" cy="157320"/>
          </a:xfrm>
          <a:prstGeom prst="ellipse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327400" y="3249720"/>
            <a:ext cx="0" cy="393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106640" y="3495600"/>
            <a:ext cx="120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PCProx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297240" y="3797280"/>
            <a:ext cx="1414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PCChann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443560" y="2529000"/>
            <a:ext cx="1628640" cy="957240"/>
          </a:xfrm>
          <a:prstGeom prst="rect">
            <a:avLst/>
          </a:prstGeom>
          <a:solidFill>
            <a:srgbClr val="00004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 manag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dispatc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743440" y="4352760"/>
            <a:ext cx="1282680" cy="94284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rshal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IFo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7277040" y="451944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o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703920" y="4781520"/>
            <a:ext cx="1548000" cy="157320"/>
            <a:chOff x="6703920" y="4781520"/>
            <a:chExt cx="1548000" cy="157320"/>
          </a:xfrm>
        </p:grpSpPr>
        <p:sp>
          <p:nvSpPr>
            <p:cNvPr id="363" name=""/>
            <p:cNvSpPr/>
            <p:nvPr/>
          </p:nvSpPr>
          <p:spPr>
            <a:xfrm>
              <a:off x="6703920" y="4861080"/>
              <a:ext cx="811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62960" y="4861080"/>
              <a:ext cx="588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15360" y="4781520"/>
              <a:ext cx="147600" cy="157320"/>
            </a:xfrm>
            <a:prstGeom prst="ellipse">
              <a:avLst/>
            </a:prstGeom>
            <a:solidFill>
              <a:srgbClr val="37006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"/>
          <p:cNvSpPr txBox="1"/>
          <p:nvPr/>
        </p:nvSpPr>
        <p:spPr>
          <a:xfrm>
            <a:off x="5538960" y="3811680"/>
            <a:ext cx="1087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PCStu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360600" y="3171960"/>
            <a:ext cx="0" cy="392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86080" y="3564000"/>
            <a:ext cx="147600" cy="158760"/>
          </a:xfrm>
          <a:prstGeom prst="ellipse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20040" y="3878280"/>
            <a:ext cx="147600" cy="160200"/>
          </a:xfrm>
          <a:prstGeom prst="ellipse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6703920" y="4038480"/>
            <a:ext cx="0" cy="392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703920" y="3303720"/>
            <a:ext cx="0" cy="550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957320" y="2303640"/>
            <a:ext cx="149400" cy="158760"/>
          </a:xfrm>
          <a:prstGeom prst="ellipse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033640" y="2462040"/>
            <a:ext cx="0" cy="393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070000" y="2236680"/>
            <a:ext cx="1109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75000" y="3643200"/>
            <a:ext cx="811440" cy="787680"/>
          </a:xfrm>
          <a:custGeom>
            <a:avLst/>
            <a:gdLst/>
            <a:ahLst/>
            <a:rect l="0" t="0" r="r" b="b"/>
            <a:pathLst>
              <a:path fill="none" w="2254" h="2188">
                <a:moveTo>
                  <a:pt x="0" y="2188"/>
                </a:moveTo>
                <a:lnTo>
                  <a:pt x="1024" y="2188"/>
                </a:lnTo>
                <a:lnTo>
                  <a:pt x="1024" y="0"/>
                </a:lnTo>
                <a:lnTo>
                  <a:pt x="1844" y="0"/>
                </a:lnTo>
                <a:lnTo>
                  <a:pt x="2254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105760" y="2855880"/>
            <a:ext cx="146160" cy="157320"/>
          </a:xfrm>
          <a:prstGeom prst="ellipse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8178840" y="3013200"/>
            <a:ext cx="0" cy="39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866000" y="2473200"/>
            <a:ext cx="1109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74840" y="1785960"/>
            <a:ext cx="4724280" cy="0"/>
          </a:xfrm>
          <a:prstGeom prst="line">
            <a:avLst/>
          </a:prstGeom>
          <a:ln w="2030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74840" y="178596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4648320"/>
            <a:ext cx="2179440" cy="1752480"/>
          </a:xfrm>
          <a:custGeom>
            <a:avLst/>
            <a:gdLst/>
            <a:ahLst/>
            <a:rect l="0" t="0" r="r" b="b"/>
            <a:pathLst>
              <a:path fill="none" w="6054" h="4868">
                <a:moveTo>
                  <a:pt x="212" y="4868"/>
                </a:moveTo>
                <a:lnTo>
                  <a:pt x="212" y="4868"/>
                </a:lnTo>
                <a:cubicBezTo>
                  <a:pt x="1197" y="4852"/>
                  <a:pt x="2157" y="4741"/>
                  <a:pt x="3011" y="4544"/>
                </a:cubicBezTo>
                <a:cubicBezTo>
                  <a:pt x="3936" y="4330"/>
                  <a:pt x="4704" y="4023"/>
                  <a:pt x="5238" y="3652"/>
                </a:cubicBezTo>
                <a:cubicBezTo>
                  <a:pt x="5772" y="3282"/>
                  <a:pt x="6054" y="2862"/>
                  <a:pt x="6054" y="2435"/>
                </a:cubicBezTo>
                <a:cubicBezTo>
                  <a:pt x="6054" y="2008"/>
                  <a:pt x="5772" y="1588"/>
                  <a:pt x="5238" y="1217"/>
                </a:cubicBezTo>
                <a:cubicBezTo>
                  <a:pt x="4704" y="847"/>
                  <a:pt x="3936" y="540"/>
                  <a:pt x="3011" y="326"/>
                </a:cubicBezTo>
                <a:cubicBezTo>
                  <a:pt x="2095" y="115"/>
                  <a:pt x="1057" y="2"/>
                  <a:pt x="0" y="0"/>
                </a:cubicBezTo>
              </a:path>
            </a:pathLst>
          </a:custGeom>
          <a:ln w="12600">
            <a:solidFill>
              <a:srgbClr val="f95ab7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28600" y="5638680"/>
            <a:ext cx="1905120" cy="914400"/>
          </a:xfrm>
          <a:prstGeom prst="rect">
            <a:avLst/>
          </a:prstGeom>
          <a:solidFill>
            <a:srgbClr val="37006d"/>
          </a:solidFill>
          <a:ln w="12600">
            <a:solidFill>
              <a:srgbClr val="f95ab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oo.i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514600" y="5791320"/>
            <a:ext cx="1523880" cy="762120"/>
          </a:xfrm>
          <a:prstGeom prst="rect">
            <a:avLst/>
          </a:prstGeom>
          <a:solidFill>
            <a:srgbClr val="37006d"/>
          </a:solidFill>
          <a:ln w="12600">
            <a:solidFill>
              <a:srgbClr val="f95ab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828800" y="6172200"/>
            <a:ext cx="762120" cy="0"/>
          </a:xfrm>
          <a:prstGeom prst="line">
            <a:avLst/>
          </a:prstGeom>
          <a:ln w="12600">
            <a:solidFill>
              <a:srgbClr val="f95ab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38480" y="5181480"/>
            <a:ext cx="2057760" cy="991080"/>
          </a:xfrm>
          <a:custGeom>
            <a:avLst/>
            <a:gdLst/>
            <a:ahLst/>
            <a:rect l="0" t="0" r="r" b="b"/>
            <a:pathLst>
              <a:path fill="none" w="5716" h="2753">
                <a:moveTo>
                  <a:pt x="0" y="2753"/>
                </a:moveTo>
                <a:lnTo>
                  <a:pt x="0" y="2753"/>
                </a:lnTo>
                <a:cubicBezTo>
                  <a:pt x="1003" y="2753"/>
                  <a:pt x="1989" y="2626"/>
                  <a:pt x="2858" y="2384"/>
                </a:cubicBezTo>
                <a:cubicBezTo>
                  <a:pt x="3727" y="2143"/>
                  <a:pt x="4449" y="1795"/>
                  <a:pt x="4950" y="1376"/>
                </a:cubicBezTo>
                <a:cubicBezTo>
                  <a:pt x="5452" y="958"/>
                  <a:pt x="5716" y="483"/>
                  <a:pt x="5716" y="0"/>
                </a:cubicBezTo>
              </a:path>
            </a:pathLst>
          </a:custGeom>
          <a:ln w="12600">
            <a:solidFill>
              <a:srgbClr val="f95ab7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85640" y="231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dvanced Document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79600" y="1428840"/>
            <a:ext cx="798660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were in the original OLE 2.0 sp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ex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arching, spelling checker, inde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rectangular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cy/o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layout negot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bient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150000"/>
              </a:lnSpc>
              <a:spcBef>
                <a:spcPts val="11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ll built on the Component Object Model</a:t>
            </a:r>
            <a:r>
              <a:rPr b="1" lang="en-US" sz="32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31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he Component Object Mod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92200" y="1371600"/>
            <a:ext cx="83232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inary standard:  objects can be implemented </a:t>
            </a: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or used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ny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is most </a:t>
            </a:r>
            <a:r>
              <a:rPr b="1" lang="en-US" sz="2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nven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:  discrete sets of functions an object can implement - a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always referenced through pointers to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411280" y="5324400"/>
            <a:ext cx="1219320" cy="3808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241331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Vt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640" y="5224320"/>
            <a:ext cx="1200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01800" y="54007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316400" y="5324400"/>
            <a:ext cx="1143000" cy="3808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241331"/>
              </a:gs>
            </a:gsLst>
            <a:lin ang="5400000"/>
          </a:gra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316400" y="5705640"/>
            <a:ext cx="1143000" cy="3808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241331"/>
              </a:gs>
            </a:gsLst>
            <a:lin ang="5400000"/>
          </a:gra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30600" y="547704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062240" y="469116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59400" y="547704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21520" y="5324400"/>
            <a:ext cx="2590920" cy="10666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241331"/>
              </a:gs>
            </a:gsLst>
            <a:lin ang="5400000"/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314960" y="6072120"/>
            <a:ext cx="1138320" cy="3808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241331"/>
              </a:gs>
            </a:gsLst>
            <a:lin ang="5400000"/>
          </a:gra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v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785880" y="1182600"/>
            <a:ext cx="757224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can fire </a:t>
            </a: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vent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n</a:t>
            </a: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event 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sinks are connected through </a:t>
            </a: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nnection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sinks are just COM interfaces, that is, contr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COM; IConnectionPoint is counterpart of IUn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s can be made dynam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 can be either peer-to-peer or container mana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85640" y="309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ntrols </a:t>
            </a: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xtension Of OLE Obje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2080" y="1657440"/>
            <a:ext cx="6281640" cy="48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beddable OLE Object with added support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 of .VBX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a basis for exte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use our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your own new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85640" y="231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For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392120" y="1047600"/>
            <a:ext cx="635940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Embedding Containers with additional support for events and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t of developmen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usable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iz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imple form can be customized to a specific task by using customized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ation for “Cair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85640" y="231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4800" spc="-1" strike="noStrike" baseline="30000">
                <a:solidFill>
                  <a:srgbClr val="00eed8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“Cairo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832040" y="1663560"/>
            <a:ext cx="54817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system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ll built on the Component Object Model</a:t>
            </a:r>
            <a:r>
              <a:rPr b="1" lang="en-US" sz="32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“Cairo”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r>
              <a:rPr b="1" lang="en-US" sz="48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130400" y="1530360"/>
            <a:ext cx="688356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file system and directory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file system:  unifying embeddings and doc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ed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ng properties to documents/objects/contai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xing of content an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interoperability with today’s file systems and Compoun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“Cairo”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ieval and moni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162080" y="1733400"/>
            <a:ext cx="6821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retrieval by attribute or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: queries are processed at optimal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tra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Monikers provide intelligent links to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losest printer to my office that my group ma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50472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“Cairo”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explorer and deskt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66760" y="1581120"/>
            <a:ext cx="861048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orer is a </a:t>
            </a: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ustomizab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rowser of contai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0120" indent="-411120">
              <a:lnSpc>
                <a:spcPct val="80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0120" indent="-411120">
              <a:lnSpc>
                <a:spcPct val="80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izable toolbar, menu contents, and vie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ders are </a:t>
            </a: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ustomizab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tai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0120" indent="-411120">
              <a:lnSpc>
                <a:spcPct val="80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0120" indent="-411120">
              <a:lnSpc>
                <a:spcPct val="80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able and customizable explorer p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0120" indent="-411120">
              <a:lnSpc>
                <a:spcPct val="80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transfer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0120" indent="-411120">
              <a:lnSpc>
                <a:spcPct val="80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itrary content exposed via qu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using forms, controls, and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0120" indent="-411120">
              <a:lnSpc>
                <a:spcPct val="80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...which use the Component Objec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OLE I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295280" y="1519200"/>
            <a:ext cx="70675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ope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extended in many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by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sour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06320" y="957240"/>
            <a:ext cx="7732800" cy="55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 SD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ped with Visual C++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on Microsoft Developers Platform C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ide OLE 2”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rom Microsoft Pres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publishers getting interested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er Network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s, references, articl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Foundation Classes 2.5 (Visual C++ 1.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most OLE program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S:  WINOBJ forum; Internet FTP: gowinnt@microsoft.com in drg/ole-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mponent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92200" y="1123920"/>
            <a:ext cx="803268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Unknow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face implements COM functionality.  All OLE objects </a:t>
            </a:r>
            <a:r>
              <a:rPr b="1" lang="en-US" sz="2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u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pport </a:t>
            </a: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Unkn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counting - </a:t>
            </a:r>
            <a:r>
              <a:rPr b="1" lang="en-US" sz="2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ddRef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negotiation - </a:t>
            </a:r>
            <a:r>
              <a:rPr b="1" lang="en-US" sz="2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Query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ed with a class identifier (CLS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mponent Object Library inclu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s to instantiate componen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ing mechanisms (RPC) to support communication across process and network (soon!) bound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Benefits Of C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36560" y="1133640"/>
            <a:ext cx="76723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negotiation allows replaceable objects and addition of new interfaces </a:t>
            </a: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thout any recompila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eatures will be exposed largely through objects and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model - no language barrier between COM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interfaces allow “stranger” applications to work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Benefits Of C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55480" y="1514520"/>
            <a:ext cx="80326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user only has to know object class:  COM locates, runs, and connects the object either in-process, locally, or rem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s can define, publish, and implement new interfaces without having to ask Microsoft to update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niform Data Transf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44480" y="1123920"/>
            <a:ext cx="7656480" cy="54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DataObjec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face (data object) is the single data transfer mech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 clipboard, Drag-and-Drop feature, and compound documents all use data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s transfer protocol from actual exchange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implements one data object for use in all exchange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 implements one set of functions to “paste” from any data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notification loops with </a:t>
            </a:r>
            <a:r>
              <a:rPr b="1" lang="en-US" sz="2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Advise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ra Williams</dc:creator>
  <dc:description/>
  <dc:language>en-US</dc:language>
  <cp:lastModifiedBy>Sara Williams</cp:lastModifiedBy>
  <cp:revision>0</cp:revision>
  <dc:subject/>
  <dc:title>Understanding and Implementing OLE</dc:title>
</cp:coreProperties>
</file>