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70640" y="0"/>
            <a:ext cx="238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hibition 94 Brian Moran 6/94 </a:t>
            </a:r>
            <a:fld id="{2D0ED02C-8E00-4CE2-B0E7-417A9C616C1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34604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Programming with Windows NT</a:t>
            </a:r>
            <a:br>
              <a:rPr sz="1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7334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andler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rvice Control Dispatcher through command of S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ndle defined control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pdate SCM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StatusToSCMg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8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s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1560" y="1728720"/>
            <a:ext cx="7942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s to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tubs manage binding to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alls the function as if it were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Main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90720" y="1728720"/>
            <a:ext cx="7162920" cy="45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API prototyp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_t t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* pszTi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GetTime(&amp;t1)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his is the remote cal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zTime = ctime(&amp;t1);// convert to str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time = %s\n”, pszTim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Remote Pro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header 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time_t * pTim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 (pTim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btain a time stam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951200" y="1557360"/>
            <a:ext cx="5241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AllProtse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Inq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Un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Vector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728720"/>
            <a:ext cx="7162920" cy="405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UseAllProtseq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alls - not us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ptional secur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RegisterIf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 // interfa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ype UUID; nil typ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gr epv; defaul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90720" y="1728720"/>
            <a:ext cx="7162920" cy="45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VECTOR * pBindingVecto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InqBinding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BindingVector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sed in next cal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BindingVector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UID </a:t>
            </a:r>
            <a:r>
              <a:rPr b="1" lang="en-US" sz="23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6880" y="1682640"/>
            <a:ext cx="8491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s server to start accepting client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return until another server thread call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StopServerListen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90720" y="1728720"/>
            <a:ext cx="7162920" cy="366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Liste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n number of call threa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MAX_CALLS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oncurrent cal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FALS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wait until server shutdow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90720" y="1728720"/>
            <a:ext cx="7162920" cy="340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Un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BindingVectorFree(&amp;pBindingVector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35080" y="194472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sta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dd service to reg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process must have Administrator privileges to do this (see service security information in end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username and password to run service in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Service.13 page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Phone.id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28720"/>
            <a:ext cx="7162920" cy="54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 uuid(B19DD540-9B1F-1067-89D6-00DD010F2F1C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(1.0) ] interface phon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lookup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  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nmax,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out, string, max_is(nmax)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add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delete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12960" y="1728720"/>
            <a:ext cx="5519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46120" y="1400040"/>
            <a:ext cx="8053560" cy="53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 API prototy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phone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int argc, char **argv)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NS_HANDLE nsHand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Begi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DEFAULT_SYNTAX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.:/phone_sample”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hone_Client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90720" y="1671480"/>
            <a:ext cx="7162920" cy="513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HANDLE hBi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number[NUMLEN]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while (Continue == TRUE) 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Next(nsHandle,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hBind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TryExcept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call the remote procedu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okup(hBind, argv[1], NUMLEN, number);                             Continue = FALSE;  // exit if successfu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xcept(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Continue = TRUE;} // keep looking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ndExce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// end while lo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Name: %s\nNumber: %s\n”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rgv[1], number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Done(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BindingFree(hBind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xit(0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73000" y="2268360"/>
            <a:ext cx="7397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auto handle exampl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li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84440" y="1728720"/>
            <a:ext cx="577692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plicate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them in an N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mm failure, try nex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y fail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Reset(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ight have re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92240" y="228600"/>
            <a:ext cx="6959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-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47640" y="1933560"/>
            <a:ext cx="6048360" cy="32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less RPC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/IP, IPX transpo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interpreted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maller stu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ent 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variety of communications mechanisms availabl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y use multiple methods of communication (e.g. named pipes, sockets)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methods more secure, easier to use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let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 to remo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ve Administrator privileges to remov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xample in end notes page Service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hange service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tart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get the status of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 notes pages Service.15 through Service.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xample code provided in end notes, and in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code to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stall/remove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ovider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reate named pip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nipulate security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5252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system configur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store application config or initializ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ttributes for database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overhead than small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put LARGE amounts of information in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- Where to put 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752480"/>
            <a:ext cx="838188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pplication-specfic information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oftware\CompanyName\ProductName\Version\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User-specific information in KEY_CURRENT_USER\Software\CompanyName\ProductName\Version\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95360" y="1752480"/>
            <a:ext cx="81532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BINA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data in any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LITTLE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little-endian format (same as REG_DW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BIG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big-endian forma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EXPAND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 that contains unexpanded references to environment variables (for example, "%PATH%"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LIN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ode symbolic lin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MULTI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ray of null-terminated strings, terminated by two null charac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fined value ty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RESOURCE_LI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evice-driver resource li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. It will be a UNICODE or ANSI string depending on whether you use the UNICODE or ANSI fun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Data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06668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data may be in the following forma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Adding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8112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open registry key and get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set the value(s) of th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ose registry; RegFlushKey(...) actually writes to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delete a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34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 give example of reading registry inform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gistry.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733400"/>
            <a:ext cx="7162920" cy="9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location for hardware and softwar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 tracing, but rather to store information, warnings, and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readable, wri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are atomic, recor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in event-viewer can be used to view th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600"/>
            <a:ext cx="83818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EventLo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OldestEventLogRecord()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umberOfEventLogRecords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mple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733400"/>
            <a:ext cx="71629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pplication name for Event Source, events show up under Applications category; use array of merge strings to report the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tter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9907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language specific messages in a messag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hese messages into a 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his DLL into the Registry under HKEY_LOCAL_MACHINE\ System\CurrentControlSet\     Services\EventLog\Application\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nsertion strings, specify message ID for string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the end notes (eventlog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9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different from Unix - concept of Security ID, and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amed objects, some unnamed objects may have ACL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process attaches primary security token to process (see end notes for information in the to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accesses incur security ch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s are variable length, identify user or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IDs besides logon SID are u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end notes provide g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Che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7280" y="1576440"/>
            <a:ext cx="8569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ogramming Im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logon process creates primary security token, attaches to logged-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of security from non-Windows domain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tuid -- Impersonation is used to assume a different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re created with default ACLs - see endnotes for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ACL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ty ACL (vs non-existent) denies all access to an object (see endnotes Security.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rant access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xplicitly get SID to add to objects ACL  (see endnotes Security.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350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Imperson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mpersonate from named pipe client, or from DDE Window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ccepts connection, does impersonate, accomplishes work, then do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User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ter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art 1 - OS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97164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&amp;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-100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actical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service that “owns”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ACL on resource to only allow access by entities that qual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, impersonation  to arbitrate who has access to th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es and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signed for SMP from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multiple threads is a good way to take advantage of S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rocess can have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cess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ior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066680"/>
            <a:ext cx="80773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belong to priority classes, threads are based on that priority cla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process.43-4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riorities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_PRIORITY_CLASS, NORMAL_PRIORITY_CLASS, HIGH_PRIORITY_CLASS, REALTIME_PRIORITY_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IDLE, THREAD_PRIORITY_LOWEST, THREAD_PRIORITY_BELOW_NORMAL, THREAD_PRIORITY_NORMAL, THREAD_PRIORITY_ABOVE_NORMAL, THREAD_PRIORITY_HIGHEST, THREAD_PRIORITY_TIME_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tarts a new process and thread with provided environment, security descriptors, I/O handles, etc. (returns handles, IDs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processes are not stopped when parent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Used to stop current process graceful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276200"/>
            <a:ext cx="7162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can inherit handles, priorities, control-c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close all handles creat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open handles to an exited process consume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nteresting things with other process’ memory,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ct when processes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ing Child process I/O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.16, Process.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st application unit of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ally a program counter and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for use on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360" y="1295280"/>
            <a:ext cx="8153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arts thread with given address, security descriptor, etc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Remot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reates thread in the context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sed to pause and restart a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erminates thread, performs cleanup, causes thread to become signall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83808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tart address may point to any memory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events are queued on thread that created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threads in a process may be executing in different user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or exceptions are raised on threads that cause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ynchronization to control access to resources between thre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 Local Storage (TLS) to store thread-specific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ample in end notes - Process.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 Local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733400"/>
            <a:ext cx="716292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provides mechanism for thread-specific value to be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trategy: dynamically allocate a block of memory for each thread, put this address in the TLS value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m for up to 64 different values per thread guarant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LS functions in endnotes (process.56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daemon i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ay to survive logout by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un under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in32 binary or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dependencies can b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ple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read local storag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60) (DLL.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required when multiple processes or threads need access to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process: memory objects, handles, files, pipes, code section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: any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733400"/>
            <a:ext cx="7162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, processes, threads can be used for explicit interprocess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, pipes, standard handles can also be used when asynchronous I/O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used 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1295280"/>
            <a:ext cx="8381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be shared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erited from parent - set inherit attribute on object, or specify inherit flag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hild may use passed value in handl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he handle value, as well as the creating process ID, must be communicated to the process/thr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 (synchronization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aiting fo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mechanism for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when object(s) signalled or timeout el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aiting for multiple objects (synchronization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ritical Se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14300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than mut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ust allocate storage for object using CRITICAL_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cod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CriticalSectio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owing a critical section ma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many times as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t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35252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coordinate access to resources between threads in different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surround access to resourc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hMutex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imeouts to avoid dead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or auto-re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events: when signalled, any/all threads may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reset: Only one thread is allowed to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events w/multiple threads and multiplexed w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mapho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synchronizati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ion.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ynamic Link Libra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share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executab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it loading, or explicit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families of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ar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73340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on demand, at boot time, or man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ust be started through the Service Control Manager (S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LLs With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ecutes in context of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allocated in address space of call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globals can be read/written by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5360" y="914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load a DLL, 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ocAddr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the address (by name or ord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EntryPoi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, it’s calle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ttaches a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attaches a DLL (thread create in a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detaches a DLL (excep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Process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detaches (except with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(DLL.5, DLL.2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(DLL.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majo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”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loc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*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lloc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re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2GB available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 addresses allocated by user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1/2 of 4GB space reserved for system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Hea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Cre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llocate a new heap in 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Alloc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Destroy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rid of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for details (heap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eap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 has a default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emory not moveable- fragmentatio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 are thread saf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is private to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rtual* 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733400"/>
            <a:ext cx="7162920" cy="26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micro-managing pages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ttributes of pages in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asing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 notes (virtmem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, use global DLL data (not secure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dnotes: DLL.1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 can be allocated from system page file, or mapped from specifie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M may be rea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re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name, appropriate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handle to creat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ually maps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onsum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handle to memory -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name of memory, or another method for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map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ly starts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Registry information regarding installed services (HKEY_LOCAL_MACHINE\SYSTEM\CurrentControlSet\Serv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services fo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s service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: Sharemem.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1733400"/>
            <a:ext cx="7162920" cy="30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pe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los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printf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 o.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pos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curity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ocking (overlapped)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on-blocking 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360" y="114300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ust maintain file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/creat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cify a “callback” function on com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of completion occurs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in endnotes: Files.13, Pipes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: Pipes.17, Pipes.24, Files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 not covered include graphical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art II - Network Detai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733400"/>
            <a:ext cx="71629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of protocol and communications method determined by mix of client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OS and Windows clients are volum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mechanisms include IPX/SPX (Novell), SMB (Microsoft),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clients: OS may seemingly block during network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lients: easiest communications method is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: Sockets probably best for cross-domain (i.e. Unix)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w level -- originally used in IBM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3.0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d for compatibility with man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733400"/>
            <a:ext cx="716292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underly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ode or messag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way or two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ipe name may have multiple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 may be blocking or non-b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8077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Entry point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call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 to connect the main thread of the process to the Service Contro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Main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he entry point for each service that can run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control handler for each service that can run in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200240"/>
            <a:ext cx="716292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stantiate first pipe with instance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ddi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to get handles to other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push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kNamedPip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destructive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FileBuffer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pipe handle to make sure client gets all data befo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NamedPip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Cli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 pipe, send data, receive data, and close 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ly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ile operations to read/write the pip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Miscellane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amedPipeInfo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return information about buffers,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NamedPipeHandleSt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change modes, timeouts, and b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erver with multiple threads and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way, “unreliable” datagram oriented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or broadcast (broadcast:400 bytes m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Crea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FAR PASCAL Makeslot(HWND hwnd, HDC h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R lpszSlotName = "\\\\.\\mailslot\\sample_mailslot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he mailslot handle "hSlot1" is declared globally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lot1 = CreateMailslot(lpszSlotNa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                        /* no maximum message size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_WAIT_FOREVER,     /* no time-out for read operation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 NULL); /* no security attributes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hSlot1 == INVALID_HANDLE_VALU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Handler(hwnd, "CreateMailslot"); /* local error handl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ut(hdc, 10, 10, "CreateMailslot successful.", 26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Sending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\\*\mailslot\name to send to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nd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Rea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information from mail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ailslotInfo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number of messages and size of next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“hot links” betwee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network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to window communication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DDEML information in Windows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Berkeley sockets, with extensions to accommodate Windows programm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by over 30 companies w/implementations on Windows,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 - Supported Protoc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-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TCP/IP, IPX/SPX, Appletal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n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80773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ervice dispat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ontrolDispatch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if service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1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fferences from Berkel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733400"/>
            <a:ext cx="7162920" cy="26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,select(),clo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number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socket descri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*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Data Typ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14300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owever can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ocket returned with INVALID_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* values are prefixed with WSA (e.g. EWOULDBLOCK =&gt; WSAEWOULDB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LastErro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socket erro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served range of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90720" y="127620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depend on underlying format of fd_set - Use FD_* macr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combine socket descriptor and file handles in select() call - 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*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locking or non-blocking I/O work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ive sockets to chil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us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*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ith Windows programming model to generate messages for socket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Xby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return thread-specific information data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Startup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914400"/>
            <a:ext cx="8686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Startup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itialize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279440"/>
            <a:ext cx="868680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wVersionRequested;      WSADATA wsaData;     int er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Requested = MAKEWORD( 1, 1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 = WSAStartup( wVersionRequested, &amp;wsaData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err != 0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onfirm that the Windows Sockets DLL supports 1.1.  Note that if the 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versions greater than 1.1 in addition to 1.1, it will still return 1.1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 since that is the version we requested.                               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LOBYTE( wsaData.wVersion ) != 1 |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BYTE( wsaData.wVersion ) != 1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.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Cleanup(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Sockets with IPX/SP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2280" y="1219320"/>
            <a:ext cx="883908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out SAP advertisements: Pseudo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o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tagram socket (typically for datagrams you can choose to not us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stead use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to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; for further info see the MSJ article on Windows Sockets.).  This is more convenient when performing multiple sends to the same end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node address so the SAP broadcast can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...these fields are defined in Novell's I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 Specification as well as the book: "Novell's Guide to NetWare LAN Analysi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the SAP every 60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ore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Novell SAP code: sockets.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Multithreaded Windows Sockets application sockets.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05080" y="1130400"/>
            <a:ext cx="633564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stem compon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on all M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orien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ran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0" y="5049720"/>
            <a:ext cx="21178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81080" y="228600"/>
            <a:ext cx="878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RPC Server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06800" y="2943360"/>
            <a:ext cx="619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73680" y="2943360"/>
            <a:ext cx="2570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2640" y="2943360"/>
            <a:ext cx="2532240" cy="111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19800" y="2943360"/>
            <a:ext cx="15206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32440" y="2943360"/>
            <a:ext cx="2554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16120" y="2943360"/>
            <a:ext cx="11844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2520" y="4041720"/>
            <a:ext cx="14493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58960" y="4041720"/>
            <a:ext cx="139212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2840" y="4041720"/>
            <a:ext cx="13539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354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880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406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59040" y="1862280"/>
            <a:ext cx="3627360" cy="1258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2160" y="228600"/>
            <a:ext cx="7701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20760" y="2867040"/>
            <a:ext cx="150804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ed pi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1500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518160" y="2873520"/>
            <a:ext cx="1568520" cy="6033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5400" y="1925640"/>
            <a:ext cx="7037280" cy="6541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440" y="4049640"/>
            <a:ext cx="17715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PIPES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09760" y="4697280"/>
            <a:ext cx="1003320" cy="480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Redi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3080" y="5487840"/>
            <a:ext cx="7224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97160" y="5883120"/>
            <a:ext cx="105264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EU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65640" y="5907240"/>
            <a:ext cx="102888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PX/SP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81400" y="5883120"/>
            <a:ext cx="88416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0" y="4624560"/>
            <a:ext cx="0" cy="122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46080" y="3822840"/>
            <a:ext cx="7197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16280" y="4538520"/>
            <a:ext cx="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16280" y="355428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5560" y="3639960"/>
            <a:ext cx="0" cy="3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554880" y="5896080"/>
            <a:ext cx="1592280" cy="372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95400" y="534816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99360" y="3632040"/>
            <a:ext cx="0" cy="221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3680" y="5289480"/>
            <a:ext cx="1179720" cy="53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7188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85920" y="4049640"/>
            <a:ext cx="14367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API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80080" y="4064040"/>
            <a:ext cx="168768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WINSOCK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5600" y="3575160"/>
            <a:ext cx="0" cy="42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368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65600" y="4538520"/>
            <a:ext cx="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9400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Main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752480"/>
            <a:ext cx="80773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...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status to SCM throug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rviceStatus(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coordinate between threads of service -- suggest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synchro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3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90440" y="228600"/>
            <a:ext cx="6964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75120" y="4013280"/>
            <a:ext cx="1528920" cy="9604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50880" y="4024440"/>
            <a:ext cx="12762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801800" y="2330280"/>
            <a:ext cx="1725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Locato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716280" y="2367000"/>
            <a:ext cx="1704960" cy="368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18160" y="2373480"/>
            <a:ext cx="19764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ame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81644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2448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46320" y="3009960"/>
            <a:ext cx="485640" cy="103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62160" y="2733840"/>
            <a:ext cx="239076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74760" y="3054240"/>
            <a:ext cx="4467240" cy="95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619360" y="2994120"/>
            <a:ext cx="1203480" cy="10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38680" y="2749680"/>
            <a:ext cx="68580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807000" y="3054240"/>
            <a:ext cx="27874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552920" y="2765520"/>
            <a:ext cx="87012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4537080" y="2749680"/>
            <a:ext cx="24256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3680" y="228600"/>
            <a:ext cx="82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5480" y="2414520"/>
            <a:ext cx="7461360" cy="1387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832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rb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606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other security mechanis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5480" y="4270320"/>
            <a:ext cx="2198520" cy="81612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ndows NT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346640" y="2257560"/>
            <a:ext cx="4705200" cy="167004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0" y="2257560"/>
            <a:ext cx="1733400" cy="165096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55880" y="2257560"/>
            <a:ext cx="2246400" cy="165888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5920" y="228600"/>
            <a:ext cx="837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Platform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" y="1728720"/>
            <a:ext cx="91281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 time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, LP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IOS, TCP/I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PX, LPC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in M6 release of “Chicago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74640" y="1728720"/>
            <a:ext cx="77961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Developer’s Kit (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nd 32-bit IDL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with distribution lic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9120" y="228600"/>
            <a:ext cx="8647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veloping An RPC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92280" y="1506600"/>
            <a:ext cx="7761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IDL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lient and server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IDL file with MIDL com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client, server, and MIDL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, including RPC run-tim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855800" y="228600"/>
            <a:ext cx="54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DL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98400" y="1754280"/>
            <a:ext cx="7747200" cy="3368520"/>
            <a:chOff x="698400" y="1754280"/>
            <a:chExt cx="7747200" cy="3368520"/>
          </a:xfrm>
        </p:grpSpPr>
        <p:sp>
          <p:nvSpPr>
            <p:cNvPr id="290" name=""/>
            <p:cNvSpPr txBox="1"/>
            <p:nvPr/>
          </p:nvSpPr>
          <p:spPr>
            <a:xfrm>
              <a:off x="2598840" y="1787400"/>
              <a:ext cx="10875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ID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232240" y="1754280"/>
              <a:ext cx="12081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A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2440080" y="3056040"/>
              <a:ext cx="4278240" cy="56988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RPC IDL Compil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698400" y="4541760"/>
              <a:ext cx="2533680" cy="4986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2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client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098960" y="4502160"/>
              <a:ext cx="654120" cy="6206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803920" y="4537080"/>
              <a:ext cx="2641680" cy="492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server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257004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506680" y="3822840"/>
              <a:ext cx="52560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27640" y="3790800"/>
              <a:ext cx="0" cy="59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5640" y="3780000"/>
              <a:ext cx="76032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46760" y="2527200"/>
              <a:ext cx="0" cy="44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7360" y="228600"/>
            <a:ext cx="548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ample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96840" y="1962000"/>
            <a:ext cx="6575400" cy="4045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.i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uuid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A50F380-8F36-1067-89D4-00DD010F2F1C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version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1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interface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Call(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handle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_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 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fi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out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*secon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35080" y="198108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90720" y="1728720"/>
            <a:ext cx="7162920" cy="32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uuid(12345678-1234-1234-123456789ABC)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 (1.0)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ypedef long time_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[out] time_t *tim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7440" y="228600"/>
            <a:ext cx="8169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ACF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92160" y="1728720"/>
            <a:ext cx="7159680" cy="158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auto_handle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K. Moran</dc:creator>
  <dc:description/>
  <dc:language>en-US</dc:language>
  <cp:lastModifiedBy>Brian K. Moran</cp:lastModifiedBy>
  <cp:revision>0</cp:revision>
  <dc:subject/>
  <dc:title>Network Programming with Windows NT  </dc:title>
</cp:coreProperties>
</file>