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5B1AD2-00F2-4D8F-A30D-36381ED70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even distribute pieces to multiple machines - facilities for transparent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 built in to make it easy to build and manage distributed servic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start with the network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575400" y="0"/>
            <a:ext cx="2284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hibition 1994- Brian Moran </a:t>
            </a:r>
            <a:fld id="{B9A876C5-2EE7-44E1-B440-C055A25D3FF4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231920"/>
            <a:ext cx="81723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verview of Windows NT from a Networking Perspective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rian Moran (brianmo@microsoft.c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334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81160" y="228600"/>
            <a:ext cx="8582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PC:  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4720" y="2190600"/>
            <a:ext cx="8134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RPC is OSF/DCE-compatible an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other RPCs such as 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plicatio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3000" y="3871800"/>
            <a:ext cx="0" cy="39528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94480" y="3876840"/>
            <a:ext cx="0" cy="34272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PC:  Distribution of Application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8520" y="1566720"/>
            <a:ext cx="1920960" cy="130320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2523960"/>
            <a:ext cx="549360" cy="685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5920" y="2523960"/>
            <a:ext cx="685800" cy="6858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2523960"/>
            <a:ext cx="54936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6920" y="3270240"/>
            <a:ext cx="17827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2400" y="5156280"/>
            <a:ext cx="219384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5170320"/>
            <a:ext cx="233208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7760" y="4743360"/>
            <a:ext cx="549360" cy="6174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69200" y="4724280"/>
            <a:ext cx="61740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49280" y="4184640"/>
            <a:ext cx="18511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1600" y="4191120"/>
            <a:ext cx="219384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73600" y="1682640"/>
            <a:ext cx="15001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6021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9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737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46600" y="33195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8400" y="3857760"/>
            <a:ext cx="6721200" cy="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99000" y="3713040"/>
            <a:ext cx="0" cy="13680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44760" y="42339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640560" y="421812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33680" y="4732200"/>
            <a:ext cx="595440" cy="5904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06600" y="476568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91160" y="478152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44760" y="5468760"/>
            <a:ext cx="1746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1 an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21400" y="5502240"/>
            <a:ext cx="14288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228600"/>
            <a:ext cx="91440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RPC And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Advanced Server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er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1840" y="3200400"/>
            <a:ext cx="716040" cy="1676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57680" y="3124080"/>
            <a:ext cx="274680" cy="129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052640" y="3162240"/>
            <a:ext cx="2141280" cy="94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27640" y="3200400"/>
            <a:ext cx="239220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08520" y="3200400"/>
            <a:ext cx="223992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04840" y="3124080"/>
            <a:ext cx="172260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46760" y="3200400"/>
            <a:ext cx="2163600" cy="1828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40120" y="2779560"/>
            <a:ext cx="309888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PC 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38120" y="5183280"/>
            <a:ext cx="133344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86200" y="4417920"/>
            <a:ext cx="1533600" cy="7588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32200" y="4863960"/>
            <a:ext cx="1382760" cy="7588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932600" y="3549600"/>
            <a:ext cx="83808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19880" y="4308480"/>
            <a:ext cx="88272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2960" y="4102200"/>
            <a:ext cx="145260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</a:t>
            </a: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27880" y="5030640"/>
            <a:ext cx="126360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BIO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interface for PC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s on common protocol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Network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70080" y="1728720"/>
            <a:ext cx="66056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integrated network (workstation,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to 32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 to down-level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LAN Manager APIs  callable from Win16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 - Service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70080" y="1728720"/>
            <a:ext cx="6605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SNMP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Performance Moni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9960" y="1728720"/>
            <a:ext cx="5464080" cy="2560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052640" y="4519440"/>
            <a:ext cx="70390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configuration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.INI files or random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:  Configuration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27160" y="1276200"/>
            <a:ext cx="68914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company name, static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YSTEM\CurrentControl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- cros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- service-specific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y to revert to “last known good” copy at system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CURRENT_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specific profil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95160" y="1724040"/>
            <a:ext cx="775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for detached processes (“daemons”)  an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 provides manual or automatic star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in specified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 based on dependencies betwee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can be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724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 paus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 other services if dependent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information obtained from registry service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anagement APIs rem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, server manager 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228600"/>
            <a:ext cx="91440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Network  Application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33520" y="2647800"/>
            <a:ext cx="6276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d memo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76240" y="1724040"/>
            <a:ext cx="73915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-purpose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files on system where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support (being ad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nagement:  SN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4240" y="1276200"/>
            <a:ext cx="7176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-II, LM MI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, IPX (under developmen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ag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DLLs “claims” a portion of the name space during initia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lled by agent for references to managed objects in claimed name subsp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provided with ASN.1 ut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compiler, test progra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WinSNMP complia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00000" y="1724040"/>
            <a:ext cx="7343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-purpose statistical monitoring, logg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monitor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DLL to provide textual identifiers and statistics for object         to be monit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registered in configuration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 - Base Operating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72404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d synchroniz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19160" y="1724040"/>
            <a:ext cx="7105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, 4-GB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independent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ing algorithms tuned for both desktop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, integrated file ca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 And Synchronization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65160" y="2104920"/>
            <a:ext cx="7215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management (create,  control, prior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thread security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re </a:t>
            </a:r>
            <a:r>
              <a:rPr b="1" i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nsparently</a:t>
            </a: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d to available processor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synchroniz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1160" y="228600"/>
            <a:ext cx="8582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4320" y="1724040"/>
            <a:ext cx="69771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s consequences of fail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s can be handled grace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ap” installed components (D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implified error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exceptions on error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exception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7640" y="1724040"/>
            <a:ext cx="7310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l system check at objec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gon to the enterp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, replicated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model - domains can be “joined” or “spli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4848120"/>
            <a:ext cx="73152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3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One user account, one password, secure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Daytona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84280" y="1447920"/>
            <a:ext cx="79772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speed and size in base system and network compon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TCP/IP internetwork naming (WI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TCP/IP configuration (DHC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IP and IPX access via P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curity providers, platforms, dat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13160" y="1728720"/>
            <a:ext cx="2319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ed From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0600" y="2104920"/>
            <a:ext cx="65628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in end-user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for additio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network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, growth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47720" y="1728720"/>
            <a:ext cx="7648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requestor (NW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can “look like NLMs over the net” to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PX via Windows Sockets to issue SAP broadcast period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PX via Windows Sockets for application traf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RPC over SPX from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are Service Announc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1428840"/>
            <a:ext cx="716292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announcement on IPX via 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local socket (IPX protoc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 socket to worksta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 to datagram so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ocal address for S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AP broadcast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every 6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3120" y="5897520"/>
            <a:ext cx="6021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*Defined in Novell’s IPX Router Specification, or in book: </a:t>
            </a:r>
            <a:r>
              <a:rPr b="1" i="1" lang="en-US" sz="1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“Novell’s Guide to NetWare LAN Analysi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228600"/>
            <a:ext cx="8858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Ap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31800" y="1176480"/>
            <a:ext cx="78818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file and print server (Windows NT Advanced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transport stack (includes ro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to AppleTalk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 - connection-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P -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 - printers (client or ser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P - naming, via socke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P - zone information, via socke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upport (under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62040" y="1728720"/>
            <a:ext cx="78199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tilities (ftp, telnet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 (lpr, lpd under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clients and servers (third par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Servers from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ccess to TCP/IP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name service, host file access via “getXbyY”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90400" y="1724040"/>
            <a:ext cx="79628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interoperable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oviders (under develo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ccess CDS via Name Service Interface Daemon (NS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:  secure core DCE cl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DCE client on Windows NT, minus D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1H 1994 from D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DCE API layer on Windows NT, for DCE source code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55560" y="1306440"/>
            <a:ext cx="7834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32 API for cross platform compatibility and network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Windows NT  service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ca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94400" y="4784760"/>
            <a:ext cx="307008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Manag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21040" y="4076640"/>
            <a:ext cx="2286360" cy="1810080"/>
          </a:xfrm>
          <a:custGeom>
            <a:avLst/>
            <a:gdLst/>
            <a:ahLst/>
            <a:rect l="0" t="0" r="r" b="b"/>
            <a:pathLst>
              <a:path w="6351" h="5028">
                <a:moveTo>
                  <a:pt x="6324" y="0"/>
                </a:moveTo>
                <a:lnTo>
                  <a:pt x="0" y="0"/>
                </a:lnTo>
                <a:lnTo>
                  <a:pt x="0" y="5028"/>
                </a:lnTo>
                <a:lnTo>
                  <a:pt x="6351" y="5028"/>
                </a:lnTo>
                <a:lnTo>
                  <a:pt x="6351" y="4181"/>
                </a:lnTo>
                <a:lnTo>
                  <a:pt x="1058" y="4181"/>
                </a:lnTo>
                <a:lnTo>
                  <a:pt x="1058" y="793"/>
                </a:lnTo>
                <a:lnTo>
                  <a:pt x="6351" y="793"/>
                </a:lnTo>
                <a:lnTo>
                  <a:pt x="6351" y="0"/>
                </a:lnTo>
                <a:lnTo>
                  <a:pt x="6324" y="0"/>
                </a:lnTo>
                <a:close/>
              </a:path>
            </a:pathLst>
          </a:cu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6680" y="5965920"/>
            <a:ext cx="4687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7200" y="3986280"/>
            <a:ext cx="46818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1359000"/>
            <a:ext cx="1752480" cy="77472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58003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73320" y="25574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53280" y="384804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1040" y="6059520"/>
            <a:ext cx="3772080" cy="457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97320" y="6143760"/>
            <a:ext cx="282096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4160" y="4075200"/>
            <a:ext cx="1344600" cy="18111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4240" y="4822920"/>
            <a:ext cx="114444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243920" y="579924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9400" y="23986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0960" y="1357200"/>
            <a:ext cx="2732040" cy="776160"/>
          </a:xfrm>
          <a:prstGeom prst="rect">
            <a:avLst/>
          </a:pr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35200" y="1440000"/>
            <a:ext cx="2610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awa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nd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495760" y="1425600"/>
            <a:ext cx="1631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668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2630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29000" y="4724280"/>
            <a:ext cx="71136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40120" y="4233960"/>
            <a:ext cx="3348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572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97400" y="4718160"/>
            <a:ext cx="7192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94200" y="2257560"/>
            <a:ext cx="969840" cy="628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etwork D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84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41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65656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959440" y="2265480"/>
            <a:ext cx="1243080" cy="62064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0120" y="3052800"/>
            <a:ext cx="7272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3040" y="3236760"/>
            <a:ext cx="839880" cy="6112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27720" y="3236760"/>
            <a:ext cx="773280" cy="6127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06760" y="3241800"/>
            <a:ext cx="878040" cy="6066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87840" y="3386160"/>
            <a:ext cx="6508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96120" y="3384720"/>
            <a:ext cx="69372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386480" y="320040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405560" y="2647800"/>
            <a:ext cx="657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36720" y="3546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9000" y="371808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41280" y="3870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2400" y="4032360"/>
            <a:ext cx="7952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49880" y="3387600"/>
            <a:ext cx="9921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96760" y="4703760"/>
            <a:ext cx="1228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1360" y="1728720"/>
            <a:ext cx="6462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s and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 an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228600"/>
            <a:ext cx="853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 - Microsof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210996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icrosoft networking (file/print) and interoper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- internetworking, UNI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LINK - Use with IPX infrastructure, 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 - LAN transport, LAN Server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via 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 -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62080" y="1728720"/>
            <a:ext cx="68198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dvanced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s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/print and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frame access, remote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B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I - will be available to ISV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:  DECne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XN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 API: 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27160" y="1728720"/>
            <a:ext cx="68914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message notification for non-blocking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d/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, connectionles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multiple transport support (TCP, IPX, AppleTalk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PC - 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52560" y="1647720"/>
            <a:ext cx="72388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tes with LM/U 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ion - application server process can operate in client  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NamedPipeRevertToSelf (VO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mpersonateNamedPipeClient  (hNamedPi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end control of impersonation via CreateFile attributes security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(Overlapped I/O, Read/Write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ian K. Moran</dc:creator>
  <dc:description/>
  <dc:language>en-US</dc:language>
  <cp:lastModifiedBy>Brian K. Moran</cp:lastModifiedBy>
  <cp:revision>0</cp:revision>
  <dc:subject/>
  <dc:title>Overview of Windows NT from a Networking Perspective</dc:title>
</cp:coreProperties>
</file>