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332160" y="1314360"/>
            <a:ext cx="5791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ntroduction </a:t>
            </a:r>
            <a:br>
              <a:rPr sz="4800"/>
            </a:b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to O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908520" y="4400640"/>
            <a:ext cx="46404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Sara Williams</a:t>
            </a:r>
            <a:br>
              <a:rPr sz="3600"/>
            </a:br>
            <a:r>
              <a:rPr b="1" lang="en-US" sz="36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Developer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692520" y="4173480"/>
            <a:ext cx="5070600" cy="0"/>
          </a:xfrm>
          <a:prstGeom prst="line">
            <a:avLst/>
          </a:prstGeom>
          <a:ln w="38160">
            <a:solidFill>
              <a:srgbClr val="ffe3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9760" y="1395360"/>
            <a:ext cx="30258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6320" y="228600"/>
            <a:ext cx="8991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Benefits Of Uniform Data Transf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55480" y="1620720"/>
            <a:ext cx="803268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er format and storage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ME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 data for specific output devices, resulting in better output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nikers to automate the connection, use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DataObj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acilitate th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data on a variety of mediums; be able to consume data i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DataObj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sole data-exchange interface for programmers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Drag-And-Drop Fe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0840" y="1204920"/>
            <a:ext cx="83026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tocol added in O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user’s action from the transfer mechanism, allowing for significant code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s a data object po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thing you can describe in a data object can be exchanged via Drag-and-Drop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an use the same data object it does for the clipboard or any other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receives a data object on a drop, identical to a clipboard data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ed in the “Chicago”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54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Moni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5360" y="995400"/>
            <a:ext cx="829296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stent components that automate connections between data and a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prechaun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s a map to the source and instructions for following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“binding” code to execute the instructions, through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Monik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rialize itself to a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implements File, Item, and Composite moni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implement your own:  just make a component with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Mon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397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66720" y="1104840"/>
            <a:ext cx="781056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LE 2 specifications describe a “Structured Storage Mod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implements this model; implementation is called “Compound Fi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rom the “Cairo” Object File System (O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ile system within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ies:  storag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:  stream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for a file what the FAT file system does for a disk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File System Within A 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6400" y="1500120"/>
            <a:ext cx="5486400" cy="457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76400" y="15001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t storag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428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428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4820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4820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6712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96712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7700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77700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2920" y="19573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00080" y="1957320"/>
            <a:ext cx="45720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634000" y="19573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57880" y="1957320"/>
            <a:ext cx="38124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392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52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52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56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0056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64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764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54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054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09720" y="2871720"/>
            <a:ext cx="6094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281320" y="28717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567320" y="28717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0320" y="2871720"/>
            <a:ext cx="3808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167520" y="2871720"/>
            <a:ext cx="8380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41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241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0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760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3400" y="386244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2880" y="3862440"/>
            <a:ext cx="106704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2888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2888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1000" y="386244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391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5391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03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03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2280" y="3862440"/>
            <a:ext cx="22860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396120" y="386244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02280" y="5238720"/>
            <a:ext cx="200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s can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no stream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724800" y="4781520"/>
            <a:ext cx="280800" cy="52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05600" y="4776840"/>
            <a:ext cx="68580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71600" y="5443560"/>
            <a:ext cx="3657600" cy="1157400"/>
            <a:chOff x="471600" y="5443560"/>
            <a:chExt cx="3657600" cy="1157400"/>
          </a:xfrm>
        </p:grpSpPr>
        <p:sp>
          <p:nvSpPr>
            <p:cNvPr id="183" name=""/>
            <p:cNvSpPr/>
            <p:nvPr/>
          </p:nvSpPr>
          <p:spPr>
            <a:xfrm>
              <a:off x="1766880" y="6210360"/>
              <a:ext cx="187200" cy="200160"/>
            </a:xfrm>
            <a:prstGeom prst="ellipse">
              <a:avLst/>
            </a:prstGeom>
            <a:solidFill>
              <a:srgbClr val="a138e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54080" y="6310440"/>
              <a:ext cx="498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3600" y="6148440"/>
              <a:ext cx="1447920" cy="30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433600" y="614844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71760" y="5624640"/>
              <a:ext cx="1447920" cy="30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471760" y="562464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71560" y="5672160"/>
              <a:ext cx="185760" cy="200160"/>
            </a:xfrm>
            <a:prstGeom prst="ellipse">
              <a:avLst/>
            </a:prstGeom>
            <a:solidFill>
              <a:srgbClr val="a138e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57320" y="5772240"/>
              <a:ext cx="5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93640" y="5576760"/>
              <a:ext cx="1022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636480" y="6134040"/>
              <a:ext cx="984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600" y="5443560"/>
              <a:ext cx="3657600" cy="11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Benefits Of Compound F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6080" y="1373040"/>
            <a:ext cx="851220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ransactioning support; incremental acces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s accessed by name, not seek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under low-memor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format is publ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can port to any plat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Windows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Information”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ntrols the layout of elements in file and manages unused space in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Visual Edi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162080"/>
            <a:ext cx="775980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inten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places a window in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object menus 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controls tools in container’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nterfaces needed on both sides to handle 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basic embedding support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ed objects appear as part of the container:  no loss of document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Auto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720" y="1052640"/>
            <a:ext cx="829620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from othe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pplications to expose end-user- level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metho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properti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a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Disp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an Automation “ser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utomation “client” uses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Dispat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names of methods an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type information for methods/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ke those methods or get and set thos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y provides the information without having to ru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Benefits Of Auto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6800" y="1295280"/>
            <a:ext cx="76122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macro programming without writing a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demonstra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user-chosen tool can drive al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 can apply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olution providers to integrate applications together to develop a custom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LE 2 Technology 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62040" y="1511280"/>
            <a:ext cx="6019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linking and embe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LE And The End User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79800" y="1739880"/>
            <a:ext cx="4786200" cy="25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implifies and automates dail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58720" y="271440"/>
            <a:ext cx="8655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LE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2280" y="1076400"/>
            <a:ext cx="829944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sh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shipped 4/93; OLE 2.01 shipped 11/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+ applications shipping by Spring Com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 of PDC attendees will implement OLE 2 in thei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multi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:  sh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ytona”, 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Chicago”, and M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b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VMS, OSF/1, A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P-U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nOS, and Ultr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Where We Are Go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1160" y="1262160"/>
            <a:ext cx="6781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-transparent object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for custom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docume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 and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forms and suppor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components for “Cai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All built on the Component Object Model</a:t>
            </a:r>
            <a:r>
              <a:rPr b="1" lang="en-US" sz="3200" spc="-1" strike="noStrike">
                <a:solidFill>
                  <a:srgbClr val="24bd9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42880" y="2076480"/>
            <a:ext cx="80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What Does All Of This Mean For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Success In The Open Mar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5920" y="1219320"/>
            <a:ext cx="83725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is the key:  Exploit document and data interchange, standard interfaces, network use of new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112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suppliers - Applications are components to be used to build creative solutions.  Implement Data Transfer and Automation as well as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112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 suppliers - Enable users to build, customize, and combin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112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builders - Be creative!  Find ways to (ab)use retail and custom components toge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LE I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519200"/>
            <a:ext cx="7067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extended in man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b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The path to your fu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06320" y="957240"/>
            <a:ext cx="773280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S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ed with Visual C++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on Microsoft Developers Platform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de OLE 2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Microsoft Pres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publishers getting intereste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s, references, artic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Foundation Classes 2.5 (Visual C++ 1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most OL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S:  WINOBJ forum; Internet FTP: gowinnt@microsoft.com in drg/ole-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00200" y="4419720"/>
            <a:ext cx="7743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olutions, built faster, at higher quality, and lower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ion of form, function, and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efore you buy; buy before you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best:  leverage existing code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24160" y="2286000"/>
            <a:ext cx="2205360" cy="1623960"/>
            <a:chOff x="4124160" y="2286000"/>
            <a:chExt cx="2205360" cy="16239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959360" y="2286000"/>
              <a:ext cx="13701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24160" y="2895480"/>
              <a:ext cx="1308240" cy="101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10280" y="2646360"/>
            <a:ext cx="1752480" cy="955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3640" y="1736640"/>
            <a:ext cx="2911320" cy="1131840"/>
            <a:chOff x="593640" y="1736640"/>
            <a:chExt cx="2911320" cy="113184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065240" y="2127240"/>
              <a:ext cx="219708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593640" y="1736640"/>
              <a:ext cx="2911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onent bui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74880" y="3005280"/>
            <a:ext cx="2685960" cy="1287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5600" y="3032280"/>
            <a:ext cx="2639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bui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6680" y="3870360"/>
            <a:ext cx="2614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89880" y="3641760"/>
            <a:ext cx="242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28195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0" y="282"/>
                </a:moveTo>
                <a:lnTo>
                  <a:pt x="0" y="564"/>
                </a:lnTo>
                <a:lnTo>
                  <a:pt x="1038" y="564"/>
                </a:lnTo>
                <a:lnTo>
                  <a:pt x="1038" y="848"/>
                </a:lnTo>
                <a:lnTo>
                  <a:pt x="1483" y="424"/>
                </a:lnTo>
                <a:lnTo>
                  <a:pt x="1038" y="0"/>
                </a:lnTo>
                <a:lnTo>
                  <a:pt x="1038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438280"/>
            <a:ext cx="1219680" cy="152640"/>
          </a:xfrm>
          <a:custGeom>
            <a:avLst/>
            <a:gdLst/>
            <a:ahLst/>
            <a:rect l="0" t="0" r="r" b="b"/>
            <a:pathLst>
              <a:path w="3388" h="424">
                <a:moveTo>
                  <a:pt x="0" y="140"/>
                </a:moveTo>
                <a:lnTo>
                  <a:pt x="0" y="282"/>
                </a:lnTo>
                <a:lnTo>
                  <a:pt x="2371" y="282"/>
                </a:lnTo>
                <a:lnTo>
                  <a:pt x="2371" y="424"/>
                </a:lnTo>
                <a:lnTo>
                  <a:pt x="3388" y="211"/>
                </a:lnTo>
                <a:lnTo>
                  <a:pt x="2371" y="0"/>
                </a:lnTo>
                <a:lnTo>
                  <a:pt x="237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200400"/>
            <a:ext cx="1219680" cy="152640"/>
          </a:xfrm>
          <a:custGeom>
            <a:avLst/>
            <a:gdLst/>
            <a:ahLst/>
            <a:rect l="0" t="0" r="r" b="b"/>
            <a:pathLst>
              <a:path w="3388" h="424">
                <a:moveTo>
                  <a:pt x="0" y="140"/>
                </a:moveTo>
                <a:lnTo>
                  <a:pt x="0" y="282"/>
                </a:lnTo>
                <a:lnTo>
                  <a:pt x="2371" y="282"/>
                </a:lnTo>
                <a:lnTo>
                  <a:pt x="2371" y="424"/>
                </a:lnTo>
                <a:lnTo>
                  <a:pt x="3388" y="211"/>
                </a:lnTo>
                <a:lnTo>
                  <a:pt x="2371" y="0"/>
                </a:lnTo>
                <a:lnTo>
                  <a:pt x="237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8160" y="228600"/>
            <a:ext cx="672948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LE 2.0 And Custom Solution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LE 2.0 - A Collection Of Integrated Technolo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36720" y="2133720"/>
            <a:ext cx="7272360" cy="444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0520" y="4527720"/>
            <a:ext cx="0" cy="15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46320" y="6068880"/>
            <a:ext cx="6603840" cy="61920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06720" y="5281560"/>
            <a:ext cx="1960560" cy="41436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94320" y="5281560"/>
            <a:ext cx="1130400" cy="41436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94600" y="4124160"/>
            <a:ext cx="1378080" cy="41436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98720" y="4548240"/>
            <a:ext cx="2409840" cy="44280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1320" y="2855880"/>
            <a:ext cx="2428920" cy="37152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28880" y="6205680"/>
            <a:ext cx="49896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s and the Component Objec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549760" y="5311800"/>
            <a:ext cx="1019160" cy="336600"/>
          </a:xfrm>
          <a:prstGeom prst="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340320" y="4133880"/>
            <a:ext cx="12859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47840" y="5291280"/>
            <a:ext cx="16765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44800" y="4600440"/>
            <a:ext cx="2216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70280" y="2852640"/>
            <a:ext cx="12524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440" y="2125800"/>
            <a:ext cx="0" cy="396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5600" y="2125800"/>
            <a:ext cx="0" cy="738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9360" y="3227400"/>
            <a:ext cx="0" cy="1325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45000" y="233028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64200" y="2327400"/>
            <a:ext cx="0" cy="3725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75400" y="2336760"/>
            <a:ext cx="0" cy="2935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20760" y="1700280"/>
            <a:ext cx="6673680" cy="1619280"/>
          </a:xfrm>
          <a:prstGeom prst="round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46720" y="2600280"/>
            <a:ext cx="13399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9080" y="569916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46440" y="501012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59520" y="5699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3797280"/>
            <a:ext cx="2057400" cy="38412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93920" y="3794040"/>
            <a:ext cx="23684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57720" y="4181400"/>
            <a:ext cx="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89200" y="3051000"/>
            <a:ext cx="488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89200" y="3984480"/>
            <a:ext cx="625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789200" y="476568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300816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395136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4280" y="4738680"/>
            <a:ext cx="60480" cy="69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789200" y="240660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4280" y="237168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67320" y="3230640"/>
            <a:ext cx="0" cy="204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53360" y="455148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3760" y="3224160"/>
            <a:ext cx="0" cy="57168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3760" y="2324160"/>
            <a:ext cx="1128960" cy="1143360"/>
          </a:xfrm>
          <a:custGeom>
            <a:avLst/>
            <a:gdLst/>
            <a:ahLst/>
            <a:rect l="0" t="0" r="r" b="b"/>
            <a:pathLst>
              <a:path fill="none" w="3136" h="3176">
                <a:moveTo>
                  <a:pt x="3136" y="0"/>
                </a:moveTo>
                <a:lnTo>
                  <a:pt x="3136" y="3176"/>
                </a:lnTo>
                <a:lnTo>
                  <a:pt x="0" y="317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73520" y="344664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4560" y="2046240"/>
            <a:ext cx="2641680" cy="51120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37040" y="2098800"/>
            <a:ext cx="9367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47840" y="1808280"/>
            <a:ext cx="2622600" cy="471600"/>
          </a:xfrm>
          <a:prstGeom prst="roundRect">
            <a:avLst/>
          </a:prstGeom>
          <a:gradFill rotWithShape="0">
            <a:gsLst>
              <a:gs pos="0">
                <a:srgbClr val="cd567f"/>
              </a:gs>
              <a:gs pos="100000">
                <a:srgbClr val="3d1926"/>
              </a:gs>
            </a:gsLst>
            <a:path path="rect">
              <a:fillToRect l="0" t="0" r="100000" b="100000"/>
            </a:path>
          </a:gradFill>
          <a:ln w="12600">
            <a:solidFill>
              <a:srgbClr val="cd56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7040" y="1838160"/>
            <a:ext cx="19130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The Component Object Mode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92200" y="1371600"/>
            <a:ext cx="83232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nary standard:  objects can be implemented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or use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n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is most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:  discrete sets of functions an object can implement - a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lways referenced through pointers t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11280" y="5324400"/>
            <a:ext cx="1219320" cy="380880"/>
          </a:xfrm>
          <a:prstGeom prst="rect">
            <a:avLst/>
          </a:prstGeom>
          <a:gradFill rotWithShape="0">
            <a:gsLst>
              <a:gs pos="0">
                <a:srgbClr val="a138ef"/>
              </a:gs>
              <a:gs pos="100000">
                <a:srgbClr val="200b2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Vt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640" y="5224320"/>
            <a:ext cx="1200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1800" y="5400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16400" y="5324400"/>
            <a:ext cx="1143000" cy="380880"/>
          </a:xfrm>
          <a:prstGeom prst="rect">
            <a:avLst/>
          </a:prstGeom>
          <a:gradFill rotWithShape="0">
            <a:gsLst>
              <a:gs pos="0">
                <a:srgbClr val="a138ef"/>
              </a:gs>
              <a:gs pos="100000">
                <a:srgbClr val="200b2f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16400" y="5705640"/>
            <a:ext cx="1143000" cy="380880"/>
          </a:xfrm>
          <a:prstGeom prst="rect">
            <a:avLst/>
          </a:prstGeom>
          <a:gradFill rotWithShape="0">
            <a:gsLst>
              <a:gs pos="0">
                <a:srgbClr val="a138ef"/>
              </a:gs>
              <a:gs pos="100000">
                <a:srgbClr val="200b2f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0600" y="54770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62240" y="469116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59400" y="54770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21520" y="5324400"/>
            <a:ext cx="2590920" cy="1066680"/>
          </a:xfrm>
          <a:prstGeom prst="rect">
            <a:avLst/>
          </a:prstGeom>
          <a:gradFill rotWithShape="0">
            <a:gsLst>
              <a:gs pos="0">
                <a:srgbClr val="a138ef"/>
              </a:gs>
              <a:gs pos="100000">
                <a:srgbClr val="200b2f"/>
              </a:gs>
            </a:gsLst>
            <a:lin ang="54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314960" y="6072120"/>
            <a:ext cx="1138320" cy="380880"/>
          </a:xfrm>
          <a:prstGeom prst="rect">
            <a:avLst/>
          </a:prstGeom>
          <a:gradFill rotWithShape="0">
            <a:gsLst>
              <a:gs pos="0">
                <a:srgbClr val="a138ef"/>
              </a:gs>
              <a:gs pos="100000">
                <a:srgbClr val="200b2f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Component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2200" y="1123920"/>
            <a:ext cx="80326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Unknow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implements COM functionality.  All OLE objects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-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AddRe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negotiation -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with a class identifier (CL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ponent Object Library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to instantiate compon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ing mechanisms (RPC) to support communication across process and network (soon!)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Benefits Of 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36560" y="1133640"/>
            <a:ext cx="76723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negotiation allows replaceable objects and addition of new interfaces </a:t>
            </a: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without any recompil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eatures will be exposed largely through objects an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model - no language barrier between COM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interfaces allow “stranger” applications to work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Benefits Of 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55480" y="1514520"/>
            <a:ext cx="8032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user only has to know object class:  COM locates, runs, and connects the object either in-process, locally, or re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can define, publish, and implement new interfaces without having to ask Microsoft to update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2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Uniform Data Transf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4480" y="1123920"/>
            <a:ext cx="76564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DataObj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(data object) is the single data transfer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clipboard, Drag-and-Drop feature, and compound documents all use dat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transfer protocol from actual exchange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implements one data object for use in all exchang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implements one set of functions to “paste” from any data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fe30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otification loops with </a:t>
            </a:r>
            <a:r>
              <a:rPr b="1" lang="en-US" sz="2800" spc="-1" strike="noStrike">
                <a:solidFill>
                  <a:srgbClr val="ffe309"/>
                </a:solidFill>
                <a:latin typeface="Times New Roman"/>
                <a:ea typeface="Times New Roman"/>
              </a:rPr>
              <a:t>IAdvise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 Williams</dc:creator>
  <dc:description/>
  <dc:language>en-US</dc:language>
  <cp:lastModifiedBy>Sara Williams</cp:lastModifiedBy>
  <cp:revision>0</cp:revision>
  <dc:subject>ole strategy presentation </dc:subject>
  <dc:title>OLE Today And Tomorrow</dc:title>
</cp:coreProperties>
</file>